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BC5-4F2A-4BEC-A7D4-5A840ADB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4C8-732F-4DAF-832D-CFE7C6C8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C5D-E258-4685-AD38-A9BC94F8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6C6-F482-4162-8565-18B08195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7FB-9A86-435B-8226-11701330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6B3-6202-41A9-A988-1B32CE43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2C4-9CAC-4301-AD0A-2760778E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C83-55C2-49AA-A8B8-547364F2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CC6-9F10-44AF-930D-9E9B76BA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FFA-A316-4677-9917-82EF71CD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097-EBF0-4AE4-BE59-295A2801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CFF-DF5E-4092-893F-373CA0B4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F12C-5140-42B7-9DCE-88F88C8223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ses of Parlia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Работа\работа\sightseeings\the houses of Parliament Big Ben\P1020302.jpg"/>
          <p:cNvPicPr/>
          <p:nvPr/>
        </p:nvPicPr>
        <p:blipFill>
          <a:blip r:embed="rId1"/>
          <a:stretch/>
        </p:blipFill>
        <p:spPr>
          <a:xfrm>
            <a:off x="1143000" y="1214280"/>
            <a:ext cx="71359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falgar squ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D:\Работа\работа\sightseeings\the houses of Parliament Big Ben\Trafalger Square\2303.jpg"/>
          <p:cNvPicPr/>
          <p:nvPr/>
        </p:nvPicPr>
        <p:blipFill>
          <a:blip r:embed="rId1"/>
          <a:stretch/>
        </p:blipFill>
        <p:spPr>
          <a:xfrm>
            <a:off x="2500200" y="1571760"/>
            <a:ext cx="382284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. Paul’s Cathed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D:\Работа\работа\sightseeings\the houses of Parliament Big Ben\St.Paul's Cathedral\sight53.jpg"/>
          <p:cNvPicPr/>
          <p:nvPr/>
        </p:nvPicPr>
        <p:blipFill>
          <a:blip r:embed="rId1"/>
          <a:stretch/>
        </p:blipFill>
        <p:spPr>
          <a:xfrm>
            <a:off x="1166760" y="1643040"/>
            <a:ext cx="651024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ndon Bri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D:\Работа\работа\sightseeings\the houses of Parliament Big Ben\London Bridge\London_0001.jpg"/>
          <p:cNvPicPr/>
          <p:nvPr/>
        </p:nvPicPr>
        <p:blipFill>
          <a:blip r:embed="rId1"/>
          <a:stretch/>
        </p:blipFill>
        <p:spPr>
          <a:xfrm>
            <a:off x="1143000" y="1714680"/>
            <a:ext cx="660564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Работа\работа\sightseeings\230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en’s guard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Работа\работа\sightseeings\2718.jpg"/>
          <p:cNvPicPr/>
          <p:nvPr/>
        </p:nvPicPr>
        <p:blipFill>
          <a:blip r:embed="rId1"/>
          <a:stretch/>
        </p:blipFill>
        <p:spPr>
          <a:xfrm>
            <a:off x="2357280" y="1428840"/>
            <a:ext cx="39117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Работа\работа\sightseeings\P1020738.jpg"/>
          <p:cNvPicPr/>
          <p:nvPr/>
        </p:nvPicPr>
        <p:blipFill>
          <a:blip r:embed="rId1"/>
          <a:stretch/>
        </p:blipFill>
        <p:spPr>
          <a:xfrm>
            <a:off x="563400" y="857160"/>
            <a:ext cx="75805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0-12-06T12:11:47Z</dcterms:modified>
  <cp:revision>2</cp:revision>
  <dc:subject/>
  <dc:title>Houses of Parliament</dc:title>
</cp:coreProperties>
</file>