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1D3-2135-4C20-B594-4586A17A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8E2-3599-423F-AA52-997AE09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F36-1AD5-4758-8172-0E1606D5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75B-E5FF-41AF-8CEB-0F679E62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00C-D7A6-4133-A733-5B5D22D3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3EB-E827-41D6-82C0-4102434E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7F4-7295-4B46-9545-C3D20BBF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973-9B3F-4216-B442-BB7A8426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AE6-5E97-458D-965B-F1A7E61D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749-88D7-4291-BF03-958EFF71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505-53F5-4765-BDAD-CB1077D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D1B-9E66-4F03-B36B-6E02CE4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7BF5-4E09-4F07-8D5B-8C33D4AC4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s of Parli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Работа\работа\sightseeings\the houses of Parliament Big Ben\P1020302.jpg"/>
          <p:cNvPicPr/>
          <p:nvPr/>
        </p:nvPicPr>
        <p:blipFill>
          <a:blip r:embed="rId1"/>
          <a:stretch/>
        </p:blipFill>
        <p:spPr>
          <a:xfrm>
            <a:off x="1143000" y="1214280"/>
            <a:ext cx="71359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falgar squ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Работа\работа\sightseeings\the houses of Parliament Big Ben\Trafalger Square\2303.jpg"/>
          <p:cNvPicPr/>
          <p:nvPr/>
        </p:nvPicPr>
        <p:blipFill>
          <a:blip r:embed="rId1"/>
          <a:stretch/>
        </p:blipFill>
        <p:spPr>
          <a:xfrm>
            <a:off x="2500200" y="1571760"/>
            <a:ext cx="382284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. Paul’s Cathed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Работа\работа\sightseeings\the houses of Parliament Big Ben\St.Paul's Cathedral\sight53.jpg"/>
          <p:cNvPicPr/>
          <p:nvPr/>
        </p:nvPicPr>
        <p:blipFill>
          <a:blip r:embed="rId1"/>
          <a:stretch/>
        </p:blipFill>
        <p:spPr>
          <a:xfrm>
            <a:off x="1166760" y="1643040"/>
            <a:ext cx="65102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don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Работа\работа\sightseeings\the houses of Parliament Big Ben\London Bridge\London_0001.jpg"/>
          <p:cNvPicPr/>
          <p:nvPr/>
        </p:nvPicPr>
        <p:blipFill>
          <a:blip r:embed="rId1"/>
          <a:stretch/>
        </p:blipFill>
        <p:spPr>
          <a:xfrm>
            <a:off x="1143000" y="1714680"/>
            <a:ext cx="660564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Работа\работа\sightseeings\23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en’s guar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Работа\работа\sightseeings\2718.jpg"/>
          <p:cNvPicPr/>
          <p:nvPr/>
        </p:nvPicPr>
        <p:blipFill>
          <a:blip r:embed="rId1"/>
          <a:stretch/>
        </p:blipFill>
        <p:spPr>
          <a:xfrm>
            <a:off x="2357280" y="1428840"/>
            <a:ext cx="3911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Работа\работа\sightseeings\P1020738.jpg"/>
          <p:cNvPicPr/>
          <p:nvPr/>
        </p:nvPicPr>
        <p:blipFill>
          <a:blip r:embed="rId1"/>
          <a:stretch/>
        </p:blipFill>
        <p:spPr>
          <a:xfrm>
            <a:off x="563400" y="857160"/>
            <a:ext cx="75805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2-06T12:11:47Z</dcterms:modified>
  <cp:revision>2</cp:revision>
  <dc:subject/>
  <dc:title>Houses of Parliament</dc:title>
</cp:coreProperties>
</file>