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70CA-4055-4D80-9B29-9BE1E650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F2A8-6878-47E4-8312-6DE54822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7CEE-A6D7-45FE-A383-FBB61291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3ECC-440E-4A0C-A6DA-3C1CB68DE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DA0C-AD1F-4A23-8EA1-47EAACF9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E115-0031-45CB-9D52-56C1C099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BDA3-278F-483E-8BCD-2B7E611F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00E5-767D-4904-A338-3992B0D3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B667-2434-465C-BD7B-5A543E31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2592-B3DE-493A-9B03-80400C2A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883C-5BAB-4A62-AFF9-12269913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24D3-CAB2-487F-BB0B-0D00DD41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AA5B-3608-4FF1-AA6D-1D28AF3781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uses of Parlia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D:\Работа\работа\sightseeings\the houses of Parliament Big Ben\P1020302.jpg"/>
          <p:cNvPicPr/>
          <p:nvPr/>
        </p:nvPicPr>
        <p:blipFill>
          <a:blip r:embed="rId1"/>
          <a:stretch/>
        </p:blipFill>
        <p:spPr>
          <a:xfrm>
            <a:off x="1143000" y="1214280"/>
            <a:ext cx="713592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falgar squ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D:\Работа\работа\sightseeings\the houses of Parliament Big Ben\Trafalger Square\2303.jpg"/>
          <p:cNvPicPr/>
          <p:nvPr/>
        </p:nvPicPr>
        <p:blipFill>
          <a:blip r:embed="rId1"/>
          <a:stretch/>
        </p:blipFill>
        <p:spPr>
          <a:xfrm>
            <a:off x="2500200" y="1571760"/>
            <a:ext cx="382284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. Paul’s Cathed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D:\Работа\работа\sightseeings\the houses of Parliament Big Ben\St.Paul's Cathedral\sight53.jpg"/>
          <p:cNvPicPr/>
          <p:nvPr/>
        </p:nvPicPr>
        <p:blipFill>
          <a:blip r:embed="rId1"/>
          <a:stretch/>
        </p:blipFill>
        <p:spPr>
          <a:xfrm>
            <a:off x="1166760" y="1643040"/>
            <a:ext cx="651024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ndon Brid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D:\Работа\работа\sightseeings\the houses of Parliament Big Ben\London Bridge\London_0001.jpg"/>
          <p:cNvPicPr/>
          <p:nvPr/>
        </p:nvPicPr>
        <p:blipFill>
          <a:blip r:embed="rId1"/>
          <a:stretch/>
        </p:blipFill>
        <p:spPr>
          <a:xfrm>
            <a:off x="1143000" y="1714680"/>
            <a:ext cx="6605640" cy="49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D:\Работа\работа\sightseeings\2300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en’s guardi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D:\Работа\работа\sightseeings\2718.jpg"/>
          <p:cNvPicPr/>
          <p:nvPr/>
        </p:nvPicPr>
        <p:blipFill>
          <a:blip r:embed="rId1"/>
          <a:stretch/>
        </p:blipFill>
        <p:spPr>
          <a:xfrm>
            <a:off x="2357280" y="1428840"/>
            <a:ext cx="39117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D:\Работа\работа\sightseeings\P1020738.jpg"/>
          <p:cNvPicPr/>
          <p:nvPr/>
        </p:nvPicPr>
        <p:blipFill>
          <a:blip r:embed="rId1"/>
          <a:stretch/>
        </p:blipFill>
        <p:spPr>
          <a:xfrm>
            <a:off x="563400" y="857160"/>
            <a:ext cx="758052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0-12-06T12:11:47Z</dcterms:modified>
  <cp:revision>2</cp:revision>
  <dc:subject/>
  <dc:title>Houses of Parliament</dc:title>
</cp:coreProperties>
</file>