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650-DD69-40EE-B67C-82981572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B0C-C58A-4072-B7C3-8C37CAB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8BF-6949-43E5-A79C-F68C9BB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AED-FE18-4726-BEE0-6098810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5C10-FAC7-4945-9D43-77DEC780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C4FF-7531-46AE-8C9F-6AE42C2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3498-9D03-46A4-87F8-AFDE85AC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59E-7346-443B-8661-33A23362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39A0-5EB5-40FA-900C-66006ED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1836-60D0-4A92-9A59-444ABF7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B055-8943-4C30-96A5-9865F55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F3E-4DC4-4E74-9589-90F92FB9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719-D41D-41DE-A4F4-DDF7115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223-86FF-4381-B130-12757D2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B62-8D87-4CF7-BD23-4E5AC263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BE36-0399-4258-A4E9-87AAB22E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6A1-9205-46B4-B411-D0D2F3C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2981-3926-4766-BBA0-6F783F82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C6E0-9245-46A2-A5F1-C9EAE38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6433-6EDC-4D4F-B647-DF04496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3C87-D10B-4D5B-84B3-1C2D77D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8FCE-13FE-4560-9E7E-243A43E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46B-F7A1-4AD6-B7CF-D84009A3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989C-C0BF-4436-88EE-F4D5F830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252E-5345-41D0-94E4-C365AE6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4659-2F8D-4AFC-BB07-B5BA302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8410-8CB4-4D33-B861-724345B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FB6F-EECB-465E-89A7-C3A63766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4677-EDCC-480B-B905-3BFB983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2CF7-D429-43F0-B650-0C06E8A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608B-B63C-420E-B56E-084B442E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D68C-B3D1-4E9C-B820-323606E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BCD6-EDC5-40BE-8033-867AE24F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D94-862B-49BA-9152-A9E40728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B69C-36DB-4C99-84E5-B8506F5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4FF0-CD47-47DC-9798-1438C6A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2966-0FC4-44A6-83EF-F2342767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C61D-2240-40C4-9AF4-0E00EFA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D224-D400-432F-9B2D-9522C45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0BA4-454B-472C-9575-6BA37A4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941E-545D-442F-85DF-A26C806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554D-BCD7-4F2E-A51F-9E3FF9F8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6B8E-E702-4644-A47E-60314919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2E40-53CB-41ED-AE9E-62803663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77F-9361-4240-8DE0-F003A33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1E96-A56A-4B71-AD95-8B935A0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3BC7-9EAD-4B51-B458-E2E7AD94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A177-B694-4D3D-ABD4-6B1C3C17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DFD0-9FBF-4F7C-AC0F-0741C9E2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5C6D-58F4-47E4-AFC7-D0E73C3F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D0E9-0238-4A17-A569-4EAB026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6C7B-91BF-4F2D-A971-2F7F5A80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ADE8-D9EE-43FD-93E3-A8C69DE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85A7-A31A-41EA-90A8-A774791F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2950-7860-4B19-BB32-E1C5CCB2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18C-E16E-4316-9EC5-37FA980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0495-CF1E-43A4-BAC2-9BA26166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503CD-260E-4C06-AE15-37262121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5470-AEC1-4BAD-B133-CDE54F8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6573-76FB-4A74-A2FA-F0B87767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D4C1-2158-4536-9D6F-0D9C430E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1B72-936D-4083-90DD-01569F4B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2C83-3240-4046-9C3A-D60A606C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45FA-BDA1-4859-BF25-5BF4B4E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DD65-5C66-4743-A6C6-B77547C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03A5-CF87-41C1-BD09-1DF3A50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DEC-9267-4DEF-B0C3-73A5ACE1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5245-DEF6-433E-882D-9575DABC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F6EA4-4909-4B27-BD7A-BC67389E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15D30-F84F-4250-B26E-9267198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DE0F-77B6-442B-84D4-9F2B8CC0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D160-652C-481D-9310-1ECB8A80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D4A02-04F8-4F1C-B75A-D7EE1A13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0D40-25B4-4418-82D9-841DF99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6562-E7E8-4F3C-8481-64A3C846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2D13-37DD-4267-8BE4-5417D7B5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358D-AED5-4360-A97B-C9F1FB3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3BB-C96C-407F-B793-855D7C1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137A-2D22-4643-9609-F3028DD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4C63F-913D-4F82-9A75-4B424EF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572BB-9636-486E-82A4-B4217F2B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F867-BBF1-475F-9BD1-2D73FAF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FACA-84FB-455B-81E6-B99B6EDE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7B9-5B61-4447-A07B-CB1E45A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30F-068F-49C6-9568-4D36B1223C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A24-65D6-4C34-B1A1-EBB8A0DC96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476A-EB32-4300-B3EC-5BEFABE025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04AD-6193-4D80-9AB1-4C68CFB226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88A-57A4-4A3B-939E-3D11DE77CE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5F2-CEA3-489C-AF05-2506FA90A0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19F-764D-49F4-AC08-CCF48B686B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What do you know about football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 a player touch a ball by hands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ow much players are in the team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merican football… what is it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merican football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6054840" cy="377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3548160" cy="266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6143760" y="1857240"/>
            <a:ext cx="273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gb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3500280" cy="42166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4"/>
          <p:cNvSpPr/>
          <p:nvPr/>
        </p:nvSpPr>
        <p:spPr>
          <a:xfrm>
            <a:off x="4071960" y="14288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 sport team game with an oval ball. The players of each team pass a ball to each other by legs, hands but only behind the back.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They score goals to the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Н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 gates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bove the crossbeam)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4100760" cy="4357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429160" y="1357200"/>
            <a:ext cx="3381480" cy="26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 rot="1163400">
            <a:off x="3962520" y="3392280"/>
            <a:ext cx="2305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286080" y="85716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 rot="1097400">
            <a:off x="6792480" y="877680"/>
            <a:ext cx="1843200" cy="215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 rot="20671200">
            <a:off x="227160" y="1042560"/>
            <a:ext cx="2749320" cy="2073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4"/>
          <a:stretch/>
        </p:blipFill>
        <p:spPr>
          <a:xfrm>
            <a:off x="1000080" y="3249720"/>
            <a:ext cx="2214720" cy="3322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5"/>
          <a:stretch/>
        </p:blipFill>
        <p:spPr>
          <a:xfrm>
            <a:off x="5286240" y="4143240"/>
            <a:ext cx="3114720" cy="2357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4286160" y="32148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Gill Sans MT"/>
              </a:rPr>
              <a:t>Fédération  of international football associ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 rot="20788800">
            <a:off x="1109520" y="914040"/>
            <a:ext cx="2691000" cy="308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429080" y="714240"/>
            <a:ext cx="2552760" cy="3300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785880" y="4162320"/>
            <a:ext cx="3357360" cy="2511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4"/>
          <a:stretch/>
        </p:blipFill>
        <p:spPr>
          <a:xfrm>
            <a:off x="5572080" y="4214880"/>
            <a:ext cx="31431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913120" cy="40114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4"/>
          <p:cNvSpPr/>
          <p:nvPr/>
        </p:nvSpPr>
        <p:spPr>
          <a:xfrm>
            <a:off x="178920" y="5000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avid Beckh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6143760" y="38577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chael Ow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719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7"/>
          <p:cNvSpPr/>
          <p:nvPr/>
        </p:nvSpPr>
        <p:spPr>
          <a:xfrm>
            <a:off x="3790440" y="61437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ryan Rob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2143080"/>
            <a:ext cx="25718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3-18T17:46:20Z</dcterms:modified>
  <cp:revision>6</cp:revision>
  <dc:subject/>
  <dc:title>What do you know about football?</dc:title>
</cp:coreProperties>
</file>