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A7E3-617A-40FA-BA3F-AB911C8BE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06ED-049C-4729-BBE6-B4F7AE7EF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1B8F-5561-4E9D-A640-78A40EA38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3DD3-E84D-481C-B629-F23A1E524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4A3F5-5BCF-4A04-8909-1A9B3D8E4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9220A-E66E-46E9-9DF7-88F7DCB1C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16A01-9C03-4C67-8F27-D1C3AB3CB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A2E87-09A7-4EB3-920D-9961A92E8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91CFC-4ED4-4738-BA4B-83E0648FD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A292D-FC1B-4FA1-B79E-30FAAB4DB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316D9-A90C-4C35-94F3-6332E47F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5189-E2A7-417D-ABB4-29C583D56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F439B-B1E8-422B-B1C8-17F39774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F6DEE-3831-4A98-8959-4DE09C58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D3F2A-F3C6-4099-8EBA-1AD692900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6352A-468F-4697-B040-83B795045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06366-0FB0-4E40-8018-E91DA8FB8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157D6-7D83-4C23-8315-493AC22D8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8451F-505B-4D1D-B03E-AC8205A4A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86A96-5EBD-4F6B-9CC6-FF48A714E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73F11-C771-41B7-9D18-4FD371DE6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63D50-CF8E-4B94-B109-64DC1146E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19D7-ACD2-4772-9693-24BB8C20B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DDCC7-BA58-4327-A398-48412B663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38BCE-5C4B-4D95-A0BF-64635A49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51BF2-C528-4073-9401-8EF2E8A1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B4EE7-1FE2-4E84-9C67-5EE5879E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F86C6-8D3D-4D81-B5DB-07A2866FC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32128-68C7-4BAD-BAF9-143DAAF8D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C9822-2BB7-4959-B2C7-B573B9DE4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7AEB4-2946-44E5-AF59-2339D9303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3DD5A-52FF-449D-BD14-076BBDD46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783AC-9451-400E-BF53-1F0EE29BC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8238-ED5D-4B2A-9A05-DBACE9FD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3B342-69E6-4F32-B381-FAEE68B3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1F8F4-9AA4-4A4D-B3A4-4CABE4F9E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2B3C6-ED63-4E62-B544-B0AFEBC20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924AE-AF3E-44A9-9C82-6EA9106E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4E14A-6BA9-4BE5-BACF-D184E11A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3146B-FBE2-437A-8EEE-49518FBA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3A0F3-AA7F-4869-BCDC-F73D4CDE2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30784-7255-477F-954B-E913FE8F2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C8D5B-8872-4DD0-88B5-4FD47C0B1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9E1CF-9C8A-4C38-8D21-37FA52629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20D7-2644-4F5D-BE0A-080F3535E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51D63-2EFC-426E-8E15-CEC40C596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1F873-106C-44E4-ACC1-EC9F0F8B1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B6072-7B9D-4BCF-AC89-9E99C5A21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78B2D-BE2E-47DF-A5E1-F132D2FCC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4503D-9FE3-4758-8663-DFF591548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DD217-021B-4E42-8998-AD49629C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8A6F0-30DE-49F5-8335-E11EF867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11F63-679D-4F2C-B308-758D24F1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3D308-9944-429C-973E-28EA53E1D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B82DF-9B2C-44A3-B0D1-E8A451D85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B347-6D20-4A5C-84F9-2A225B31C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0615E-1F17-49DD-A2A5-DAEFB4585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B1B86-BF98-44E4-9ACC-282598F71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71B31B-9390-431F-8BD2-52991EE4F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FCA8B-C550-43C3-BD28-61111515B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02468-FF00-4EE4-8D70-E32E5D421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236FD-85BB-4855-A4F4-7D1F03C16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1457F-9D7A-4B96-9DAC-542257BFF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4863E-88F8-4CDE-984D-FAE7A52D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38F5A-F752-45FA-80A2-C4A9381E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F164C9-229E-4942-AAA9-138A21EA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B657-E1D9-4FCF-B257-11B534B0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185A4B-3ADC-4D90-813A-6DB987BF4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8C542-B051-4AD2-82BF-6CB360DDD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FB0F8-62F6-4160-8B4E-56B5486CB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C58138-2225-4C21-B282-0F692D2E2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245D84-5371-46EE-BB48-1529E04D6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99297-720F-4F3F-93ED-8312F9A9D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73B50-2E4A-4150-9418-0AE181728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C9B80-6141-4906-8436-FAF804E28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FE0C7-04E1-4B59-90CE-EBB56108D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FCDC1-1E80-42B2-A8A8-50D411B0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9835-90DB-4FE1-A000-0D45525E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2CCDEE-6157-4AE3-A433-51A92F60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66037-8CA8-4FB8-B6CE-A281A041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B320A-6362-49DE-ABE3-8CCABF02B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3FF00-76D5-41D0-A6E5-10C14AE94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B02CC-D738-4625-9A9D-185391FEE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9B2D-7A8F-4625-AD91-D0684A1B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65277-873C-4890-BFFE-3C5045BEF8F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E2750-2DA5-4601-A59D-50D49AF0D5B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417DE-B7C6-4CE0-9A55-CD81F7A106E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FCD70-C12B-4490-9662-9A2BE608644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C6B57-0F9D-48B5-A300-4060F9F63A9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D7DEE-E9ED-444A-AD98-CAA48071F24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A8F4A-D8F8-4BD9-9430-0B15186FCB0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7407000" cy="28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What do you know about football?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928800"/>
            <a:ext cx="7407000" cy="26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 a player touch a ball by hands?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How much players are in the team?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American football… what is it?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-360"/>
            <a:ext cx="74995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American football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3" name="Picture 2" descr=""/>
          <p:cNvPicPr/>
          <p:nvPr/>
        </p:nvPicPr>
        <p:blipFill>
          <a:blip r:embed="rId1"/>
          <a:stretch/>
        </p:blipFill>
        <p:spPr>
          <a:xfrm>
            <a:off x="214200" y="714240"/>
            <a:ext cx="6054840" cy="3773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3" descr=""/>
          <p:cNvPicPr/>
          <p:nvPr/>
        </p:nvPicPr>
        <p:blipFill>
          <a:blip r:embed="rId2"/>
          <a:stretch/>
        </p:blipFill>
        <p:spPr>
          <a:xfrm>
            <a:off x="1857240" y="4000680"/>
            <a:ext cx="3548160" cy="26683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4" descr=""/>
          <p:cNvPicPr/>
          <p:nvPr/>
        </p:nvPicPr>
        <p:blipFill>
          <a:blip r:embed="rId3"/>
          <a:stretch/>
        </p:blipFill>
        <p:spPr>
          <a:xfrm>
            <a:off x="6143760" y="1857240"/>
            <a:ext cx="27381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Rugby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428760" y="1214280"/>
            <a:ext cx="3500280" cy="4216680"/>
          </a:xfrm>
          <a:prstGeom prst="rect">
            <a:avLst/>
          </a:prstGeom>
          <a:ln w="0">
            <a:noFill/>
          </a:ln>
        </p:spPr>
      </p:pic>
      <p:sp>
        <p:nvSpPr>
          <p:cNvPr id="328" name="Прямоугольник 4"/>
          <p:cNvSpPr/>
          <p:nvPr/>
        </p:nvSpPr>
        <p:spPr>
          <a:xfrm>
            <a:off x="4071960" y="1428840"/>
            <a:ext cx="4572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Gill Sans MT"/>
              </a:rPr>
              <a:t>A sport team game with an oval ball. The players of each team pass a ball to each other by legs, hands but only behind the back.</a:t>
            </a:r>
            <a:r>
              <a:rPr b="1" lang="ru-RU" sz="3200" spc="-1" strike="noStrike">
                <a:solidFill>
                  <a:srgbClr val="00b050"/>
                </a:solidFill>
                <a:latin typeface="Corbel"/>
              </a:rPr>
              <a:t> </a:t>
            </a:r>
            <a:r>
              <a:rPr b="1" lang="en-US" sz="3200" spc="-1" strike="noStrike">
                <a:solidFill>
                  <a:srgbClr val="00b050"/>
                </a:solidFill>
                <a:latin typeface="Gill Sans MT"/>
              </a:rPr>
              <a:t>They score goals to the </a:t>
            </a:r>
            <a:r>
              <a:rPr b="1" lang="ru-RU" sz="3200" spc="-1" strike="noStrike">
                <a:solidFill>
                  <a:srgbClr val="00b050"/>
                </a:solidFill>
                <a:latin typeface="Corbel"/>
              </a:rPr>
              <a:t>Н</a:t>
            </a:r>
            <a:r>
              <a:rPr b="1" lang="en-US" sz="3200" spc="-1" strike="noStrike">
                <a:solidFill>
                  <a:srgbClr val="00b050"/>
                </a:solidFill>
                <a:latin typeface="Gill Sans MT"/>
              </a:rPr>
              <a:t> gates </a:t>
            </a:r>
            <a:r>
              <a:rPr b="1" lang="ru-RU" sz="3200" spc="-1" strike="noStrike">
                <a:solidFill>
                  <a:srgbClr val="00b050"/>
                </a:solidFill>
                <a:latin typeface="Corbel"/>
              </a:rPr>
              <a:t>(</a:t>
            </a:r>
            <a:r>
              <a:rPr b="1" lang="en-US" sz="3200" spc="-1" strike="noStrike">
                <a:solidFill>
                  <a:srgbClr val="00b050"/>
                </a:solidFill>
                <a:latin typeface="Gill Sans MT"/>
              </a:rPr>
              <a:t>above the crossbeam)</a:t>
            </a:r>
            <a:r>
              <a:rPr b="1" lang="ru-RU" sz="3200" spc="-1" strike="noStrike">
                <a:solidFill>
                  <a:srgbClr val="00b05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Russian football clubs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0" name="Picture 2" descr=""/>
          <p:cNvPicPr/>
          <p:nvPr/>
        </p:nvPicPr>
        <p:blipFill>
          <a:blip r:embed="rId1"/>
          <a:stretch/>
        </p:blipFill>
        <p:spPr>
          <a:xfrm>
            <a:off x="214200" y="1143000"/>
            <a:ext cx="4100760" cy="43578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3" descr=""/>
          <p:cNvPicPr/>
          <p:nvPr/>
        </p:nvPicPr>
        <p:blipFill>
          <a:blip r:embed="rId2"/>
          <a:stretch/>
        </p:blipFill>
        <p:spPr>
          <a:xfrm>
            <a:off x="5429160" y="1357200"/>
            <a:ext cx="3381480" cy="26812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4" descr=""/>
          <p:cNvPicPr/>
          <p:nvPr/>
        </p:nvPicPr>
        <p:blipFill>
          <a:blip r:embed="rId3"/>
          <a:stretch/>
        </p:blipFill>
        <p:spPr>
          <a:xfrm rot="1163400">
            <a:off x="3962520" y="3392280"/>
            <a:ext cx="230508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-360"/>
            <a:ext cx="7499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English football clubs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4" name="Picture 2" descr=""/>
          <p:cNvPicPr/>
          <p:nvPr/>
        </p:nvPicPr>
        <p:blipFill>
          <a:blip r:embed="rId1"/>
          <a:stretch/>
        </p:blipFill>
        <p:spPr>
          <a:xfrm>
            <a:off x="3286080" y="857160"/>
            <a:ext cx="2774880" cy="20718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3" descr=""/>
          <p:cNvPicPr/>
          <p:nvPr/>
        </p:nvPicPr>
        <p:blipFill>
          <a:blip r:embed="rId2"/>
          <a:stretch/>
        </p:blipFill>
        <p:spPr>
          <a:xfrm rot="1097400">
            <a:off x="6792480" y="877680"/>
            <a:ext cx="1843200" cy="21589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4" descr=""/>
          <p:cNvPicPr/>
          <p:nvPr/>
        </p:nvPicPr>
        <p:blipFill>
          <a:blip r:embed="rId3"/>
          <a:stretch/>
        </p:blipFill>
        <p:spPr>
          <a:xfrm rot="20671200">
            <a:off x="227160" y="1042560"/>
            <a:ext cx="2749320" cy="20732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5" descr=""/>
          <p:cNvPicPr/>
          <p:nvPr/>
        </p:nvPicPr>
        <p:blipFill>
          <a:blip r:embed="rId4"/>
          <a:stretch/>
        </p:blipFill>
        <p:spPr>
          <a:xfrm>
            <a:off x="1000080" y="3249720"/>
            <a:ext cx="2214720" cy="33224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6" descr=""/>
          <p:cNvPicPr/>
          <p:nvPr/>
        </p:nvPicPr>
        <p:blipFill>
          <a:blip r:embed="rId5"/>
          <a:stretch/>
        </p:blipFill>
        <p:spPr>
          <a:xfrm>
            <a:off x="5286240" y="4143240"/>
            <a:ext cx="3114720" cy="2357640"/>
          </a:xfrm>
          <a:prstGeom prst="rect">
            <a:avLst/>
          </a:prstGeom>
          <a:ln w="0">
            <a:noFill/>
          </a:ln>
        </p:spPr>
      </p:pic>
      <p:sp>
        <p:nvSpPr>
          <p:cNvPr id="339" name="Прямоугольник 8"/>
          <p:cNvSpPr/>
          <p:nvPr/>
        </p:nvSpPr>
        <p:spPr>
          <a:xfrm>
            <a:off x="4286160" y="3214800"/>
            <a:ext cx="485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0000"/>
                </a:solidFill>
                <a:latin typeface="Gill Sans MT"/>
              </a:rPr>
              <a:t>Fédération  of international football associati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-360"/>
            <a:ext cx="74995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Russian football players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1" name="Picture 2" descr=""/>
          <p:cNvPicPr/>
          <p:nvPr/>
        </p:nvPicPr>
        <p:blipFill>
          <a:blip r:embed="rId1"/>
          <a:stretch/>
        </p:blipFill>
        <p:spPr>
          <a:xfrm rot="20788800">
            <a:off x="1109520" y="914040"/>
            <a:ext cx="2691000" cy="308628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3" descr=""/>
          <p:cNvPicPr/>
          <p:nvPr/>
        </p:nvPicPr>
        <p:blipFill>
          <a:blip r:embed="rId2"/>
          <a:stretch/>
        </p:blipFill>
        <p:spPr>
          <a:xfrm>
            <a:off x="4429080" y="714240"/>
            <a:ext cx="2552760" cy="33004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" descr=""/>
          <p:cNvPicPr/>
          <p:nvPr/>
        </p:nvPicPr>
        <p:blipFill>
          <a:blip r:embed="rId3"/>
          <a:stretch/>
        </p:blipFill>
        <p:spPr>
          <a:xfrm>
            <a:off x="785880" y="4162320"/>
            <a:ext cx="3357360" cy="25113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6" descr=""/>
          <p:cNvPicPr/>
          <p:nvPr/>
        </p:nvPicPr>
        <p:blipFill>
          <a:blip r:embed="rId4"/>
          <a:stretch/>
        </p:blipFill>
        <p:spPr>
          <a:xfrm>
            <a:off x="5572080" y="4214880"/>
            <a:ext cx="3143160" cy="23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English football players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6" name="Picture 2" descr=""/>
          <p:cNvPicPr/>
          <p:nvPr/>
        </p:nvPicPr>
        <p:blipFill>
          <a:blip r:embed="rId1"/>
          <a:stretch/>
        </p:blipFill>
        <p:spPr>
          <a:xfrm>
            <a:off x="285840" y="1071720"/>
            <a:ext cx="2913120" cy="4011480"/>
          </a:xfrm>
          <a:prstGeom prst="rect">
            <a:avLst/>
          </a:prstGeom>
          <a:ln w="0">
            <a:noFill/>
          </a:ln>
        </p:spPr>
      </p:pic>
      <p:sp>
        <p:nvSpPr>
          <p:cNvPr id="347" name="Прямоугольник 4"/>
          <p:cNvSpPr/>
          <p:nvPr/>
        </p:nvSpPr>
        <p:spPr>
          <a:xfrm>
            <a:off x="178920" y="5000760"/>
            <a:ext cx="293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David Beckham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Прямоугольник 5"/>
          <p:cNvSpPr/>
          <p:nvPr/>
        </p:nvSpPr>
        <p:spPr>
          <a:xfrm>
            <a:off x="6143760" y="3857760"/>
            <a:ext cx="30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Michael Owe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9" name="Picture 3" descr=""/>
          <p:cNvPicPr/>
          <p:nvPr/>
        </p:nvPicPr>
        <p:blipFill>
          <a:blip r:embed="rId2"/>
          <a:stretch/>
        </p:blipFill>
        <p:spPr>
          <a:xfrm>
            <a:off x="5429160" y="1214280"/>
            <a:ext cx="3571920" cy="2667240"/>
          </a:xfrm>
          <a:prstGeom prst="rect">
            <a:avLst/>
          </a:prstGeom>
          <a:ln w="0">
            <a:noFill/>
          </a:ln>
        </p:spPr>
      </p:pic>
      <p:sp>
        <p:nvSpPr>
          <p:cNvPr id="350" name="Прямоугольник 7"/>
          <p:cNvSpPr/>
          <p:nvPr/>
        </p:nvSpPr>
        <p:spPr>
          <a:xfrm>
            <a:off x="3790440" y="6143760"/>
            <a:ext cx="263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Bryan Robs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1" name="Picture 4" descr=""/>
          <p:cNvPicPr/>
          <p:nvPr/>
        </p:nvPicPr>
        <p:blipFill>
          <a:blip r:embed="rId3"/>
          <a:stretch/>
        </p:blipFill>
        <p:spPr>
          <a:xfrm>
            <a:off x="3500280" y="2143080"/>
            <a:ext cx="2571840" cy="39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XP</cp:lastModifiedBy>
  <dcterms:modified xsi:type="dcterms:W3CDTF">2011-03-18T17:46:20Z</dcterms:modified>
  <cp:revision>6</cp:revision>
  <dc:subject/>
  <dc:title>What do you know about football?</dc:title>
</cp:coreProperties>
</file>