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A98-F841-4FC0-87B4-BE8281BB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D77-5AF1-4E10-BA71-5257E7D0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14A-5CDB-4109-90FD-9A953BFA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372-9DD6-4FE8-9A81-217CA0F4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CA0C-6A0C-49C9-8A51-21CF179E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D532-6388-41FC-87A5-CA4DB1EB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F3CE-0101-4CC8-98A8-B6D4A9F0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2426-F6B0-4F85-97AD-A4CC148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E514-3879-4DDF-8238-9D7C14F2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B269-F5BD-4882-89B2-181E0572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1A6A-F647-41D8-99B7-81DCB951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CF9-D2BF-4941-93DA-A2A4A323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1964-1B87-446E-A730-8C13BA0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FEA1-827D-4961-91A8-9A9BBE1C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C3FF-7345-44CC-8046-539DDCD8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3159-3844-4060-84E8-7AB97017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1608-7F9C-4E27-BA11-03599F95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28D5-3BBB-4CF3-AB75-A5DE74D3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F0B4-78AB-4E3E-8E97-CA466258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37F3-1C63-46AF-9E14-578ECDCD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C159-E869-46D6-8D2E-C1D64B2A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EDD3-67CE-421D-B2E6-978251AB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203-4DFC-4F38-9A28-87D05D32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47DD-8535-4D1F-B89D-E33B1B24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5130-EC7E-4CC6-90BE-AF78BFE4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50AE-0935-4103-BD60-CBBF350E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428C-F478-464C-BA91-960E0B2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3648-A366-4FA8-B14F-16BC9C15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5D03-EBC2-41EF-9736-1A8C6F28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8BEE-30F6-4767-A833-5F1D7FEE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7A5FA-1D58-4F34-B111-3B0BE890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8F141-657C-4829-95C5-3C4D1DFE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0238C-0765-4BCF-BA62-B0EE1913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F81-49D4-4BA3-9FC4-6F511D3B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5BDF-303D-4D67-9CC9-3AD40A3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C53AB-2DF1-4326-930E-BE2C4BA7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46B75-CB82-47AB-908C-26E718B7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F6BB6-0EEF-465B-8984-C8019745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9343-749A-456C-AB88-0D1FB42C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A4147-57D3-4B33-B852-E7668815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D1E2C-ADC3-465A-9842-3552E030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F0C63-D06E-4EA8-AB96-B9037E67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BDAE-68B8-426E-BFCA-F5534F34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831A3-9E5C-464C-B92F-F914E102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07B-19CE-452F-A837-1A83B658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7FFA-C9CB-41FA-90D7-E3FC4420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A264C-B0D0-4A8C-BD87-EB83220B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D5D4-2D02-42FD-B43A-3DD0CEB5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929F-77CA-4BE8-9C24-4B443D59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E2972-0AA9-4772-A4CC-7269E0EE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3F1E2-A083-4626-A030-C553A3E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36EC-74AF-4042-801B-E137BCDE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7B2B4-64E9-49B0-B40F-3914ED57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48137-1E6D-4BF7-A829-46ACF156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6FE86-6E53-4D6E-B4C8-4CD7A663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46D-E018-4938-B6C9-4FA665E3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3FFF5-1517-450E-9EB0-EADA9BC7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CFB02-F757-45BE-BBD6-3B8D464B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4C9C4-E39F-4F55-A647-82A62E41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001EB-02FD-480A-A8C3-5CA906A1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A67A-BC37-499D-B075-B0DE9530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CA7E-3A63-49C4-91B2-9EC78D65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43E06-EF6E-4241-80F6-9ACA2448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1E4A-1616-45EE-AFFF-1E493F4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5E0FB-8B27-41AC-80E6-19FDC525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150D-032D-4744-A0F6-68D4397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31D-67AE-4E39-A7F8-5B7F0F8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04B94-1879-40B2-B4A5-A1340612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48704-F2F5-4AD1-8854-28B4C05A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C9CF-30F4-4EBE-BE69-F921F396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7AC81-99A4-43C3-96B5-7ED6BC2C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6F3A5-151A-478C-B15F-EFE57922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6DDF7-F9E5-4855-886F-5633101F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21E2F-45E2-4D11-9D7B-725C8A77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2D689-8E9D-47A5-ADC1-901C7282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920D1-12A6-4D38-827C-E2167A81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DC3C0-9608-46A1-9D5A-07B6E60C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BBF-3EB9-4D81-83DB-1089CECF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818F0-62D1-4C77-8190-89E7D2AA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EE981-A48D-4BD9-A63E-62D46AA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A9EB1-BCA3-4C4B-BF64-A3888CE2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90220-8D11-4A4C-BD32-FAD4D3A0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0855F-9CD2-4EE8-8CE0-FEC1C226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530-8D1B-41F9-B05C-4D299D2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4924-2399-4D8D-9401-B8D1742E98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190C-D676-42A3-A4FE-B672BE2BE15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CDDF-451C-4834-8465-989B20DE8DB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C6C7-CC8C-44B0-815D-D6220EF0FC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B302-0FC1-49D6-992C-E1F58BD12A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7E14-6949-4470-9C1E-8DA76E3B97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3DBA-7D9E-4DDE-A1FE-5ABA3B3FFB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What do you know about football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928800"/>
            <a:ext cx="7407000" cy="26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 a player touch a ball by hands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ow much players are in the team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American football… what is it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American football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6054840" cy="3773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1857240" y="4000680"/>
            <a:ext cx="3548160" cy="2668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6143760" y="1857240"/>
            <a:ext cx="273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Rugby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3500280" cy="421668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4"/>
          <p:cNvSpPr/>
          <p:nvPr/>
        </p:nvSpPr>
        <p:spPr>
          <a:xfrm>
            <a:off x="4071960" y="142884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A sport team game with an oval ball. The players of each team pass a ball to each other by legs, hands but only behind the back.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They score goals to the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Н</a:t>
            </a: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 gates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(</a:t>
            </a: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above the crossbeam)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Russian football club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4100760" cy="4357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5429160" y="1357200"/>
            <a:ext cx="3381480" cy="2681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 rot="1163400">
            <a:off x="3962520" y="3392280"/>
            <a:ext cx="23050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English football club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286080" y="85716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 rot="1097400">
            <a:off x="6792480" y="877680"/>
            <a:ext cx="1843200" cy="2158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3"/>
          <a:stretch/>
        </p:blipFill>
        <p:spPr>
          <a:xfrm rot="20671200">
            <a:off x="227160" y="1042560"/>
            <a:ext cx="2749320" cy="2073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4"/>
          <a:stretch/>
        </p:blipFill>
        <p:spPr>
          <a:xfrm>
            <a:off x="1000080" y="3249720"/>
            <a:ext cx="2214720" cy="3322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5"/>
          <a:stretch/>
        </p:blipFill>
        <p:spPr>
          <a:xfrm>
            <a:off x="5286240" y="4143240"/>
            <a:ext cx="3114720" cy="23576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8"/>
          <p:cNvSpPr/>
          <p:nvPr/>
        </p:nvSpPr>
        <p:spPr>
          <a:xfrm>
            <a:off x="4286160" y="321480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Gill Sans MT"/>
              </a:rPr>
              <a:t>Fédération  of international football associ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Russian football player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 rot="20788800">
            <a:off x="1109520" y="914040"/>
            <a:ext cx="2691000" cy="3086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4429080" y="714240"/>
            <a:ext cx="2552760" cy="3300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3"/>
          <a:stretch/>
        </p:blipFill>
        <p:spPr>
          <a:xfrm>
            <a:off x="785880" y="4162320"/>
            <a:ext cx="3357360" cy="2511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4"/>
          <a:stretch/>
        </p:blipFill>
        <p:spPr>
          <a:xfrm>
            <a:off x="5572080" y="4214880"/>
            <a:ext cx="314316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English football player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2913120" cy="40114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4"/>
          <p:cNvSpPr/>
          <p:nvPr/>
        </p:nvSpPr>
        <p:spPr>
          <a:xfrm>
            <a:off x="178920" y="500076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avid Beckh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6143760" y="38577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chael Ow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5429160" y="1214280"/>
            <a:ext cx="35719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7"/>
          <p:cNvSpPr/>
          <p:nvPr/>
        </p:nvSpPr>
        <p:spPr>
          <a:xfrm>
            <a:off x="3790440" y="61437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ryan Rob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3500280" y="2143080"/>
            <a:ext cx="257184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3-18T17:46:20Z</dcterms:modified>
  <cp:revision>6</cp:revision>
  <dc:subject/>
  <dc:title>What do you know about football?</dc:title>
</cp:coreProperties>
</file>