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DFA-3FE7-4D82-B7F9-0A9BC316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68D-891A-4609-A30B-3690FCA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FC6-8F68-46E3-A601-7AFBF935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D80-8227-4861-AEC7-92548E71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9844-519F-40A6-A782-4295BEEF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B15-8F44-4244-AE3A-85185E34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B8F7-A195-4F60-B716-498CFE1B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CB3A-4E0C-483E-92D8-B9BF6718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7A9-B9A4-43B7-BC68-E114363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0F45-F03F-4CBE-99E5-8B6D6512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1ECD-2486-4DD4-8057-C904382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088-CC7C-4227-A230-A72A30A7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7D9A-6268-48AB-A28E-69E1A75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D7D2-7301-4E35-859B-CFEA120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6466-9894-4E42-8C6F-59FDA3A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1B4-CAD6-4DC6-81EC-993C1FFC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702-708A-4351-843A-78DAC2D1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2612-0518-4522-AB5C-643F3D74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8FE3-D72D-4FBF-8076-628F3A2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101D-FECE-4093-90A9-DB0D7D1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61B7-098A-4A01-A932-07F1EB6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C400-F0F3-4854-9B47-321D3C4E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B51-F2C6-4723-8F08-329D37C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E619-D29F-43F1-B94E-52CC6093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82C4-A18D-475D-8899-AA6A0F6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1154-BC69-41E6-A7FE-5D15C7A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44D5-ED40-4A31-9788-1257E64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A94A-9694-4588-A5E9-253FAA2C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DE32-A3D8-4E48-93A7-D8E3D16C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E1C7-921F-4FD0-8952-30BDFC43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B20A1-9086-4DD8-A371-329D4B3E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62B1-800D-4683-B1AB-2D664847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C0F9-D27A-4222-8A8F-FE1E36E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659-56D3-493A-B453-A139FAD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E885-54D7-44F1-9321-CD842BF2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4A79-1FC3-430B-B48B-CF9C544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F3D1-9D33-4FD3-9ACA-97E496E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F480-A163-4A38-9835-29AA507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BECC-43B8-4370-B621-737D8233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1E7F-E01D-4401-BFF6-651F409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D2A8-A98F-49DE-8FC1-5AEE49BE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4AFC-9E42-464D-BCC5-A04D0F54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3F5C-362A-4848-8DEA-E7B0AB75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C59F-975E-4BC9-B185-00979337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B55-AFC3-41AA-9E90-2945E52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80DB-DAD5-4C4A-8ACF-61F0A6F8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3553-2D99-4209-A6B9-D4670EC7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CC30-5743-4325-B5E6-C25DE47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C08E-14C2-4B5F-A04C-664B15B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2921-FF64-499C-8478-56F19CE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0E7B-89EE-497B-96A4-C9F8BD2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F023-C4E2-4E14-9DE1-7BAA366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02A6-51B0-4759-9F83-D41851B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57AC-8517-4367-A467-304DE10A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0CC9-ACBB-48F2-AEA7-BEBAC888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CE8-CEE5-4834-95C8-862F496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BA30-2901-480E-92E1-2149C2AB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0B3D-5A32-41BE-8171-69FE009A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DE5D6-0A11-43A6-82A8-0FBB85AB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2D9A-8127-4A84-B4D0-FEC6C62B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EFF3-BDFB-4B97-A379-3CDE7A36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B117-1DAA-4895-8156-940FD188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482A-0F4B-4328-A7C2-ADAEEF3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9F2A-254A-49FA-B87E-4EF1957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1D9F-7DF3-4ABB-BD02-BAFAC8F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47ADC-AE67-41E9-9518-1AEBE596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0E1-0D1A-4B5F-96C1-978BA1A8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1CED-A08F-4D30-A94B-FD397D6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FFE4-66AA-4B75-909D-2E7568A7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11D5-0E43-4691-B71F-88D7B42E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C38B-7646-49F6-BC36-BCA91C25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82E71-77F2-4D7C-9F51-C83EA7C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A3F3-E811-43CA-989D-BA9002B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68BF7-1E26-4162-A5DF-C049A4B1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B887-98F5-44CB-821E-D2B60A87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6B1F8-C79B-4AD2-A454-1A6EB3B6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2783-0D65-4D24-8EB0-AC577E9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D6B-98B9-480F-A795-BEFCE3E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7638-AC28-43CA-B2A3-7331C4D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D159-FF55-4A73-83FD-F84E6B1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24C9-F4CA-4619-8239-7534610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FBE3-2CC5-4CDD-AEB1-C3998847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69441-E9CD-4212-A1F0-5089D2BD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FB75-E591-4198-8CB7-D502F673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F661-7060-49C2-9DD1-FE90782E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CCF9B-F2EF-4BB2-8103-E2172B5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E6CC0-3E72-4350-BC1C-77B2673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7273-95D3-42F7-B82B-2360798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698-3E24-48E7-B096-328151C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887E-43E4-4660-AD28-74724FA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17B6A-12F3-48D9-BC2C-FDA1376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C04A-D4D9-4EAB-9E0B-770E80A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F822-985E-401D-9D4E-4293423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90E4F-3E77-48D4-8845-1290B673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6DF1-6B4A-4C04-8ADA-48AE73A1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AEDF5-3823-4C54-B3D4-931633B1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A60E-CDEC-40CB-9AE1-E16128E8F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161-7520-4A6E-A27C-D9B5462B9E7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470-BC2E-45CC-8D4C-2783FB66F88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A1C0-D3F6-4962-A6D1-8973C38CD5A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73E-11E7-47D3-8634-6B9E0D0A8AB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B96-F79E-4EAE-A398-1AD1CA944D2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BA7-F9F9-4857-A9E6-7B4934C7A57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57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1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65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5009-56C0-467D-A4F8-342E1DE8B13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10396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Crosses and Zeroes”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The Chain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6429240" cy="6429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Translato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10396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ickname, friend                   uniform, stu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y, timetable                     party, Ni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ocolate, mother                 Billy, textb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cher, pen                            pencil, pup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dents, books                      father,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Crossword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0000"/>
                </a:solidFill>
                <a:latin typeface="Calibri"/>
              </a:rPr>
              <a:t>Correct tens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st August my father and I … abro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o                    will go                       w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st British students … school unifor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ar                 wears                 w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long … your party last tomorrow n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es                did                      wi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many girls … there in your clas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s                       are                      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57120" y="1214280"/>
            <a:ext cx="8786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School - …                                  … - nicknam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- mice                                      shelf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Hobby - …                                            … - textbook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- letters                                    stamp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Computer - …                              city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25T12:47:11Z</dcterms:modified>
  <cp:revision>3</cp:revision>
  <dc:subject/>
  <dc:title>“Crosses and Zeroes”</dc:title>
</cp:coreProperties>
</file>