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DCD-9CE0-4580-A3BC-4AB6241C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F14-28D7-41B5-8F51-8D7C8710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BAE-CD3F-4F6C-9BD2-512BAFDF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18A-713C-4A91-BFD1-58222A60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1799-00B6-45FE-ACE5-672EB636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260D-C13C-4092-B45F-F8711330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53BE-CAD9-4F2B-9B67-399B31AF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D0A3-88AF-423C-8E92-859210D9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BE96-231A-4A69-8226-C37A4990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C029-146E-43E6-B6EF-CF7DCB67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A724-D96F-4BEA-9390-C4E7B619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FCC-02B2-45FB-8693-ECE3CEC2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A6EE-C4E1-4065-B46E-B09D909E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55AE-9D0B-4846-8C28-4BBFC608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5817-F51B-4A87-B2DE-F7129ECE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831D-C9CA-41DA-B622-65A23E87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574E-A9BD-40E9-B842-FC10C692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34A22-E31E-4073-8530-7D43FDBA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95B16-ED47-4817-8878-6CC41810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C6207-A5B3-45A7-B662-F6FB0F51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09910-2832-4DAC-8F76-3F1CDC3D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5E2FE-FC84-4D09-99C8-53E88811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E6E-5FA3-4A57-8634-4BCB9940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40ECE-26AC-49B6-AE5A-D571A25F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D693F-054D-4612-A3FC-5EF3F763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49771-000D-40A3-8482-7532D07A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B76F8-EE80-457F-8730-EE4DEFAB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1A0B3-534D-445D-B903-F7C15B78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982CC-2D97-41BA-A920-5D7B0421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ED17-6271-4CF2-98AB-69736FCD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02E5C-2B98-49C0-A2C5-DE1576B2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937DE-03E8-4924-83C9-1270540F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39403-F763-4916-AF6F-41C1EE65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CF5-6420-4F7C-8EDB-D95D5CE7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9A95C-6346-47FA-B244-CE41EA8C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D5B2C-1F85-4498-BD1F-2E6AB5B9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EFF35-1F6F-4D62-900B-4AF233F3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F2034-8993-4A5B-AECA-BBC307B2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65F81-886A-4E68-8F38-316F6B67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1D6BE-1DF0-4C0F-952C-4F7FEDBE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A4C52-EF8A-448E-B323-1261C90F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FAE3C-8B8F-4D99-9DAC-6A657310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530B1-ECA6-403D-A73D-3B67AA2A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7C49E-2E21-4041-95E3-D6E18137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8B3-DE2A-4D4B-9801-843BD30B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EA839-3D01-4F90-9E23-0AA8A175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59A27-84AD-45E6-8393-9D54A3DD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849CF-2736-4FF2-BBEA-9CE7CB32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C1543-920F-4E50-AD4C-264045EC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73F1F-F26E-45BA-8E10-450F8ED0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ED993-16E0-4D0C-88A2-E5DE0B72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DF0A4-1E24-49CA-BA36-9CA5EBD4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70D84-6423-4279-AA0E-84A840A6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AC60A-89A5-4199-8C84-452F0A8F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C53B4-430C-43FC-961E-C6B69D65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31E-F0B4-4819-B71D-573085BC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E689E-43F7-4974-B855-4D84B40A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AFF02-C216-4180-8E34-E2B4CA36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F554F-5BCC-45E5-9F6D-551853BC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ACA68-E5B4-4580-AE76-DC5B5102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FAFE1-1EA3-4706-B980-DB45E502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7CE54-37EB-40D3-A683-9BEA0ED4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EAC1C-A657-4043-8B59-DAE45DDC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E2E71-0C6A-41C3-AA53-3C27FBBE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965CF-DDC7-4B7A-ACBD-B67514BF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3CDBD-86F2-492E-A78B-FE0EE41C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371-5DCC-483A-84B7-61540D50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66923-2F4A-4FB1-9D2C-2C61C56C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CC28D-823E-4E99-9D2D-B881CE09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D96A6-2DC8-4579-B044-CF30EF71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39105-2583-4641-911D-DA192C0B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98271-D550-469E-B127-E9D4221F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DD14E-B2B8-46CB-B450-1483A7D6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E82B4-F39B-4E5B-B055-DE61F8A5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69F21-771E-4FC2-A047-1A1C4D3F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CD694-8AEF-4A84-9030-C4C47935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BD4A2-B654-496E-81C9-DE609FD2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FB2-CF44-4014-9351-84162FDE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CAE1F-3A04-4A40-B7C1-818332B1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C4A9A-2A28-4031-9DE1-A23FDE4C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DDCDD-6659-4FB7-BFC5-E0F396AF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E6985-D732-4742-B0AC-8607B2AA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5D095-57CF-4DB3-9B2E-1C8AB50E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DED6F-B524-4893-AFCC-CBA77DA2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89210-3352-4880-8707-FFF27F61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DBE87-AD9C-4F60-AB62-A2204995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8370E-919C-44FD-817B-727613F6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FB569-123D-42D5-82CC-7DA353A5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266-3905-46F8-8A86-FA523195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A6707-EFF6-45ED-A976-1DCDACAA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02227-14A0-47F5-AEBC-091D7C93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D977B-8A2E-4C25-B7FF-863FFD21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8DA5B-A25C-4CCB-8B5D-4E15209F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7C84D-50EA-49A5-AB0A-2DBC1A4B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17902-2CEB-42FC-83E4-52EF9F04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AA090-E999-4777-8687-00D17E1A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7F87-2BD8-4554-9F8E-3AAEDA471B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CFFD-B8FB-4362-9B9C-CABD156ABB7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4693-6719-4045-8CDF-B515BD6EFE5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E824-A285-457F-9956-B0EB0BD6837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534C-C465-4EF8-B07A-EF5BBF75FE5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DAD3-0133-4DF4-BB9E-3910C7F8679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54DE-3F2A-462B-A1D1-21C547D885F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57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61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65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2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3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4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8532-AF66-4A22-B6ED-225F1FAC5AC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428760" y="0"/>
            <a:ext cx="810396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Crosses and Zeroes”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Calibri"/>
              </a:rPr>
              <a:t>The Chain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1285920" y="142920"/>
            <a:ext cx="6429240" cy="64292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Calibri"/>
              </a:rPr>
              <a:t>Translator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428760" y="0"/>
            <a:ext cx="810396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ickname, friend                   uniform, stu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y, timetable                     party, Nic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ocolate, mother                 Billy, textbo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eacher, pen                            pencil, pupi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udents, books                      father, c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Calibri"/>
              </a:rPr>
              <a:t>Crossword 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0000"/>
                </a:solidFill>
                <a:latin typeface="Calibri"/>
              </a:rPr>
              <a:t>Correct tenses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0" y="928440"/>
            <a:ext cx="9144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ast August my father and I … abroa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o                    will go                       w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st British students … school unifor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ear                 wears                 wo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long … your party last tomorrow n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es                did                      wi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many girls … there in your clas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s                       are                       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57120" y="1214280"/>
            <a:ext cx="8786880" cy="51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School - …                                  … - nickname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… </a:t>
            </a: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- mice                                      shelf - …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Hobby - …                                            … - textbook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… </a:t>
            </a: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- letters                                    stamp - …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Computer - …                              city - …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10-25T12:47:11Z</dcterms:modified>
  <cp:revision>3</cp:revision>
  <dc:subject/>
  <dc:title>“Crosses and Zeroes”</dc:title>
</cp:coreProperties>
</file>