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5A58-56F9-4EEC-8D31-6ACCF352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304-44F1-465D-AE91-2E64611A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9B1-C533-47C7-A53B-8CED28EF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C637-8A43-4628-B588-3FE1BF64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3F6E-CE33-4B02-8D33-E7952398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EAA8-4259-4DAA-9E1A-5DBC0A2F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15E9-A291-46F3-A6C6-4F85C0F7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7B4E-2E25-4F04-A04D-A778F117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6536-3CED-4519-BA57-B178153E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6B4F-8D88-4841-852D-B8BBBA80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195C-BC25-4F09-BCF2-3D5CE0B8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8140-03E0-44C5-AF51-9F38C442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F8E5-2B0D-4016-81E8-7D6EF8C2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D427-8B0C-42C3-A0AB-E9DC4245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1FBF-7BC1-4274-8C2F-0AEAAE70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15D2-7F4F-484D-8B82-FBE83067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623B-913A-43B6-802D-AE5EFD9B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E878F-89D3-454B-A30F-8C701D06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9D9C5-8FEF-4E69-A14E-57BD020D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4F2B0-704E-4D7A-915E-74825374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86D24-884C-4FE3-B255-E2C642D3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A8559-9E54-4F57-8C41-67AE685E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840E-9E71-4CCE-8833-51792DE8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23EF4-96E3-4648-9181-0974047E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DE47A-430D-4940-80D6-16BCAF89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967E3-9B3E-477F-993A-02EA1246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358DB-77BE-4E18-9177-2AAB19A2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255F8-BB6B-4C57-AD69-3A5FEEDF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47851-4578-424A-9C4F-C365620A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570E8-7CFB-46FE-9601-883C6EE8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2175D-3A2D-4AB1-8533-831C3821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89369-789A-4847-B4FE-EFB35C15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2D8CE-E406-41C8-A81D-2E52A9DC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534D-96D3-4A29-AC1C-D114AFAA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8B38A-E311-49CC-9D81-A9991E68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0BADE-C9A5-4CDA-90DA-5696319A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48B5B-468E-4621-AFA2-1C90DDFA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FAA14-159E-49A9-8930-487ED90D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23B3B-9EA3-42EE-B28F-EA89BEDB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5A18F-1A96-4FD7-B7E6-539063F1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9218C-65DD-4199-B146-4C750B24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5F13C-DB97-4DC5-A2AA-AFE2ABB8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BDF2F-0AE2-40B6-8861-E228562E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8D9F2-53BB-4925-9B37-AF85A0CF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7B13-BE5D-43D9-B31E-24F81753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5C17A-421C-44D0-9E8D-E71FA088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97E3C-2258-414F-91EC-C611761D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AFCA0-5FC0-4E09-92EB-A3089FB5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995C3-6F08-40E5-929B-DBE90190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0B36D-30BD-460B-AA96-03885BA0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73E8D-8734-4859-986D-6466DB3A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CFA25-F146-46A3-AD42-A1749324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48C37-B23E-4533-92E6-C8A8036E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361D1-EF4E-4027-B9EA-30A542A8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8F503-BD9C-4426-A67D-2129E0F9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AAC-03A5-4DBE-A7C0-8E18B246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C9D48-8271-444B-BED2-2586DC2B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EE544-EDEB-4869-A374-E8CA0D6E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59B79-9EF4-4C36-9B37-3FE22679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CAAD3-07AE-4CDC-8F82-25003258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35ECF-CF1B-4265-A032-02D274CA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936FB-484F-4050-988E-5AA7E058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EEA25-EC83-4A1B-BB77-A1423FB3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7A737-6DBA-4F27-ADD1-5B7FC4DC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5212B-EF16-4C2D-AADE-90743FDE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1FC51-B69E-4C91-AF17-92E78936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0C19-8EDA-4CC0-9365-51C6D53B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84FC9-9503-4B1F-93AF-E782C7FB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CC3B9-B372-4B0E-8739-5968C341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19A33-5046-4792-A424-C1BCB1F0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13CAF-28CB-4775-A6FA-F4B82B73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8DB77-144A-4D63-951D-36CAD0FE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D46AD-41A7-49D4-9D09-99390F8A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B9B1F-9474-488A-8C65-C5096ED4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6F3EA-D67D-4510-A063-493D49FE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38210-870B-46A8-B167-0055D758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13C50-CD97-4427-B215-78838C73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4CA0-109A-404A-8D0A-8858B0F6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56382-4D9A-4235-8D14-2FE0ADE4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3214A-88F8-43CA-B9AA-07A79433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BB15C-DA59-4723-9909-0D02DB42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9A723-2089-4DE0-8638-529C2DB7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44FFD-CBAC-4C0F-9134-384409A0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7E15B-D046-4434-BA03-69FE3C55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D5F0E-CF4C-4CF0-99BF-4594B01D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13F8F-E716-4B47-9983-B9B0C334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DE3A5-487A-4619-B6C2-D4E94C91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61B99-382F-4EEC-819C-BD378234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1FD-F009-428F-A0D3-E39A6953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3DCA6-FD3F-4477-9953-3C2348A0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4DF93-BB3B-400A-B67F-5CDDE31C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949DF-8F6A-409E-BFBD-4CA9DF54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110E2-9212-420E-9B26-0DC30AE2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E49C8-2313-4C60-8181-B7BDD77F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A30B9-1531-456B-8D3C-3AF98B97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7E927-1115-44CE-98EF-AFB49120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61DC-2CF9-40E6-8901-41D27AD7F5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94CD-20EE-401C-8228-CA8E230B74B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48B0-B97C-4828-99F5-0EFDB3E22B3C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30AD-1303-44CA-9BD0-313C1F52D50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A169-174F-4ED4-9F33-093E772FAA5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7D4D-7342-4D37-9C21-FE062AF1FEA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02FC-A6B6-46CB-B231-2EF41F7D179B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57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61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65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2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3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4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581B-DF82-4FAF-A833-419CEEA20AF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428760" y="0"/>
            <a:ext cx="810396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Crosses and Zeroes”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Calibri"/>
              </a:rPr>
              <a:t>The Chain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1285920" y="142920"/>
            <a:ext cx="6429240" cy="642924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7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Calibri"/>
              </a:rPr>
              <a:t>Translator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428760" y="0"/>
            <a:ext cx="810396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ickname, friend                   uniform, stu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ry, timetable                     party, Nic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ocolate, mother                 Billy, textbo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eacher, pen                            pencil, pupi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udents, books                      father, c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Calibri"/>
              </a:rPr>
              <a:t>Crossword 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0000"/>
                </a:solidFill>
                <a:latin typeface="Calibri"/>
              </a:rPr>
              <a:t>Correct tenses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0" y="928440"/>
            <a:ext cx="91440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ast August my father and I … abroa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o                    will go                       w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st British students … school unifor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ear                 wears                 wo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ow long … your party last tomorrow nigh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es                did                      wi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ow many girls … there in your clas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s                       are                       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57120" y="1214280"/>
            <a:ext cx="8786880" cy="51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School - …                                  … - nickname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… </a:t>
            </a: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- mice                                      shelf - …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Hobby - …                                            … - textbook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… </a:t>
            </a: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- letters                                    stamp - …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Computer - …                              city - …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10-25T12:47:11Z</dcterms:modified>
  <cp:revision>3</cp:revision>
  <dc:subject/>
  <dc:title>“Crosses and Zeroes”</dc:title>
</cp:coreProperties>
</file>