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49A9-DD9B-4807-A4AA-75A6E8B75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0257-91BC-491C-8343-EDC4C2C77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4154-F972-4435-AA4B-9CBAEC07C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EDBB-C047-4859-B58D-748FD01F1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0046B-19CE-4DD9-98B1-C7551BF4A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7D31E-399E-4B23-8954-EA410B901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FF251-D93C-4A78-A29B-0C15DDD17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CC6E7-E59B-4FDE-84A7-CA40D2391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7640A-558A-4B3F-A80B-7B25EC813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F50DE-BA62-45B6-A652-CA5E80B54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E13A7-2945-4577-B3A6-04E88E97E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7DEF-0B05-43B5-A07F-359802B3A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929A9-6A8D-47DE-9675-266F5C27F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09352-D454-4EA9-9094-A4949B637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4EE47-1074-42A2-ABC9-5F90EF63D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2EAB3-3887-4137-ACA8-FC1B6083A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1DD14-7EAF-4A36-9047-6243B0820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508E-492D-4D58-A223-115FBF2A7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8F4B-CB86-4B07-81DF-B515BAF03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863D-BDCF-44FA-9B3E-C64C45AC1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A86A-5D6E-4720-BB2F-CA1B16F2F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4886-2480-4571-9567-25C3FDA6C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C674-BEE9-4025-A291-3650405C5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B667-09F5-4E0A-93E5-0B2EA3242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90D98-5AFB-4417-9C21-EBC69D01BD79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4648F-7ABB-404A-9B6A-5B9CC7FAFF67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22280" y="13716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Picture 2" descr="C:\Documents and Settings\UserXP\Рабочий стол\белозерова\sightseeings\London_04.JPG"/>
          <p:cNvPicPr/>
          <p:nvPr/>
        </p:nvPicPr>
        <p:blipFill>
          <a:blip r:embed="rId1"/>
          <a:stretch/>
        </p:blipFill>
        <p:spPr>
          <a:xfrm>
            <a:off x="142920" y="142920"/>
            <a:ext cx="8858160" cy="6670800"/>
          </a:xfrm>
          <a:prstGeom prst="rect">
            <a:avLst/>
          </a:prstGeom>
          <a:ln w="0">
            <a:noFill/>
          </a:ln>
        </p:spPr>
      </p:pic>
      <p:sp>
        <p:nvSpPr>
          <p:cNvPr id="85" name="TextBox 5"/>
          <p:cNvSpPr/>
          <p:nvPr/>
        </p:nvSpPr>
        <p:spPr>
          <a:xfrm>
            <a:off x="-92160" y="142920"/>
            <a:ext cx="5197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Book Antiqua"/>
              </a:rPr>
              <a:t>Double Decke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C:\Documents and Settings\UserXP\Рабочий стол\белозерова\sightseeings\the houses of Parliament Big Ben\Trafalger Square\2303.jpg"/>
          <p:cNvPicPr/>
          <p:nvPr/>
        </p:nvPicPr>
        <p:blipFill>
          <a:blip r:embed="rId1"/>
          <a:stretch/>
        </p:blipFill>
        <p:spPr>
          <a:xfrm>
            <a:off x="428760" y="0"/>
            <a:ext cx="521496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Заголовок 1" descr=""/>
          <p:cNvPicPr/>
          <p:nvPr/>
        </p:nvPicPr>
        <p:blipFill>
          <a:blip r:embed="rId2"/>
          <a:stretch/>
        </p:blipFill>
        <p:spPr>
          <a:xfrm>
            <a:off x="2981160" y="-103320"/>
            <a:ext cx="650412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Picture 2" descr="C:\Documents and Settings\UserXP\Рабочий стол\белозерова\sightseeings\the houses of Parliament Big Ben\Trafalger Square\P1020492.jpg"/>
          <p:cNvPicPr/>
          <p:nvPr/>
        </p:nvPicPr>
        <p:blipFill>
          <a:blip r:embed="rId1"/>
          <a:stretch/>
        </p:blipFill>
        <p:spPr>
          <a:xfrm>
            <a:off x="61920" y="0"/>
            <a:ext cx="908208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Box 3"/>
          <p:cNvSpPr/>
          <p:nvPr/>
        </p:nvSpPr>
        <p:spPr>
          <a:xfrm>
            <a:off x="4038840" y="0"/>
            <a:ext cx="528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Book Antiqua"/>
              </a:rPr>
              <a:t>Trafalgar Squar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2" descr="C:\Documents and Settings\UserXP\Рабочий стол\белозерова\sightseeings\the houses of Parliament Big Ben\St.Paul's Cathedral\sight53.jpg"/>
          <p:cNvPicPr/>
          <p:nvPr/>
        </p:nvPicPr>
        <p:blipFill>
          <a:blip r:embed="rId1"/>
          <a:stretch/>
        </p:blipFill>
        <p:spPr>
          <a:xfrm>
            <a:off x="61920" y="0"/>
            <a:ext cx="9082080" cy="6794640"/>
          </a:xfrm>
          <a:prstGeom prst="rect">
            <a:avLst/>
          </a:prstGeom>
          <a:ln w="0">
            <a:noFill/>
          </a:ln>
        </p:spPr>
      </p:pic>
      <p:sp>
        <p:nvSpPr>
          <p:cNvPr id="93" name="TextBox 3"/>
          <p:cNvSpPr/>
          <p:nvPr/>
        </p:nvSpPr>
        <p:spPr>
          <a:xfrm>
            <a:off x="4663800" y="0"/>
            <a:ext cx="460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ook Antiqua"/>
              </a:rPr>
              <a:t>Saint Paul’s Cathed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2" descr="C:\Documents and Settings\UserXP\Рабочий стол\белозерова\sightseeings\the houses of Parliament Big Ben\London Bridge\London_0001.jpg"/>
          <p:cNvPicPr/>
          <p:nvPr/>
        </p:nvPicPr>
        <p:blipFill>
          <a:blip r:embed="rId1"/>
          <a:stretch/>
        </p:blipFill>
        <p:spPr>
          <a:xfrm>
            <a:off x="61920" y="31680"/>
            <a:ext cx="9099720" cy="6826320"/>
          </a:xfrm>
          <a:prstGeom prst="rect">
            <a:avLst/>
          </a:prstGeom>
          <a:ln w="0">
            <a:noFill/>
          </a:ln>
        </p:spPr>
      </p:pic>
      <p:sp>
        <p:nvSpPr>
          <p:cNvPr id="96" name="TextBox 3"/>
          <p:cNvSpPr/>
          <p:nvPr/>
        </p:nvSpPr>
        <p:spPr>
          <a:xfrm>
            <a:off x="-99360" y="0"/>
            <a:ext cx="423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Book Antiqua"/>
              </a:rPr>
              <a:t>Tower Bridg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2" descr="C:\Documents and Settings\UserXP\Рабочий стол\белозерова\sightseeings\the houses of Parliament Big Ben\0207_london_5.jpg"/>
          <p:cNvPicPr/>
          <p:nvPr/>
        </p:nvPicPr>
        <p:blipFill>
          <a:blip r:embed="rId1"/>
          <a:stretch/>
        </p:blipFill>
        <p:spPr>
          <a:xfrm>
            <a:off x="61920" y="139680"/>
            <a:ext cx="893916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XP</cp:lastModifiedBy>
  <dcterms:modified xsi:type="dcterms:W3CDTF">2011-04-05T14:27:08Z</dcterms:modified>
  <cp:revision>3</cp:revision>
  <dc:subject/>
  <dc:title>Слайд 1</dc:title>
</cp:coreProperties>
</file>