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8E8-440B-4CD8-8FD5-343AFE2F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83D-E102-4F2A-BEFA-3288C56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EF0-2EC1-4372-9BE5-9BAAAD21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609-81BE-40B9-B602-8740A5D6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3DE7-7A22-4FDE-A764-20B5EA9D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C3F-8E5D-41A2-901B-F879F05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3201-90A6-4559-B4AD-E9D56A0D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C0B-2604-4361-9F4D-6AB0B288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4993-79B0-4398-88B5-FDB4544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D9A-0112-4F42-BDA8-C0D89A2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516-16B2-4B23-926F-7C23600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E3A-4B2E-4E50-901C-6E22889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3531-ECFF-45EF-8468-866F529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0C0E-938C-4706-B25F-C725B29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D7C7-8A44-4085-AF90-EA090AA4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79CC-F207-4F00-B2D4-CDD4A4AF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63C2-BA4A-4417-8EA1-F141EAEF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DDB-B19E-49EC-A492-4FE6E8E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830-221E-4ABC-849A-400DCD8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111-E030-4E69-B19B-A48702F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DC7-DAD7-4B63-A9BB-F416926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97B-4811-46C2-9F48-20E0A8B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9C3-D518-4BC9-A505-249E114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9C6-E4D8-4ADF-B19B-AFEF5B4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4D82-8EB0-4EF7-B209-2577C071203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7C0C-F887-46F4-BA57-9E3B4CCFE40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UserXP\Рабочий стол\белозерова\sightseeings\London_04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670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-92160" y="142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ook Antiqua"/>
              </a:rPr>
              <a:t>Double Deck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UserXP\Рабочий стол\белозерова\sightseeings\the houses of Parliament Big Ben\Trafalger Square\2303.jpg"/>
          <p:cNvPicPr/>
          <p:nvPr/>
        </p:nvPicPr>
        <p:blipFill>
          <a:blip r:embed="rId1"/>
          <a:stretch/>
        </p:blipFill>
        <p:spPr>
          <a:xfrm>
            <a:off x="42876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2981160" y="-103320"/>
            <a:ext cx="6504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C:\Documents and Settings\UserXP\Рабочий стол\белозерова\sightseeings\the houses of Parliament Big Ben\Trafalger Square\P1020492.jpg"/>
          <p:cNvPicPr/>
          <p:nvPr/>
        </p:nvPicPr>
        <p:blipFill>
          <a:blip r:embed="rId1"/>
          <a:stretch/>
        </p:blipFill>
        <p:spPr>
          <a:xfrm>
            <a:off x="61920" y="0"/>
            <a:ext cx="9082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038840" y="0"/>
            <a:ext cx="528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ook Antiqua"/>
              </a:rPr>
              <a:t>Trafalgar Squ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C:\Documents and Settings\UserXP\Рабочий стол\белозерова\sightseeings\the houses of Parliament Big Ben\St.Paul's Cathedral\sight53.jpg"/>
          <p:cNvPicPr/>
          <p:nvPr/>
        </p:nvPicPr>
        <p:blipFill>
          <a:blip r:embed="rId1"/>
          <a:stretch/>
        </p:blipFill>
        <p:spPr>
          <a:xfrm>
            <a:off x="61920" y="0"/>
            <a:ext cx="9082080" cy="6794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4663800" y="0"/>
            <a:ext cx="46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Saint Paul’s Cat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UserXP\Рабочий стол\белозерова\sightseeings\the houses of Parliament Big Ben\London Bridge\London_0001.jpg"/>
          <p:cNvPicPr/>
          <p:nvPr/>
        </p:nvPicPr>
        <p:blipFill>
          <a:blip r:embed="rId1"/>
          <a:stretch/>
        </p:blipFill>
        <p:spPr>
          <a:xfrm>
            <a:off x="61920" y="31680"/>
            <a:ext cx="9099720" cy="6826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-99360" y="0"/>
            <a:ext cx="42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Tower Brid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C:\Documents and Settings\UserXP\Рабочий стол\белозерова\sightseeings\the houses of Parliament Big Ben\0207_london_5.jpg"/>
          <p:cNvPicPr/>
          <p:nvPr/>
        </p:nvPicPr>
        <p:blipFill>
          <a:blip r:embed="rId1"/>
          <a:stretch/>
        </p:blipFill>
        <p:spPr>
          <a:xfrm>
            <a:off x="61920" y="139680"/>
            <a:ext cx="8939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05T14:27:08Z</dcterms:modified>
  <cp:revision>3</cp:revision>
  <dc:subject/>
  <dc:title>Слайд 1</dc:title>
</cp:coreProperties>
</file>