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335-5334-4130-9C9C-E06571EE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52E-5CB7-4634-A213-BCC6B4F1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91B-0AB2-4908-BA69-BBCA08C3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475-4FAB-4ADA-9C2B-62CAFCA5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BB56-6D53-497C-8BD7-0E63872C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7984-0586-4DF1-BC12-EC7DD71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5C70-C8B9-4D33-B9FD-675B7640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F687-D4FE-4699-B9E7-57218424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BC06-FC50-4150-A496-886514C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998F-11C5-4488-AC79-17119060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DCF1-CB39-47A0-9463-97DA379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318-2F9E-49F7-B0D2-BAE5910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832-567D-4E40-A2C7-733C6E3B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A387-D3D3-42E0-A49E-479BB36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7E27-DD48-421D-A9CC-F815508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413E-7634-4CA7-BE1E-2FF49832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937C-1524-448F-8D01-99665CD3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C63-E7CB-4D42-B2D1-9F778382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41E-3648-4640-98AE-DECF29E6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983-9779-48CF-B8B6-D8B88284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14B-ABC2-4F59-AC0C-539FA5D4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970-1279-4E48-A1B2-CE6243D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506-54EC-4C82-A102-67155F0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29B-2CC4-4C26-BA55-0E48CEE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3C10-27C3-440C-8F4B-0F051A50FAE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BBD6-ECF1-4D5F-81EE-51F2B7FFA6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C:\Documents and Settings\UserXP\Рабочий стол\белозерова\sightseeings\London_04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670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-92160" y="142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ook Antiqua"/>
              </a:rPr>
              <a:t>Double Deck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UserXP\Рабочий стол\белозерова\sightseeings\the houses of Parliament Big Ben\Trafalger Square\2303.jpg"/>
          <p:cNvPicPr/>
          <p:nvPr/>
        </p:nvPicPr>
        <p:blipFill>
          <a:blip r:embed="rId1"/>
          <a:stretch/>
        </p:blipFill>
        <p:spPr>
          <a:xfrm>
            <a:off x="42876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2981160" y="-103320"/>
            <a:ext cx="6504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C:\Documents and Settings\UserXP\Рабочий стол\белозерова\sightseeings\the houses of Parliament Big Ben\Trafalger Square\P1020492.jpg"/>
          <p:cNvPicPr/>
          <p:nvPr/>
        </p:nvPicPr>
        <p:blipFill>
          <a:blip r:embed="rId1"/>
          <a:stretch/>
        </p:blipFill>
        <p:spPr>
          <a:xfrm>
            <a:off x="61920" y="0"/>
            <a:ext cx="9082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038840" y="0"/>
            <a:ext cx="528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ook Antiqua"/>
              </a:rPr>
              <a:t>Trafalgar Squ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C:\Documents and Settings\UserXP\Рабочий стол\белозерова\sightseeings\the houses of Parliament Big Ben\St.Paul's Cathedral\sight53.jpg"/>
          <p:cNvPicPr/>
          <p:nvPr/>
        </p:nvPicPr>
        <p:blipFill>
          <a:blip r:embed="rId1"/>
          <a:stretch/>
        </p:blipFill>
        <p:spPr>
          <a:xfrm>
            <a:off x="61920" y="0"/>
            <a:ext cx="9082080" cy="6794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4663800" y="0"/>
            <a:ext cx="46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Saint Paul’s Cathed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UserXP\Рабочий стол\белозерова\sightseeings\the houses of Parliament Big Ben\London Bridge\London_0001.jpg"/>
          <p:cNvPicPr/>
          <p:nvPr/>
        </p:nvPicPr>
        <p:blipFill>
          <a:blip r:embed="rId1"/>
          <a:stretch/>
        </p:blipFill>
        <p:spPr>
          <a:xfrm>
            <a:off x="61920" y="31680"/>
            <a:ext cx="9099720" cy="6826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-99360" y="0"/>
            <a:ext cx="423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Tower Brid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C:\Documents and Settings\UserXP\Рабочий стол\белозерова\sightseeings\the houses of Parliament Big Ben\0207_london_5.jpg"/>
          <p:cNvPicPr/>
          <p:nvPr/>
        </p:nvPicPr>
        <p:blipFill>
          <a:blip r:embed="rId1"/>
          <a:stretch/>
        </p:blipFill>
        <p:spPr>
          <a:xfrm>
            <a:off x="61920" y="139680"/>
            <a:ext cx="89391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05T14:27:08Z</dcterms:modified>
  <cp:revision>3</cp:revision>
  <dc:subject/>
  <dc:title>Слайд 1</dc:title>
</cp:coreProperties>
</file>