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BEC-77ED-49EE-8ADB-99E854BC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400-BA8A-42D6-BB7B-3389E9D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FD3-E5BA-496E-B532-4869B384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916-E174-44C4-A1FD-ADBEDFBA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C04-EE0F-4A70-84D8-316100AD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FF28-8940-42ED-94F9-F20A923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DCD8-8771-49C7-B818-FB59BF8B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0DC6-B15C-4BDB-B780-845F54D2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1799-0D84-4849-A0B1-F6F0FA5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6D49-0582-479E-996F-97CC2052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08F7-8A2A-45F9-92DC-C87E978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5EB-5C0F-498D-86F3-650AC22D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9A40-2A9B-4C64-8A96-E6C660C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F16-BF40-405B-94D9-7A2217A8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184-D30E-498D-BBB6-3ED56B51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58D6-78DC-412E-88FC-1FA49CD7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9648-B9CD-4BF1-9E23-110AF435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847-0B7B-4A6B-8EFD-5CE8E03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AE9-875A-48F9-ADE1-B601565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D08-94EB-40CE-97EB-49E7713E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ED3-DAB0-4443-A863-7A8B1563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58E-C788-4E93-A1CA-9FD95DA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F4B-081F-458F-9294-6423E10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278-9AA2-4693-BC63-01D911A6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A4F2-29EF-41FF-B210-4615481FEB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183F-FD2C-4C73-A8A8-CB6BCA4012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04920" y="990720"/>
            <a:ext cx="5790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ke 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1752480" y="3505320"/>
            <a:ext cx="15573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1676520" y="4343400"/>
            <a:ext cx="20574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Do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up of 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91" name="Picture 6" descr="готовка"/>
          <p:cNvPicPr/>
          <p:nvPr/>
        </p:nvPicPr>
        <p:blipFill>
          <a:blip r:embed="rId1"/>
          <a:stretch/>
        </p:blipFill>
        <p:spPr>
          <a:xfrm>
            <a:off x="4419720" y="1143000"/>
            <a:ext cx="4267080" cy="26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чаек"/>
          <p:cNvPicPr/>
          <p:nvPr/>
        </p:nvPicPr>
        <p:blipFill>
          <a:blip r:embed="rId2"/>
          <a:stretch/>
        </p:blipFill>
        <p:spPr>
          <a:xfrm>
            <a:off x="3429000" y="4010040"/>
            <a:ext cx="4457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now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96" name="Picture 5" descr="рисунок"/>
          <p:cNvPicPr/>
          <p:nvPr/>
        </p:nvPicPr>
        <p:blipFill>
          <a:blip r:embed="rId1"/>
          <a:stretch/>
        </p:blipFill>
        <p:spPr>
          <a:xfrm>
            <a:off x="5181480" y="1228680"/>
            <a:ext cx="3962520" cy="247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снеговик"/>
          <p:cNvPicPr/>
          <p:nvPr/>
        </p:nvPicPr>
        <p:blipFill>
          <a:blip r:embed="rId2"/>
          <a:stretch/>
        </p:blipFill>
        <p:spPr>
          <a:xfrm>
            <a:off x="1600200" y="3809880"/>
            <a:ext cx="43052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h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c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i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gg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1" name="Picture 5" descr="желание"/>
          <p:cNvPicPr/>
          <p:nvPr/>
        </p:nvPicPr>
        <p:blipFill>
          <a:blip r:embed="rId1"/>
          <a:stretch/>
        </p:blipFill>
        <p:spPr>
          <a:xfrm>
            <a:off x="3429000" y="1981080"/>
            <a:ext cx="57150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277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5" name="Picture 5" descr="продажа"/>
          <p:cNvPicPr/>
          <p:nvPr/>
        </p:nvPicPr>
        <p:blipFill>
          <a:blip r:embed="rId1"/>
          <a:stretch/>
        </p:blipFill>
        <p:spPr>
          <a:xfrm>
            <a:off x="2133720" y="2049480"/>
            <a:ext cx="624816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b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jour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209" name="Picture 8" descr="поездка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251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люб"/>
          <p:cNvPicPr/>
          <p:nvPr/>
        </p:nvPicPr>
        <p:blipFill>
          <a:blip r:embed="rId2"/>
          <a:stretch/>
        </p:blipFill>
        <p:spPr>
          <a:xfrm>
            <a:off x="3048120" y="3933720"/>
            <a:ext cx="468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l in do or 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   ………. a special dis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   ………. the shopp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    ………. home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    ………. the deco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    ………. the washing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.    ………. a cup of t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.    ………. the du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.    ………. frien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.    ………. da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.  ……….. g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.  ……….. a m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.  ……….. a journ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3.  ……….. lo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.  ……….. a cross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.  ……… a com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ch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a pho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hous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work/j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some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your b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... no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 ……… mone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urlz MT"/>
              </a:rPr>
              <a:t>      </a:t>
            </a: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GOOD 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   </a:t>
            </a:r>
            <a:r>
              <a:rPr b="1" i="1" lang="en-US" sz="9600" spc="-1" strike="noStrike">
                <a:solidFill>
                  <a:srgbClr val="ffff00"/>
                </a:solidFill>
                <a:latin typeface="Curlz MT"/>
              </a:rPr>
              <a:t>LUCK!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8380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838080" y="1523880"/>
            <a:ext cx="2362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ous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h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und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s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d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60" name="Picture 7" descr="стирка"/>
          <p:cNvPicPr/>
          <p:nvPr/>
        </p:nvPicPr>
        <p:blipFill>
          <a:blip r:embed="rId1"/>
          <a:stretch/>
        </p:blipFill>
        <p:spPr>
          <a:xfrm>
            <a:off x="2895480" y="1295280"/>
            <a:ext cx="3810240" cy="266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садоводы"/>
          <p:cNvPicPr/>
          <p:nvPr/>
        </p:nvPicPr>
        <p:blipFill>
          <a:blip r:embed="rId2"/>
          <a:stretch/>
        </p:blipFill>
        <p:spPr>
          <a:xfrm>
            <a:off x="4800600" y="41148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/j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65" name="Picture 5" descr="уборка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47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дом раб"/>
          <p:cNvPicPr/>
          <p:nvPr/>
        </p:nvPicPr>
        <p:blipFill>
          <a:blip r:embed="rId2"/>
          <a:stretch/>
        </p:blipFill>
        <p:spPr>
          <a:xfrm>
            <a:off x="2514600" y="3933720"/>
            <a:ext cx="43434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0" name="Picture 5" descr="ничего не делает"/>
          <p:cNvPicPr/>
          <p:nvPr/>
        </p:nvPicPr>
        <p:blipFill>
          <a:blip r:embed="rId1"/>
          <a:stretch/>
        </p:blipFill>
        <p:spPr>
          <a:xfrm>
            <a:off x="3276720" y="1905120"/>
            <a:ext cx="556236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4" name="Picture 5" descr="упражнения"/>
          <p:cNvPicPr/>
          <p:nvPr/>
        </p:nvPicPr>
        <p:blipFill>
          <a:blip r:embed="rId1"/>
          <a:stretch/>
        </p:blipFill>
        <p:spPr>
          <a:xfrm>
            <a:off x="4572000" y="1219320"/>
            <a:ext cx="4191120" cy="2766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учеба"/>
          <p:cNvPicPr/>
          <p:nvPr/>
        </p:nvPicPr>
        <p:blipFill>
          <a:blip r:embed="rId2"/>
          <a:stretch/>
        </p:blipFill>
        <p:spPr>
          <a:xfrm>
            <a:off x="533520" y="4038480"/>
            <a:ext cx="449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7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av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04920" y="22860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urlz MT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urlz MT"/>
              <a:ea typeface="Curlz MT"/>
            </a:endParaRPr>
          </a:p>
        </p:txBody>
      </p:sp>
      <p:pic>
        <p:nvPicPr>
          <p:cNvPr id="179" name="Picture 5" descr="польза"/>
          <p:cNvPicPr/>
          <p:nvPr/>
        </p:nvPicPr>
        <p:blipFill>
          <a:blip r:embed="rId1"/>
          <a:stretch/>
        </p:blipFill>
        <p:spPr>
          <a:xfrm>
            <a:off x="4267080" y="1143000"/>
            <a:ext cx="4419720" cy="27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скворечник"/>
          <p:cNvPicPr/>
          <p:nvPr/>
        </p:nvPicPr>
        <p:blipFill>
          <a:blip r:embed="rId2"/>
          <a:stretch/>
        </p:blipFill>
        <p:spPr>
          <a:xfrm>
            <a:off x="1752480" y="4052880"/>
            <a:ext cx="44197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29200" y="1905120"/>
            <a:ext cx="41148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struct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reat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762120" y="1752480"/>
            <a:ext cx="34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762120" y="1752480"/>
            <a:ext cx="34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09680" y="27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und/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j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hon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30492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latin typeface="Curlz MT"/>
              </a:rPr>
              <a:t>MAKE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latin typeface="Curlz MT"/>
              <a:ea typeface="Curlz MT"/>
            </a:endParaRPr>
          </a:p>
        </p:txBody>
      </p:sp>
      <p:pic>
        <p:nvPicPr>
          <p:cNvPr id="187" name="Picture 7" descr="звук"/>
          <p:cNvPicPr/>
          <p:nvPr/>
        </p:nvPicPr>
        <p:blipFill>
          <a:blip r:embed="rId1"/>
          <a:stretch/>
        </p:blipFill>
        <p:spPr>
          <a:xfrm>
            <a:off x="3429000" y="2209680"/>
            <a:ext cx="571500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7T20:08:28Z</dcterms:created>
  <dc:creator>Meine_Hoheit</dc:creator>
  <dc:description/>
  <dc:language>en-US</dc:language>
  <cp:lastModifiedBy>Юрий</cp:lastModifiedBy>
  <dcterms:modified xsi:type="dcterms:W3CDTF">2015-12-08T19:15:3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