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683A-74CA-445D-A976-EB4A7C4D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BC1-1F73-4CD1-A6B0-40807B18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FCB1-79FF-4903-A91A-153D0ED4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C2F-B81E-473A-89BA-3DA1423F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6B9B9-AEFC-4361-BBE8-6B626BF9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90213-0D4B-40C0-A1F0-036E5AA0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C399F-F731-4B5D-94A4-8D16B25B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65A3D-9A62-469F-8945-95905C08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C8ADD-E99B-4980-B5A2-5A00DACC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E19DB-891D-4B5B-A2FF-C54AFF94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01EDD-100C-48C1-A1F7-DBBBAC90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FA21-2974-468F-A70C-4A8D4796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36520-1C53-4EBE-BA15-1EE6067D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CEB3C-543D-4421-A38A-5DB567DE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929AF-988A-477B-88E9-82DE7961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B6380-0843-491C-A011-3B7E103F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04E08-2C26-41B7-8DB8-75865668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18F97-6053-4829-9919-0F9F215A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58AC9-C32A-4B38-B192-1D9D6208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A9514-95FB-4825-A5B3-B330A860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235FD-69F2-40A9-B064-368A593E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5067C-D53A-4446-9207-0C8F1B10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0B83-D4D6-478E-A678-55D18521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7B127-19A4-4AC6-935C-DA1122E4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BF67E-4A0F-4E20-8A97-CC0CCB40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46E17-65DA-4D24-9030-DB0C2734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F0FE0E-BA1F-4BAE-BCAF-5F95C957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93EA8-3961-42FB-8E4E-E624E794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E00E1-6DF4-4634-BABB-CEF74E83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2BF4C-B96A-4AED-A2E7-9F7851D2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E622C-31B0-4666-BFB5-34A5C1A7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B6D74-D4A2-46B4-AEBF-270404E9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3763E-CFE9-4679-9F5E-4431EDBA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7AD-CA94-4126-A2ED-740072B2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7839A-0BF0-4EB7-80E5-EFD12606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04C87-7A80-4C2C-A6D7-82F95DEE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4BD97-5DFC-4F6B-B2B5-F6221383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CAEBC-5C51-4973-B5AD-5CA2BB1D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D581F-ACBD-4679-BAF9-EE080021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81F44-A69A-4377-BE47-1929CE40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DA2C1-BE1B-48B6-BB3C-AC2271A3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0C61C-7FA2-4C15-8916-CEDF7608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31CD7-8C0C-4B09-824D-BA71318D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B0E19-7E6E-484D-91FC-14448F73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55BD-AA31-48A5-8524-37C10238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FD4E0-9823-482E-B5FC-FA3D4935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EB17D-0DBC-4326-B04B-933508B4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25670-E41E-414E-9899-014E74B8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1D93D-31C5-460F-8E10-C5795B2A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025E2-6B1C-42E3-A6DD-72AA707F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252C8-19ED-4917-8A38-DE1C8C36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0F5C1-3DF7-437A-B001-16522737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BCAA0-34BF-4654-8277-D23B76F9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DF771-A01B-4394-9974-95A64AF3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28B1D-D76C-42F3-A1D0-831BC7E0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CDE-F4AA-40A7-BC85-42574EF6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F7F74-8C1F-490D-ABCC-015A4755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3DDA9-6EED-4EB8-BB00-D3DEB4EF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34065-B8F3-4361-9906-D7661DB1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1689F-92EA-4DC0-8539-CF7B3117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147D4-D2B5-4640-A451-E165DA6E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C24F5-F7A4-4BA4-B4B4-BB907311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159BD-803A-4C37-B17B-579D8A74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59DB1-1A2B-4D24-AAFD-09B4779C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41955-A14C-4569-B2D9-7F2819EF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1B57F-6661-4BE1-8E8E-C6A0562D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E195-9B14-4932-8B53-BDDF0B76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61E1A-BA8C-41D5-9256-572280E5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9DE0A-7E26-4F0B-BF2B-51A5CA44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10739-EA83-40B8-8447-DBC81F82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F9C38-49DD-4639-BDBF-2A186540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519A9-66ED-49B0-8C14-A3C97F2C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74C70-4A8F-4D3A-BB48-96999841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AFF50-9B2B-41A8-8F64-CEB0AD0F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4B50C-6BA2-4B66-BBED-045480CF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A7A3F-AEB8-4C29-B7B9-58AB914D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5539B-7C1A-4DA9-AF52-76795037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CEE-792C-4933-ADB1-7A4527C0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14C97-6F00-4770-85B6-99808B64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3FC1C-2311-4F40-8990-FFC299B6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CE3EE-D771-493C-84F3-19282C77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7CB53-4374-4F62-A3E7-F5E6882A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645F6-BBA9-4948-8FE8-A0DFE414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BA84-148D-468F-8852-382B9AF6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474A-E814-4021-95E6-0F12DE05C3ED}" type="slidenum"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5426-8288-469A-B0C9-BE71AC99D6F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9A24-D475-4432-9A47-15640DFB1B69}" type="slidenum"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E68D-8258-4F10-AB6B-B6C8711680A4}" type="slidenum"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BF11-98EB-4329-8506-79FA34459687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5261-0B4B-45F2-855A-7CF423221216}" type="slidenum"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FC97-31E8-4AFF-825A-2E8D11CFA1AF}" type="slidenum"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19044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МОДАЛЬНЫЕ ГЛАГОЛЫ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И ИХ ЭКВИВАЛЕНТЫ</a:t>
            </a:r>
            <a:endParaRPr b="0" lang="en-US" sz="4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2" name="Прямоугольник 2"/>
          <p:cNvSpPr/>
          <p:nvPr/>
        </p:nvSpPr>
        <p:spPr>
          <a:xfrm>
            <a:off x="1262520" y="366084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haron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Овал 3" descr=""/>
          <p:cNvPicPr/>
          <p:nvPr/>
        </p:nvPicPr>
        <p:blipFill>
          <a:blip r:embed="rId1"/>
          <a:stretch/>
        </p:blipFill>
        <p:spPr>
          <a:xfrm>
            <a:off x="360360" y="4456080"/>
            <a:ext cx="2455920" cy="2109960"/>
          </a:xfrm>
          <a:prstGeom prst="rect">
            <a:avLst/>
          </a:prstGeom>
          <a:ln w="0">
            <a:noFill/>
          </a:ln>
        </p:spPr>
      </p:pic>
      <p:pic>
        <p:nvPicPr>
          <p:cNvPr id="304" name="Овал 4" descr=""/>
          <p:cNvPicPr/>
          <p:nvPr/>
        </p:nvPicPr>
        <p:blipFill>
          <a:blip r:embed="rId2"/>
          <a:stretch/>
        </p:blipFill>
        <p:spPr>
          <a:xfrm>
            <a:off x="3859200" y="4389480"/>
            <a:ext cx="2529000" cy="2108160"/>
          </a:xfrm>
          <a:prstGeom prst="rect">
            <a:avLst/>
          </a:prstGeom>
          <a:ln w="0">
            <a:noFill/>
          </a:ln>
        </p:spPr>
      </p:pic>
      <p:pic>
        <p:nvPicPr>
          <p:cNvPr id="305" name="Овал 5" descr=""/>
          <p:cNvPicPr/>
          <p:nvPr/>
        </p:nvPicPr>
        <p:blipFill>
          <a:blip r:embed="rId3"/>
          <a:stretch/>
        </p:blipFill>
        <p:spPr>
          <a:xfrm>
            <a:off x="3213000" y="1798560"/>
            <a:ext cx="3821040" cy="2529000"/>
          </a:xfrm>
          <a:prstGeom prst="rect">
            <a:avLst/>
          </a:prstGeom>
          <a:ln w="0">
            <a:noFill/>
          </a:ln>
        </p:spPr>
      </p:pic>
      <p:pic>
        <p:nvPicPr>
          <p:cNvPr id="306" name="Овал 6" descr=""/>
          <p:cNvPicPr/>
          <p:nvPr/>
        </p:nvPicPr>
        <p:blipFill>
          <a:blip r:embed="rId4"/>
          <a:stretch/>
        </p:blipFill>
        <p:spPr>
          <a:xfrm>
            <a:off x="390600" y="2017800"/>
            <a:ext cx="245592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78920" y="1483920"/>
            <a:ext cx="9153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You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ay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come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ay 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take your car?                             </a:t>
            </a:r>
            <a:r>
              <a:rPr b="0" lang="ru-RU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настоящее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You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ay not 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eat ice-cream.</a:t>
            </a:r>
            <a:r>
              <a:rPr b="0" lang="ru-RU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                     время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ay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go out tonight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She said that he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ight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take her book. </a:t>
            </a:r>
            <a:r>
              <a:rPr b="0" lang="ru-RU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       прошедшее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He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ight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have come yesterday.</a:t>
            </a:r>
            <a:r>
              <a:rPr b="0" lang="ru-RU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                     время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10072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haroni"/>
                <a:ea typeface="Aharoni"/>
              </a:rPr>
              <a:t>MAY – </a:t>
            </a:r>
            <a:r>
              <a:rPr b="1" lang="ru-RU" sz="43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МОЖНО (РАЗРЕШЕНИЕ)</a:t>
            </a:r>
            <a:endParaRPr b="0" lang="en-US" sz="43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5" name="Правая фигурная скобка 3"/>
          <p:cNvSpPr/>
          <p:nvPr/>
        </p:nvSpPr>
        <p:spPr>
          <a:xfrm>
            <a:off x="4821120" y="2421000"/>
            <a:ext cx="308160" cy="1439640"/>
          </a:xfrm>
          <a:custGeom>
            <a:avLst/>
            <a:gdLst>
              <a:gd name="textAreaLeft" fmla="*/ 0 w 308160"/>
              <a:gd name="textAreaRight" fmla="*/ 111240 w 308160"/>
              <a:gd name="textAreaTop" fmla="*/ 7920 h 1439640"/>
              <a:gd name="textAreaBottom" fmla="*/ 143172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"/>
                  <a:pt x="10800" y="385"/>
                </a:cubicBezTo>
                <a:lnTo>
                  <a:pt x="10800" y="10415"/>
                </a:lnTo>
                <a:cubicBezTo>
                  <a:pt x="10800" y="10608"/>
                  <a:pt x="16200" y="10800"/>
                  <a:pt x="21600" y="10800"/>
                </a:cubicBezTo>
                <a:cubicBezTo>
                  <a:pt x="16200" y="10800"/>
                  <a:pt x="10800" y="10993"/>
                  <a:pt x="10800" y="11185"/>
                </a:cubicBezTo>
                <a:lnTo>
                  <a:pt x="10800" y="21215"/>
                </a:lnTo>
                <a:cubicBezTo>
                  <a:pt x="10800" y="21408"/>
                  <a:pt x="5400" y="21600"/>
                  <a:pt x="0" y="21600"/>
                </a:cubicBezTo>
              </a:path>
            </a:pathLst>
          </a:custGeom>
          <a:solidFill>
            <a:srgbClr val="f2f2f2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авая фигурная скобка 4"/>
          <p:cNvSpPr/>
          <p:nvPr/>
        </p:nvSpPr>
        <p:spPr>
          <a:xfrm>
            <a:off x="5823000" y="4959360"/>
            <a:ext cx="288720" cy="826920"/>
          </a:xfrm>
          <a:custGeom>
            <a:avLst/>
            <a:gdLst>
              <a:gd name="textAreaLeft" fmla="*/ 0 w 288720"/>
              <a:gd name="textAreaRight" fmla="*/ 104040 w 288720"/>
              <a:gd name="textAreaTop" fmla="*/ 7200 h 826920"/>
              <a:gd name="textAreaBottom" fmla="*/ 819720 h 8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29"/>
                </a:cubicBezTo>
                <a:lnTo>
                  <a:pt x="10800" y="10171"/>
                </a:lnTo>
                <a:cubicBezTo>
                  <a:pt x="10800" y="10486"/>
                  <a:pt x="16200" y="10800"/>
                  <a:pt x="21600" y="10800"/>
                </a:cubicBezTo>
                <a:cubicBezTo>
                  <a:pt x="16200" y="10800"/>
                  <a:pt x="10800" y="11115"/>
                  <a:pt x="10800" y="11429"/>
                </a:cubicBezTo>
                <a:lnTo>
                  <a:pt x="10800" y="20971"/>
                </a:lnTo>
                <a:cubicBezTo>
                  <a:pt x="10800" y="21286"/>
                  <a:pt x="5400" y="21600"/>
                  <a:pt x="0" y="21600"/>
                </a:cubicBezTo>
              </a:path>
            </a:pathLst>
          </a:custGeom>
          <a:solidFill>
            <a:srgbClr val="f2f2f2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24000" y="1915920"/>
            <a:ext cx="8496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m allowed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for a party/I </a:t>
            </a: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ay</a:t>
            </a:r>
            <a:r>
              <a:rPr b="0" lang="en-US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for a party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ее время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was allowed to</a:t>
            </a:r>
            <a:r>
              <a:rPr b="0" lang="en-US" sz="32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for a party/I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igh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for a party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едшее время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will be allowed to</a:t>
            </a:r>
            <a:r>
              <a:rPr b="0" lang="en-US" sz="32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for a party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ее время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BE ALLOWED TO </a:t>
            </a:r>
            <a:r>
              <a:rPr b="1" lang="en-US" sz="2900" spc="-1" strike="noStrike">
                <a:solidFill>
                  <a:srgbClr val="ff0000"/>
                </a:solidFill>
                <a:latin typeface="Aharoni"/>
                <a:ea typeface="Aharoni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РАЗРЕШЕНО ЧТО-ТО СДЕЛАТЬ</a:t>
            </a:r>
            <a:r>
              <a:rPr b="1" lang="ru-RU" sz="29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) </a:t>
            </a:r>
            <a:r>
              <a:rPr b="1" lang="ru-RU" sz="40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– ЭКВИВАЛЕНТ ГЛАГОЛА </a:t>
            </a:r>
            <a:r>
              <a:rPr b="1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MAY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24000" y="1699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nee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alk. – Нам надо поговорить. </a:t>
            </a:r>
            <a:br>
              <a:rPr sz="2800"/>
            </a:b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N’T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четании с Perfect Infinitive употребляется в отношении прошедшего времени и означает, что лицу, о котором идет речь, не было необходимости совершать действие: 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needn'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e done i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м не нужно было этого делать. 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Franklin Gothic Medium"/>
              </a:rPr>
              <a:t>NEED TO – </a:t>
            </a:r>
            <a:r>
              <a:rPr b="1" lang="ru-RU" sz="4400" spc="-1" strike="noStrike">
                <a:solidFill>
                  <a:srgbClr val="ff0000"/>
                </a:solidFill>
                <a:latin typeface="Franklin Gothic Medium"/>
              </a:rPr>
              <a:t>НУЖНО (НЕОБХОДИМОСТЬ)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24000" y="1700280"/>
            <a:ext cx="8712000" cy="1224000"/>
          </a:xfrm>
          <a:prstGeom prst="rect">
            <a:avLst/>
          </a:prstGeom>
          <a:solidFill>
            <a:srgbClr val="e0e3d5"/>
          </a:solidFill>
          <a:ln w="0">
            <a:noFill/>
          </a:ln>
        </p:spPr>
        <p:txBody>
          <a:bodyPr anchor="t">
            <a:normAutofit fontScale="35000"/>
          </a:bodyPr>
          <a:p>
            <a:pPr marL="154800" indent="-15480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c669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 модальных глаголов не употребляется частичка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534949"/>
              </a:solidFill>
              <a:latin typeface="Franklin Gothic Medium"/>
            </a:endParaRPr>
          </a:p>
          <a:p>
            <a:pPr marL="154800" indent="-15480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альные глаголы не спрягаются;</a:t>
            </a:r>
            <a:endParaRPr b="0" lang="en-US" sz="3600" spc="-1" strike="noStrike">
              <a:solidFill>
                <a:srgbClr val="534949"/>
              </a:solidFill>
              <a:latin typeface="Franklin Gothic Medium"/>
            </a:endParaRPr>
          </a:p>
          <a:p>
            <a:pPr marL="154800" indent="-15480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c669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34949"/>
              </a:solidFill>
              <a:latin typeface="Franklin Gothic Medium"/>
            </a:endParaRPr>
          </a:p>
          <a:p>
            <a:pPr marL="154800" indent="-15480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c669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спользовании модальных глаголов не применяются вспомогательные глаголы 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, does, will, did, is, are, am)</a:t>
            </a:r>
            <a:endParaRPr b="0" lang="en-US" sz="3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88760" y="476280"/>
            <a:ext cx="52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648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324000" y="4581360"/>
          <a:ext cx="8583480" cy="1987560"/>
        </p:xfrm>
        <a:graphic>
          <a:graphicData uri="http://schemas.openxmlformats.org/drawingml/2006/table">
            <a:tbl>
              <a:tblPr/>
              <a:tblGrid>
                <a:gridCol w="8583480"/>
              </a:tblGrid>
              <a:tr h="198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41280" y="3206880"/>
          <a:ext cx="8510760" cy="1083960"/>
        </p:xfrm>
        <a:graphic>
          <a:graphicData uri="http://schemas.openxmlformats.org/drawingml/2006/table">
            <a:tbl>
              <a:tblPr/>
              <a:tblGrid>
                <a:gridCol w="8510760"/>
              </a:tblGrid>
              <a:tr h="108396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ffc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Блок-схема: процесс 5"/>
          <p:cNvSpPr/>
          <p:nvPr/>
        </p:nvSpPr>
        <p:spPr>
          <a:xfrm>
            <a:off x="2268360" y="1773360"/>
            <a:ext cx="4607280" cy="576000"/>
          </a:xfrm>
          <a:prstGeom prst="flowChartProcess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79280" y="141300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формы времени: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93122"/>
                </a:solidFill>
                <a:uFillTx/>
                <a:latin typeface="Franklin Gothic Medium"/>
              </a:rPr>
              <a:t>Настоящее время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3122"/>
                </a:solidFill>
                <a:latin typeface="Franklin Gothic Medium"/>
              </a:rPr>
              <a:t>    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Franklin Gothic Medium"/>
              </a:rPr>
              <a:t>Can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231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0000"/>
                </a:solidFill>
                <a:uFillTx/>
                <a:latin typeface="Aharoni"/>
                <a:ea typeface="Aharoni"/>
              </a:rPr>
              <a:t>CAN</a:t>
            </a:r>
            <a:r>
              <a:rPr b="1" lang="ru-RU" sz="2900" spc="-1" strike="noStrike" u="sng">
                <a:solidFill>
                  <a:srgbClr val="ff0000"/>
                </a:solidFill>
                <a:uFillTx/>
                <a:latin typeface="Franklin Gothic Medium"/>
                <a:ea typeface="Aharoni"/>
              </a:rPr>
              <a:t> – МОЧЬ, УМЕТЬ (УМСТВЕННАЯ</a:t>
            </a:r>
            <a:r>
              <a:rPr b="1" lang="en-US" sz="2900" spc="-1" strike="noStrike" u="sng">
                <a:solidFill>
                  <a:srgbClr val="ff0000"/>
                </a:solidFill>
                <a:uFillTx/>
                <a:latin typeface="Franklin Gothic Medium"/>
                <a:ea typeface="Aharoni"/>
              </a:rPr>
              <a:t>, </a:t>
            </a:r>
            <a:r>
              <a:rPr b="1" lang="ru-RU" sz="2900" spc="-1" strike="noStrike" u="sng">
                <a:solidFill>
                  <a:srgbClr val="ff0000"/>
                </a:solidFill>
                <a:uFillTx/>
                <a:latin typeface="Franklin Gothic Medium"/>
                <a:ea typeface="Aharoni"/>
              </a:rPr>
              <a:t>ФИЗИЧЕСКАЯ ВОЗМОЖНОСТЬ ЧТО-ТО ДЕЛАТЬ</a:t>
            </a:r>
            <a:r>
              <a:rPr b="0" lang="ru-RU" sz="2900" spc="-1" strike="noStrike">
                <a:solidFill>
                  <a:srgbClr val="544848"/>
                </a:solidFill>
                <a:latin typeface="Franklin Gothic Medium"/>
              </a:rPr>
              <a:t>)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763640" y="3860640"/>
          <a:ext cx="6096240" cy="1828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I 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Franklin Gothic Medium"/>
                        </a:rPr>
                        <a:t>ca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 learn the poem by hear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I 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Franklin Gothic Medium"/>
                        </a:rPr>
                        <a:t>can not (can’t)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learn the poem by heart.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Franklin Gothic Medium"/>
                        </a:rPr>
                        <a:t>Ca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 I learn the poem by heart 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Birds 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Franklin Gothic Medium"/>
                        </a:rPr>
                        <a:t>ca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 fly but people 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Franklin Gothic Medium"/>
                        </a:rPr>
                        <a:t>can’t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fl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695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4"/>
          <p:cNvSpPr/>
          <p:nvPr/>
        </p:nvSpPr>
        <p:spPr>
          <a:xfrm>
            <a:off x="1476360" y="3102120"/>
            <a:ext cx="6048360" cy="2232000"/>
          </a:xfrm>
          <a:prstGeom prst="rect">
            <a:avLst/>
          </a:prstGeom>
          <a:solidFill>
            <a:srgbClr val="c6695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0880" y="1413000"/>
            <a:ext cx="8407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ошедшее время</a:t>
            </a:r>
            <a:endParaRPr b="0" lang="en-US" sz="4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Could</a:t>
            </a:r>
            <a:endParaRPr b="0" lang="en-US" sz="4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1476360" y="3122640"/>
            <a:ext cx="59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he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Franklin Gothic Medium"/>
              </a:rPr>
              <a:t>could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 swim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he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Franklin Gothic Medium"/>
              </a:rPr>
              <a:t>could not 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(couldn’t) swim.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Franklin Gothic Medium"/>
              </a:rPr>
              <a:t>Could 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he swim?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e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Franklin Gothic Medium"/>
              </a:rPr>
              <a:t>could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 drive a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684000" y="1628280"/>
            <a:ext cx="8064360" cy="14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264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Применяется </a:t>
            </a:r>
            <a:r>
              <a:rPr b="0" i="1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в будущем времени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Глагол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 able to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употребляется и спрягается во времени как обычный глагол: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BE ABLE TO </a:t>
            </a:r>
            <a:r>
              <a:rPr b="1" lang="ru-RU" sz="32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БЫТЬ СПОСОБНЫМ ЧТО-ТО</a:t>
            </a:r>
            <a:r>
              <a:rPr b="1" lang="en-US" sz="2400" spc="-1" strike="noStrike">
                <a:solidFill>
                  <a:srgbClr val="ff0000"/>
                </a:solidFill>
                <a:latin typeface="Aharoni"/>
                <a:ea typeface="Aharon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СДЕЛАТЬ</a:t>
            </a:r>
            <a:r>
              <a:rPr b="1" lang="ru-RU" sz="32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) </a:t>
            </a: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– </a:t>
            </a:r>
            <a:r>
              <a:rPr b="1" lang="ru-RU" sz="32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ЭКВИВАЛЕНТ ГЛАГОЛА </a:t>
            </a: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CA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250920" y="3141720"/>
            <a:ext cx="86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m able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ce./I can dance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стоящ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as able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k English when I was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k English when I was 15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шедш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ill be 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nter the univer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ill not be 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nter the university.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ущ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 able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 the universit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авая фигурная скобка 5"/>
          <p:cNvSpPr/>
          <p:nvPr/>
        </p:nvSpPr>
        <p:spPr>
          <a:xfrm>
            <a:off x="5508720" y="5084640"/>
            <a:ext cx="576000" cy="865440"/>
          </a:xfrm>
          <a:custGeom>
            <a:avLst/>
            <a:gdLst>
              <a:gd name="textAreaLeft" fmla="*/ 0 w 576000"/>
              <a:gd name="textAreaRight" fmla="*/ 208080 w 576000"/>
              <a:gd name="textAreaTop" fmla="*/ 14760 h 865440"/>
              <a:gd name="textAreaBottom" fmla="*/ 85068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0"/>
                  <a:pt x="10800" y="1199"/>
                </a:cubicBezTo>
                <a:lnTo>
                  <a:pt x="10800" y="9601"/>
                </a:lnTo>
                <a:cubicBezTo>
                  <a:pt x="10800" y="10201"/>
                  <a:pt x="16200" y="10800"/>
                  <a:pt x="21600" y="10800"/>
                </a:cubicBezTo>
                <a:cubicBezTo>
                  <a:pt x="16200" y="10800"/>
                  <a:pt x="10800" y="11400"/>
                  <a:pt x="10800" y="11999"/>
                </a:cubicBezTo>
                <a:lnTo>
                  <a:pt x="10800" y="20401"/>
                </a:lnTo>
                <a:cubicBezTo>
                  <a:pt x="10800" y="21001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авая фигурная скобка 6"/>
          <p:cNvSpPr/>
          <p:nvPr/>
        </p:nvSpPr>
        <p:spPr>
          <a:xfrm>
            <a:off x="5764320" y="4005360"/>
            <a:ext cx="576000" cy="718920"/>
          </a:xfrm>
          <a:custGeom>
            <a:avLst/>
            <a:gdLst>
              <a:gd name="textAreaLeft" fmla="*/ 0 w 576000"/>
              <a:gd name="textAreaRight" fmla="*/ 208080 w 576000"/>
              <a:gd name="textAreaTop" fmla="*/ 14760 h 718920"/>
              <a:gd name="textAreaBottom" fmla="*/ 70416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1"/>
                  <a:pt x="10800" y="1442"/>
                </a:cubicBezTo>
                <a:lnTo>
                  <a:pt x="10800" y="9358"/>
                </a:lnTo>
                <a:cubicBezTo>
                  <a:pt x="10800" y="10079"/>
                  <a:pt x="16200" y="10800"/>
                  <a:pt x="21600" y="10800"/>
                </a:cubicBezTo>
                <a:cubicBezTo>
                  <a:pt x="16200" y="10800"/>
                  <a:pt x="10800" y="11521"/>
                  <a:pt x="10800" y="12242"/>
                </a:cubicBezTo>
                <a:lnTo>
                  <a:pt x="10800" y="20158"/>
                </a:lnTo>
                <a:cubicBezTo>
                  <a:pt x="10800" y="20879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3"/>
          <p:cNvSpPr/>
          <p:nvPr/>
        </p:nvSpPr>
        <p:spPr>
          <a:xfrm>
            <a:off x="1476360" y="1700280"/>
            <a:ext cx="7343640" cy="433440"/>
          </a:xfrm>
          <a:prstGeom prst="rect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Блок-схема: процесс 2"/>
          <p:cNvSpPr/>
          <p:nvPr/>
        </p:nvSpPr>
        <p:spPr>
          <a:xfrm>
            <a:off x="179280" y="5589720"/>
            <a:ext cx="8209080" cy="934920"/>
          </a:xfrm>
          <a:prstGeom prst="flowChartProcess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08000" y="119664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дает моральный долг или долг по закону: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must respect my parents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They must go to school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We must work</a:t>
            </a:r>
            <a:r>
              <a:rPr b="0" lang="ru-RU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everyday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She must not come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must not cook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You must not stay at home today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Must you stay at home today?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 глагола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UST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употребляется в настоящем времени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89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MUST – </a:t>
            </a:r>
            <a:r>
              <a:rPr b="1" lang="ru-RU" sz="36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ДОЛЖЕН, ДОЛЖНА</a:t>
            </a: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(</a:t>
            </a:r>
            <a:r>
              <a:rPr b="1" lang="ru-RU" sz="36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ПЕРЕДАЕТ ДОЛЖЕНСТВОВАНИЕ</a:t>
            </a: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Блок-схема: процесс 5"/>
          <p:cNvSpPr/>
          <p:nvPr/>
        </p:nvSpPr>
        <p:spPr>
          <a:xfrm>
            <a:off x="6012000" y="5300640"/>
            <a:ext cx="2016000" cy="432000"/>
          </a:xfrm>
          <a:prstGeom prst="flowChartProcess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Блок-схема: процесс 4"/>
          <p:cNvSpPr/>
          <p:nvPr/>
        </p:nvSpPr>
        <p:spPr>
          <a:xfrm>
            <a:off x="4859280" y="2421000"/>
            <a:ext cx="2305080" cy="360360"/>
          </a:xfrm>
          <a:prstGeom prst="flowChartProcess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79280" y="1628640"/>
            <a:ext cx="8748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had to do this work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He had to come to his parents.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шедшее время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They didn’t have to get visa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have to do this work./I must do this work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He has to go to his parents./He must go to his parents.</a:t>
            </a: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      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They don’t  have to get visa./They mustn’t get visa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will have to do this work tomorrow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He will have to go to his parents next week.</a:t>
            </a: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ущее время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They will not have to get visa in a month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8915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haroni"/>
                <a:ea typeface="Aharoni"/>
              </a:rPr>
              <a:t>HAVE TO </a:t>
            </a:r>
            <a:r>
              <a:rPr b="1" lang="ru-RU" sz="29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(</a:t>
            </a:r>
            <a:r>
              <a:rPr b="1" lang="ru-RU" sz="32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ПРИХОДИТЬСЯ ЧТО-ТО ДЕЛАТЬ</a:t>
            </a:r>
            <a:r>
              <a:rPr b="1" lang="ru-RU" sz="29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) – ЭКВИВАЛЕНТ ГЛАГОЛА </a:t>
            </a:r>
            <a:r>
              <a:rPr b="1" lang="en-US" sz="2900" spc="-1" strike="noStrike">
                <a:solidFill>
                  <a:srgbClr val="ff0000"/>
                </a:solidFill>
                <a:latin typeface="Aharoni"/>
                <a:ea typeface="Aharoni"/>
              </a:rPr>
              <a:t>MUST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1" name="Правая фигурная скобка 3"/>
          <p:cNvSpPr/>
          <p:nvPr/>
        </p:nvSpPr>
        <p:spPr>
          <a:xfrm>
            <a:off x="4067280" y="1989000"/>
            <a:ext cx="215640" cy="1297080"/>
          </a:xfrm>
          <a:custGeom>
            <a:avLst/>
            <a:gdLst>
              <a:gd name="textAreaLeft" fmla="*/ 0 w 215640"/>
              <a:gd name="textAreaRight" fmla="*/ 77760 w 215640"/>
              <a:gd name="textAreaTop" fmla="*/ 5400 h 1297080"/>
              <a:gd name="textAreaBottom" fmla="*/ 129168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solidFill>
            <a:srgbClr val="f2f2f2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авая фигурная скобка 6"/>
          <p:cNvSpPr/>
          <p:nvPr/>
        </p:nvSpPr>
        <p:spPr>
          <a:xfrm>
            <a:off x="6875640" y="3429000"/>
            <a:ext cx="215640" cy="1295280"/>
          </a:xfrm>
          <a:custGeom>
            <a:avLst/>
            <a:gdLst>
              <a:gd name="textAreaLeft" fmla="*/ 0 w 215640"/>
              <a:gd name="textAreaRight" fmla="*/ 77760 w 215640"/>
              <a:gd name="textAreaTop" fmla="*/ 5400 h 1295280"/>
              <a:gd name="textAreaBottom" fmla="*/ 128988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solidFill>
            <a:srgbClr val="f2f2f2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авая фигурная скобка 7"/>
          <p:cNvSpPr/>
          <p:nvPr/>
        </p:nvSpPr>
        <p:spPr>
          <a:xfrm>
            <a:off x="5651640" y="4941720"/>
            <a:ext cx="215640" cy="1295640"/>
          </a:xfrm>
          <a:custGeom>
            <a:avLst/>
            <a:gdLst>
              <a:gd name="textAreaLeft" fmla="*/ 0 w 215640"/>
              <a:gd name="textAreaRight" fmla="*/ 77760 w 215640"/>
              <a:gd name="textAreaTop" fmla="*/ 5400 h 1295640"/>
              <a:gd name="textAreaBottom" fmla="*/ 129024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solidFill>
            <a:srgbClr val="f2f2f2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7097760" y="3892680"/>
            <a:ext cx="2165040" cy="39888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ояще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Блок-схема: процесс 3"/>
          <p:cNvSpPr/>
          <p:nvPr/>
        </p:nvSpPr>
        <p:spPr>
          <a:xfrm>
            <a:off x="250920" y="5229360"/>
            <a:ext cx="7777080" cy="576000"/>
          </a:xfrm>
          <a:prstGeom prst="flowChartProcess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Блок-схема: процесс 2"/>
          <p:cNvSpPr/>
          <p:nvPr/>
        </p:nvSpPr>
        <p:spPr>
          <a:xfrm>
            <a:off x="2916360" y="1628640"/>
            <a:ext cx="4032000" cy="505080"/>
          </a:xfrm>
          <a:prstGeom prst="flowChartProcess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79280" y="1483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264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стоящее и будущее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do it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n’t do it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you do it?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not go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should study</a:t>
            </a:r>
            <a:r>
              <a:rPr b="0" lang="en-US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шедшее время  Perfect Infinitive :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haroni"/>
                <a:ea typeface="Aharoni"/>
              </a:rPr>
              <a:t>SHOULD – </a:t>
            </a:r>
            <a:r>
              <a:rPr b="1" lang="ru-RU" sz="45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СЛЕДУЕТ </a:t>
            </a:r>
            <a:br>
              <a:rPr sz="4500"/>
            </a:br>
            <a:r>
              <a:rPr b="1" lang="ru-RU" sz="45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(СОВЕТ, РЕКОМЕНДАЦИЯ)</a:t>
            </a:r>
            <a:endParaRPr b="0" lang="en-US" sz="4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9" name="Прямоугольник 4"/>
          <p:cNvSpPr/>
          <p:nvPr/>
        </p:nvSpPr>
        <p:spPr>
          <a:xfrm>
            <a:off x="809280" y="6021360"/>
            <a:ext cx="36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have called 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Блок-схема: процесс 2"/>
          <p:cNvSpPr/>
          <p:nvPr/>
        </p:nvSpPr>
        <p:spPr>
          <a:xfrm>
            <a:off x="1187280" y="1628640"/>
            <a:ext cx="7272360" cy="720720"/>
          </a:xfrm>
          <a:prstGeom prst="flowChartProcess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1447560"/>
            <a:ext cx="789156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353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стоящее и будущее время</a:t>
            </a:r>
            <a:endParaRPr b="0" lang="en-US" sz="36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353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353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You ought to learn English./You should learn English. – </a:t>
            </a:r>
            <a:r>
              <a:rPr b="0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Тебе следует изучать английский язык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353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353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Глагол </a:t>
            </a:r>
            <a:r>
              <a:rPr b="0" lang="en-US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OUGHT TO </a:t>
            </a:r>
            <a:r>
              <a:rPr b="0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в сочетании с Perfect Infinitive употребляется в отношении прошедшего времени и указывает на то, что действие не было выполнено: 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353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You ought to have done this exercise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OUGHT TO (</a:t>
            </a:r>
            <a:r>
              <a:rPr b="1" lang="ru-RU" sz="36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СЛЕДУЕТ</a:t>
            </a:r>
            <a:r>
              <a:rPr b="1" lang="ru-RU" sz="32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) –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ЭКВИВАЛЕНТ ГЛАГОЛА </a:t>
            </a: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SHOULD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11:07:05Z</dcterms:created>
  <dc:creator>Арина</dc:creator>
  <dc:description/>
  <dc:language>en-US</dc:language>
  <cp:lastModifiedBy>Юрий</cp:lastModifiedBy>
  <dcterms:modified xsi:type="dcterms:W3CDTF">2015-11-27T11:06:04Z</dcterms:modified>
  <cp:revision>51</cp:revision>
  <dc:subject/>
  <dc:title>Слайд 1</dc:title>
</cp:coreProperties>
</file>