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F16-9024-4191-91DB-7DA28F52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B0A-EE72-402D-A6E7-F5760E79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77B-01AC-4DAB-839C-31F195D8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605-59F5-48FF-8716-144DBC88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252DA-1944-404B-9372-816C8E06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59B90-4D26-4940-B4E6-0E560BE4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6C95B-5FAC-48F9-9663-2F4B5A81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27C41-7AFA-4094-9A25-B4EF1BBE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E2E49-160C-418D-BFD3-44490F36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962F6-4905-4B41-A6CD-946E61D9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BD0C6-3829-4056-9ACD-7F910E4B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6CA-D663-4089-B9E7-1D21D687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5F4E7-3CD8-44B8-BCD3-5975721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DC15F-5435-4920-B7E1-DF1B93D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755A9-7B80-4210-9F37-9B8B2D84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8661-9722-40A9-BBEA-3F399461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DEF4F-990E-498A-8D15-89E6FF08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758E7-CA1F-408F-9894-96E81600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AEC2A-E091-4A8F-A94E-DAE47722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53918-72CD-4689-B954-423EFD1D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29030-50CB-46C5-BD84-689D601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4033D-A84D-45A3-8D10-DF1B0C45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BCC-6FBF-4979-BF30-F3DBEBF4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C676D-695A-40CF-9902-D5E2B7A8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42489-CCC9-41E0-AF6D-20EF281C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C50D4-317E-4317-B0FB-911EEFF6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CD394-449D-4A96-A647-1106EEA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0E077-CE40-45C2-AC69-48EAE18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E731C-64E2-4D50-89B1-23B9EC0F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FDBBC-1E75-46A3-9D52-3C9A3A3B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6AB7-AA52-4B14-9E0F-90BDFFAE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3420-3E4A-44A5-8889-D2F38A88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5AA9-9CCA-46AA-B453-E870DBB2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5C8-E2B7-4276-81A4-084C105D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5D898-4DBC-4380-A279-FFE868C2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2719D-BDD2-4BC2-820A-979DB39B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B603A-C6CB-43A9-B089-24C4A21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0761B-26DA-4EC1-A8AD-407752F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FFF9-E1A9-4C77-811A-8533BD4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C37AB-56CA-4ACA-A0BA-187E1FC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00C5-98C2-4E55-9E66-D4BAF80C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2CF0D-49DA-4189-A9B4-303BF1D0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8F4F-40CE-4C96-A910-D9A43DDF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5488-724B-464E-9A3C-251D67F6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BFB-A146-4557-A4F6-657997D4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D2A27-58AB-4790-AFF0-1024D6E0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9FE39-E881-4339-8A05-D14F504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B6ECB-9593-4981-A8E1-1962FC57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76BF-F7FE-40BF-B766-B353CEB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88170-D1CA-48C8-97CC-C7CF4A18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54558-F164-460F-A3EA-8863E50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F1DE-FA46-49C4-A82B-FB9450D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4D301-57EC-455C-8D63-2F4C7A0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98556-544A-4FAA-8668-486A0821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C2100-01EF-4323-BE07-72D0561E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13A-C33A-43E7-A9AE-61FFB14F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3066D-B94B-4180-8A5E-8ADBA2FB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6A0A-BA7B-47DD-9379-B7F88968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6D2AB-AC38-4E62-B0CF-30ACBF3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A10AE-83DE-4C6F-B9CA-5475F67F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D4F1-B5A3-4FA9-A164-3B7DC4CA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34AA-B8F9-452B-967F-36A5684A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1434-0E4B-4634-86B7-E356C8EE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E7A8A-3D4E-4B2A-9160-4EBE274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BB991-05DA-4125-942A-1F4AF6BB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78043-094D-43C7-B5CE-87C01A6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9C3-7BBC-4DCE-A7D0-1AEBE53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69F73-1AD2-49D3-9E66-CAA81EB5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D13AB-BF4D-4CC8-9CC0-5AA3531B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986E-8ECF-4286-9089-03B51A26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35FE0-6FD0-46D8-BDD0-89FF2B6D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B279-0493-476B-B5E8-76F981B4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9367B-47CD-48D4-9391-A3D72805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83978-FEF0-4358-8F11-D52B8FF2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6C0AA-446A-4FFB-954F-0C80578C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B7BF-33EE-47A3-9F17-7EC37FAF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737B0-D748-40C1-AF4F-44F1925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5E7-290B-4846-B19F-0E327C97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EDA4B-695A-4BCD-B3E0-B509F293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FD7C-6DAB-4275-AD02-A8B9184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4D6A6-5759-4225-8594-029D44A7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C6A53-A0B3-49D1-98D6-B2E539ED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4918-2541-4CEC-8E3B-DAFA12C5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ED0-C6ED-4181-BE62-E976B8A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B623-8560-4AD3-AACB-DC05ECCD63F0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765A-4501-48A6-82CB-3AA689E7BA0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886F-5D40-49B4-9E50-F28F82AFD222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C07-ABC1-4C5C-8682-A06707F3470B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D8BC-4E4E-435D-BFC7-74D73ED298F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2D89-BB33-436E-8809-4A03AEB90018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1EFC-0383-4F1F-8EC5-28897FFC71EA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1904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МОДАЛЬНЫЕ ГЛАГОЛЫ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И ИХ ЭКВИВАЛЕНТЫ</a:t>
            </a:r>
            <a:endParaRPr b="0" lang="en-US" sz="4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1262520" y="366084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Овал 3" descr=""/>
          <p:cNvPicPr/>
          <p:nvPr/>
        </p:nvPicPr>
        <p:blipFill>
          <a:blip r:embed="rId1"/>
          <a:stretch/>
        </p:blipFill>
        <p:spPr>
          <a:xfrm>
            <a:off x="360360" y="4456080"/>
            <a:ext cx="2455920" cy="2109960"/>
          </a:xfrm>
          <a:prstGeom prst="rect">
            <a:avLst/>
          </a:prstGeom>
          <a:ln w="0">
            <a:noFill/>
          </a:ln>
        </p:spPr>
      </p:pic>
      <p:pic>
        <p:nvPicPr>
          <p:cNvPr id="304" name="Овал 4" descr=""/>
          <p:cNvPicPr/>
          <p:nvPr/>
        </p:nvPicPr>
        <p:blipFill>
          <a:blip r:embed="rId2"/>
          <a:stretch/>
        </p:blipFill>
        <p:spPr>
          <a:xfrm>
            <a:off x="3859200" y="4389480"/>
            <a:ext cx="2529000" cy="2108160"/>
          </a:xfrm>
          <a:prstGeom prst="rect">
            <a:avLst/>
          </a:prstGeom>
          <a:ln w="0">
            <a:noFill/>
          </a:ln>
        </p:spPr>
      </p:pic>
      <p:pic>
        <p:nvPicPr>
          <p:cNvPr id="305" name="Овал 5" descr=""/>
          <p:cNvPicPr/>
          <p:nvPr/>
        </p:nvPicPr>
        <p:blipFill>
          <a:blip r:embed="rId3"/>
          <a:stretch/>
        </p:blipFill>
        <p:spPr>
          <a:xfrm>
            <a:off x="3213000" y="1798560"/>
            <a:ext cx="3821040" cy="2529000"/>
          </a:xfrm>
          <a:prstGeom prst="rect">
            <a:avLst/>
          </a:prstGeom>
          <a:ln w="0">
            <a:noFill/>
          </a:ln>
        </p:spPr>
      </p:pic>
      <p:pic>
        <p:nvPicPr>
          <p:cNvPr id="306" name="Овал 6" descr=""/>
          <p:cNvPicPr/>
          <p:nvPr/>
        </p:nvPicPr>
        <p:blipFill>
          <a:blip r:embed="rId4"/>
          <a:stretch/>
        </p:blipFill>
        <p:spPr>
          <a:xfrm>
            <a:off x="390600" y="2017800"/>
            <a:ext cx="2455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78920" y="1483920"/>
            <a:ext cx="9153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come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take your car?                             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настоящее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 not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eat ice-cream.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          время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go out tonight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She said that he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take her book. 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прошедшее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have come yesterday.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          время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100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haroni"/>
                <a:ea typeface="Aharoni"/>
              </a:rPr>
              <a:t>MAY – </a:t>
            </a:r>
            <a:r>
              <a:rPr b="1" lang="ru-RU" sz="43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МОЖНО (РАЗРЕШЕНИЕ)</a:t>
            </a:r>
            <a:endParaRPr b="0" lang="en-US" sz="43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Правая фигурная скобка 3"/>
          <p:cNvSpPr/>
          <p:nvPr/>
        </p:nvSpPr>
        <p:spPr>
          <a:xfrm>
            <a:off x="4821120" y="2421000"/>
            <a:ext cx="308160" cy="1439640"/>
          </a:xfrm>
          <a:custGeom>
            <a:avLst/>
            <a:gdLst>
              <a:gd name="textAreaLeft" fmla="*/ 0 w 308160"/>
              <a:gd name="textAreaRight" fmla="*/ 111240 w 308160"/>
              <a:gd name="textAreaTop" fmla="*/ 7920 h 1439640"/>
              <a:gd name="textAreaBottom" fmla="*/ 143172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авая фигурная скобка 4"/>
          <p:cNvSpPr/>
          <p:nvPr/>
        </p:nvSpPr>
        <p:spPr>
          <a:xfrm>
            <a:off x="5823000" y="4959360"/>
            <a:ext cx="288720" cy="8269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826920"/>
              <a:gd name="textAreaBottom" fmla="*/ 81972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171"/>
                </a:lnTo>
                <a:cubicBezTo>
                  <a:pt x="10800" y="10486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29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4000" y="1915920"/>
            <a:ext cx="849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m allowed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/I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as allowed to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/I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ill be allowed to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BE ALLOWED TO </a:t>
            </a: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РАЗРЕШЕНО ЧТО-ТО СДЕЛАТЬ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</a:t>
            </a:r>
            <a:r>
              <a:rPr b="1" lang="ru-RU" sz="40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– ЭКВИВАЛЕНТ ГЛАГОЛА 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MAY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24000" y="1699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alk. – Нам надо поговорить. </a:t>
            </a:r>
            <a:br>
              <a:rPr sz="2800"/>
            </a:b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N’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четании с Perfect Infinitive употребляется в отношении прошедшего времени и означает, что лицу, о котором идет речь, не было необходимости совершать действие: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eedn'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done i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м не нужно было этого делать.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NEED TO – </a:t>
            </a:r>
            <a:r>
              <a:rPr b="1" lang="ru-RU" sz="4400" spc="-1" strike="noStrike">
                <a:solidFill>
                  <a:srgbClr val="ff0000"/>
                </a:solidFill>
                <a:latin typeface="Franklin Gothic Medium"/>
              </a:rPr>
              <a:t>НУЖНО (НЕОБХОДИМОСТЬ)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24000" y="1700280"/>
            <a:ext cx="8712000" cy="1224000"/>
          </a:xfrm>
          <a:prstGeom prst="rect">
            <a:avLst/>
          </a:prstGeom>
          <a:solidFill>
            <a:srgbClr val="e0e3d5"/>
          </a:solidFill>
          <a:ln w="0">
            <a:noFill/>
          </a:ln>
        </p:spPr>
        <p:txBody>
          <a:bodyPr anchor="t">
            <a:normAutofit fontScale="35000"/>
          </a:bodyPr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 модальных глаголов не употребляется частичк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альные глаголы не спрягаются;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модальных глаголов не применяются вспомогательные глаголы 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, does, will, did, is, are, am)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88760" y="476280"/>
            <a:ext cx="52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64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24000" y="4581360"/>
          <a:ext cx="8583480" cy="1987560"/>
        </p:xfrm>
        <a:graphic>
          <a:graphicData uri="http://schemas.openxmlformats.org/drawingml/2006/table">
            <a:tbl>
              <a:tblPr/>
              <a:tblGrid>
                <a:gridCol w="8583480"/>
              </a:tblGrid>
              <a:tr h="198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41280" y="3206880"/>
          <a:ext cx="8510760" cy="1083960"/>
        </p:xfrm>
        <a:graphic>
          <a:graphicData uri="http://schemas.openxmlformats.org/drawingml/2006/table">
            <a:tbl>
              <a:tblPr/>
              <a:tblGrid>
                <a:gridCol w="8510760"/>
              </a:tblGrid>
              <a:tr h="10839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Блок-схема: процесс 5"/>
          <p:cNvSpPr/>
          <p:nvPr/>
        </p:nvSpPr>
        <p:spPr>
          <a:xfrm>
            <a:off x="2268360" y="1773360"/>
            <a:ext cx="4607280" cy="57600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формы времени: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93122"/>
                </a:solidFill>
                <a:uFillTx/>
                <a:latin typeface="Franklin Gothic Medium"/>
              </a:rPr>
              <a:t>Настоящ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3122"/>
                </a:solidFill>
                <a:latin typeface="Franklin Gothic Medium"/>
              </a:rPr>
              <a:t>    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Franklin Gothic Medium"/>
              </a:rPr>
              <a:t>Can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3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CAN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 – МОЧЬ, УМЕТЬ (УМСТВЕННАЯ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, 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ФИЗИЧЕСКАЯ ВОЗМОЖНОСТЬ ЧТО-ТО ДЕЛАТЬ</a:t>
            </a:r>
            <a:r>
              <a:rPr b="0" lang="ru-RU" sz="2900" spc="-1" strike="noStrike">
                <a:solidFill>
                  <a:srgbClr val="544848"/>
                </a:solidFill>
                <a:latin typeface="Franklin Gothic Medium"/>
              </a:rPr>
              <a:t>)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763640" y="3860640"/>
          <a:ext cx="6096240" cy="1828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learn the poem by hear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 not (can’t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learn the poem by heart.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I learn the poem by heart 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Birds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 fly but people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</a:rPr>
                        <a:t>can’t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f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4"/>
          <p:cNvSpPr/>
          <p:nvPr/>
        </p:nvSpPr>
        <p:spPr>
          <a:xfrm>
            <a:off x="1476360" y="3102120"/>
            <a:ext cx="6048360" cy="2232000"/>
          </a:xfrm>
          <a:prstGeom prst="rect">
            <a:avLst/>
          </a:prstGeom>
          <a:solidFill>
            <a:srgbClr val="c6695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1413000"/>
            <a:ext cx="8407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шедшее время</a:t>
            </a:r>
            <a:endParaRPr b="0" lang="en-US" sz="4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uld</a:t>
            </a:r>
            <a:endParaRPr b="0" lang="en-US" sz="4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476360" y="3122640"/>
            <a:ext cx="59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swim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 not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(couldn’t) swim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swim?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drive a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84000" y="1628280"/>
            <a:ext cx="806436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Применяется </a:t>
            </a:r>
            <a:r>
              <a:rPr b="0" i="1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будущем времени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лагол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 able to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употребляется и спрягается во времени как обычный глагол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BE ABLE TO 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БЫТЬ СПОСОБНЫМ ЧТО-ТО</a:t>
            </a: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ДЕЛАТЬ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– 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ЭКВИВАЛЕНТ ГЛАГОЛА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50920" y="31417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m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ce./I can dance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as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English when I was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English when I was 1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 be 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ter the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 not be 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ter the university.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the universit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авая фигурная скобка 5"/>
          <p:cNvSpPr/>
          <p:nvPr/>
        </p:nvSpPr>
        <p:spPr>
          <a:xfrm>
            <a:off x="5508720" y="5084640"/>
            <a:ext cx="576000" cy="86544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865440"/>
              <a:gd name="textAreaBottom" fmla="*/ 8506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199"/>
                </a:cubicBezTo>
                <a:lnTo>
                  <a:pt x="10800" y="9601"/>
                </a:lnTo>
                <a:cubicBezTo>
                  <a:pt x="10800" y="10201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1999"/>
                </a:cubicBezTo>
                <a:lnTo>
                  <a:pt x="10800" y="20401"/>
                </a:lnTo>
                <a:cubicBezTo>
                  <a:pt x="10800" y="21001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авая фигурная скобка 6"/>
          <p:cNvSpPr/>
          <p:nvPr/>
        </p:nvSpPr>
        <p:spPr>
          <a:xfrm>
            <a:off x="5764320" y="4005360"/>
            <a:ext cx="576000" cy="71892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718920"/>
              <a:gd name="textAreaBottom" fmla="*/ 7041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1"/>
                  <a:pt x="10800" y="1442"/>
                </a:cubicBezTo>
                <a:lnTo>
                  <a:pt x="10800" y="9358"/>
                </a:lnTo>
                <a:cubicBezTo>
                  <a:pt x="10800" y="10079"/>
                  <a:pt x="16200" y="10800"/>
                  <a:pt x="21600" y="10800"/>
                </a:cubicBezTo>
                <a:cubicBezTo>
                  <a:pt x="16200" y="10800"/>
                  <a:pt x="10800" y="11521"/>
                  <a:pt x="10800" y="12242"/>
                </a:cubicBezTo>
                <a:lnTo>
                  <a:pt x="10800" y="20158"/>
                </a:lnTo>
                <a:cubicBezTo>
                  <a:pt x="10800" y="2087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476360" y="1700280"/>
            <a:ext cx="7343640" cy="43344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2"/>
          <p:cNvSpPr/>
          <p:nvPr/>
        </p:nvSpPr>
        <p:spPr>
          <a:xfrm>
            <a:off x="179280" y="5589720"/>
            <a:ext cx="8209080" cy="93492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ет моральный долг или долг по закону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must respect my parents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must go to school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We must work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everyday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She must not come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must not cook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must not stay at home today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Must you stay at home today?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глагола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ST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потребляется в настоящем времени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8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MUST – 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ДОЛЖЕН, ДОЛЖНА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(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ПЕРЕДАЕТ ДОЛЖЕНСТВОВАНИЕ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Блок-схема: процесс 5"/>
          <p:cNvSpPr/>
          <p:nvPr/>
        </p:nvSpPr>
        <p:spPr>
          <a:xfrm>
            <a:off x="6012000" y="5300640"/>
            <a:ext cx="2016000" cy="432000"/>
          </a:xfrm>
          <a:prstGeom prst="flowChartProcess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процесс 4"/>
          <p:cNvSpPr/>
          <p:nvPr/>
        </p:nvSpPr>
        <p:spPr>
          <a:xfrm>
            <a:off x="4859280" y="2421000"/>
            <a:ext cx="2305080" cy="360360"/>
          </a:xfrm>
          <a:prstGeom prst="flowChartProcess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9280" y="1628640"/>
            <a:ext cx="874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had to do this work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had to come to his parents.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didn’t have to get visa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have to do this work./I must do this work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has to go to his parents./He must go to his parents.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don’t  have to get visa./They mustn’t get visa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will have to do this work tomorrow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will have to go to his parents next week.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will not have to get visa in a month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91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HAVE TO 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ПРИХОДИТЬСЯ ЧТО-ТО ДЕЛАТЬ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– ЭКВИВАЛЕНТ ГЛАГОЛА </a:t>
            </a: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MUST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1" name="Правая фигурная скобка 3"/>
          <p:cNvSpPr/>
          <p:nvPr/>
        </p:nvSpPr>
        <p:spPr>
          <a:xfrm>
            <a:off x="4067280" y="1989000"/>
            <a:ext cx="215640" cy="129708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7080"/>
              <a:gd name="textAreaBottom" fmla="*/ 12916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авая фигурная скобка 6"/>
          <p:cNvSpPr/>
          <p:nvPr/>
        </p:nvSpPr>
        <p:spPr>
          <a:xfrm>
            <a:off x="6875640" y="3429000"/>
            <a:ext cx="215640" cy="129528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5280"/>
              <a:gd name="textAreaBottom" fmla="*/ 1289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авая фигурная скобка 7"/>
          <p:cNvSpPr/>
          <p:nvPr/>
        </p:nvSpPr>
        <p:spPr>
          <a:xfrm>
            <a:off x="5651640" y="4941720"/>
            <a:ext cx="215640" cy="129564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5640"/>
              <a:gd name="textAreaBottom" fmla="*/ 12902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7097760" y="3892680"/>
            <a:ext cx="2165040" cy="3988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Блок-схема: процесс 3"/>
          <p:cNvSpPr/>
          <p:nvPr/>
        </p:nvSpPr>
        <p:spPr>
          <a:xfrm>
            <a:off x="250920" y="5229360"/>
            <a:ext cx="7777080" cy="57600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Блок-схема: процесс 2"/>
          <p:cNvSpPr/>
          <p:nvPr/>
        </p:nvSpPr>
        <p:spPr>
          <a:xfrm>
            <a:off x="2916360" y="1628640"/>
            <a:ext cx="4032000" cy="50508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оящее и будущее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do i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n’t do i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you do it?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not go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 study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едшее время  Perfect Infinitive 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haroni"/>
                <a:ea typeface="Aharoni"/>
              </a:rPr>
              <a:t>SHOULD – </a:t>
            </a:r>
            <a:r>
              <a:rPr b="1" lang="ru-RU" sz="45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ЛЕДУЕТ 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СОВЕТ, РЕКОМЕНДАЦИЯ)</a:t>
            </a:r>
            <a:endParaRPr b="0" lang="en-US" sz="4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809280" y="6021360"/>
            <a:ext cx="36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have called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Блок-схема: процесс 2"/>
          <p:cNvSpPr/>
          <p:nvPr/>
        </p:nvSpPr>
        <p:spPr>
          <a:xfrm>
            <a:off x="1187280" y="1628640"/>
            <a:ext cx="7272360" cy="72072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1447560"/>
            <a:ext cx="78915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353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оящее и будущее время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ought to learn English./You should learn English. –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Тебе следует изучать английский язык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лагол 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OUGHT TO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сочетании с Perfect Infinitive употребляется в отношении прошедшего времени и указывает на то, что действие не было выполнено: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ought to have done this exercise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OUGHT TO (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ЛЕДУЕТ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ЭКВИВАЛЕНТ ГЛАГОЛА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1:07:05Z</dcterms:created>
  <dc:creator>Арина</dc:creator>
  <dc:description/>
  <dc:language>en-US</dc:language>
  <cp:lastModifiedBy>Юрий</cp:lastModifiedBy>
  <dcterms:modified xsi:type="dcterms:W3CDTF">2015-11-27T11:06:04Z</dcterms:modified>
  <cp:revision>51</cp:revision>
  <dc:subject/>
  <dc:title>Слайд 1</dc:title>
</cp:coreProperties>
</file>