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E3A-1D31-4FE1-A918-85D0D47E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6C9-FA5C-4FFD-A230-62744F1E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5D3-D0F0-4311-9D6D-87AB64D9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621-15E8-4A8C-90ED-D3F4A813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80E04-9DC5-4665-82FA-74D9EEFF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09A3C-6814-48D8-A912-23BA263B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B8061-852B-4353-A7B7-2BD83E8E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08692-323E-4930-A214-D804F8A9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908CA-082F-4DAE-86ED-19A15F7C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8915B-C96B-432F-AA41-3E108FE9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F3594-42CF-40B5-AD7C-54E9EE7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B90-D5D3-445B-945F-72E5E861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4525B-77F5-41C9-A09D-931A82CF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AE305-C10D-4B18-94C7-45CC799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AEA1E-0DBC-4050-99CD-53B49C7B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3C9A0-8028-4914-95D6-4D0BFCD1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8FFBB-9347-4A7D-8CF6-69780AC3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FFEF5-D0E0-4857-809F-18D1E09F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53289-9196-48CC-A0EF-CE69217E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B34B7-2861-4029-A2F4-DCC0EAAB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72FDB-E841-4C65-AFF9-A8E320D0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7933A-5173-4C2D-86C6-CFAF4ED9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826-5C1A-412D-A6E2-5172071F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090A8-A248-47BA-A2B6-6717E258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6CDAE-7F08-4E5C-A080-F57B99A2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4A69A-DF2B-4D63-907C-64B009E1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4F57F-EAC6-4FEE-85CC-35EFE0DE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598F5-9DB8-481C-B9E3-3806D779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DC520-6EF2-4217-8E0E-22A57A6D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77830-EF41-496A-B81B-844436D5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B354-5A2D-40E0-9BF0-9B1B7634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A2A1-914C-4293-9449-6FE7D67C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A7D2-9EE4-423C-A03F-882915C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C53-6F45-488A-82B4-69450E20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34B3-40E0-4B20-93DE-A6F66CA8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9E2B-E19D-4B80-82F8-62222361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1CEB-2FAB-4655-ABBE-F4FFAD08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C82B-DA08-4139-80BF-7393AB0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EF97-5132-443C-B664-8486A909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55F9-00FA-4968-913C-07073F1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E1BD-58CF-407E-BAC4-09DAE63D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05DDF-0EC1-4668-AE70-0C445229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BC1F-C8EA-4C6B-B2D1-1D7F71AF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F22E-2074-4549-A07E-0E029CB6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BD7-613A-4805-AEC7-E99C2798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EA91-5309-4F56-904F-6BA51042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F9A9-979A-48D8-81C7-6ECDBCAA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3D22B-0CE8-4E78-B982-03AD1D66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69AD7-BC51-4579-9062-F61FEB60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152E-9636-42EE-B21B-782A2CF3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D2FD7-B91B-46C1-A32F-192C3466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8B0C-A018-47E5-A5F1-C9023D5F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80281-4CA3-4FB4-A7BC-BC77A2F1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5AB42-B8F7-49E8-9F4E-8B58DCA6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F417B-A061-44FB-9BB9-1CAEE412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B7C-FC1A-4E90-9F60-7E90389D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B3F3D-4FBD-4E3A-BB87-A06E639F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4B7AB-6C77-4115-AC7A-DE170C53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90E34-1861-4EEE-88EC-F733834A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CDFB-9918-4147-A850-C9CB472F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5A7B8-A8BA-47C6-8CC3-EFA79255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9A0C0-7D31-4203-902B-24BF9BEE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3C3C7-4E5B-4D6A-9387-E0FE5F3F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C840B-4FA9-48EB-958E-B0D34DB3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6349-FBC9-4210-AAD5-44B9C531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0BC5-D9A4-4A00-A082-AC1D9133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EFE-DA7E-4196-9294-D37ADD4E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EE57F-7284-4C17-9CD9-55DE24BD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0943D-A9DB-4D0A-A6F6-2D0C7EB4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AA0A0-7ABF-47CF-A8F3-76AD86B5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BCDB2-0557-4448-9070-480D3E0F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68D7-1492-4985-91D0-B868A138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83AF8-FAB2-4EA6-AF90-E00D3832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5820C-FADB-4A26-B6B1-7CE7CAFA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7FB4C-ACEE-498A-BD1A-7188A880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9656A-3123-421F-BFE7-2B79CA53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E804B-04CE-437F-A5D6-155F5C38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A21-CA8E-4854-B555-DC6AFECB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7B441-0312-468E-8C2D-1E1274A9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92F7-B14D-4E18-832E-3CE9DF9F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46D0-2A11-47AE-AAAC-0CBD5307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DDED0-745F-4B06-B9CE-2BAB66FA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9D9E3-5535-4A84-BAB9-21907FAB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2B9-B9D0-4FB4-8C3B-247C117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3C0E-9E7C-444D-AA92-DDE1BD945DF0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31E5-8E36-4F9E-8E13-56355A36927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9E03-59CA-4BDB-AF60-312215006648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B765-EB60-441B-A23F-621C89D72FF1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6C85-D12B-4E8B-AF48-1F991FC088A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6636-E20B-42E2-82EB-C2C49DB45C1C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4B26-3345-453C-A738-50B152155F74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1904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МОДАЛЬНЫЕ ГЛАГОЛЫ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И ИХ ЭКВИВАЛЕНТЫ</a:t>
            </a:r>
            <a:endParaRPr b="0" lang="en-US" sz="4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1262520" y="366084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haron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Овал 3" descr=""/>
          <p:cNvPicPr/>
          <p:nvPr/>
        </p:nvPicPr>
        <p:blipFill>
          <a:blip r:embed="rId1"/>
          <a:stretch/>
        </p:blipFill>
        <p:spPr>
          <a:xfrm>
            <a:off x="360360" y="4456080"/>
            <a:ext cx="2455920" cy="2109960"/>
          </a:xfrm>
          <a:prstGeom prst="rect">
            <a:avLst/>
          </a:prstGeom>
          <a:ln w="0">
            <a:noFill/>
          </a:ln>
        </p:spPr>
      </p:pic>
      <p:pic>
        <p:nvPicPr>
          <p:cNvPr id="304" name="Овал 4" descr=""/>
          <p:cNvPicPr/>
          <p:nvPr/>
        </p:nvPicPr>
        <p:blipFill>
          <a:blip r:embed="rId2"/>
          <a:stretch/>
        </p:blipFill>
        <p:spPr>
          <a:xfrm>
            <a:off x="3859200" y="4389480"/>
            <a:ext cx="2529000" cy="2108160"/>
          </a:xfrm>
          <a:prstGeom prst="rect">
            <a:avLst/>
          </a:prstGeom>
          <a:ln w="0">
            <a:noFill/>
          </a:ln>
        </p:spPr>
      </p:pic>
      <p:pic>
        <p:nvPicPr>
          <p:cNvPr id="305" name="Овал 5" descr=""/>
          <p:cNvPicPr/>
          <p:nvPr/>
        </p:nvPicPr>
        <p:blipFill>
          <a:blip r:embed="rId3"/>
          <a:stretch/>
        </p:blipFill>
        <p:spPr>
          <a:xfrm>
            <a:off x="3213000" y="1798560"/>
            <a:ext cx="3821040" cy="2529000"/>
          </a:xfrm>
          <a:prstGeom prst="rect">
            <a:avLst/>
          </a:prstGeom>
          <a:ln w="0">
            <a:noFill/>
          </a:ln>
        </p:spPr>
      </p:pic>
      <p:pic>
        <p:nvPicPr>
          <p:cNvPr id="306" name="Овал 6" descr=""/>
          <p:cNvPicPr/>
          <p:nvPr/>
        </p:nvPicPr>
        <p:blipFill>
          <a:blip r:embed="rId4"/>
          <a:stretch/>
        </p:blipFill>
        <p:spPr>
          <a:xfrm>
            <a:off x="390600" y="2017800"/>
            <a:ext cx="2455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78920" y="1483920"/>
            <a:ext cx="9153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come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take your car?                             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настоящее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 not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eat ice-cream.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          время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go out tonight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She said that he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take her book. 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прошедшее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have come yesterday.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          время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1007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haroni"/>
                <a:ea typeface="Aharoni"/>
              </a:rPr>
              <a:t>MAY – </a:t>
            </a:r>
            <a:r>
              <a:rPr b="1" lang="ru-RU" sz="43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МОЖНО (РАЗРЕШЕНИЕ)</a:t>
            </a:r>
            <a:endParaRPr b="0" lang="en-US" sz="43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5" name="Правая фигурная скобка 3"/>
          <p:cNvSpPr/>
          <p:nvPr/>
        </p:nvSpPr>
        <p:spPr>
          <a:xfrm>
            <a:off x="4821120" y="2421000"/>
            <a:ext cx="308160" cy="1439640"/>
          </a:xfrm>
          <a:custGeom>
            <a:avLst/>
            <a:gdLst>
              <a:gd name="textAreaLeft" fmla="*/ 0 w 308160"/>
              <a:gd name="textAreaRight" fmla="*/ 111240 w 308160"/>
              <a:gd name="textAreaTop" fmla="*/ 7920 h 1439640"/>
              <a:gd name="textAreaBottom" fmla="*/ 143172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5"/>
                </a:cubicBezTo>
                <a:lnTo>
                  <a:pt x="10800" y="10415"/>
                </a:lnTo>
                <a:cubicBezTo>
                  <a:pt x="10800" y="10608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5"/>
                </a:cubicBezTo>
                <a:lnTo>
                  <a:pt x="10800" y="21215"/>
                </a:lnTo>
                <a:cubicBezTo>
                  <a:pt x="10800" y="21408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авая фигурная скобка 4"/>
          <p:cNvSpPr/>
          <p:nvPr/>
        </p:nvSpPr>
        <p:spPr>
          <a:xfrm>
            <a:off x="5823000" y="4959360"/>
            <a:ext cx="288720" cy="8269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826920"/>
              <a:gd name="textAreaBottom" fmla="*/ 81972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29"/>
                </a:cubicBezTo>
                <a:lnTo>
                  <a:pt x="10800" y="10171"/>
                </a:lnTo>
                <a:cubicBezTo>
                  <a:pt x="10800" y="10486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29"/>
                </a:cubicBezTo>
                <a:lnTo>
                  <a:pt x="10800" y="20971"/>
                </a:lnTo>
                <a:cubicBezTo>
                  <a:pt x="10800" y="21286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24000" y="1915920"/>
            <a:ext cx="849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m allowed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/I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as allowed to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/I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ill be allowed to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BE ALLOWED TO </a:t>
            </a: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РАЗРЕШЕНО ЧТО-ТО СДЕЛАТЬ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</a:t>
            </a:r>
            <a:r>
              <a:rPr b="1" lang="ru-RU" sz="40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– ЭКВИВАЛЕНТ ГЛАГОЛА </a:t>
            </a: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MAY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24000" y="1699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alk. – Нам надо поговорить. </a:t>
            </a:r>
            <a:br>
              <a:rPr sz="2800"/>
            </a:b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N’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четании с Perfect Infinitive употребляется в отношении прошедшего времени и означает, что лицу, о котором идет речь, не было необходимости совершать действие: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eedn'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done i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м не нужно было этого делать.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</a:rPr>
              <a:t>NEED TO – </a:t>
            </a:r>
            <a:r>
              <a:rPr b="1" lang="ru-RU" sz="4400" spc="-1" strike="noStrike">
                <a:solidFill>
                  <a:srgbClr val="ff0000"/>
                </a:solidFill>
                <a:latin typeface="Franklin Gothic Medium"/>
              </a:rPr>
              <a:t>НУЖНО (НЕОБХОДИМОСТЬ)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24000" y="1700280"/>
            <a:ext cx="8712000" cy="1224000"/>
          </a:xfrm>
          <a:prstGeom prst="rect">
            <a:avLst/>
          </a:prstGeom>
          <a:solidFill>
            <a:srgbClr val="e0e3d5"/>
          </a:solidFill>
          <a:ln w="0">
            <a:noFill/>
          </a:ln>
        </p:spPr>
        <p:txBody>
          <a:bodyPr anchor="t">
            <a:normAutofit fontScale="35000"/>
          </a:bodyPr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 модальных глаголов не употребляется частичка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альные глаголы не спрягаются;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модальных глаголов не применяются вспомогательные глаголы 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, does, will, did, is, are, am)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88760" y="476280"/>
            <a:ext cx="52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64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24000" y="4581360"/>
          <a:ext cx="8583480" cy="1987560"/>
        </p:xfrm>
        <a:graphic>
          <a:graphicData uri="http://schemas.openxmlformats.org/drawingml/2006/table">
            <a:tbl>
              <a:tblPr/>
              <a:tblGrid>
                <a:gridCol w="8583480"/>
              </a:tblGrid>
              <a:tr h="198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41280" y="3206880"/>
          <a:ext cx="8510760" cy="1083960"/>
        </p:xfrm>
        <a:graphic>
          <a:graphicData uri="http://schemas.openxmlformats.org/drawingml/2006/table">
            <a:tbl>
              <a:tblPr/>
              <a:tblGrid>
                <a:gridCol w="8510760"/>
              </a:tblGrid>
              <a:tr h="10839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Блок-схема: процесс 5"/>
          <p:cNvSpPr/>
          <p:nvPr/>
        </p:nvSpPr>
        <p:spPr>
          <a:xfrm>
            <a:off x="2268360" y="1773360"/>
            <a:ext cx="4607280" cy="57600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формы времени: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93122"/>
                </a:solidFill>
                <a:uFillTx/>
                <a:latin typeface="Franklin Gothic Medium"/>
              </a:rPr>
              <a:t>Настоящ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3122"/>
                </a:solidFill>
                <a:latin typeface="Franklin Gothic Medium"/>
              </a:rPr>
              <a:t>    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Franklin Gothic Medium"/>
              </a:rPr>
              <a:t>Can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23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CAN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 – МОЧЬ, УМЕТЬ (УМСТВЕННАЯ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, 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ФИЗИЧЕСКАЯ ВОЗМОЖНОСТЬ ЧТО-ТО ДЕЛАТЬ</a:t>
            </a:r>
            <a:r>
              <a:rPr b="0" lang="ru-RU" sz="2900" spc="-1" strike="noStrike">
                <a:solidFill>
                  <a:srgbClr val="544848"/>
                </a:solidFill>
                <a:latin typeface="Franklin Gothic Medium"/>
              </a:rPr>
              <a:t>)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763640" y="3860640"/>
          <a:ext cx="6096240" cy="1828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learn the poem by hear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 not (can’t)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learn the poem by heart.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I learn the poem by heart 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Birds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fly but people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’t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f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4"/>
          <p:cNvSpPr/>
          <p:nvPr/>
        </p:nvSpPr>
        <p:spPr>
          <a:xfrm>
            <a:off x="1476360" y="3102120"/>
            <a:ext cx="6048360" cy="2232000"/>
          </a:xfrm>
          <a:prstGeom prst="rect">
            <a:avLst/>
          </a:prstGeom>
          <a:solidFill>
            <a:srgbClr val="c6695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1413000"/>
            <a:ext cx="8407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шедшее время</a:t>
            </a:r>
            <a:endParaRPr b="0" lang="en-US" sz="4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ould</a:t>
            </a:r>
            <a:endParaRPr b="0" lang="en-US" sz="4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476360" y="3122640"/>
            <a:ext cx="59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swim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 not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(couldn’t) swim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swim?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drive a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84000" y="1628280"/>
            <a:ext cx="806436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Применяется </a:t>
            </a:r>
            <a:r>
              <a:rPr b="0" i="1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в будущем времени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Глагол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 able to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употребляется и спрягается во времени как обычный глагол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BE ABLE TO 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БЫТЬ СПОСОБНЫМ ЧТО-ТО</a:t>
            </a: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ДЕЛАТЬ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– 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ЭКВИВАЛЕНТ ГЛАГОЛА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CA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250920" y="314172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m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ce./I can dance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as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English when I was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English when I was 1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 be 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ter the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 not be 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ter the university.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the universit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авая фигурная скобка 5"/>
          <p:cNvSpPr/>
          <p:nvPr/>
        </p:nvSpPr>
        <p:spPr>
          <a:xfrm>
            <a:off x="5508720" y="5084640"/>
            <a:ext cx="576000" cy="865440"/>
          </a:xfrm>
          <a:custGeom>
            <a:avLst/>
            <a:gdLst>
              <a:gd name="textAreaLeft" fmla="*/ 0 w 576000"/>
              <a:gd name="textAreaRight" fmla="*/ 208080 w 576000"/>
              <a:gd name="textAreaTop" fmla="*/ 14760 h 865440"/>
              <a:gd name="textAreaBottom" fmla="*/ 8506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199"/>
                </a:cubicBezTo>
                <a:lnTo>
                  <a:pt x="10800" y="9601"/>
                </a:lnTo>
                <a:cubicBezTo>
                  <a:pt x="10800" y="10201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1999"/>
                </a:cubicBezTo>
                <a:lnTo>
                  <a:pt x="10800" y="20401"/>
                </a:lnTo>
                <a:cubicBezTo>
                  <a:pt x="10800" y="21001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авая фигурная скобка 6"/>
          <p:cNvSpPr/>
          <p:nvPr/>
        </p:nvSpPr>
        <p:spPr>
          <a:xfrm>
            <a:off x="5764320" y="4005360"/>
            <a:ext cx="576000" cy="718920"/>
          </a:xfrm>
          <a:custGeom>
            <a:avLst/>
            <a:gdLst>
              <a:gd name="textAreaLeft" fmla="*/ 0 w 576000"/>
              <a:gd name="textAreaRight" fmla="*/ 208080 w 576000"/>
              <a:gd name="textAreaTop" fmla="*/ 14760 h 718920"/>
              <a:gd name="textAreaBottom" fmla="*/ 7041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1"/>
                  <a:pt x="10800" y="1442"/>
                </a:cubicBezTo>
                <a:lnTo>
                  <a:pt x="10800" y="9358"/>
                </a:lnTo>
                <a:cubicBezTo>
                  <a:pt x="10800" y="10079"/>
                  <a:pt x="16200" y="10800"/>
                  <a:pt x="21600" y="10800"/>
                </a:cubicBezTo>
                <a:cubicBezTo>
                  <a:pt x="16200" y="10800"/>
                  <a:pt x="10800" y="11521"/>
                  <a:pt x="10800" y="12242"/>
                </a:cubicBezTo>
                <a:lnTo>
                  <a:pt x="10800" y="20158"/>
                </a:lnTo>
                <a:cubicBezTo>
                  <a:pt x="10800" y="20879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476360" y="1700280"/>
            <a:ext cx="7343640" cy="43344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процесс 2"/>
          <p:cNvSpPr/>
          <p:nvPr/>
        </p:nvSpPr>
        <p:spPr>
          <a:xfrm>
            <a:off x="179280" y="5589720"/>
            <a:ext cx="8209080" cy="93492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ет моральный долг или долг по закону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must respect my parents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must go to school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We must work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everyday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She must not come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must not cook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must not stay at home today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Must you stay at home today?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глагола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UST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употребляется в настоящем времени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8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MUST – 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ДОЛЖЕН, ДОЛЖНА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(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ПЕРЕДАЕТ ДОЛЖЕНСТВОВАНИЕ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Блок-схема: процесс 5"/>
          <p:cNvSpPr/>
          <p:nvPr/>
        </p:nvSpPr>
        <p:spPr>
          <a:xfrm>
            <a:off x="6012000" y="5300640"/>
            <a:ext cx="2016000" cy="432000"/>
          </a:xfrm>
          <a:prstGeom prst="flowChartProcess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Блок-схема: процесс 4"/>
          <p:cNvSpPr/>
          <p:nvPr/>
        </p:nvSpPr>
        <p:spPr>
          <a:xfrm>
            <a:off x="4859280" y="2421000"/>
            <a:ext cx="2305080" cy="360360"/>
          </a:xfrm>
          <a:prstGeom prst="flowChartProcess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9280" y="1628640"/>
            <a:ext cx="8748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had to do this work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had to come to his parents.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didn’t have to get visa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have to do this work./I must do this work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has to go to his parents./He must go to his parents.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don’t  have to get visa./They mustn’t get visa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will have to do this work tomorrow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will have to go to his parents next week.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will not have to get visa in a month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8915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HAVE TO 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ПРИХОДИТЬСЯ ЧТО-ТО ДЕЛАТЬ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– ЭКВИВАЛЕНТ ГЛАГОЛА </a:t>
            </a: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MUST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1" name="Правая фигурная скобка 3"/>
          <p:cNvSpPr/>
          <p:nvPr/>
        </p:nvSpPr>
        <p:spPr>
          <a:xfrm>
            <a:off x="4067280" y="1989000"/>
            <a:ext cx="215640" cy="129708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7080"/>
              <a:gd name="textAreaBottom" fmla="*/ 12916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авая фигурная скобка 6"/>
          <p:cNvSpPr/>
          <p:nvPr/>
        </p:nvSpPr>
        <p:spPr>
          <a:xfrm>
            <a:off x="6875640" y="3429000"/>
            <a:ext cx="215640" cy="129528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5280"/>
              <a:gd name="textAreaBottom" fmla="*/ 1289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авая фигурная скобка 7"/>
          <p:cNvSpPr/>
          <p:nvPr/>
        </p:nvSpPr>
        <p:spPr>
          <a:xfrm>
            <a:off x="5651640" y="4941720"/>
            <a:ext cx="215640" cy="129564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5640"/>
              <a:gd name="textAreaBottom" fmla="*/ 12902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7097760" y="3892680"/>
            <a:ext cx="2165040" cy="3988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Блок-схема: процесс 3"/>
          <p:cNvSpPr/>
          <p:nvPr/>
        </p:nvSpPr>
        <p:spPr>
          <a:xfrm>
            <a:off x="250920" y="5229360"/>
            <a:ext cx="7777080" cy="57600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Блок-схема: процесс 2"/>
          <p:cNvSpPr/>
          <p:nvPr/>
        </p:nvSpPr>
        <p:spPr>
          <a:xfrm>
            <a:off x="2916360" y="1628640"/>
            <a:ext cx="4032000" cy="50508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оящее и будущее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do i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n’t do i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you do it?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not go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hould study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едшее время  Perfect Infinitive 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haroni"/>
                <a:ea typeface="Aharoni"/>
              </a:rPr>
              <a:t>SHOULD – </a:t>
            </a:r>
            <a:r>
              <a:rPr b="1" lang="ru-RU" sz="45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ЛЕДУЕТ </a:t>
            </a: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СОВЕТ, РЕКОМЕНДАЦИЯ)</a:t>
            </a:r>
            <a:endParaRPr b="0" lang="en-US" sz="4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809280" y="6021360"/>
            <a:ext cx="36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have called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Блок-схема: процесс 2"/>
          <p:cNvSpPr/>
          <p:nvPr/>
        </p:nvSpPr>
        <p:spPr>
          <a:xfrm>
            <a:off x="1187280" y="1628640"/>
            <a:ext cx="7272360" cy="72072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1447560"/>
            <a:ext cx="78915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353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оящее и будущее время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ought to learn English./You should learn English. –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Тебе следует изучать английский язык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Глагол 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OUGHT TO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в сочетании с Perfect Infinitive употребляется в отношении прошедшего времени и указывает на то, что действие не было выполнено: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ought to have done this exercise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OUGHT TO (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ЛЕДУЕТ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–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ЭКВИВАЛЕНТ ГЛАГОЛА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1:07:05Z</dcterms:created>
  <dc:creator>Арина</dc:creator>
  <dc:description/>
  <dc:language>en-US</dc:language>
  <cp:lastModifiedBy>Юрий</cp:lastModifiedBy>
  <dcterms:modified xsi:type="dcterms:W3CDTF">2015-11-27T11:06:04Z</dcterms:modified>
  <cp:revision>51</cp:revision>
  <dc:subject/>
  <dc:title>Слайд 1</dc:title>
</cp:coreProperties>
</file>