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376-DA64-430E-AFBE-65E9505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766-044B-4126-9EB3-ED5FF5F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84B-08CF-42C1-8DE6-8E85A003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9A7-BD5C-42FA-9507-DED0B277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8B79-121B-463C-AA46-02BCC5D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2140-7430-4A7A-8C8A-B2DA7618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F0D-750D-42E4-A800-E471816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F16-C343-40C1-B9B0-C7C36D8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16F-01A4-4F96-8B2F-1FACE4D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4267-A45D-4A60-BF6A-D07043CB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E2F-36D3-4B08-A8DC-DE167A5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C32-2798-4A9C-A62C-D32B2D9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C00D-C680-4D47-ADAA-3B77D28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3A59-BED1-4A60-8069-BED57AB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F3D-2CA8-42DA-B9B3-720E13F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DFE5-3D37-4158-AE39-EF372244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243-C1E5-47D1-A2B3-F2E8C14F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A9DD2-A352-416C-A336-3CC2C8B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11B15-3C01-4F0A-BF03-D559B5D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4939F-89F8-4D0E-8D03-DC60DED2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0F112-2E98-496A-B61F-2D170E83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2BBB7-0AC3-4034-A063-A3531A6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0EE-7711-4453-B837-69001C7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21B7C-4756-4093-BA06-04183EC4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3D7FE-D528-48D5-9DB5-E5DB729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3CC42-F93C-474B-88B7-0B6887B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44181-C248-4636-91AF-D5DA187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C8B19-8C0C-48EE-846B-CFAE391B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3BB55-4764-4CD9-8FF4-B2237B6B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44D6D-B859-46B8-A0F8-CB856EB6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7180-8586-4E67-943B-F3F4CB86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7356-D80A-49EB-8AFC-3D8251C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0CA2-FC70-4F0D-86EC-87C5AFDC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046-AEBA-4EDF-BC24-9A74C51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40AA-0C7C-415F-918B-833B2D4E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F929-ACF1-4E19-A058-B6AEB773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A0B2-10D6-4248-B848-446E487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392B-D7AC-44AB-82C3-E1BCB39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3705-9834-4EBC-92F8-0BD679B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2BC9-4881-4520-AD05-E01A0A8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B8F4-A233-4181-B316-5A90773C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4369-34C2-41FE-9DBF-E240F2B6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D6D7-C06B-4E6D-9382-76E115F8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C3184-8480-44FF-B4BC-BA5C43A6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606-2940-4BEF-BDA3-E4E9DCF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CB272-2E32-4294-81F8-644876A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BD076-55A3-4405-BC5C-C00F3FD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8E2E5-AED8-4707-9735-E9E565B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15A72-7AF2-4638-8CB9-5B80048B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A82E5-ACAA-4BE6-9E1A-3F7727C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C92FF-54A0-48E7-99DE-0D64CF33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767CD-DE5A-47AE-A6FE-FF24245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40056-9929-408D-BBD9-A73E682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CFE1C-D2DD-4AF0-B70C-AF89136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B7602-6070-498D-B1CD-67D20C4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B81-B78E-4A75-9904-197C13C3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8559D-E9FB-448C-B851-49F8E756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F7F63-A74E-4471-83C0-EA847EDD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7FE38-97A2-445E-B27A-54E9804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A3D33-D503-4E87-BF9C-67358EE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7C0C3-289C-4226-80E1-2FBDCBB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3B4CE-9400-492C-BCEA-640EE87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4BFD2-7F2C-4BEE-995D-2CF8FB9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98FA1-4517-473A-8D15-5C3C4F8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787C9-3B82-4A30-A3AF-EBE91E00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AF430-5231-484A-9DD0-BDCFBEB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32E-C97F-4962-BE57-A79F4A7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BCF14-A0DC-451F-BB91-D11506C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4628A-B658-4011-A30F-AB54E985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AD277-871B-4BA7-A192-FCD6AFC2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1686E-EDFD-4A9C-A77F-E92D3DF4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DE8CA-D523-4A8A-AA20-5297DC59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33D69-4511-4350-9CF3-89B2456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6F9A1-5A22-4ABD-9160-AD3EBF0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874DE-F927-4ACE-A721-9A699238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F4421-FA76-46F6-9449-FDA8863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35C37-44D0-4B2C-9595-BF2E762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761-14C7-4C06-BC46-C559057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EF528-9041-4541-A4A7-F3DD2FB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1D254-3E47-4358-B4C3-80804E1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7382C-74C0-40D9-A364-E34119D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9B197-8E4A-41E1-84B6-51970041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EF636-EE65-4B89-B380-594B0DBE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07F-A94B-4638-906F-748C334D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BD3D-86BA-43F7-9255-516A375B78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3872-52D9-4BC5-B3C2-B8872E8EA5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EB8-09CA-4952-892C-F79FFD93E7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802-A837-4BF4-B6FF-4952CF8875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4C7-07AF-4F4C-9ED3-DBDC0C91DD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D1D-CBDE-4659-9706-E5DC1128D1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406-6283-4C23-BB2C-D99890CDCF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243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PAR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STUDENT SHOULD BE…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N IDEAL TEACHER SHOULD BE…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C:\Program Files\Microsoft Office\MEDIA\CAGCAT10\j0205462.wmf"/>
          <p:cNvPicPr/>
          <p:nvPr/>
        </p:nvPicPr>
        <p:blipFill>
          <a:blip r:embed="rId1"/>
          <a:stretch/>
        </p:blipFill>
        <p:spPr>
          <a:xfrm>
            <a:off x="5356080" y="4000680"/>
            <a:ext cx="229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 WOULD LIKE MY FAMILY TO BE…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Y BEST FRIEND IS….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Picture 2" descr="C:\Program Files\Microsoft Office\MEDIA\CAGCAT10\j0298897.wmf"/>
          <p:cNvPicPr/>
          <p:nvPr/>
        </p:nvPicPr>
        <p:blipFill>
          <a:blip r:embed="rId1"/>
          <a:stretch/>
        </p:blipFill>
        <p:spPr>
          <a:xfrm>
            <a:off x="785880" y="4000680"/>
            <a:ext cx="266076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tour famil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kind of a person do you want to make friends with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you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is your father, mother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hat are they like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200" spc="-1" strike="noStrike">
                <a:solidFill>
                  <a:srgbClr val="5a160b"/>
                </a:solidFill>
                <a:latin typeface="Century Schoolbook"/>
              </a:rPr>
              <a:t>TO BE GOING TO BE SOMEBODY…</a:t>
            </a:r>
            <a:br>
              <a:rPr sz="2500"/>
            </a:b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 ARE YOU GOING TO BE … IN 10 YEARS?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3285720"/>
            <a:ext cx="7467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k your partner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Program Files\Microsoft Office\MEDIA\CAGCAT10\j0216516.wmf"/>
          <p:cNvPicPr/>
          <p:nvPr/>
        </p:nvPicPr>
        <p:blipFill>
          <a:blip r:embed="rId1"/>
          <a:stretch/>
        </p:blipFill>
        <p:spPr>
          <a:xfrm>
            <a:off x="5578560" y="3929040"/>
            <a:ext cx="20667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RE YOU GOING TO BE….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7467480" cy="268272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nt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uter program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w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brar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taxi driv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dent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post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sports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saleswoma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2110"/>
                </a:solidFill>
                <a:latin typeface="Century Schoolbook"/>
              </a:rPr>
              <a:t>A bank wor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3785760"/>
            <a:ext cx="74674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…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HOULD BE 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42960" y="500040"/>
          <a:ext cx="7467480" cy="2967120"/>
        </p:xfrm>
        <a:graphic>
          <a:graphicData uri="http://schemas.openxmlformats.org/drawingml/2006/table">
            <a:tbl>
              <a:tblPr/>
              <a:tblGrid>
                <a:gridCol w="2757600"/>
                <a:gridCol w="4709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taxi d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engine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ostm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bank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sales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office wor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Documents and Settings\UserXP\Рабочий стол\IMG_1734.JPG"/>
          <p:cNvPicPr/>
          <p:nvPr/>
        </p:nvPicPr>
        <p:blipFill>
          <a:blip r:embed="rId1"/>
          <a:stretch/>
        </p:blipFill>
        <p:spPr>
          <a:xfrm>
            <a:off x="1209600" y="285840"/>
            <a:ext cx="6220080" cy="6188040"/>
          </a:xfrm>
          <a:prstGeom prst="rect">
            <a:avLst/>
          </a:prstGeom>
          <a:ln w="0">
            <a:noFill/>
          </a:ln>
        </p:spPr>
      </p:pic>
      <p:pic>
        <p:nvPicPr>
          <p:cNvPr id="369" name="31 Дорожка 31.mp3" descr=""/>
          <p:cNvPicPr/>
          <p:nvPr/>
        </p:nvPicPr>
        <p:blipFill>
          <a:blip r:embed="rId2"/>
          <a:stretch/>
        </p:blipFill>
        <p:spPr>
          <a:xfrm>
            <a:off x="571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21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17T15:09:47Z</dcterms:modified>
  <cp:revision>8</cp:revision>
  <dc:subject/>
  <dc:title>An ideal parent should be…  an ideal student should be…  an ideal teacher should be…</dc:title>
</cp:coreProperties>
</file>