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267-F24F-436F-AC62-51CC3DF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EA9-95FE-4386-B493-1DBF1CA2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B24-3651-4094-B77C-77435232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DE5-510A-4F10-A2EC-3F55E340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C24A-B10E-4A62-BB2F-9D5BB401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BC4-D385-4FFB-95FB-DA8E1CD8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CA0-338A-4E2F-9F79-7FBF6132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30E8-66C4-466C-AA54-54B63F3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DB8-993B-454C-83C3-02D5C9B5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8EE-FA43-4CFD-AE70-2E507BB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3916-FD37-4AE9-97BD-9B55811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124-2B05-42B0-9300-4CC13A4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513-A869-41F9-BFE2-D3F38AE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1C47-F7AA-4D10-8391-1B2E332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CB32-48D9-471B-83C4-BE74C26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6B9D-6377-4164-A5FA-33B39C40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953B-0368-477C-A909-45A5E3A5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BA23E-8902-4D60-B356-1C2F3E83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A781C-96BC-48AD-8CEC-A2ACDEF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0FC7A-F3A8-4DA0-A2AE-9DC2B3E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7C291-5B55-4829-86F0-A64F712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AB465-B351-4265-B0ED-CC167C65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157-551B-4AA3-8560-4E5823C4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74672-0F92-42F8-B174-AEF885B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1FCF4-429B-4E3D-8585-66688A42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3B294-E67C-42F9-A396-9A228F4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4E26F-EAD7-469C-BD94-BA022799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6D7BE-E568-4146-AA46-475E86DB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BA232-5A98-409C-A1C4-B060AE48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5422B-E949-4BA1-8BE1-33516658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7F45-5DA1-4467-9F1D-E5513B1D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00D8-37A4-43FF-A968-DC0CA007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8AB5-FF12-4FB5-AB4A-02381AF7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64B-DDFA-41E0-B9E4-75050F4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4B4C-A6AC-4501-8508-4BD577B9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2C58-2AD5-4524-A03D-18B38161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9226-8E39-4C79-A015-64AB61F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80F1-0BA3-4CDE-83CD-256BB75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23DE-08C5-4F59-8B2F-893C063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094B3-C820-4DE1-A306-E32E029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71DC-06AA-4D4C-A321-D1450567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2B0F-4F32-4021-9A6C-32FBDB20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8DA9-22B6-4162-AE90-A5553D56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18973-75CB-455E-B076-A75C926C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DFE-72A3-4658-84BA-694178E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AEEAC-9B95-4487-B2D8-BC4BA4B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26098-CA6D-46BD-ABD6-C5A74527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24031-B1EF-4179-BB59-B40D315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7961A-8B9A-4695-B11D-41DB1760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DCDC2-B738-4773-B965-FBD39654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07158-BCC3-4B42-B151-E23881C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7A982-5FA9-45C2-81DA-F82EA63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60F6E-2FC6-459D-A6B9-6C5817C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9A97A-CE90-416D-9E91-9AFD23E9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42E0A-3F07-42A4-A0DA-37F376C4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ACE-76FF-46E1-B255-CA39549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862BE-B72D-41EF-957B-07D29BB5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56855-B027-4E00-B503-76DEA659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9123A-D34C-4252-A854-89F6392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3EF7F-1213-4395-84FD-1D3730F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C1AC7-EBCC-4A30-ADF0-235F5D13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CBA4A-E57B-4104-A3C8-8F89A31C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33FE3-2CA9-4768-9E1B-FE36F37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0A689-BF8E-4799-94E0-56BF9BC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AE684-8907-492D-9A79-CAB1A8A2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55BD4-BEC8-488A-916E-032D205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85F-7044-4029-9373-B76FF8B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B2804-ECE0-4AEB-9C90-7E8100F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BE763-43BB-4860-8306-5A33D474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72895-DACE-4056-820E-0260DA30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6892E-C2F8-430A-B038-7FA57B5A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21803-BE88-4D38-B70F-59622532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25C6B-F63E-44DF-84B5-02F88F01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F4F39-AC0A-41EF-BBFC-BA5B78F6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DBB7D-2A82-4B78-8242-54B36E6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0C2CD-3272-4FA9-8194-E88B3D76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55AE2-27C0-4DD6-949F-40830AE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271-0CF6-4D85-A0A8-24BCBE9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980E9-3AEC-43A8-A7F8-40A60B7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A4A1B-FD25-47D7-9894-7B83F4B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3F12A-452E-4CF3-B089-E349E5F2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A261B-2346-45DB-83B9-C4E496A3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A3CA0-443A-4BC5-B7B9-0EB28613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169-8BFF-4DD7-9C84-B8B7310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166-793E-440C-A927-EBBD5DC456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8D74-F895-4B00-AF69-85A129ACE2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AA2B-3411-4EF3-AC43-F202941648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9EF-F43D-43D0-99D3-299BF76797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CFDA-1A79-4E51-96F7-03C3C120A3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661-7271-4173-B113-539FA7FA0B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815D-5D08-4884-9120-3B7D4E3559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243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PAR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STUD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TEACHER SHOULD BE…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C:\Program Files\Microsoft Office\MEDIA\CAGCAT10\j0205462.wmf"/>
          <p:cNvPicPr/>
          <p:nvPr/>
        </p:nvPicPr>
        <p:blipFill>
          <a:blip r:embed="rId1"/>
          <a:stretch/>
        </p:blipFill>
        <p:spPr>
          <a:xfrm>
            <a:off x="5356080" y="4000680"/>
            <a:ext cx="229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 WOULD LIKE MY FAMILY TO BE…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BEST FRIEND IS….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785880" y="4000680"/>
            <a:ext cx="266076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tour famil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kind of a person do you want to make friends with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you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your father, mother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the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200" spc="-1" strike="noStrike">
                <a:solidFill>
                  <a:srgbClr val="5a160b"/>
                </a:solidFill>
                <a:latin typeface="Century Schoolbook"/>
              </a:rPr>
              <a:t>TO BE GOING TO BE SOMEBODY…</a:t>
            </a:r>
            <a:br>
              <a:rPr sz="2500"/>
            </a:b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 ARE YOU GOING TO BE … IN 10 YEARS?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3285720"/>
            <a:ext cx="7467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k your partner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Program Files\Microsoft Office\MEDIA\CAGCAT10\j0216516.wmf"/>
          <p:cNvPicPr/>
          <p:nvPr/>
        </p:nvPicPr>
        <p:blipFill>
          <a:blip r:embed="rId1"/>
          <a:stretch/>
        </p:blipFill>
        <p:spPr>
          <a:xfrm>
            <a:off x="5578560" y="3929040"/>
            <a:ext cx="20667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RE YOU GOING TO BE….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7467480" cy="268272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nt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uter program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w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br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taxi driv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dent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post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sports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saleswo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bank wor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785760"/>
            <a:ext cx="74674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…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HOULD BE 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42960" y="500040"/>
          <a:ext cx="7467480" cy="2967120"/>
        </p:xfrm>
        <a:graphic>
          <a:graphicData uri="http://schemas.openxmlformats.org/drawingml/2006/table">
            <a:tbl>
              <a:tblPr/>
              <a:tblGrid>
                <a:gridCol w="2757600"/>
                <a:gridCol w="4709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taxi d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engine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ostm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bank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sales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office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Documents and Settings\UserXP\Рабочий стол\IMG_1734.JPG"/>
          <p:cNvPicPr/>
          <p:nvPr/>
        </p:nvPicPr>
        <p:blipFill>
          <a:blip r:embed="rId1"/>
          <a:stretch/>
        </p:blipFill>
        <p:spPr>
          <a:xfrm>
            <a:off x="1209600" y="285840"/>
            <a:ext cx="6220080" cy="6188040"/>
          </a:xfrm>
          <a:prstGeom prst="rect">
            <a:avLst/>
          </a:prstGeom>
          <a:ln w="0">
            <a:noFill/>
          </a:ln>
        </p:spPr>
      </p:pic>
      <p:pic>
        <p:nvPicPr>
          <p:cNvPr id="369" name="31 Дорожка 31.mp3" descr=""/>
          <p:cNvPicPr/>
          <p:nvPr/>
        </p:nvPicPr>
        <p:blipFill>
          <a:blip r:embed="rId2"/>
          <a:stretch/>
        </p:blipFill>
        <p:spPr>
          <a:xfrm>
            <a:off x="571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21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17T15:09:47Z</dcterms:modified>
  <cp:revision>8</cp:revision>
  <dc:subject/>
  <dc:title>An ideal parent should be…  an ideal student should be…  an ideal teacher should be…</dc:title>
</cp:coreProperties>
</file>