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634-F980-4C91-96EA-550972B9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444-8492-4F57-ABAA-A4BCCF54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A2B-914C-41EF-86E8-9C487928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477-61DB-46F5-9B4E-2735C9C1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0235-3F0B-40BB-85DF-793F258E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3299-BC32-4B8E-9761-41BF8FCA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A98B-A224-4C88-AC5D-3700E1FD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726E-54CC-4C15-BC1B-895B1BE4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E7FE-21C5-47EA-BC7B-541C2B49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4CDB-912B-416E-B9E8-F04880A6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4A4E-BCC1-4224-A70D-1FD698DB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47E-D7F8-4F5E-80D2-532BD88B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712D-4819-44A5-8DE6-B19323B6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91D4-BE64-4995-B420-D08B0FC9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104B-172E-459C-A92A-FE73F170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C1A0-CAB1-4446-BE2A-88CAAA44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E725-2261-42C4-9F51-0ADE4E62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24886-3AA7-46CE-A777-DCCF61C4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7033A-2B7A-4A08-9217-987D459C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EBC06-0828-4D29-8AA0-AF06518B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09B64-3CDA-4DC5-8DB9-D381BCD9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AFE8A-ABD8-4FF4-B3F7-C1D79A46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B62-67ED-45FA-961E-E1F8C6D3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09387-4FC9-4AB2-B477-CA651368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FDDE2-0490-4854-B5CF-266AA5C4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E9A23-51ED-481B-9EA3-C2E19190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AF7AF-FEAA-450C-A3A2-8ED4731C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F38C7-284B-451F-8047-8C36B49C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A647C-89E6-4DBB-9DD0-6EEC8A5E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8DE60-8439-454A-80FA-7D30024C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BE836-E93A-47E7-97B7-C9F4DB91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78BE7-CED4-456F-B733-02D0DA9D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74C69-4D14-4972-ABA8-0323A58E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996-B657-42CB-9A84-28D6EB45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75BF9-78F8-4FFC-B53C-D58DAA30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2407F-2791-40B4-855E-B6371091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408C-943C-4E8E-8D08-5355056D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13564-B1D7-4C58-B705-DA9EB32D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5143-0D00-41E0-AE97-A7C86DA1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5EE46-14FD-480E-AB48-D2FD7899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3720B-E383-4DB5-B45C-880E0F4F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016AF-36E6-4F95-8B17-AEA08B20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B6272-2617-4FE7-9AF0-255AA4CB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29E56-E0AD-4EB3-8432-2D573B06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FEB-5164-4817-AEBE-7148D00B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B3DFD-F262-4605-B132-98E1B8EE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A7E26-DC8F-4213-ADBC-0ADC7F6D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72B6D-1962-4C7C-A23E-EA5B3229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C4884-4E63-43CE-875F-D711AE30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2E9DB-BABD-4616-AEBA-983EEE48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75908-4FF1-491F-8A19-48FD1455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2EC60-BC6B-4090-B1A8-55043521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AB687-B1EF-4EC3-BA75-BEEFDAEB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72CAE5-FEAA-4378-BB6D-4B02678B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60F547-FC8B-44E9-9568-B318BA53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71C-9A42-433E-A5F5-169C5A76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C77EB-F379-4CBE-BED0-84545098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81259-9A96-40D7-91DF-2B1732FA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C8429-8473-4CE1-9CB3-4B969948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3BA3B-87E0-4611-847E-897C7EE0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880F6-9E67-4AC4-99C7-22784B65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808BE-0BCF-452F-B5E2-91CC87F2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C42CF-6F53-4375-9DC5-CCF11C22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5EC36-E02C-412B-AC8A-25751F57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1C3F15-D87D-468D-B9C7-509A99E3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C9F3B-B83C-40EC-9A72-9499223F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132-AD54-4F68-BD08-42791C53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E223D-2C68-4153-A545-CE6F8B5D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4421A-D73B-4388-8651-E23025F0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A2E33D-EE9C-4998-BC2B-23A9042E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3B1CB-03F5-4768-B6F9-5B34A898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1CBD9-5D74-4CA7-9A5C-4D95BF51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FE26A-353E-4782-91A9-1C959683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9CB85-17CD-425F-8305-540C11AD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35B818-1AD4-4940-B119-6DFBBFEA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D7244-2FF8-497E-A7F8-6D4FAF48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9D633-2D8C-4B35-8E5A-E61A08D3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3FD-E88D-48DD-BAB5-E93E91A7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09841-10D6-4672-8448-98B102A9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77BB4C-E02B-4306-837E-990AB48E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D237E-5BD0-4881-B194-EC4139B0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FFA13-4DB0-497F-BC93-824D7381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90E34-1C91-4A3D-B891-22D54035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EAC-7F5F-402D-BFA9-D1FB6560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6C0D-BEBC-4F90-9F02-2E36AF5B713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9AEF-B3D5-4C29-980D-930AD12C60C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383F-2276-46FB-8033-9902C4D4E4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7120-09F7-4905-B89C-C6532A907F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8010-DFD4-49EC-B760-E7F67476AC5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DB20-BAD1-4004-92B3-D2DEBBB242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5A50-E917-4137-B65B-3F7B3C58E9F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72439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N IDEAL PARENT SHOULD BE…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N IDEAL STUDENT SHOULD BE…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N IDEAL TEACHER SHOULD BE…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2" descr="C:\Program Files\Microsoft Office\MEDIA\CAGCAT10\j0205462.wmf"/>
          <p:cNvPicPr/>
          <p:nvPr/>
        </p:nvPicPr>
        <p:blipFill>
          <a:blip r:embed="rId1"/>
          <a:stretch/>
        </p:blipFill>
        <p:spPr>
          <a:xfrm>
            <a:off x="5356080" y="4000680"/>
            <a:ext cx="2297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 WOULD LIKE MY FAMILY TO BE…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Y BEST FRIEND IS….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Picture 2" descr="C:\Program Files\Microsoft Office\MEDIA\CAGCAT10\j0298897.wmf"/>
          <p:cNvPicPr/>
          <p:nvPr/>
        </p:nvPicPr>
        <p:blipFill>
          <a:blip r:embed="rId1"/>
          <a:stretch/>
        </p:blipFill>
        <p:spPr>
          <a:xfrm>
            <a:off x="785880" y="4000680"/>
            <a:ext cx="266076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is tour family like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kind of a person do you want to make friends with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are you like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is your father, mother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are they like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3200" spc="-1" strike="noStrike">
                <a:solidFill>
                  <a:srgbClr val="5a160b"/>
                </a:solidFill>
                <a:latin typeface="Century Schoolbook"/>
              </a:rPr>
              <a:t>TO BE GOING TO BE SOMEBODY…</a:t>
            </a:r>
            <a:br>
              <a:rPr sz="2500"/>
            </a:b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 ARE YOU GOING TO BE … IN 10 YEARS?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3285720"/>
            <a:ext cx="7467480" cy="31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k your partner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C:\Program Files\Microsoft Office\MEDIA\CAGCAT10\j0216516.wmf"/>
          <p:cNvPicPr/>
          <p:nvPr/>
        </p:nvPicPr>
        <p:blipFill>
          <a:blip r:embed="rId1"/>
          <a:stretch/>
        </p:blipFill>
        <p:spPr>
          <a:xfrm>
            <a:off x="5578560" y="3929040"/>
            <a:ext cx="20667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ARE YOU GOING TO BE….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7467480" cy="268272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  <a:gridCol w="1866960"/>
                <a:gridCol w="186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jo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a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nt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mputer program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w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ibrar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2110"/>
                </a:solidFill>
                <a:latin typeface="Century Schoolbook"/>
              </a:rPr>
              <a:t>A taxi driv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denti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2110"/>
                </a:solidFill>
                <a:latin typeface="Century Schoolbook"/>
              </a:rPr>
              <a:t>A postma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sportsma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2110"/>
                </a:solidFill>
                <a:latin typeface="Century Schoolbook"/>
              </a:rPr>
              <a:t>A saleswoma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2110"/>
                </a:solidFill>
                <a:latin typeface="Century Schoolbook"/>
              </a:rPr>
              <a:t>A bank work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3785760"/>
            <a:ext cx="74674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…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SHOULD BE 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42960" y="500040"/>
          <a:ext cx="7467480" cy="2967120"/>
        </p:xfrm>
        <a:graphic>
          <a:graphicData uri="http://schemas.openxmlformats.org/drawingml/2006/table">
            <a:tbl>
              <a:tblPr/>
              <a:tblGrid>
                <a:gridCol w="2757600"/>
                <a:gridCol w="4709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Jo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taxi d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 engine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ostm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bank wor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sales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do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 office wor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2" descr="C:\Documents and Settings\UserXP\Рабочий стол\IMG_1734.JPG"/>
          <p:cNvPicPr/>
          <p:nvPr/>
        </p:nvPicPr>
        <p:blipFill>
          <a:blip r:embed="rId1"/>
          <a:stretch/>
        </p:blipFill>
        <p:spPr>
          <a:xfrm>
            <a:off x="1209600" y="285840"/>
            <a:ext cx="6220080" cy="6188040"/>
          </a:xfrm>
          <a:prstGeom prst="rect">
            <a:avLst/>
          </a:prstGeom>
          <a:ln w="0">
            <a:noFill/>
          </a:ln>
        </p:spPr>
      </p:pic>
      <p:pic>
        <p:nvPicPr>
          <p:cNvPr id="369" name="31 Дорожка 31.mp3" descr=""/>
          <p:cNvPicPr/>
          <p:nvPr/>
        </p:nvPicPr>
        <p:blipFill>
          <a:blip r:embed="rId2"/>
          <a:stretch/>
        </p:blipFill>
        <p:spPr>
          <a:xfrm>
            <a:off x="57168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21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2-17T15:09:47Z</dcterms:modified>
  <cp:revision>8</cp:revision>
  <dc:subject/>
  <dc:title>An ideal parent should be…  an ideal student should be…  an ideal teacher should be…</dc:title>
</cp:coreProperties>
</file>