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9D2-9980-4092-80F6-312764F3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2801-6A3B-4926-902F-DAABF7E7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8442-4202-45C5-A2F0-FEAF19E0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EBFD-115F-4ACE-8F3C-D21A1654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F153-2493-4678-8A8A-E130DFEF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6838-6635-4629-B0FF-BE41D8A8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9D69-8775-4B00-B872-6F9409DA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F7A0-5EB7-4635-BCB0-F46F29D3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D8CA-3BBE-4CE0-9654-A6954D0B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787F-8D9E-4C4A-9D6E-5681FF08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0B4A-1563-4457-B917-2CCE7692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A418-6F2A-4C2F-A5EC-F9429609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1EDF-22AC-43C2-9FA2-CD8C358A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4EEF-E557-4F85-976F-59D61406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32AA-E8C1-4989-9392-8B3FA8B5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C069-FE5D-48A8-B377-D9E79296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D879-D185-49FE-9EFF-7A7A7D0F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E74CD-E7A2-4A9A-B946-89503413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964AE-B79F-4DEF-A547-11DB26F2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45FAF-553E-4987-B2A0-54C3BB49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23B84-DAB0-42B1-AF6E-E271800F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DEB3F-521E-4169-BC48-06B5C8E5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62E6-C40B-41EC-A821-2CE4336A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E3445-18EA-48A8-84C9-920D62FD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57EAF-C5F7-4E23-B976-1B8D927F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4C22D-D5D8-4779-AE40-47BEEFC7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C0042-594A-4F7C-8AAF-CFCC5CAC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0BBB2-360E-4C40-91E9-2A15C765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EFD5A-9E43-49AE-B05B-D9246033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58084-4F6E-4CFD-92D9-A6CCE82A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C3B79-5265-46A9-87E6-A77241E5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D6D4A-6A92-40DF-B041-69A0E6CA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60B2F-CB12-462B-90A0-302BB572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76E-EFB4-4E15-97B0-8550A9A8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F7306-A1AF-4554-ABE0-07D14764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713BC-D257-48C6-9DB9-BE49D013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2ACEF-CE1C-49A7-B176-8F9687A1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A7F0E-349C-4AFF-8948-9206DD45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E10E6-C7C3-45C1-9CBA-8AD55DE8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3C844-D4B7-4710-8756-0397709E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2CFDA-44C3-4262-B0C8-AF78EB0C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90811-5CCF-437E-9216-4F13446C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48A7E-7A6B-42F3-BCAB-643F3A76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A805F-B67E-495A-9275-96B8B456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D65-1FFC-4178-BB9C-8126E6E3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F0034-6261-4031-9AA7-E020576B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CC745-523A-467F-A2FD-B305D664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17170-A4F3-4034-BE0F-582C337F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C8516-0F12-46D9-B82F-1451150D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2CD78-F4BC-441E-B069-F4A33A54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DC3C0-7313-4BD0-B759-D6335B45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F2C17-C1FE-4990-A773-3CF9BE9A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78F6B-51EB-4FD2-A79C-2A2087CB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D9FD9-531C-4A04-A873-79FD196D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168C7-A491-4AC7-B777-FD848D76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425-8510-4BF5-94DB-3494B93B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618FA-2A54-48D3-8797-51EBD4CE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4B0A1-2C1A-4D9B-B78F-664EDAC6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9D0E3-08A1-46A7-8B35-3A511254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3814D-9B09-4F5A-AC0E-F8FB74A3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7E83F-F903-4289-907C-EB6D8640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C9EF9-EFD6-41AD-BAF1-338018CF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430CA-836F-4702-B5B9-179A4D3D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E9649-F765-4D3A-9556-A1F14458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30732-64CC-4AAB-A068-9791F002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3FB75-FD72-4D64-953D-C8CDA49E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C8A1-3B26-4C70-9669-230C77C8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75E17-9454-47F6-A292-B89B3166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9CDB0-2A5C-4F35-AEF4-6FD8CAD9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D7333-022C-4E77-B6F1-7F2A560E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66339-A5DF-4FA1-831F-7C5C6CCD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92063-05C8-4E7D-AF41-F6249E0F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79575-D8B7-40C2-8ED4-D47ED931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53973-F287-434A-AA87-0899F5A0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80113-38FE-497B-8A9F-7916B9A8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AA339-EF8D-4427-AC2D-1C2D0DF6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2A845-75F6-4C08-BB34-D44E4D3F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3BAF-C335-4FEF-B5E7-C140CAC1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78134-F881-4BAD-87AD-B0829C39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561FB-5869-4F75-8892-2072AC5E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15875-46E5-4291-9825-CCF56ED1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83B55-45B0-4646-B5E6-5BDF2538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5A516-8922-4F06-B85C-7EEDAD95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2F781-3C6D-4C76-9847-EAB159A3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1D8D4-35D1-4FFD-9F49-AFF02345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93D5E-26EC-47AD-8AD1-2CB095D9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382D7-7428-45CA-ABA6-88DEAEED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46908-9448-4D84-870E-B42ABC84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7D4-7AB4-47B4-872B-029A5907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4A9DD-1C8A-47A3-81AF-9A46F5B5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F69F7-5B0B-4052-A74C-56728283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DA8EC-81FE-46BC-B1E0-8FE49A43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1BCBB-6644-4955-90E3-2482DB39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09C5E-B504-43B0-A69C-92EA9501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6F92C-94F7-4E72-8B1F-C992C9B5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F92A0-CA5E-4B01-B82B-9FF74E96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8A51-EBE7-482A-914F-808C3D8668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8176-24B6-4A8F-B00F-FDAA2962B968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8E7C-92F6-4BD5-8AFF-CF876E93BF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5207-9AA5-4B8E-A1BE-B111875E4A4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304B-639B-418B-9118-F64D562EB8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D220-8C75-46B0-A689-FC7F849998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71CA-0DE6-4BE6-BCFE-655290C67C1C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D982-9616-45E5-B3C4-7999310B0FC2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36400" y="463680"/>
            <a:ext cx="8101080" cy="1785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6569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51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A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I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Ar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Mus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can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450720" y="-60480"/>
            <a:ext cx="8242560" cy="993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856800"/>
            <a:ext cx="8686800" cy="55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Past Perfect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выражает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Century Gothic"/>
              </a:rPr>
              <a:t>предшествование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. Но если действия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Century Gothic"/>
              </a:rPr>
              <a:t>следовали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друг за другом, употребляется </a:t>
            </a: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Past Simple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he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bought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some food,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came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home and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cooked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dinn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Before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she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cooked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dinner she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had bought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ome food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4-08T16:43:44Z</dcterms:modified>
  <cp:revision>2</cp:revision>
  <dc:subject/>
  <dc:title>Past Perfect</dc:title>
</cp:coreProperties>
</file>