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A24-CD6E-4E2D-98DB-3FCC6ADF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C27-83A7-4B0F-B0B0-1B2B23C7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4CD-5B6B-410F-BBBB-73BD6E31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20B-B49A-4261-BADA-80A9FCEA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5D2D-0E89-49B1-9E36-35D9C05B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60FB-B613-4EF1-8980-39BF9EA3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5559-CC95-4C6D-9FCD-67818C2E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A4F4-28CF-41DE-A1C1-E289DCA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6A32-720C-4CC3-A716-FB8B5DDF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7C02-E011-44FE-BE70-1F9912D3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6FA6-54CF-4105-9BF1-DB58FAE0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016-86C2-4ADE-89D1-BFA5401C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510-827E-40E6-B125-5676DB1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86F2-2B39-4920-8839-7AF349D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D70D-05D4-4F36-A9BC-35B00B6B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ECAA-5E49-4116-9D03-EC548CA5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9A57-C36B-4E25-A75E-7E91C778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C4C6-08EE-478D-AF71-37121DBC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6D9A-5659-4397-9088-66E6DD4C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C20D-8BEB-4901-982E-7BEB4B1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74F8-7769-4175-BC30-03D0B841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AC64-164C-46F1-9A24-E963755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2D4-6AB6-4346-BB46-0DAEE692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145B-5B5D-4150-A1DB-D8E2696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7228-D500-4A2C-B040-AB0876E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C227-185D-4D34-B9D5-B53A2E29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DB27-B43F-47B9-A5C9-62C2521E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1B53-1A62-4A6E-88BF-C08CA067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9150-6B36-43E9-8167-421FD8CF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D774-97E6-4192-B1B5-120CEAA5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10E0-4EA5-4A9B-95AF-1B423FFD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DFCE-3BA4-4A0B-8EEF-E37CE2E5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E780-BDA6-4C1D-A0D3-CD31983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6FF-B7E8-43E2-967E-171339BC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1B60-C680-4A6D-BB59-2D56E170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FF12-7157-4202-A997-0F82D64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A8CC-59A8-43BE-BD76-F9D52455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E494C-6AF0-4712-8A25-A414BCC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BC0E-BDB7-4F72-A28C-C3DED78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DE48-2385-43CE-B390-F9960E8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1048-A5E5-46F0-B88B-63A653C6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A875-02E9-42EC-B4CF-F3FD0E52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34D79-4DC4-4469-A989-88F16687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7B08-1860-4A15-AB4D-B1163B7F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DC8-BC86-4866-98BD-A8FDCD8E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0B9B-4D67-4059-9EB1-5A45D2D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425C5-635A-44DA-B43A-27DDA549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AAADC-D748-4828-A826-54BE25E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31C1-54AD-49C7-A232-CC700820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65D0A-28BB-406D-B4B6-4B98FC3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289F-8BA3-4019-A59F-87693FCC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15D4F-8737-46EE-9E5F-43FBCC0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5A0D-01BF-4C6C-A412-D88296F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82CF-85D0-4991-A03B-CDC4BB81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CB94-BE98-46BB-B681-5C32542D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3E1-B253-41EB-A4AF-8AAEBC74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CDE1B-1586-4376-B68D-B0E3D82D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94AE-4812-4A6B-9E14-E329150D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564CB-6436-41A3-8DC5-1057A1A2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A0762-A27E-45AF-B8B0-E242665E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EAF2-C288-4545-ABF4-CEE75637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FA7A9-7899-4F7D-8706-864ABDD0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D4933-4341-435C-AB54-C510BB91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98F3-682A-4B9A-BB88-18B19E0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AEDD-D90A-423C-A02D-184ABDC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0ED8-BE06-41A8-8937-E074D6B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C5C-20E9-47F6-B7D9-96B3DE3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9E2B-53F1-47E1-954C-E4F767DC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321E8-0CF1-4C31-BEBF-61FCFE8D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06364-957D-4002-8D0A-2D5CE54E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ED8C8-E9C5-42C6-BE9B-9C3D5032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14070-8CDB-4146-AB92-E14F57F0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9E188-8B56-4EE4-98A5-77E102F5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705EB-EA23-46EB-ADB4-D90E62F5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DADC0-01B7-4A61-8C1D-C09CE1A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83F12-6D35-4F71-97CA-E3AA9C10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790F2-C56A-481A-811F-457A8DC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A23-1671-4544-AD8D-2D5ADC2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40810-9688-4222-8AF5-CBD4890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88D99-DCB6-45E8-9225-A32DD01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7F378-E505-4D33-8C69-3FC3562F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58CF-82D6-4441-BFD6-B5DA0342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DB1B1-826E-4949-B93E-D227F62D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AB7CB-04F7-4AE6-A7B8-B1A503EF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75D8E-5593-4712-B35C-4B04D79B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2890B-A0BB-453C-AA62-894E2902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080F-912C-4E35-83FB-C8CA861D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C2E43-680D-4497-85F7-88C11C54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1CE-ACF3-4F06-8F3B-4A5F9D8A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B655-109A-411C-9AD4-B77DE42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D050-D6E7-46CE-AE81-790CA8E7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7E25-E339-4333-8BE9-F8ED220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D90B2-2551-458D-9086-3940DF7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B76A5-37CE-4204-A8D9-E93ECB23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14EC6-6531-4514-B588-D1B8FC71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D8C11-A7B9-4B64-A734-55ACD7F7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6CA7-4CE6-4DE6-BFF5-B883FA5B57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C6D8-3978-46FD-B29D-2134CC8C56F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8067-FF83-414C-9857-434E049832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5200-6217-4023-95FD-7BCEEAAC7C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D14-43B8-4772-88F2-5686AA75E9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047D-0F30-4310-975D-843BF1B65D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F93A-6598-443D-AA29-707490F1F3B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138F-3BD0-4AEB-95AD-199CE1AD364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463680"/>
            <a:ext cx="8101080" cy="1785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6569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I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r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Mus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a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-6048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856800"/>
            <a:ext cx="86868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Past Perfect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выражает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предшествование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 Но если действия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следовали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друг за другом, употребляется </a:t>
            </a: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Past Simple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bought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some food,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am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home and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ooked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nn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ooked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dinner 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had bought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ome foo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08T16:43:44Z</dcterms:modified>
  <cp:revision>2</cp:revision>
  <dc:subject/>
  <dc:title>Past Perfect</dc:title>
</cp:coreProperties>
</file>