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587-47A7-4B27-A0F9-4D8F846C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2CD-E2F2-40B7-8F1E-9E77ACA1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C13-E79B-4B53-A4A7-936775BA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CD0-A39F-4733-B854-B4757526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0D63-D1D8-4F70-B5E5-F3273B48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B2D7-77F1-4278-9E56-64DCFE26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C3C1-9F4D-4958-ADFF-C9518C76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175D-5B55-4E75-BC31-3204F933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5A1F-38E5-472E-8E3E-B8C13EEB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F962-1C16-44CB-BA30-3019524B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3017-91AB-4C9B-82DA-040E0B88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CA2-E4D0-4716-8428-D5F0940D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1FC1-F905-415F-A642-867C5578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D816-9802-437C-8B06-03E5EC6F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B16E-C0D9-4F3D-9ADF-3B6ACD7F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96ED-96BD-4508-A008-533A285A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49AE-7C31-4F39-B495-4E6E294D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9D4A3-AEF0-4EB9-9500-414821C9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72BC-8F5B-4CD8-B2D8-778CF68C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135F-2007-410C-8D0B-3499688C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19A1-225E-4E46-B6D8-3A1A1344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5A0ED-B692-4884-998D-1518E29B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058-4F27-413C-95FC-911A1373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F088F-5F49-43C4-93B0-9001DEBF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3315B-0293-4AAE-9716-F49C56EC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8852E-9F46-4D2A-8A07-0DFFC189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A87A3-BD70-41FB-9E76-BAD7FD1C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4E7A1-BC01-49CD-810B-A3A7600D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505B0-ECA6-4BA9-A371-CD82A1D8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737C3-CDB3-4547-9A42-B5AD04BC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3CBA8-DCA5-41A6-A4C9-48B07CEE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2D61-BA3B-46D3-A90F-E8900809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2D251-2C49-460B-B8FF-18D4D8BC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47E-7D99-4C5B-BD7E-F56A3D6B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D7FFC-63E1-46F6-917B-6B1867AB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E2FB8-D84B-4AD0-AFF4-F0780455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C9C00-E244-4F8D-88D0-C9409573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BF60C-9DA2-4C1E-BB7C-09B1840E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8B24C-C8FC-463E-9E1E-D0F1E668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7052-8606-4FF7-8547-E137DF77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B03E8-389B-45FC-AA0A-F022A35B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B8455-14B3-4913-AB29-C814E217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395DD-1D6C-4EC9-92AF-852BB958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A4D2E-310F-44EF-B7BB-0265B03F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233-289D-42EC-8CFC-8AE8DAB2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CE1B3-8690-4043-AB7F-C4D7C073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F2949-FDB0-41AF-8270-557BD338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3DA0F-043B-4592-88D3-7E1483F4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23422-1AF6-4A70-BE7D-3D946D29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B7689-6296-4494-9DD1-6A795769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9A04C-E722-4E2A-A356-51F46C08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B4FC-4DAA-41E1-B91F-A3721542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5A251-B8CC-4DA2-99FE-C6F70FEB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F54B7-AE4B-41E6-A346-A93443D3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08ABA-7B11-4007-B82D-7BAECF2F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4D2-091A-4CE8-AA8A-0812FFE3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AB06B-BCDF-4787-8201-D3BBE53A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1C9BF-019A-4E4D-B8F5-58BC2C28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D4FF0-2601-4237-834C-EE994B8D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B76CC-1DEC-4755-A7C0-9C3ACFDC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6EA1C-E475-4D61-A984-EE5A74ED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FC23A-CD8E-45E0-9B18-AC7DD3AE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59382-4F21-4124-98D0-3A1FAD8D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E4147-1ABE-454A-A2F6-B61C85C5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78F25-6F54-44F9-B489-662D9AA0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35150-D2B1-4091-8D1B-C195BE68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354-06ED-4F21-B158-7C992E28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66E39-07E5-456E-A76D-37FF6B28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8500B-C8C9-4FEF-BE9C-B5AAA744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E7EF0-3070-4A5A-85E4-2DDFF389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5B9E1-3BFC-45CF-B521-A368FC3D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A20BF-B9BA-434C-8BC8-5E3CEA91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0BDC3-B155-420F-8134-F880272A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04537-E419-4993-A8CA-A7A7509E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F7E0E-4A94-447A-9992-C161C2C0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5EB1F-934F-40CE-A083-711BE893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1F686-EAC5-4263-BB4A-20E81744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F39-C309-45B4-88FE-76B80F68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11465-9BCE-4250-AFE2-76FD92EF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2ACFE-0243-40C4-86E3-2FFC48ED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5CC9B-CBB8-4F41-B063-93BD9AEC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17F19-FE21-4549-9348-9F7D7CDD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470A3-91B8-4AEE-9264-B9F78465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DE10D-A2AE-41B9-B144-05CB920C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226AA-0763-4D70-B268-182FA5DD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23CF1-8CC3-42E4-ACC9-54FD7D8E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D5722-47FE-430B-BB77-CEBF71E8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C4BC2-BFDB-4FB8-8338-AC93D306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A21-6D62-4247-B609-48888AE3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0CCEE-D761-4A46-9123-FD1DA950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58F9A-67DA-4AFC-B1FB-BAA418B7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056D9-CA35-420C-B115-FD49A2E4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9D84B-D4C2-4CCE-BC03-DAB6FBC2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50C3B-9493-4597-AAC8-F7089265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66BD9-F106-4ADD-826B-B0951408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843C5-DE8F-4E37-B20F-5384AD62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EAFA-9271-4DB5-A222-29F74A39F2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D84F-3EFA-4B97-9986-F3736B359B05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DE24-8D3B-43FD-91BF-68E4E648E3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CC82-08D5-46E6-B9DD-58C888B471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B0DD-B59B-4365-B981-C32FBA68A0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BCE9-9E83-49DF-84F1-9576F0FF21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94F1-596E-48FB-AD00-B86BC68F9958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2348-0FC1-4216-8061-4108A634D698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6400" y="463680"/>
            <a:ext cx="8101080" cy="1785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6569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I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r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Mus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can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50720" y="-6048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856800"/>
            <a:ext cx="868680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Past Perfect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выражает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Century Gothic"/>
              </a:rPr>
              <a:t>предшествование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. Но если действия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Century Gothic"/>
              </a:rPr>
              <a:t>следовали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друг за другом, употребляется </a:t>
            </a: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Past Simple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he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bought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some food,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came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home and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cooked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dinn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Before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she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cooked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dinner she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had bought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ome food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4-08T16:43:44Z</dcterms:modified>
  <cp:revision>2</cp:revision>
  <dc:subject/>
  <dc:title>Past Perfect</dc:title>
</cp:coreProperties>
</file>