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722-DAE7-4CDB-931F-1E0068BA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AFA-B5F1-4690-9D38-A68DD1B3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04627-D9B0-4903-9EE3-FE18ECB7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B8032-773E-4F81-A952-9BE6EAD2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84E59-2BA4-4315-B5E3-CD29E250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F782E-5161-43F6-9E98-917A3300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485B4-2057-4BE4-AEB6-23DF7646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82878-D888-404B-9138-F317C33F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7D597-D859-4FF6-B440-142D2744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1A78A-49E0-4479-94B4-E49FD34A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21719-13E0-4BCD-9ADC-0280B1C1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276-4390-4229-BFA7-275FBA44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283-0E31-4AD6-B7C1-248AFAFA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2772-E79F-45D4-8B4F-79CB7718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27AC-717A-468A-987E-6FD0AE95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F339-3953-46C9-9594-AD8E7A6E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97CE-9DFE-4C66-9617-2E3A3CF2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18B8-CA25-4B5B-BF28-B7C8F835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D0C7-F671-400D-A333-3979B60D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67B1-770B-462D-B0A3-F0930DC8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4A5-EC76-40AA-A15D-0EE6F701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7907-C822-4CFF-B864-E77C4CA4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2D69-B468-42B0-8C02-7FFF35BB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5873-0540-45F2-9007-DE51A400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ECEB-5264-45CC-A306-3FD61AC3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BEE9-CA44-4751-AB86-C9104643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24A27-01C9-4659-9D2E-CE62182E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48A12-7859-43C2-86E0-67AFE759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98FE-C5FD-4F71-AD04-C76F04B1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517C-EBFF-4504-A9A3-9A9C68EB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45020-0574-4D06-BC6C-98AE7C95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D02-AC85-479D-A34C-8380C2E4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9841A-0079-452A-B34A-73545426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2B8D2-56DE-4953-AA0C-4DE928E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3627-8B4E-484B-828C-97566A35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FDB5-AC03-4E51-AF49-5C4C52DA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4981D-2D9D-4B2F-B4D5-4304F9FD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23BF-0F77-4510-9509-7B4177A9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70E6-5AE2-4614-97D2-A7B95993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399A1-1BC7-4E2F-846C-FC84CE91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05DA3-A75B-4099-9A3D-0D18EAEE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EA49-7617-40CB-8A67-556A5F19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CE5-7068-4C1D-9649-FBA2806A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0415D-885B-4464-966F-818E364A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DFA14-B01D-48A7-A049-977A747C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47C0-C8BC-45E6-A5C9-73419DD9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FC5CF-7E0C-4A76-9DE1-24C17F56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C060D-B014-4DDF-A6C9-076BFF54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289E7-E224-4CFB-8BF3-F9B99D2C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E26E-7443-479E-837C-27D5EB06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1F28-1EA9-4FAD-906C-1FF91CD6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2148B-8D67-4B92-8D67-A20E54C9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EB9FF-DACA-4895-B5B6-E622CAE9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27B-A729-4FF7-9393-A9470698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B880B-4B8F-440A-BFFE-F86A4E40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AD4F8-B217-4669-B6A5-DC5FFA49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1245-63A9-429C-95C7-4AD4D4C5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F4365-234B-4010-BD7F-0A71F82C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603BD-B8AC-4EBF-B5EB-D721B6CC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61FFB-DA74-4268-B338-EF2FF3C4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CFE11-E0F8-4182-8CE9-93BF1BF5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2000D-916E-4B89-AA55-F9341574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0FBEA-4A50-4AE4-A38D-2FB70F04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75F67-DE75-408C-882E-4826CE1D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409-DFBF-4681-909B-085DF5C7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0A25D-7073-4AF9-A2C7-88921825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8BF35-74A6-4F10-A068-274E4F73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9DEA8-35B3-4239-B059-FE75772B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38C1D-FEA0-445B-ABEE-F6754EC8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4F83B-8273-4222-9E5E-3C0046EC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50898-7432-4B58-9F00-69BBD34F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A13A6-4B79-44D9-8D63-D89E262B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21417-6F57-47AE-A366-95C5676F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BFA46-00EF-4344-81B0-71B409AC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DAB0A-41AB-4608-8A4C-0996B0A3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CA9-1011-4FFE-A2F1-A2004588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CA334-6368-4257-82AC-C6931062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52C36-DBCC-4464-895D-C2E361F0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D2741-0B8E-4146-AE5C-E9EE8B75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84F28-7984-4C53-BF76-751DD1C0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24B4D-08E2-45C2-A408-F0BF7F83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98DB8-BA1C-4297-968D-FD69C6AB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56A29-2880-433A-B0F3-D5D58A13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D613D-1676-4860-BF7D-8C7AC748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8F265-3B3A-4AE5-A4BD-4CF2D514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FF54D-6D20-4436-BE1F-BA1233A7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980-003D-4374-8E35-8A59FDD2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68316-E2C0-4B55-8E72-D2712E7C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0017A-BC61-4111-BDCF-D3864DA1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4142E-61A3-446C-A518-06D6C65E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59903-A8F2-4836-9B0B-076C8D47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9B7B6-2F29-4EC7-8349-06AE2582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2BB45-5935-449E-82C7-D81A4525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B0124-7A64-4C1C-BE0A-EDE98C40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ACB14-FDEF-4EC8-B50B-CF491377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D4CA9-CBDA-441C-BCBD-712348EB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BDAC0-7ACE-4B89-8707-B9E8D808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6A2-8BB0-4A45-8C8F-5298E468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84A1A-9019-4270-91CB-C7F67C39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60041-5155-4590-A14A-4B532622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62E6C-7EB6-4108-81F0-3933A4E0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32880-7DFD-405A-AA3B-4A77692F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7256A-7AAB-42CE-BA0D-21FD85CC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EC6F2-C07C-4EC8-A6D8-F8102370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90CDE-BD8B-468A-A905-A90155C0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AAE8C-EF0A-42AB-AD37-5C6D3968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9AEF6-AE94-4CDE-BF58-3E54C90B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AFE88-7378-419D-A3FF-FC05C163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8B28-ADFB-492D-8303-D830788BEBC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94DC-39B6-4203-A352-1CADAC6C177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67AD-7D8F-4CA6-85BD-7066E34028E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CF80-6349-4790-98A1-2A2E983D2BF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6947-6334-4C15-AFAD-F329FCC9F9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73D8-60BC-4F0B-B3BE-0B6E50620A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9AE1-DCF6-487F-95B0-2D62B0D9E53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A043-6FBE-4BC8-9D37-DACB42A4FFB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42ED-582C-4828-BDAB-55418559566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1" name="Picture 2" descr="C:\Documents and Settings\UserXP\Рабочий стол\IMG_1734.JPG"/>
          <p:cNvPicPr/>
          <p:nvPr/>
        </p:nvPicPr>
        <p:blipFill>
          <a:blip r:embed="rId1"/>
          <a:srcRect l="-11480" t="-13848" r="0" b="53465"/>
          <a:stretch/>
        </p:blipFill>
        <p:spPr>
          <a:xfrm>
            <a:off x="-81000" y="285840"/>
            <a:ext cx="87487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65240" y="262080"/>
            <a:ext cx="8899560" cy="1298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Прямоугольник 3"/>
          <p:cNvSpPr/>
          <p:nvPr/>
        </p:nvSpPr>
        <p:spPr>
          <a:xfrm>
            <a:off x="2928960" y="2714760"/>
            <a:ext cx="714240" cy="321444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Скругленный прямоугольник 4"/>
          <p:cNvSpPr/>
          <p:nvPr/>
        </p:nvSpPr>
        <p:spPr>
          <a:xfrm>
            <a:off x="4429080" y="2143080"/>
            <a:ext cx="1857600" cy="7146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Ромб 5"/>
          <p:cNvSpPr/>
          <p:nvPr/>
        </p:nvSpPr>
        <p:spPr>
          <a:xfrm>
            <a:off x="4643280" y="2143080"/>
            <a:ext cx="500400" cy="571680"/>
          </a:xfrm>
          <a:prstGeom prst="diamond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Блок-схема: подготовка 6"/>
          <p:cNvSpPr/>
          <p:nvPr/>
        </p:nvSpPr>
        <p:spPr>
          <a:xfrm>
            <a:off x="5072040" y="3357720"/>
            <a:ext cx="714240" cy="2357280"/>
          </a:xfrm>
          <a:prstGeom prst="flowChartPreparation">
            <a:avLst/>
          </a:pr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Хорда 7"/>
          <p:cNvSpPr/>
          <p:nvPr/>
        </p:nvSpPr>
        <p:spPr>
          <a:xfrm rot="14087400">
            <a:off x="5733000" y="4032360"/>
            <a:ext cx="2071800" cy="1819440"/>
          </a:xfrm>
          <a:prstGeom prst="pie">
            <a:avLst/>
          </a:prstGeom>
          <a:solidFill>
            <a:srgbClr val="7030a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Сегодня я узнал…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Было трудно…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Было интересно…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Я научился…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2-28T13:49:10Z</dcterms:modified>
  <cp:revision>3</cp:revision>
  <dc:subject/>
  <dc:title>Слайд 1</dc:title>
</cp:coreProperties>
</file>