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B06-9E04-4774-93D6-2F4C09FA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2DA-F09B-41CD-BECA-7E0950C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1D00-7EEC-45F2-8FAF-3D7E2EB2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6D769-62E4-4768-9306-88DDAF84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9DD2B-D7A6-41E7-A0F2-D5FA6A1E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7A26E-47E3-489A-AF0A-65AA5EF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FBFE7-7C9F-4550-85DC-D1A6AE3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6FE3D-8050-40C5-9CC6-C7A7AA5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825F-C9E2-47F6-81EB-48921F7C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7CA1-AAE1-4704-B06C-74EAC9BF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B9EA1-FF44-47ED-A68C-7235BC66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2CC-7D18-4FFE-81FF-665D8F02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628-2441-4889-A799-30E6E49B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BCF-CD98-4BDF-936A-A8D37474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50C-E968-47A1-864A-92535C88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32F-37E8-4CD9-95C3-B3C08EEE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FDE-6F18-4DA1-8C4B-797E8DA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5F43-79A8-44D8-AEB9-6C3F21AA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ECCD-3A25-43ED-9F56-5F1E888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1307-9D9F-4F14-8E7D-D41294AA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EFB-34C0-4163-9EEA-725AB59B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FBB1-9896-46A4-A426-EE072B4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84D2-31DF-4072-9002-C162C29E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1F2-A6DC-4A1C-9F1C-0895FD2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6B99-B24E-4B55-987C-DE6283D4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43DC-A989-4867-BD98-EBEF6E4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570A-3B8D-4E88-8AA8-7FE4476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3487-8605-456B-8A64-A4B0A69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0655-FC72-4ABB-873C-1C6867D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6FE2-73AD-4B83-BDB3-814B90F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4F7A-3305-4EB5-B599-75EFABA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B9F-E576-4F96-92E9-4DE7011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0E85-C8AA-431F-A380-EBF8ADF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EE52-F027-4292-9B27-2F388C1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5269-A8E4-4C72-8A8D-A4B9367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EE3E-FC6D-4071-86A0-62EED8C3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27EE-15DA-49B9-9674-808F16E3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9262-903B-46C7-8FF7-754401C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62F3-BB98-47F2-9388-365BF52A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7B09-6467-4333-9177-10A89567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4C85-91CC-4FF5-8E17-B858949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B6D9-FBD8-4C6C-8D00-9907E07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9D3-E7B2-4975-82C7-92A1E18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61BA-479B-44CF-9196-25EA847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0919-0516-44A5-843D-BA3BD9E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C953-890F-480A-AEF4-C0C5CE0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8BA4-8904-44CD-A0CE-142B546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2E3A-C4D3-42BD-A42B-934C21F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106F-958A-449B-9A1C-2F97065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955B-C24A-4044-9143-48A173F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85CC-26C1-4649-86F2-8686349A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C354-06D7-4E88-886C-5EE0D627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11E8-B38F-47DE-BF7A-A0AC743E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8B3-7AEF-4887-8BA9-DDB0462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554A-B73A-473F-B591-092776D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C134-2C78-463E-978A-4D780C75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4FA2-B479-470B-A395-7BA41E2A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9190-423F-4273-9B2C-9AB215B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346D-AE26-413E-BAFA-E10C4ABF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2CEF4-FCA2-46FF-B124-650637A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74F8-145F-48D3-BE7E-5338D95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70D8-9BD3-42F4-86AC-1BE1A16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E8434-49B0-495D-9BF9-B7EBB24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E3C6-E82D-41AC-BD87-9104C1C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062-4E0A-4AA8-9A39-94C5AA1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2C26-1D7E-41FC-A205-DC1B1191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503D-2BF5-4D2E-B566-17C55B95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436F-29FD-4CB8-8DF3-A3DC2B4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B9BE-72CC-4212-9E7E-97386A4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4F32-AE81-4FF9-9C38-383CCA1B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D3EF-EB1F-46FC-9EEB-FE9EEBE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EDD86-587B-43E0-A186-21D3C7A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E55D-D63C-40BA-B629-518B6EE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5DDA-B012-45CC-A1EC-9FAD680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EA68-359B-42EB-BD8F-65F8F95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17D-AEE1-4D97-8F58-BD7AB2A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D906A-A202-4692-9AD0-B55E921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2F4A-8C98-4D85-8F3C-0416D3A2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A4CE3-9D41-4C26-8E43-D1A51E24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C6EE-11DB-4DD2-8692-7DFD4DA0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BA31-DDC3-4710-92AD-E09FE49D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6CA89-6B7D-44E2-85A4-A07793A7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F4AB1-3870-453C-97E9-B269D67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EC4A-28F2-42BD-AD32-4DAFCA3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A2D44-E9AE-4978-AD63-EB0B0EFD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40A2-92F7-40FB-964B-8FCF69F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C2D-6926-4534-B796-E2FC703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BEF7-0C6A-4649-91AB-EABF640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9E73-B7D5-4D8D-8F08-EA765F9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C3C5-4CED-4415-9F25-11B33048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8D8D-4266-4B70-BF8A-21C0E3F0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8742-90D3-4060-B27F-60DC4997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22DD-F7EF-47E8-A8BF-9DDAF61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007E-DED4-468C-BAB7-A29A7B63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4A7E-100C-4306-894F-2764776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66C6D-91B0-4B76-A960-83CAD73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FE8D-BCB3-4328-8D7E-A58837E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D0E-9495-477A-AEE6-E72F889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4A31-F61E-4568-9F7A-EB88FC5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972B-3A3B-44DF-AA60-A493839B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2F75-8C4E-4F48-89DB-6AF399B2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C2AC6-75DB-40BE-A15C-74807EF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FB91-1659-4F1E-AC49-07AD4F86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3AF2-35CE-4973-AE25-7EF5E382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8DAF-0D57-43F0-883D-AA76CA47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3C34F-B349-402B-A36F-D8C694D9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91FA8-0636-4CEE-82E0-18BB5BB4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62501-7F9C-4500-B825-BC0DC6C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A1DE-9F2B-404D-9D28-2DE382AEB5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07F-462E-4341-BAB8-2DC3646491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9FD-3CBB-4EC3-8E9D-168036ED3D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0EA9-4329-4B9D-927C-76BBC872D4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013-F8F5-4CBA-BDEA-8C74B816F7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7708-43ED-4F4D-AD54-A611950315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0EA-BB65-4623-A54C-410D34F70F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459F-2C6D-47BB-BD4B-0BD0C107C2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31A-90B5-47CC-8652-D07B8CDDF0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UserXP\Рабочий стол\IMG_1734.JPG"/>
          <p:cNvPicPr/>
          <p:nvPr/>
        </p:nvPicPr>
        <p:blipFill>
          <a:blip r:embed="rId1"/>
          <a:srcRect l="-11480" t="-13848" r="0" b="53465"/>
          <a:stretch/>
        </p:blipFill>
        <p:spPr>
          <a:xfrm>
            <a:off x="-81000" y="285840"/>
            <a:ext cx="8748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65240" y="262080"/>
            <a:ext cx="8899560" cy="1298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2928960" y="2714760"/>
            <a:ext cx="714240" cy="32144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4"/>
          <p:cNvSpPr/>
          <p:nvPr/>
        </p:nvSpPr>
        <p:spPr>
          <a:xfrm>
            <a:off x="4429080" y="2143080"/>
            <a:ext cx="1857600" cy="7146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Ромб 5"/>
          <p:cNvSpPr/>
          <p:nvPr/>
        </p:nvSpPr>
        <p:spPr>
          <a:xfrm>
            <a:off x="4643280" y="2143080"/>
            <a:ext cx="500400" cy="57168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Блок-схема: подготовка 6"/>
          <p:cNvSpPr/>
          <p:nvPr/>
        </p:nvSpPr>
        <p:spPr>
          <a:xfrm>
            <a:off x="5072040" y="3357720"/>
            <a:ext cx="714240" cy="2357280"/>
          </a:xfrm>
          <a:prstGeom prst="flowChartPreparation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Хорда 7"/>
          <p:cNvSpPr/>
          <p:nvPr/>
        </p:nvSpPr>
        <p:spPr>
          <a:xfrm rot="14087400">
            <a:off x="5733000" y="4032360"/>
            <a:ext cx="2071800" cy="1819440"/>
          </a:xfrm>
          <a:prstGeom prst="pie">
            <a:avLst/>
          </a:prstGeom>
          <a:solidFill>
            <a:srgbClr val="7030a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Сегодня я узнал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трудно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интересно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Я научился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8T13:49:10Z</dcterms:modified>
  <cp:revision>3</cp:revision>
  <dc:subject/>
  <dc:title>Слайд 1</dc:title>
</cp:coreProperties>
</file>