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8A9-7844-4179-9942-B6B3E1D8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D5B-F226-4B09-B28D-4815CC2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6D2B-B702-42FB-9145-D5DEF77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F238-5C81-4E96-9257-118DD2D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FAC3E-4786-4FBD-BA84-412D2E30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462D7-A34A-475B-A137-753C068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ACBB9-160E-4C28-8CB6-FD706D5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3F3F1-4F0D-425F-BEFD-B171C7C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1907-8330-4B43-814E-D4B86DE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B757E-C552-49A7-983A-07E1A12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73841-B21B-4566-BF50-6F36B096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38C-8EEE-4C5B-9394-5ACFC617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0B0-93E9-4310-B215-8286A71D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5FD-1E90-4394-AC33-90F7BD47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8B4B-7718-4F39-8A29-5D91EAE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BE60-66AB-4EA3-A2BD-60CAF917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E85-1F56-4C99-8A4B-34BB5754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9D1-78BB-4C0F-976A-AD13FA5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3C95-3C95-44E3-9F7A-1EB0DBD2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8ECD-B1BF-4B95-8967-72D7B3A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7D9-735F-41F0-9C82-3B88AB6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BD8-936C-40F8-AE34-6A4E027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C33-27C2-4BB0-8C77-46CDC9E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1CC-ED27-40CD-9338-898DDA8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D0A9-9233-45D4-9A31-4F0002A6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DCF0-9A12-47B7-A359-0EF1219A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CF6C-8271-4757-8422-AAEA9DBC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A017-6846-4B8A-9273-FE68DDF2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102D-34F9-4CB3-B020-725C643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C396-1D71-45CB-B61D-B77B463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D917-6BC8-481E-94E5-8EAF743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797-99E8-4F52-BC38-6304A89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7B6D-0B66-440A-BE49-FEBA9975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E12B-BDEB-4454-9AC5-6A46ED7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A81D-5CF1-49ED-84C7-B9EB6B5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A7EE-30A8-4A06-AF9A-19F011B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6B15-2A6B-4F7C-B482-0D495C2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5FF4-4AE2-4DB3-B043-42D4BE28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A098-D98B-43C5-A514-0E4F50EC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C954-B478-49DB-AFD9-2D71CB54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1D9F-3434-47E4-9587-FCB2EC2B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7502-939F-4A27-8A07-F554E3B6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E50-8C2A-4CF6-9068-A07CB881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F755-A0FB-4768-8F7F-95DEAE6E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E120-03E1-4E20-BFC6-C88DF77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3855-3817-4B50-92CF-9D3C6751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DEA9-557B-43D2-9A78-74EB9A14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851A-F10E-41BF-A943-5A3FD0C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9197-0274-426C-B8BB-8674A87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68BD-10C9-4F2D-978D-D6C8B7AA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420A-5302-40A0-93BD-0727ED12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70B6-AC4B-474B-9013-1FE4038E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FFE7-A1EE-44F5-AFB2-85B88BE2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77D-950A-48E2-978E-1BBA947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3A76-3D0C-484C-BA41-9053723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8613-F2AE-4A3E-BACF-D18D248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3611-B923-495C-AB7E-2BE4136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5E88-9458-44AF-955B-489AD4C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435A-F752-449B-BD03-27C186B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1B3D5-9B45-4D71-90EE-61B6CD4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1C60-9753-4742-9F11-561C227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DBDC-9268-4074-A7D5-4CD4BB7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FCA2-B92D-49AB-ADEF-EEC0D20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DEFA-8672-4DF5-B08F-1550A270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214-87E8-48D3-9FE4-88EC8E4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69B6-7AEA-4591-8523-79FF706B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44EC-A42B-462F-B81F-24E4169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A38B-ED9A-4DDB-8387-7EA426C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78F7-14D5-48D2-AE46-7DF95F6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1F52-C21C-44BA-90D7-B28C46F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17C2-33C3-4B84-A414-13501E19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7C43-DD63-4264-B8D9-171F521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7646-33C5-4340-A2C1-610C3E3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B037-1CD2-4E0A-AAD2-D11890BC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DDD3-4C19-4064-9FB5-47E357B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080-95AD-4616-BF4D-1C4E67B7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75A1F-7725-4CA2-9B73-6316144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2E5B-1FCF-45EA-B345-5F6EC772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5278-6D48-4BFF-99C8-E68FA92B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AE39-7A2D-45F9-9AA5-1FD74433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D9E4-35FA-406A-B4A5-2526F2F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5643C-8D9D-45CF-BBF9-6697C2B2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58463-A9F2-4D7D-9D93-2829C2CE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E243-9B2E-410F-8046-345CD65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4873C-0B32-41C8-A1C8-E0C3EBD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36CC-10CF-4BCB-B292-CEFC078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B29-233B-4FF2-90A7-1A8E11AB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3F97-09E1-4463-84FC-A90575E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D191E-2DA4-46E7-8ADE-5A1F330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B3A39-1F7D-4642-8ED3-5D68CE40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C944-94C6-4F5F-A40B-7D78FBBE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3235-62B6-434D-9744-4D19B9CB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F0D0-BA13-4C7C-B572-7EA743F4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38A1-2904-4143-BC88-B38BF0C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966D-7141-4CD7-9E76-841CA122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F6C15-25F6-4070-A2B1-DB6B93D4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B22C0-5A75-40FB-B09B-37ABF8D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42B-48EF-461B-98F8-48F22314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978F-F4E5-4D6F-8587-D76BC55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82EB-FF6E-4378-992E-3AAE0D4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F756-FEFF-46B8-8B5B-0BBEC435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015C-B34F-4DB9-B924-5536401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1E98-66FD-4330-B6DB-F69FEC0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3AF0-B3D8-4DE1-A151-828FE290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2BDCA-A4EA-4F1C-BBFA-AD830D18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6AC1-B2C4-4469-A1B3-F273FD93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8510-9E0C-4279-8F23-EFBECD8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0618-B71A-421C-8452-F6CAD13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7B62-5072-495F-90B7-BDDE774391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152-618F-4450-8B02-A467675687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654-93D9-4BA7-B374-77011E09B9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50B-F6D0-4786-8C23-C629B81B10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4EFF-ACD8-4E36-B3BE-05036C5DC0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369A-E066-4991-92E3-C56BE326F4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675B-659C-47B8-8603-B49EB906CA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841-03D6-443C-AF41-6BDC956701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036-27E7-4430-9A6A-DFBC7EB759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UserXP\Рабочий стол\IMG_1734.JPG"/>
          <p:cNvPicPr/>
          <p:nvPr/>
        </p:nvPicPr>
        <p:blipFill>
          <a:blip r:embed="rId1"/>
          <a:srcRect l="-11480" t="-13848" r="0" b="53465"/>
          <a:stretch/>
        </p:blipFill>
        <p:spPr>
          <a:xfrm>
            <a:off x="-81000" y="285840"/>
            <a:ext cx="8748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65240" y="262080"/>
            <a:ext cx="8899560" cy="1298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2928960" y="2714760"/>
            <a:ext cx="714240" cy="32144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4"/>
          <p:cNvSpPr/>
          <p:nvPr/>
        </p:nvSpPr>
        <p:spPr>
          <a:xfrm>
            <a:off x="4429080" y="2143080"/>
            <a:ext cx="1857600" cy="7146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Ромб 5"/>
          <p:cNvSpPr/>
          <p:nvPr/>
        </p:nvSpPr>
        <p:spPr>
          <a:xfrm>
            <a:off x="4643280" y="2143080"/>
            <a:ext cx="500400" cy="57168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Блок-схема: подготовка 6"/>
          <p:cNvSpPr/>
          <p:nvPr/>
        </p:nvSpPr>
        <p:spPr>
          <a:xfrm>
            <a:off x="5072040" y="3357720"/>
            <a:ext cx="714240" cy="2357280"/>
          </a:xfrm>
          <a:prstGeom prst="flowChartPreparation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Хорда 7"/>
          <p:cNvSpPr/>
          <p:nvPr/>
        </p:nvSpPr>
        <p:spPr>
          <a:xfrm rot="14087400">
            <a:off x="5733000" y="4032360"/>
            <a:ext cx="2071800" cy="1819440"/>
          </a:xfrm>
          <a:prstGeom prst="pie">
            <a:avLst/>
          </a:prstGeom>
          <a:solidFill>
            <a:srgbClr val="7030a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Сегодня я узнал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трудно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интересно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Я научился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8T13:49:10Z</dcterms:modified>
  <cp:revision>3</cp:revision>
  <dc:subject/>
  <dc:title>Слайд 1</dc:title>
</cp:coreProperties>
</file>