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84B-EA10-449D-AACC-1276CBCE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2AC-032E-4766-BF5A-946270EB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E6D-2086-499D-B1C9-04E156BE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5F1-F329-43BD-89CE-36565C0C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EC1A-FDBF-4BE6-B386-5572F7EF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C8C4-19D4-4338-A58F-9C3902C5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D1C-FF11-41F3-B9EF-A05EEB6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BE41-7C21-4C85-BC58-CA5C6DE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B664-6FC3-45BA-B512-1CB62F2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7A4B-76DF-47C4-8F78-45964E9D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A665-6595-41C7-9239-6947BF6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8B2-FEAD-4687-B041-8CE07B6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B682-A347-4CEB-AE5D-A1C6CD2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13CB-03EF-4D04-937B-E7BBEA2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BA8D-117C-4DD0-BCCC-EE59DDE9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ECC-3081-4163-955A-2BE2ADD8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6475-79CF-48D3-96AF-24FC22EE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374B-D481-4BC5-BF45-5ECEBFE9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5503-40B6-4757-B0D1-942E1A2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1117-CD30-4F91-9322-90018912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3AE3-FAFF-42FA-89C6-2D0FF204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5E95-834C-4AD1-85D9-D65CB348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A28-1191-465B-8F00-1386742B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4BF0-E93B-48D0-B8F1-8EE71A3D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5141-6EE7-47E3-A483-34DA5ABD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303C-C1BF-43CF-BD7F-D81C626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93A2-1A9A-4DE9-84C3-B1C1740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84A9-DC16-4B7E-899E-38AE2164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CB74-7651-4F03-84BE-82F8EA72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C64A-D7AC-476B-96F5-F9BFC80E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C3BC-D285-413E-AC79-70604EF5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4C32-FDFD-4DA5-8C55-4759EFF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2935-5F0E-4B40-9274-0495FFF1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986-2799-47F2-BD68-43D0083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07F2-EA98-4514-85C3-A94C9A14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BA58-FA82-40E1-903D-8F16C4AF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C711-18FB-4383-92C1-E832080A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B276-15FE-4490-943C-D8D2709E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4DD9-988E-4918-B88C-30B4DFA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FFBC-4E5B-458D-B637-77C1267B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A95B-32A5-4946-B541-85C7ED45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9538-B38F-40B0-8D5B-52A0CAD2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3336-62DD-48A9-94E7-834F1039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1CC0E-150B-4B84-8DB4-FF4E29C2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AE6-CAC9-4847-8FC7-9DDE30C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4DA3D-B840-42A6-8781-5F2B0E7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0CA0-04EE-412B-97D5-14927E08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0C3EE-E43A-4232-8E0C-AB475E9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82BA-8834-4D6A-BB2F-48FAC65C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2823A-01BD-4732-AFB0-88259393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59DB-8972-4DF8-82E7-B5A46E5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F18A-0324-47F7-8D00-EC623BF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242B-C88D-4AED-928A-E1D1ED5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8AFA-E5B5-42D1-9F96-B6A05B90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2C5E4-9E9C-43B1-A687-CBA07E79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330-93F6-4815-A9DB-441B4355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4AF38-1B9B-4F78-A11C-8871717F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AC117-9551-4444-B2CC-E14742B0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EA82-6784-45A4-8807-5384BB9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053A-9746-4DBF-BE36-06C76D2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D21A9-8FFC-4451-BEDF-850FB7F4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6E739-E07C-4A4D-A2C3-6EA65F7D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049BD-D059-4699-907D-97A525A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7A4E-689B-46A1-8B1E-F374A82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4330-13DC-4A0D-82B0-80A647D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6CD8D-0F6C-4F4D-8BB6-92461D6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A78-E936-486D-A3E4-70DE70D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C01A-55C9-48C1-BAB4-1E7914A5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8CD25-79EA-4ACF-B59A-ABECB56F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7AC1C-202D-42B1-A8EF-61123810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C86D5-04A3-49A8-9C5C-78FBAAD8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4EFA-D262-40B7-BB2B-969FD928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6F83D-0813-4610-9F1A-FFB7C4A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0E52E-DBCE-47E1-A754-9A54E25D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A940-CB64-40B9-AB6C-2DFCC26C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2FCC-21B2-4F7D-9E33-EE36023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A87B5-7829-404A-A21F-C3890F2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39C-74F5-4F13-A73A-F88040D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1ED5-920C-4341-B4CD-3D5AEDC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FF96E-6BDA-4843-BE24-E4AF5496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EAF0-FBB5-4196-A296-B8B70B2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9DEFC-CD97-4E76-9E34-7EC95C36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770E-7752-41A2-B8EF-CB749D0F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8D1-26B1-42E2-8FEE-F9B0B1A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41D-CB0A-445F-850E-7375AA69AD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C089-E096-47F5-84DC-567090CC368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F7F-DA4D-4960-9F25-072B7A15E5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2BA7-9400-42EC-8B4C-920E58E784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CD5F-67BB-47F6-ADB4-09DB1EFF14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3CEC-B93D-4F9F-9E55-9EC71172EE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A9DC-5EA2-4CBD-A01F-335E890A35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2314"/>
                </a:solidFill>
                <a:latin typeface="Gill Sans MT"/>
              </a:rPr>
              <a:t>To be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857320"/>
            <a:ext cx="7407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      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Am                                     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                               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Were         </a:t>
            </a: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прош. врем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Стрелка влево 3"/>
          <p:cNvSpPr/>
          <p:nvPr/>
        </p:nvSpPr>
        <p:spPr>
          <a:xfrm rot="19518000">
            <a:off x="2420640" y="2036520"/>
            <a:ext cx="1714320" cy="258480"/>
          </a:xfrm>
          <a:prstGeom prst="leftArrow">
            <a:avLst>
              <a:gd name="adj1" fmla="val 50000"/>
              <a:gd name="adj2" fmla="val 500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Стрелка влево 5"/>
          <p:cNvSpPr/>
          <p:nvPr/>
        </p:nvSpPr>
        <p:spPr>
          <a:xfrm rot="16200000">
            <a:off x="4272840" y="2442600"/>
            <a:ext cx="1714320" cy="258480"/>
          </a:xfrm>
          <a:prstGeom prst="leftArrow">
            <a:avLst>
              <a:gd name="adj1" fmla="val 50000"/>
              <a:gd name="adj2" fmla="val 500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Стрелка влево 6"/>
          <p:cNvSpPr/>
          <p:nvPr/>
        </p:nvSpPr>
        <p:spPr>
          <a:xfrm rot="13560600">
            <a:off x="5831280" y="2148120"/>
            <a:ext cx="1714320" cy="2588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авая фигурная скобка 8"/>
          <p:cNvSpPr/>
          <p:nvPr/>
        </p:nvSpPr>
        <p:spPr>
          <a:xfrm>
            <a:off x="2571840" y="3929040"/>
            <a:ext cx="642960" cy="8571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857160"/>
              <a:gd name="textAreaBottom" fmla="*/ 8406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16200" y="10800"/>
                  <a:pt x="21600" y="10800"/>
                </a:cubicBezTo>
                <a:cubicBezTo>
                  <a:pt x="162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Last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This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Next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2314"/>
                </a:solidFill>
                <a:latin typeface="Gill Sans MT"/>
              </a:rPr>
              <a:t>Present Continuous Tense.</a:t>
            </a: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(настоящее продолженное время)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434960" y="2285640"/>
            <a:ext cx="7499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572314"/>
                </a:solidFill>
                <a:latin typeface="Gill Sans MT"/>
              </a:rPr>
              <a:t>compare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07172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Я хожу в школу каждый ден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Иногда я смотрю филь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Я учу уроки тщательн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ейчас я читаю английскую истори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 данный момент я бега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ы играем в теннис сейча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          +      1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глагола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+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lay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mil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anc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7715160" y="2071800"/>
            <a:ext cx="857520" cy="5713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ri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+  ing =  wri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ut  +  ing =  p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t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ash  +  ing = was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We are dancing now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I a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reading at the moment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watching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TV now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25T12:11:50Z</dcterms:modified>
  <cp:revision>3</cp:revision>
  <dc:subject/>
  <dc:title>To be</dc:title>
</cp:coreProperties>
</file>