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D07-9856-4F36-AFA3-6676A54F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E13-7A83-4234-AA30-8BCB8620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E70-D1CF-4576-9DE3-E754C7FD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E97-3A6C-4CFC-868D-FFE497DF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9155-75AF-4998-A3FF-128A0C52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BC40-8CE5-45ED-B1A7-7400E136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4C1E-CEFE-4509-B1A2-AC7C57DF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9F63-0774-4A2B-995F-BB54E82C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B8BB-30DB-4A25-B084-4F813F53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F91B-FCD0-4283-A3DF-DC3F916F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3E33-8E28-494E-9801-F6496806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42F-50D6-42EA-97B8-F5B963F4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75F4-703B-4389-A60E-2E0206BA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29D7-AC66-426E-B888-89F01A69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6B8B-11A7-41EF-86BC-2A2F4A5E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2103-8F70-414F-AE8C-E7457014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0552-00FC-413A-AE66-D17DAD89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49F5-85B8-4E63-B01D-A4CA1D77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2D52-7D7B-4902-B62C-45E86BE5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2016F-7A11-424C-BACE-245D2869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F7EF4-40B6-41A4-BBCE-DF97EF38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1465B-8243-4147-B5DD-F98B516E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AC1-B602-4F26-A619-823BBF9A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E173B-ED09-4366-8F7C-0E6AD809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47587-5609-44DE-8030-FDB397B6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13FC1-A70C-472D-AE63-E918BBE0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52F33-C1F0-4CB4-8893-E6464D2B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F9CAF-CC1C-4A81-9196-907C92F3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51139-C9EF-4F57-A360-A7958D07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C1E3C-7C97-476C-9B15-B62C2957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AB4B0-B96F-4319-9818-3DAD13AC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53072-646F-4058-8D4C-C9A176A4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A712F-E6E3-47BD-963F-3A6111A2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384-5D40-4A8F-945C-EC14EEFA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5B054-72BA-4337-A401-FD15FA1A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A95A4-F689-4FE6-AAC4-58BC1CDF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38C6C-35BB-4AFA-9A7B-0C2FFEBE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6DE5-294A-4DA5-968C-FFD843F6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EF5B8-810A-41B7-A957-82068F30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73B5B-C77E-4AEF-B4D3-1CF49482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B6277-2ADE-42DE-B1D1-9F38CF7F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D8980-9D5B-4E80-BA69-D583F017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5456D-0D9D-482F-929F-6EA31A76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78C0D-E857-4FF3-A28D-0832255E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6D2-BB19-4717-9A56-55572A50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3E53D-62AC-428A-9A43-BA5847DD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4FD03-AE17-48F7-B59C-AD6F53EC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DD830-FC65-41F0-B64E-0E9F8320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557B5-09D8-4D5D-BD87-049E4341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EF88E-9D03-4A27-AAF3-EFE1172E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E03A1-61F0-43A2-A9B9-EE677545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1486E-64BD-43F2-BCCD-6DEA56CD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50420-DF9A-4FA3-A79C-3F8FF823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5ED4-FA14-43F6-B109-0DFB9202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3DA9E-9E08-4F82-A2FE-3626E73F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78A-91C0-4675-9095-852CFEDA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3DFB2-39B5-46E4-A82E-6FBD87FA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BAB4A-8F68-4CE5-BF0E-8683B7B5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00772-3C39-4995-B92F-CA3D8886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0DF3B-E426-4C83-8566-91106208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1F098-A627-45D9-8BFA-BD34F0E5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463AE-DC34-4C9C-8355-A5B756C3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28AD2-602E-4B67-A74F-29D8DF95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BD73F-F865-459D-820B-6EB424C2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D358C-1064-4E36-9FE5-95A1BCA0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1568F-518A-4C69-B5A1-C2E6FCA6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CAD-9EFD-442D-8D6B-C4853D81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9F90F-E050-426D-A66D-51BF503F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D3A80-1815-4389-B4B8-A3B451A4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BA98D-1315-4378-950B-AF192148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A2505-16F6-471B-BDF8-F336FA0F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71F9E-7A7B-4423-8B19-15EAD47F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17270-6E2E-4B7B-9D89-E38B8622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F2096-FC3F-42D9-9443-F6FF8C53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8A62D-15EB-4FD1-A579-08BD3770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B41D3-68CA-4ECE-B1A5-145A7F14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E8E78-9EBE-4126-88B8-4DB42503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E170-65AA-4AC2-9C5D-332EFB7D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181F4-4B34-4101-BEBC-CCF675C2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A65E6-C5AE-433E-82EB-8DD91187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83E0B-9B12-43D2-94A2-55CDF884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CED87-BCFE-4AE8-8B80-A1E5FF15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C1D34-F961-43D9-83E4-FF964E3C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739-30B7-466F-8CEB-3B4E9599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0541-22BB-4A3D-928E-6711B5168DA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5DDE-3883-448C-8835-EF85633E56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F125-EB53-4E40-81FF-60EA80875F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5E7E-A2EA-4970-9BF8-341A19FC4E7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CEFF-6B40-4F19-B222-3F1FB280342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F2FF-82F2-40C4-BF6E-D7426013592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7BFB-3398-4638-BB34-09777714DB5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2314"/>
                </a:solidFill>
                <a:latin typeface="Gill Sans MT"/>
              </a:rPr>
              <a:t>To be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2857320"/>
            <a:ext cx="7407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      </a:t>
            </a: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Am                                     a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                               </a:t>
            </a: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Were         </a:t>
            </a: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прош. врем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Стрелка влево 3"/>
          <p:cNvSpPr/>
          <p:nvPr/>
        </p:nvSpPr>
        <p:spPr>
          <a:xfrm rot="19518000">
            <a:off x="2420640" y="2036520"/>
            <a:ext cx="1714320" cy="258480"/>
          </a:xfrm>
          <a:prstGeom prst="leftArrow">
            <a:avLst>
              <a:gd name="adj1" fmla="val 50000"/>
              <a:gd name="adj2" fmla="val 5008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Стрелка влево 5"/>
          <p:cNvSpPr/>
          <p:nvPr/>
        </p:nvSpPr>
        <p:spPr>
          <a:xfrm rot="16200000">
            <a:off x="4272840" y="2442600"/>
            <a:ext cx="1714320" cy="258480"/>
          </a:xfrm>
          <a:prstGeom prst="leftArrow">
            <a:avLst>
              <a:gd name="adj1" fmla="val 50000"/>
              <a:gd name="adj2" fmla="val 5008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Стрелка влево 6"/>
          <p:cNvSpPr/>
          <p:nvPr/>
        </p:nvSpPr>
        <p:spPr>
          <a:xfrm rot="13560600">
            <a:off x="5831280" y="2148120"/>
            <a:ext cx="1714320" cy="25884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авая фигурная скобка 8"/>
          <p:cNvSpPr/>
          <p:nvPr/>
        </p:nvSpPr>
        <p:spPr>
          <a:xfrm>
            <a:off x="2571840" y="3929040"/>
            <a:ext cx="642960" cy="85716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857160"/>
              <a:gd name="textAreaBottom" fmla="*/ 84060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75"/>
                  <a:pt x="10800" y="1350"/>
                </a:cubicBezTo>
                <a:lnTo>
                  <a:pt x="10800" y="9450"/>
                </a:lnTo>
                <a:cubicBezTo>
                  <a:pt x="10800" y="10125"/>
                  <a:pt x="16200" y="10800"/>
                  <a:pt x="21600" y="10800"/>
                </a:cubicBezTo>
                <a:cubicBezTo>
                  <a:pt x="16200" y="10800"/>
                  <a:pt x="10800" y="11475"/>
                  <a:pt x="10800" y="12150"/>
                </a:cubicBezTo>
                <a:lnTo>
                  <a:pt x="10800" y="20250"/>
                </a:lnTo>
                <a:cubicBezTo>
                  <a:pt x="10800" y="209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Last yea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This yea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Next yea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2314"/>
                </a:solidFill>
                <a:latin typeface="Gill Sans MT"/>
              </a:rPr>
              <a:t>Present Continuous Tense.</a:t>
            </a: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(настоящее продолженное время)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434960" y="2285640"/>
            <a:ext cx="7499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572314"/>
                </a:solidFill>
                <a:latin typeface="Gill Sans MT"/>
              </a:rPr>
              <a:t>compare</a:t>
            </a:r>
            <a:endParaRPr b="0" lang="en-US" sz="5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071720"/>
            <a:ext cx="749952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Я хожу в школу каждый день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Иногда я смотрю фильм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Я учу уроки тщательно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ейчас я читаю английскую историю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 данный момент я бегаю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ы играем в теннис сейчас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s          +      1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форма глагола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+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lay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mil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Dancing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7715160" y="2071800"/>
            <a:ext cx="857520" cy="5713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ri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+  ing =  wri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ut  +  ing =  pu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tt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ash  +  ing = wash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We are dancing now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I am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not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reading at the moment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watching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TV now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2-25T12:11:50Z</dcterms:modified>
  <cp:revision>3</cp:revision>
  <dc:subject/>
  <dc:title>To be</dc:title>
</cp:coreProperties>
</file>