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D2E-D8C6-4F80-B2D6-EB9577DF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833-31C8-454F-AB47-B8C17492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354-8301-410C-9F46-C5E5DD6A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D1E-A1F7-4662-9AEB-708F2458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9FF3-EA0E-4502-B4B8-B047F6E8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8026-E912-485A-91CB-D138336D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9152-44CA-43F6-BBB0-577676DA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05CF-7D51-47FA-AAB0-B98CA6BF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E8FA-92A2-4887-9CCB-98A7896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D081-9571-43B0-9A92-8C1F728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3137-2DDB-4BA2-AD2E-2FA0A9A0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3CB-4F36-408E-907A-B4277F0C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149C-5A9E-43E8-94DB-24D3DFC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7394-4B36-41D4-A758-DE66A8D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A863-8545-4958-B2C0-9817E020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503-5F97-4C2A-8ED1-17F6FB1E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938C-AFA9-4FE7-AB8A-1AD9D6EC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7DF6-A50B-4C7F-A7BE-CF8D7371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D8F8-A745-4860-B66F-D5122624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5E5D-DB22-4ADE-970D-20C6B6F0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F4D3-6B0B-45B7-A5BE-2E33D528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BB4B-1AA3-4026-90EF-5A9777BA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44E-C8FF-475F-9B3F-7E4728DF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0496-8C7F-46EB-8C70-82DD47B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2DB08-6EB7-45AD-A21B-59CB2B36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96D9-1894-4FAB-AB0A-6DA970C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E8E4-2BFC-49BE-9939-EEF75E33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9DC3-5037-4736-985D-FF441F70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8ED5-134E-40BE-B1FB-6EE02FFA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723E-C24A-494D-BCA2-CAF7273A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2FC3-7565-4624-9346-94F06E24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0648-ED3B-4213-A97D-81F3C50B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540B-43DA-430B-9C77-B9CA6F77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77C-EDC5-4DBA-AA94-FE73575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D023-FDFD-4BF3-8300-7833CEE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37F6-2053-4B46-AE04-45283F4E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71A3-57BB-4FC5-9CE4-6C47DCFD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F56D-1892-49D8-AB23-E136C6E9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2FC3-4900-42F6-9E7F-8781181D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EB7A-9E3A-4833-B63C-4680D97A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F2D3-B269-4643-BEEF-2B2A935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BF92-E8E1-448E-BD0F-5D7E771A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01DB-F820-4279-B69F-DE0383A7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AB31-D609-4238-86BC-6F62C368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ACB-F430-41B5-9CCF-B5E1CB8B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1BD6-058D-4719-975A-2532BB6A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06D6-59EB-4EC8-8F35-582F6428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4883-E39C-4C48-8595-01420406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A577-040B-402B-8640-6E5668A7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AB3E-D50F-4E50-B8E1-A13753A7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39838-328B-4A2E-B508-C145FA4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195F-D769-453C-8945-23B1EAE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35B66-6A45-4228-B2CB-8B6C7124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3C46B-BAA9-4DF6-85B5-5F80E56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BF15-628C-428F-AF4D-3DE4C51F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CE0-70C3-469B-984F-0D61D42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6A61-8FF7-428A-A8BF-20E77026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9AD4-148E-4FC6-B381-053E0995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274F-C7B3-44CD-859F-404C8D19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68CF-17B3-44EF-AB63-1F6F1DE1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2026D-583B-492E-AE6B-DB2F2248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4DBC-96AF-4F49-AD56-CA98A2BF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036F2-4A46-4878-8221-4C242211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E007B-3704-45A2-83EC-78070F37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6D2D6-11FB-4422-8B07-1C21BDBF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7CAD-83DA-4D06-BC07-EB0669CC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497-8C5A-4DD4-A7BD-9E480F2B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4C1F4-62CE-4DF3-AB48-3D82ADF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4BE8-31F1-45B3-B244-DDF63F45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41A0-2E2B-4A20-8D61-5F69322B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705F-02B3-430E-9FE0-6A0DA9EB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8B88D-7ACA-4D84-B3A6-CC82740A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D3C6-7B9A-4F08-AC97-8C0418C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09EE-91D8-4131-A64C-983E7B6E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3EB42-4C73-4779-A05F-13693F8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8214-79F9-4E46-9867-98479A4A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190AE-E0EE-4346-9823-54F0F4A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A08-9162-42A3-AADF-32DA9505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392A-2465-4588-A03E-746B6FC3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BEDB-3ABC-4923-A988-45B6499A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0DFAD-D820-4587-AC8A-40B64D3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35C2-0EBF-46FB-AEB8-D98CD832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B680-5617-4605-A27A-FA8F6498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A2A-F958-4D3F-B437-4BCD834F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8DBE-44A7-4CED-BF3B-C979FBA91C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7787-DCFE-4A92-8BD3-E0FB5977539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9ADF-F5B9-44C8-A72A-A0900AE8C9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0F2-A10D-4910-B5F4-FD68EEC413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8D67-7461-49DA-82BA-C7E9DBA48D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8E3D-A2E4-4E38-9C47-50DA40ECFD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B72-C478-43B9-A11B-EAEE691F0E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2314"/>
                </a:solidFill>
                <a:latin typeface="Gill Sans MT"/>
              </a:rPr>
              <a:t>To be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857320"/>
            <a:ext cx="7407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      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Am                                     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                               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Were         </a:t>
            </a: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прош. врем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Стрелка влево 3"/>
          <p:cNvSpPr/>
          <p:nvPr/>
        </p:nvSpPr>
        <p:spPr>
          <a:xfrm rot="19518000">
            <a:off x="2420640" y="2036520"/>
            <a:ext cx="1714320" cy="258480"/>
          </a:xfrm>
          <a:prstGeom prst="leftArrow">
            <a:avLst>
              <a:gd name="adj1" fmla="val 50000"/>
              <a:gd name="adj2" fmla="val 500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Стрелка влево 5"/>
          <p:cNvSpPr/>
          <p:nvPr/>
        </p:nvSpPr>
        <p:spPr>
          <a:xfrm rot="16200000">
            <a:off x="4272840" y="2442600"/>
            <a:ext cx="1714320" cy="258480"/>
          </a:xfrm>
          <a:prstGeom prst="leftArrow">
            <a:avLst>
              <a:gd name="adj1" fmla="val 50000"/>
              <a:gd name="adj2" fmla="val 500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Стрелка влево 6"/>
          <p:cNvSpPr/>
          <p:nvPr/>
        </p:nvSpPr>
        <p:spPr>
          <a:xfrm rot="13560600">
            <a:off x="5831280" y="2148120"/>
            <a:ext cx="1714320" cy="2588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авая фигурная скобка 8"/>
          <p:cNvSpPr/>
          <p:nvPr/>
        </p:nvSpPr>
        <p:spPr>
          <a:xfrm>
            <a:off x="2571840" y="3929040"/>
            <a:ext cx="642960" cy="8571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857160"/>
              <a:gd name="textAreaBottom" fmla="*/ 8406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16200" y="10800"/>
                  <a:pt x="21600" y="10800"/>
                </a:cubicBezTo>
                <a:cubicBezTo>
                  <a:pt x="162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Last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This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Next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2314"/>
                </a:solidFill>
                <a:latin typeface="Gill Sans MT"/>
              </a:rPr>
              <a:t>Present Continuous Tense.</a:t>
            </a: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(настоящее продолженное время)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434960" y="2285640"/>
            <a:ext cx="7499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572314"/>
                </a:solidFill>
                <a:latin typeface="Gill Sans MT"/>
              </a:rPr>
              <a:t>compare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07172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Я хожу в школу каждый ден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Иногда я смотрю филь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Я учу уроки тщательн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ейчас я читаю английскую истори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 данный момент я бега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ы играем в теннис сейча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          +      1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глагола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+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lay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mil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anc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7715160" y="2071800"/>
            <a:ext cx="857520" cy="5713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ri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+  ing =  wri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ut  +  ing =  p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t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ash  +  ing = was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We are dancing now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I a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reading at the moment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watching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TV now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25T12:11:50Z</dcterms:modified>
  <cp:revision>3</cp:revision>
  <dc:subject/>
  <dc:title>To be</dc:title>
</cp:coreProperties>
</file>