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668-66D8-4710-874C-2DA0E2F1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1A9-9D8E-4F24-B54F-B6C3BDB3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B63-2FA4-4A8C-9D78-732834E7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41E2-3ED5-4940-85F3-94B13A6F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E7B7-F39B-4A2F-B9D4-394223B1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3035-3610-46D0-8090-51C5DDB1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B229-0F95-4371-9188-705B91C9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FF77-676E-45CA-B101-5A3CCA8D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C790-DA22-452B-82A0-4211BBD7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7439-8B08-4F85-87AE-DA2D5EBE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C5DC-0213-4889-A47D-8DE83016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DBFD-8B07-4D3E-9E38-889E25B6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8989-B25C-4621-9162-7FA2CA6F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E14A-7F3C-4D77-94E7-1F082692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BF12-7FC1-4E6E-8ECB-62BE0454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35B8-9900-4245-B214-F763C084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3161-95DB-4A50-8CC3-EF131F1B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1D1A1-3C95-42CA-91E3-581A02DE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62DA0-D353-4450-A6F7-16B78E8F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EEBC9-8A56-4C13-8255-D4FE86A1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DF683-0C33-48EC-A25F-E2499988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6A747-F277-4C62-93C6-9D9E3EF1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ED8-1A00-42C1-B96C-43F4438D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28585-A9D1-416F-9953-1E55666F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70596-6132-48DC-839E-6F9D40F0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FECA6-542C-4D87-9A89-1D9A2727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A9B3A-DFEF-4216-AEA5-43F55345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81FB9-5D6E-430A-B9AD-013AF101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30710-31A7-4793-B6FC-FDDCCCEE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00F65-FB81-4111-BCBF-27E62A14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E6F47-E005-4AD3-A5E8-1D2AA430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A931B-D8A5-47CC-942D-A34F7B93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45E08-7B49-4FBF-897F-8A356B48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AF46-C7C5-4341-85E8-39F6FE2E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20762-7E52-4998-B604-C113EAEA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33525-1690-431A-AD9D-928F33E3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5475C-9C9D-484E-BC98-A9C51BA3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A1A00-DF57-4497-BAA9-1D23CCCD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7C7BF-94E3-4F18-87D9-98A757A6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3337E-CE60-4B48-8139-C65B2F11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7CB69-1F40-4AAF-B081-66A2CEBD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0018E-41EC-4195-AB8B-0067E56B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DDECC-7DD6-45A5-834B-4D3461CF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E857D-031D-4B60-9C82-FBD5E65A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D289-9DCD-405E-BB83-7A46AD79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09965-CB36-4C0E-8022-BD2A5701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2138C-B117-46F9-8A21-FDC791E7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ADAA4-69A9-4B0E-B494-EAB87B0B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04F40-5E9A-4DAD-94F8-0A4F984C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6E5DA-62D6-4D96-A5B3-C1ED06C3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54791-5719-4D3C-B8E5-8610925E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DA749-E4E4-445F-93A3-FBA3CF9A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59CAD-6DE8-426D-9043-CB7CE09E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17E35-F345-410F-BCE3-FCBA9371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DF061-F30E-467B-AF31-A75981B5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9D2F-B0E2-4387-9754-2389C538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7BCC2-5F98-4CD8-94A4-19126EA1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33770-8DD1-4F76-865C-0007FC82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A469C-7F9B-4C95-82B9-55CC4079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79E97-BF79-4B54-A4EE-3A404038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0C886-6BDA-4ACC-B58D-18E6F8C5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CCF76-5C46-404D-96D4-9395B8E7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27E92-D311-42A8-8027-F729BC61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7D582-B43F-425E-9CC4-76CA95A7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BBD12-D325-4BBC-AF1D-A5026A95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2132F-B7A0-4C47-971E-41369625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1E67-14E0-48D2-82BD-B115D8AC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D2CD3-7246-497A-9270-292D5C09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3024B-A6D7-49B2-935D-0D90DBDB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C97A8-F83B-4978-8811-D183CF7C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F84FA-270A-4D45-B8E5-824021A4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331D9-63D4-4060-AFB6-81FC4C9E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18C03-C3D8-4C9B-BA6E-8FCBAE21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471EF-66AE-4A9E-A98D-291D5943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F6601-4BFF-4BDC-9F90-73C7E336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AD6B0-E95F-4275-970E-B187960A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404DE-BB8F-4961-8ACF-13AE1081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5E2-926D-4CAF-B832-CC3C25F4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4A6F2-DB1B-4C05-A638-6B8E8806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533DB-B7D2-4787-975E-6D1917FA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3BCDD-518F-413F-8925-097C5687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2F808-C415-4482-A73D-32556B6A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A9864-82FD-4EEF-975E-6FE126F6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52930-DE89-4FAD-90DD-EF136F3F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8EF7C-79B0-48BC-9629-F9F7D653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678A9-0794-4A3E-BAB8-924BB6AE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89B07-8528-4427-869B-47938F7D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A9352-26FF-42B9-A114-AC1B6DA3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3CFD-7A59-498E-996E-76F6DFF8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D8616-C5D2-4F56-A809-E7E43598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AA7FF-7791-4A79-8C92-6108B772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D963A-A4B4-44A8-B993-DFAA92A3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DFA19-749E-4200-8BCB-5EBB7FEA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CE56A-7BED-4414-8092-54C2F032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7EF33-1864-41CE-BFC2-694F53ED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622FE-E243-4F80-B55B-723B1BB6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9737-EF7E-4FD7-B4C2-820EBC86C8F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FA96-C2B5-4003-B608-3AF8C63B996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C5DD-8ACA-447F-97AF-FC3376E06FF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A5C4-1E32-470E-9BBB-552978972AF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4BBC-0D8D-4839-9B7B-B63C1BF314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F221-7A4C-4F0E-A202-ABFF83B978F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C806-F953-4856-BACE-D551A48024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16B5-B652-4419-8D61-2D70285DBBF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633240"/>
            <a:ext cx="7785000" cy="23180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928800"/>
            <a:ext cx="91440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many exercises you (do) since you started your homework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rs Izard (write) this book since her husband di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(know) this man? How long you (know) him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already (talk) about it for a week. It’s time to do someth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y (talk) for 2 hours and (not finish) y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r Dix is busy. How long he (be) busy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oline (think) about Mark since he lef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0" y="1213920"/>
            <a:ext cx="91440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has been raining ____ yesterd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ry hasn’t had any guests ____ last ye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m’s father has been building his house ___ 2 yea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y friends have been living in London ___ many yea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ice has wanted a bicycle ___ her last birthd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ter ant Kate have known each other ___ ten yea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haven’t gone out ___ 3 days. I have been ill ___ Saturd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10-04T13:08:40Z</dcterms:modified>
  <cp:revision>3</cp:revision>
  <dc:subject/>
  <dc:title>Present Perfect Progressive Tense</dc:title>
</cp:coreProperties>
</file>