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F24-38E3-4245-A80F-0DEA8182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6F6-7131-4902-AD72-75A629D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243-36AB-4A36-8A2A-E03EC51B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B78-20B4-4078-9718-6F1FA8FF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811-3B5F-448E-BECC-69CE65BD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944-A55B-4B0B-B31C-D3C42C7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B22-3BE8-46D8-989C-C75E734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BE5-6416-46E5-BD19-3E54641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3AF0-264A-4DC8-8546-E2F5FD71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8F35-7EE9-4F45-9347-15165E0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135E-E263-4136-A0A3-D63105F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2F6-6F81-4642-B67B-4B3683D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183E-074D-45A3-9661-36410CD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BB37-6759-4C43-97A9-FD3C974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A36-F32C-4959-A335-9AAF8C63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7CCF-3B23-4D8E-AFE8-E1533DE1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956-BE05-448B-B792-EBECED00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F533-E42C-4B7C-9BD1-41AF05A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90BC-0162-412A-AF62-3030959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A6C2-31D2-4C53-8591-34B6D51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749B-FF6F-42B9-B9B0-523DB17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875A-079C-4C1B-A346-754FAD1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CAF-2639-408E-A4B3-9BCFC2B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B72B-715B-4632-BD44-E6465E3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104D-36AE-40FB-94C2-A023EC6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1895-C054-421B-91B2-D7D0F05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0B39-21BC-4BE9-AA15-9338BB0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0B0C-9D79-4085-8AC4-9C52922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3C27-48FD-455D-9958-AB4C2439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6404-FA60-4D65-89F3-16E04F1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C3B0-658F-4427-8A56-2BA4833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FF37-10BE-41D3-8FF2-F9FD8C7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C4E0-9DF9-4A8F-8DB5-D82A14C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94D-4264-40E4-BA43-18A3831C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C8FF-4DD0-4CFD-81B9-3CE1C82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2069-0286-495C-8BAA-B62377C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2819-6CBC-4BB2-B7CD-D83A8D3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FC14-C492-44EC-9711-6525FF8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7069-A2E6-4F84-B098-E1F124B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5152-4B2F-4FD8-BED7-349EBBD7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1616-AEBC-425B-B4F8-0F7F23E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EBC4-BC40-4ECB-8871-545A50E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34CB-E765-4C8D-9B98-010F9C2D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6166-47E3-475D-9F66-B2CD015E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07C-A837-44D8-89B9-63C30E3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4897-A0EB-404F-AFFE-2B33223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C996-7051-4DFF-A1E9-CEAD416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90E4-1DBD-404C-9E50-0471E32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145C3-90C9-4741-9140-5A41D05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654A-F63F-426D-9463-F0822B1C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2D72-97EC-4E1C-8AD8-69A65D5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9E72-6E6A-4ED3-9CCE-0C35940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C3C1-B11A-4F82-8AD1-A738AA9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44FA-003A-47CF-AF27-4C09FDA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CBDE-9CE4-43D1-A8F4-87A9980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6BF-28E7-40D2-B62E-9899223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6FEA-AEA0-4750-86D9-610FBD4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C1EB-03EC-4C86-B71C-109575F5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C48A-1BEC-4527-A686-9487B7C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D8E9-953A-4C7B-96D0-C487559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478C-BB54-4401-A39D-016F6D1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CB2D-B879-43C2-B9A7-489F638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B0CA3-F618-4DE7-A3F8-10301AF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8A04-B755-42B7-97A5-11EDB9E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633F-C1D1-4369-AC4E-8EE9EF0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1AA4-ECAD-4F7D-890A-DF2607B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F86-0025-48F4-8B2D-6AE327A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B63F-A285-47F6-9AF5-D88062D0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AC5C-6F67-4295-972D-ACB64D66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1ADF-DC69-4B14-88E7-403F752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E456-28EA-467D-9772-F363B35C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2D17A-63B8-4F69-81E1-C7CF8114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65AC-4254-424C-8B45-585D0BC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D02E-373E-4DEC-A5D1-BDA487D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EFAE0-C970-4935-850F-229154B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788B2-D55A-4DB6-AD9F-B8C8FD1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510D-A57C-45E1-A5FA-444E4E5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484-0CF6-4179-A0D0-F31EEDE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FA3B-705D-4694-8FA5-3E141F5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901A-FD8C-43A4-8C83-4A4AE16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2514-5F9C-4F68-87DF-88199BFF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2CBE-3836-4795-BEA9-BCE23A97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15BC-19BC-4D6E-8E79-BD7BC67B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B68B-A50C-4F86-9C97-E5CDACB2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456BE-67CA-4173-8038-2A1882C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AC9F-E7CA-4D99-9719-E047C94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F25D6-1BD2-496E-85A6-FA96C7E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A07A-7E99-4867-92AF-02E64213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4F9-A765-4847-8F39-C773DF8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49F73-0A82-4283-877D-F74F6460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8993-9D92-407A-BC58-5F41A49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1B792-43F5-43CA-8BFF-5ABD7CB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E333-472C-4F0A-BAD3-89E6391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4376B-3DBB-4E6E-B182-25209075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264E-9CD7-46D6-B399-637CFA9E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C52B-E986-419C-95B5-05ED5D4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B91-A230-4BD6-A896-3061DD396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88EE-6F22-44AC-BB99-86E014CF4F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98A-63C8-44FF-B78E-06F298E0BF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D67-2499-406F-A42A-19C9F63A1E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AD1-5EAB-460B-B937-C67C7F5EEE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97C-6A41-4E75-A410-58B368A1A5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FE3-B425-45A6-9967-9B40530414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82CE-F648-420C-ACDA-069D313BE1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33240"/>
            <a:ext cx="7785000" cy="2318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928800"/>
            <a:ext cx="91440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exercises you (do) since you started your homewor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s Izard (write) this book since her husband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(know) this man? How long you (know) him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lready (talk) about it for a week. It’s time to do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(talk) for 2 hours and (not finish) y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 Dix is busy. How long he (be) bus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oline (think) about Mark since he le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213920"/>
            <a:ext cx="91440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has been raining ____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y hasn’t had any guests ____ last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m’s father has been building his house ___ 2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friends have been living in London ___ many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ice has wanted a bicycle ___ her last birth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ter ant Kate have known each other ___ ten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haven’t gone out ___ 3 days. I have been ill ___ Satu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04T13:08:40Z</dcterms:modified>
  <cp:revision>3</cp:revision>
  <dc:subject/>
  <dc:title>Present Perfect Progressive Tense</dc:title>
</cp:coreProperties>
</file>