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6F88-C015-4972-840A-0E2AD678D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8C29-00B3-4FC7-B0E7-5561F04D7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7490-ED82-464D-9B46-63B4E7DD9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3F01-5B38-45F0-B7B2-48B2DD1FB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C994B-D1B7-4B44-81E8-B3C45FC4F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89426-FC49-463F-B77C-AF8420448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39DA3-A3A9-4E47-90FC-5149ECC10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C5641-F725-40FA-A6D1-8D007E55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90EDC-64D9-4452-A576-8DEF14E23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E3706-63BC-402C-A889-DC471DD40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DA835-A2B9-470C-A063-22E4D78B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C662-CD23-475A-A247-8CB59ACE1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61EDB-6A17-4474-94C5-A9A9CF82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97684-C5A3-429F-B01F-D80B597C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47207-CFDA-4893-A952-F8EE8A64B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8D207-F601-42EC-AA5B-A35DB7B9A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24A11-4EA2-4ECE-AE5D-6E2FFB2D3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B0498-7068-4DCF-8E9C-0D7B2EC04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474EE-77F0-49B2-9CF4-ED68D5939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AEFED-2844-46CC-A681-3D88D3EEA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818AE-C61B-40FF-A5BF-C90C306E7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73D55-7ACD-4EA1-8C3D-7223AC324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74BA-4855-4D80-AAD6-2B40D4F5C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DA70C-87BE-47CF-9263-5A9817D62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29CC7-53E4-4634-B7A7-AED246FC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6BFC3-E886-497F-8C62-CBB4AF8F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732AC-D0BD-4A1D-8403-B55CBDE9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CBABF-651E-4381-8974-B0A7EB0CF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24C14-7B54-47F2-AE27-029EF2CED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DD1B8-5286-4F2C-9037-CD627C5E0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8C1A7-23D6-43E4-A571-4274587D1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59587-34B0-45A4-81DA-19E3F32AD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4F0DE-40B2-4862-BE7C-795C70054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6A79-EB64-4300-B7C2-A22F9F31B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42E98-E33E-42DC-A6B0-B67EF88CA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45CFF-79FF-48A1-B5DB-5300894F2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32AFA-6215-4A28-9120-DA2B584D2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F8D37-C4BD-4319-BF4C-D97D5493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C03E4-CEE2-4E79-A9D7-01F5955D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B1AFF-B34A-4D40-BED0-057E0A1E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4D547-77A8-4CE5-9CF8-35D528659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2D203-8829-4A5E-A8DD-520289B3F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6D413-16FD-4B92-8308-9C8383022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08831-B214-4178-8701-17A02BA90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DA10-4D68-4732-AC69-009EEBC83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58F77-B90C-40C0-B297-4E6A18DAF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FF085-4A14-459B-B465-2B57E2594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2F663-F5C9-49A5-B000-45FE5C81B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09990-A273-42A2-B93A-0B5F327DF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DCCBE-48E7-40B1-BC74-DE4FCF558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24D82-A1FA-4CFD-AAAE-0152A307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431A2-1B49-4888-91E1-EB57DEC0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431A5-E722-4AB5-A33E-5929A23A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60B59-8A89-4A8E-B6A9-DDEDADF11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98535-77E3-4542-8942-A1A21F5FC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B6B6-88D5-4DF9-A7BC-68F163AF5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7E2BD-3C61-4CC4-9E23-D0AFAF0E4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82932-9C40-4BF3-9723-DF664F52A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351BB-3CBB-47F8-8B98-7EB282B7C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170952-F601-4EC2-9C2A-1E6910955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6225D-4393-4A20-8D4F-2911366B7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83341-BDB8-407D-91BC-E99C4B24D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6613C5-A1CC-4881-9488-6A04D621B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462B3-6302-4220-A50A-14A1A06A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15C088-66EE-4494-BC77-43ED5F03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C6D2E-DDBA-456D-93D2-75CCBD8F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BC6F-88AD-45B5-82AE-8E336280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400EF5-48E2-4269-BAA8-307EE0FB8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8632E-4073-4AA5-BBA7-9BFB4D0FD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817CE8-215E-4EA5-AC7B-817E58C3B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736F12-21B0-45F3-9584-F30D8D923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2DA45E-1457-4B5C-91DC-456084F42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916F6-F7EB-4F7F-B08F-36FAA513F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334E90-E327-4F53-834E-F29F8C76C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5B4484-36D1-4467-82A5-72C26E7A7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2841DF-D544-44D7-A366-3E15D6A68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2D35DE-9F7A-4316-B20F-27D19F24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C366-0896-49B2-B6C7-E702E798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129BA-EBF6-4C04-870B-1ED27E18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10DB21-9A90-4A8D-A479-02236B11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B3EDEA-9A48-4BFE-A93D-9854CF072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2A3B45-08E4-41F7-A9C0-03DCC15BF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5E60AD-7479-40FA-867D-4F2EBCD7F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ABC6D1-62F1-4FF7-A2B9-28F781B99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B823D1-1FE0-4B24-A80D-4AE1A50CB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3B09D6-AAED-4FD0-9186-FA2548E0C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7D27A4-D77D-40A0-BF05-ECB2B801C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A29DDE-A2C1-4C6B-8DDB-6368EAA3D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8C12-68B5-40F8-BCC3-9B61C25B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71D67A-23EE-4A55-B899-70C7FCF72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87A872-2C86-45FF-9BBF-1D3B0797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5F7190-A95A-4279-8822-C9678289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E1D4F-D58F-4E89-939F-A23D6961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5DA2B3-FC08-4541-86BC-0EEC11F21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E59BEF-65B0-4510-9286-6D07F0CC9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F8ABB9-801E-4FFD-B146-8307304BA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B150E-2122-4AF8-AF36-6EF72ADDF4F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A08A0-A361-489E-938F-FE156B66889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7E993-CAB2-4537-840F-826C356EC85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0EF2E-B9A5-41F9-8BDA-10896AD5CF7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F52B9-8D23-4D62-BC1F-BEA1E29E326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937D3-CD21-4FF6-87A1-904A5A5D550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C6931-0277-43BB-A1DF-C794E7E1078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89420-0EA2-40B0-844E-B042F349FAA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682560" y="633240"/>
            <a:ext cx="7785000" cy="231804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0" y="928800"/>
            <a:ext cx="914400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w many exercises you (do) since you started your homework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rs Izard (write) this book since her husband die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 (know) this man? How long you (know) him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already (talk) about it for a week. It’s time to do someth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y (talk) for 2 hours and (not finish) ye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r Dix is busy. How long he (be) busy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aroline (think) about Mark since he lef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Заголовок 2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0" y="1213920"/>
            <a:ext cx="91440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3880" indent="-514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has been raining ____ yesterda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ry hasn’t had any guests ____ last yea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m’s father has been building his house ___ 2 year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y friends have been living in London ___ many year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ice has wanted a bicycle ___ her last birthda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eter ant Kate have known each other ___ ten year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 haven’t gone out ___ 3 days. I have been ill ___ Saturda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Заголовок 2" descr=""/>
          <p:cNvPicPr/>
          <p:nvPr/>
        </p:nvPicPr>
        <p:blipFill>
          <a:blip r:embed="rId1"/>
          <a:stretch/>
        </p:blipFill>
        <p:spPr>
          <a:xfrm>
            <a:off x="450720" y="-79200"/>
            <a:ext cx="824256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XP</cp:lastModifiedBy>
  <dcterms:modified xsi:type="dcterms:W3CDTF">2011-10-04T13:08:40Z</dcterms:modified>
  <cp:revision>3</cp:revision>
  <dc:subject/>
  <dc:title>Present Perfect Progressive Tense</dc:title>
</cp:coreProperties>
</file>