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5E1-6E0A-4B88-ADDD-A783405E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D0B-EB5C-4C73-97DF-DE7E131C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FCEA-338A-4057-B93E-90728149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F33-B403-4412-8BA4-3ADCFD39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D4CD-84D0-41BC-B218-C89C76CC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1760-42E0-453E-BB3F-F823F7E4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1185-FDB9-4C07-93FA-59AD033B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6A64-C762-4B8C-A0F4-E78654A2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9219-82EC-4B7C-8C0C-69E61968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4070-DFD7-42F6-9D1F-24B026D2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C4AF-B094-49EC-B065-C1F36D05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2EB-DE14-44AA-A1D9-99D96DFC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BF43-8F1C-48F0-998E-C47ED7EF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5105-C3B4-4030-B38F-0B13F571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B16A-6DC2-4EE5-905F-12395A10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E040-BA2B-4CE1-80D4-7C51947D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972F-751B-49C5-B9CA-EC33740F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28B3-B78E-4B39-92CD-DD6883A1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5FEF-38C9-4BCB-A163-E9F5D7D2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4805-777E-4580-9E2E-3DF6E870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3F059-A08C-481F-B563-23D3FF00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65FC3-E630-44DC-B263-98E0FDE2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482-109A-421D-BD29-E6CB1C75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74AA2-244B-4F71-8589-8CAD8CD8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2BF26-50E5-48A8-8319-1807A11D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F10C6-C864-4A3D-A5D4-23E23720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A723A-0086-4218-BE49-948040D8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1BAF1-854A-4559-9910-B23A3812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61D90-E161-4BFB-8D46-AB195FDB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52EAB-A542-40A4-B84F-02D25B68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0B0A-FF88-45E0-BF53-B94A0A2F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20C61-F481-47AC-B33F-F572D2E9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6022A-1E51-4466-862D-7F9BB72C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C90-3C4A-4DB6-8E56-121A1E43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FAD5-9F88-424C-8D98-ECA5E9CC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62FA3-528E-4749-B4B5-C99C435F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1F732-AA10-4ACA-B983-C2E2315F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12EC7-091F-465E-82CE-0ECC8942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8E8ED-96AC-4310-A7DC-0E1E91F4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54B5F-2BAB-430C-B2C4-3C2A4558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4D59B-98FB-4C95-A005-3920A665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1D1EB-265C-408A-8BF4-7A9F74EE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7D734-D0CC-47EA-A1B9-25A48638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024BF-FFCA-4870-A053-4BCB8AF5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B97-1BCC-410F-BBC7-92433D1A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140D3-69BF-4389-956F-B44EB5E4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B531B-5D4D-42C1-9295-8D9CFA46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A1818-3D2C-48E8-95CA-A8AC8541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47061-6419-4BBE-9496-AF8D0EAE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4BD4E-4649-468C-8F77-375843C5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B6325-5743-4442-B040-EB73AEEE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7F9EC-6986-40F7-B88D-8B484F39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8C401-958C-4C47-8F08-0D93A921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E6980-624A-46D1-959A-E64956DF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EE4E4-5A38-4513-B92A-947EBBB5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554-D790-4B67-853C-DF6B911D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522F8-2407-43C6-BC37-30BB7C51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B0E04-FFE4-40D2-831B-74B79980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866A0-71C5-47E2-9C16-FDB8AF0D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2A988-06F6-41CF-BF37-EBB76CA9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442C7-2EFE-4831-BB83-0F3595EC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5DE88-2B9D-4DE9-8EAF-AFC1DFEE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9C90E-0E8C-421C-B978-9DC265BF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13121-9D9F-4A87-A0D0-A560B441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17313-198E-46E4-B6DF-E23ED3A3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9940E-4837-4E07-9D72-F581D4C9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1D2-67D8-4DA6-9C94-2545FA5F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8AFC7-2220-4CB5-BDD9-1AA6EBA1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CA469-5D0F-4A2D-9E3F-40BF78D7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F31F2-4813-4DF7-8D73-88D64294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0974-05E1-4C9D-AED9-B0B7B28A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3EC-3606-4A9F-B251-B14448C6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B1F2-44F7-49BF-8F50-B82ACFEB5C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D478-AF93-4EE0-AA8F-F8B9E8088D9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4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0944-103A-4F6B-BBF1-5516DF29D9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28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966D-923E-46CA-8A1B-D93378BEC0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6F32-CCCB-46E7-93A8-1667F0D15E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F6B9-F91B-481F-86BF-C5B39790F5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5219640" y="0"/>
            <a:ext cx="39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Eras Medium ITC"/>
              </a:rPr>
              <a:t>Королева Елизавета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II</a:t>
            </a:r>
            <a:r>
              <a:rPr b="0" lang="ru-RU" sz="4400" spc="-1" strike="noStrike">
                <a:solidFill>
                  <a:srgbClr val="ffffff"/>
                </a:solidFill>
                <a:latin typeface="Eras Medium ITC"/>
              </a:rPr>
              <a:t> 1953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0" y="472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олева Елизавет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встрече с жителями Лонд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0" y="443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емьер-министр Гордон Брау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436572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4716360" y="4437000"/>
            <a:ext cx="44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укингемский Дворе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79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0" y="5589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андрингхэ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3624120"/>
            <a:ext cx="4427640" cy="32338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6450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4500720" y="3645000"/>
            <a:ext cx="46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0"/>
            <a:ext cx="44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олирудхау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6084720" y="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арое здание парламен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0" y="0"/>
            <a:ext cx="18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вое здание парламен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6156360" y="0"/>
            <a:ext cx="29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олева Елизавет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принц Филип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6804000" cy="42926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0" y="4292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аседание Палаты Лорд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581200" y="0"/>
            <a:ext cx="65628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0" y="0"/>
            <a:ext cx="25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ата Общин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4897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327640" cy="51577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0" y="5157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ролева на открытии сесс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39" dur="1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0" y="4724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олева Елизавета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и бывший Премьер-министр Тони Блэ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451640" cy="3967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0" y="486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Члены королевской семь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0" y="4221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Корона Елизаветы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88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0" y="4869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479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ремониальная поездка Королевы Елизаветы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 Вестминстерское Аббатство,2007г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3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85" dur="3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86" dur="3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9:56:19Z</dcterms:created>
  <dc:creator>user</dc:creator>
  <dc:description/>
  <dc:language>en-US</dc:language>
  <cp:lastModifiedBy>user</cp:lastModifiedBy>
  <dcterms:modified xsi:type="dcterms:W3CDTF">2008-03-20T10:52:21Z</dcterms:modified>
  <cp:revision>3</cp:revision>
  <dc:subject/>
  <dc:title>Слайд 1</dc:title>
</cp:coreProperties>
</file>