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C5D-3D8F-4CF9-A52F-942625B0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123-13EA-497C-90EF-0E9FD177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020-7EA5-4483-B414-C672D264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A03-3451-4129-A9EA-D2763F65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0D5A-3C03-42DF-B771-65B79E22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C2F8-1FB2-480E-8911-642F2A49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5D23-F624-4ABA-A956-13A09208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B17B-F9A5-443F-B598-88F1D2CA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C070-E217-4C1E-ACD1-CF6D1604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DC4F-30CF-4E04-A98E-D1A99D8C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C14B-E12D-446F-B119-670F841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36E-96DC-4B30-A4BC-A8BA2CE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324C-8BE1-4CB4-A723-919F93B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E51A-E589-45A1-A40B-121778B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FEBA-4917-41D4-8A3E-0CCC1B62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D59E-AC96-44DD-9880-F449BA51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E03B-5BB0-4E52-8C4A-924E98AE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6DD1-B17A-486E-8612-34D77DAA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C2A6-5F82-42D9-B993-E067E89B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1D63-8C47-424C-8BCB-BAB0A6E6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11161-8107-4539-9C61-992AB548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7A87-EE3C-4D69-8795-129C0D3B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69A-68C8-4F40-909E-783AD907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FC0B-E3F3-4CE1-A332-22E283D4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570B-E90A-4934-8FE0-3F027EFA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EE4C-531C-4939-9361-E1C995E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5E68-D3A7-4580-AC9E-0D9D81A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EB18-87F4-4243-B75F-CBDAEA7C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EF20-B060-469F-AE40-B24FF396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21F7-E1D7-408C-A545-45DA2016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6180-F459-419D-B007-432E584B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67F0-8E28-48AC-8E9A-F63A87B3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8396E-57A5-41A7-A799-63F19DCA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752-6C64-4675-8FF7-A6D4ADDC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BE46F-F9C6-439B-9057-7E0770A4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2FB7-92AD-4721-852A-AF2EEE2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4135-AD13-49DE-BCFC-5716F556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013B-25E7-49EA-BA7A-822901AD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FCA7-90A4-4821-A31E-BCF1905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10051-0348-4F93-9B49-1472460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EE74-B2AF-4DBE-A4F6-194A832E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0BAA-9730-4607-8C3D-DFBCB084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2826-FFC0-47AE-841F-FD1B4E38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0600-7467-45AE-882A-D01A5E05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F0B-BF3B-4864-A62B-AF61D7A0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7294-FD57-4FBE-906F-F26F06A0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C1F8-03D2-48DE-A6BD-9CC9F825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3BED7-249E-4D22-A6C7-3E19D58B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B8A32-9FA0-4D15-8200-6CCF2398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A958B-5AB4-46A1-BBAB-99C19DB2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F2BAA-158F-462B-8823-91DDC963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E3DA1-C996-44C5-999F-F58DE0CC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5171A-ACA1-43BF-A149-A9911409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95884-F629-4375-BB11-0485941C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EBF5-D9D3-45F3-8DCD-4F5D552B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70C-90EE-49FB-9B74-268F382C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10C6A-525C-413C-B6B1-417E8783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EA66B-EF1B-4D22-A177-6DFBB37A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F8B4C-97BB-4C91-9D81-C0942537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84C04-DBF0-4763-8DEA-AD32A0D8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52D9A-01D8-4F14-886B-CF5EF5C6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AF47-1545-43FC-8B79-8A9580C6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098C9-AD3B-4338-9A1E-CFF175D2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1640-4090-4C67-A935-2BA4F428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5EE2-9303-40B9-B97B-D6FEB355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B7AA4-43E9-43B1-A502-4BE8F5B1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45D-B346-485F-A43E-3141C96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D7929-9119-4FE0-8010-67D36B18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525B-56F1-4260-923A-D0E8AA84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37288-C8CB-4652-8CCF-3DDAA2F4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D48-9914-4F5A-A376-8E1B8011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EE3-33EF-450D-97E3-606ADC2B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8BE1-1AD7-4B4C-98F0-20769F5643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4BD9-57A2-4925-8B44-F0CBA9CBB49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153-FEB0-4996-9539-05F8B097FA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B39B-9989-469A-B3F4-8BE1EE8F56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FEF3-3D1E-40FD-BEE6-A0A23C2C50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EB5D-B19D-4160-BD37-F05235B21B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5219640" y="0"/>
            <a:ext cx="39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Eras Medium ITC"/>
              </a:rPr>
              <a:t>Королева Елизавета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Eras Medium ITC"/>
              </a:rPr>
              <a:t> 1953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олева Елизавет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встрече с жителями Лонд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0" y="443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мьер-министр Гордон Брау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43657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4716360" y="4437000"/>
            <a:ext cx="44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кингемский Двор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0" y="5589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ндрингхэ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3624120"/>
            <a:ext cx="4427640" cy="32338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645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500720" y="3645000"/>
            <a:ext cx="46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44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олирудха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084720" y="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рое здание парламен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0" y="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ое здание парлам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156360" y="0"/>
            <a:ext cx="29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лева Елизаве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принц Фили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42926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0" y="4292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седание Палаты Лорд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581200" y="0"/>
            <a:ext cx="65628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0"/>
            <a:ext cx="25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ата Общи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327640" cy="51577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0" y="51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ролева на открытии сесс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0" y="47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олева Елизавета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 бывший Премьер-министр Тони Блэ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51640" cy="3967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Члены королевской семь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0" y="42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Корона Елизаветы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88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0" y="486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479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ремониальная поездка Королевы Елизаветы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Вестминстерское Аббатство,2007г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3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5" dur="3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6" dur="3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9:56:19Z</dcterms:created>
  <dc:creator>user</dc:creator>
  <dc:description/>
  <dc:language>en-US</dc:language>
  <cp:lastModifiedBy>user</cp:lastModifiedBy>
  <dcterms:modified xsi:type="dcterms:W3CDTF">2008-03-20T10:52:21Z</dcterms:modified>
  <cp:revision>3</cp:revision>
  <dc:subject/>
  <dc:title>Слайд 1</dc:title>
</cp:coreProperties>
</file>