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AC6-2E15-43FE-8A3F-71F33CC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08C-47F6-477D-BB9B-1FABA9E3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381-632C-44E4-9079-851322D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EDF-1F99-4783-B690-A59506CF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58E-163A-4A27-9C5C-C65A949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DB4-3B7C-4B4A-A328-DB08BE3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B0AD-B375-4C95-BBE2-2116E5D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668-842B-4501-AA32-FF6A1D8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09D-CEAC-406E-8E7B-AC344937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092-5CA7-4F6B-8F39-74FFA19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10E4-7B46-4B19-8E18-29FA7BB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638-68E0-4753-8722-90DB6E74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40F7-AE9C-4089-B4B6-BEEDB1E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C2F1-A012-4339-ACDF-ED83A97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506-CA81-4521-9D85-F253933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323-853F-4CAD-8AA3-E6831C8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3126-C479-4F9C-B855-2157E859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CB46-6C0A-43C4-AD97-68D6A80A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8045-FF41-4734-8216-7C2F167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CD2E-EC79-4E91-8443-252901B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7163-41C9-4935-98D9-1964302F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F925-56CB-4EE1-BA2D-342FF54E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D5E-971B-4F6B-A713-3780045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F44B-79AD-4CC1-ABEC-E8F62A6D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8604-8577-46B8-AD16-4E8E911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66B4-98CC-4E75-847C-F7BADD6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67DD-6360-4A3D-82ED-5AB29458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F186-AFB9-493B-9D50-A1C1467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E947-04CA-4168-ADD4-DC0FD6A8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D428-1AFC-441B-BB89-0BDDA733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7006-B7CE-4991-9DB9-804FC4F8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6072-B0B4-4A9F-9294-419A0243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A5C3-140D-4F5B-B126-B8539AE0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B96-F58D-474E-BAB1-CE8410BB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7B72-298B-4AAC-8011-F6AF4ED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5301-8D84-4B60-A5CE-3CF2121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C7FF-389E-4805-9508-1D3F196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DA21-8380-487C-80C6-B3C8C6D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8072-2CAA-4E9C-A81C-9E75403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B9F5-109F-4E2A-BA23-C51D704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0255-18AB-40D8-847A-E3851AA1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A62A-3D5F-4EDD-AA12-38882E82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E77D-07C5-4AAE-8658-B0EC3E8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02A5-E3A2-4733-9E40-372BF3CE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F24-6A1C-4FE8-8CD0-2DE4C3B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C842-9E82-420C-81CF-1EE69B2E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C5DF-41C5-4742-AEF5-DCBA710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2151-E4FB-479E-85B6-36EBE4E7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642E-993D-44D4-B3E8-1D760D7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A274-7E6F-4DE7-BFB1-CB18B41C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1A35-93E2-4E6F-A866-380BBB0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4863-ECE6-4DFD-A764-9D498805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A8F3-32B5-4C19-91AD-B54CB03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76E9-02E0-4B9D-94EF-87E733E0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C516-3F99-4B65-850B-CF22894A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1C2-D155-473D-A451-FC05919C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2D7F-0D42-44BE-A272-72008DA6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423B-42CD-40AC-B3B4-0D40753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F44C-9D7F-47A4-AF96-60679FC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25B4-08BF-40F6-A42F-F4AFC9A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F503-3434-4497-B9A4-C39B3DE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3A53-EE0F-45B3-B60B-2344A58D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3F07-4F22-4896-9B42-070C7D9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AE2C-5FAB-449C-8574-E797A9D1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9154-916A-431C-8CFA-505849C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EBBD-92CD-4F86-82B9-B849B49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F29-3FFF-4C01-A121-A5893CA8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E298-2C28-4B1B-B810-54241F3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0D86-2F02-4A2E-B114-69EAA080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8B7B-FEB7-4ED8-81D4-3E08DC4E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D7B-1E44-4390-B9D1-1B28FAF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809-AFB0-4129-8AD8-5B3A2DD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F16C-C977-4A16-A3A2-6702BF25F0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7D4-4B82-4EFB-AE3C-C63495F18F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95F-5EED-4EC2-9A8D-70732A7A5A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34E-9FFF-452C-8816-198D717E3F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F470-4030-4791-997B-5B2A56374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588-A1D7-45DC-9C33-6F8247C40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219640" y="0"/>
            <a:ext cx="39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Королева Елизавета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 1953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встрече с жителями Лонд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мьер-министр Гордон Бра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4365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716360" y="443700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ндрингхэ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3624120"/>
            <a:ext cx="4427640" cy="32338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500720" y="3645000"/>
            <a:ext cx="46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44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лирудха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084720" y="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рое здание парла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ое здание парла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156360" y="0"/>
            <a:ext cx="29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лева Елизав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принц Фили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4292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429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седание Палаты Лор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581200" y="0"/>
            <a:ext cx="65628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ата Общи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27640" cy="51577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ролева на открытии се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 бывший Премьер-министр Тони Блэ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51640" cy="3967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Члены королевской семь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42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Корона Елизаветы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486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ремониальная поездка Королевы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Вестминстерское Аббатство,2007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5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6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9:56:19Z</dcterms:created>
  <dc:creator>user</dc:creator>
  <dc:description/>
  <dc:language>en-US</dc:language>
  <cp:lastModifiedBy>user</cp:lastModifiedBy>
  <dcterms:modified xsi:type="dcterms:W3CDTF">2008-03-20T10:52:21Z</dcterms:modified>
  <cp:revision>3</cp:revision>
  <dc:subject/>
  <dc:title>Слайд 1</dc:title>
</cp:coreProperties>
</file>