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BE9-2D84-4CAE-A975-56B3A9EF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248-B06D-4FC1-AAD8-63797449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81B-85F9-473E-9F66-C7BA0536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2B0-E73A-4D3C-90D2-6B6D5DD3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03086-02AB-4703-BCAA-C9627E94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46582-BDC3-4245-9A15-CCDBC42E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9FFF4-521B-422E-8C86-A255774A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BF39B-66A0-47A2-AC1A-90906E78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D8E23-6030-4807-9308-0940A75C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7F41D-DA05-443A-B785-CD5B5A4E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8F03E-50BC-4236-B041-D93DAEBD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197C-16CA-4D9A-BDA8-C35FF592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BAA43-7053-4CD5-91A3-778FE139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0EFFC-872B-4766-99B1-74F0661F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D2B8A-9F57-4491-B7F3-3F8FB27A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0AD89-7A11-4D0F-B59F-95E86FE1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7B877-A590-4256-98F5-5B0C7282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294EC-6C45-460D-AA9A-AA3DB7E0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CCF3D-C4BB-4E0C-9659-99B8C34C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B313-78AF-4C49-A6D2-A3AD01BC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D25F-F3AC-4D9C-BAE1-948E0E47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5DF72-4A56-48B7-B4C2-D3F987BB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8F8-16E0-41D0-AA43-4B62E430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B49D9-6F65-4CBB-81B7-43A69B37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E840B-580F-4EA0-8B2E-6689ABE9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0F2EF-E0B5-4BAB-9043-CF56F9B6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BB914-F9F1-4EF3-B673-A3D0A790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D1928-7248-4517-B804-5A9F7D5A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339FE-25B8-4823-9D46-3EB53A27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71E22-6777-4B8F-9274-55F8075B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779674-1FBA-4446-AF85-669C60A2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746B40-1D88-4E49-A3A5-55FDB8E4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EF8E61-71C6-4106-A96B-556F1BC1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B16-5F4B-45B7-8A18-3577E7F0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E7095A-795A-4157-A6A4-D018EF09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B01CC5-BEA7-438F-982A-EC5C08B6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D24CEF-AFC1-49AA-9AE1-E5AC3D7D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73FCFB-4533-470A-841A-1D3C5327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050DB5-7CD3-42ED-B06B-93B0B13C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391C7-FEF8-4926-BFF0-AAAE5681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8E8A72-875D-48FE-B651-005AB301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75BC80-0E1B-4B94-A008-2C3FB923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C518E-636C-4313-B5BD-B15DFA70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47FC6-D416-4711-9F35-B66EFCE8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5C2-2109-42A3-A548-CF6687D0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D1336-BE67-405D-9B63-A9D429C8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A0FC8-3F03-4F6B-9EE7-8606A40B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0D844-E335-4A35-9E5D-52EA2029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B5201-521A-4986-A515-00D7A15B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AF737-E283-419B-8416-EC41DA8A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1D55E-DDF4-43AF-B027-6C12629B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BD1C4-5E70-4C38-A551-09F5D500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36A3B-FDFE-4972-9BC7-D0B24D91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77B04-7500-498F-A7F1-D1474C78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252B9-AEBA-4A46-BA38-B3233865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EBE-EE0D-484A-9BF0-8F349329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5CE143-00BD-4E00-9180-7422B383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9B5CDC-9721-4CD5-A48E-9E55A6FF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729E9-72FA-4B3A-8EDB-B532BAF9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46EC3-E4EF-4DE6-A780-6ECAD6EA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575E6-F572-4A40-B2FD-ED501238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9A561-1590-4A0F-9F5F-FF971DDA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20BD7-3843-424B-9194-77274C4C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E95671-9B71-41BF-B9BB-1B168370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14D9D2-4A9E-4005-8DA2-A48504FA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BC0537-48BB-4498-88C4-F69D0777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4BC-C077-4141-9BC5-758EF6AD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BD7ADA-D281-492F-BBC2-E48CEA30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EDC7F-833D-44B9-9C14-C681B9DA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03095-403A-42EB-959E-715D2A8F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EC5-1433-409C-8252-52409CFC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23A-3F12-4F02-B7BE-D084895F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B932-FBE9-4FBB-8C1D-BEC6DAD563A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59D2-3CD8-4B58-8218-D6D31F143E2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5B81-C784-4D64-8DF7-F07D2059766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8576-54E8-43BD-A9ED-FD38AABAFCC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786A-931E-4FCE-89DB-F661CE65E27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33C3-6001-4580-A602-CF674ABD0CB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4" name="Рисунок 3" descr=""/>
          <p:cNvPicPr/>
          <p:nvPr/>
        </p:nvPicPr>
        <p:blipFill>
          <a:blip r:embed="rId1"/>
          <a:stretch/>
        </p:blipFill>
        <p:spPr>
          <a:xfrm>
            <a:off x="714240" y="785880"/>
            <a:ext cx="7643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6" name="Содержимое 3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7858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8" name="Содержимое 3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7429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0" name="Содержимое 3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857840" cy="33573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"/>
          <p:cNvPicPr/>
          <p:nvPr/>
        </p:nvPicPr>
        <p:blipFill>
          <a:blip r:embed="rId2"/>
          <a:stretch/>
        </p:blipFill>
        <p:spPr>
          <a:xfrm>
            <a:off x="214200" y="3429000"/>
            <a:ext cx="5500800" cy="32115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"/>
          <p:cNvPicPr/>
          <p:nvPr/>
        </p:nvPicPr>
        <p:blipFill>
          <a:blip r:embed="rId3"/>
          <a:stretch/>
        </p:blipFill>
        <p:spPr>
          <a:xfrm>
            <a:off x="4929120" y="428760"/>
            <a:ext cx="40068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11-29T12:54:13Z</dcterms:modified>
  <cp:revision>2</cp:revision>
  <dc:subject/>
  <dc:title>Слайд 1</dc:title>
</cp:coreProperties>
</file>