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ECC0-3892-4BDE-A623-689C54D6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724F-EB4D-4F38-A3A3-4D44D2BE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2AC-751C-47A6-AD55-D9487EA5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5C5-BE14-4F02-95E9-960613EF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4A034-B253-4E98-A670-2A685E0F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E8199-0B0F-4251-A21E-B524025D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2898D-26FB-4B9B-B21F-4241BAE1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C1B70-5B32-4028-A90A-7A228E76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30D29-7F89-4629-88C6-CE79A1F7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5794A-DE42-4440-81E1-EB4EC9EE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582EF-1B26-4E2A-8B97-F8592C29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63DD-0163-494E-A8BB-74DD9B52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BEB52-5C80-4A09-A026-783EE3D8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D6874-2EE9-43DF-A155-87157A7C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FC33E-093A-422E-89D7-F516D281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A85F9-D645-47DC-ADBA-3EBADF42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125A9-A67D-4AEA-BCFF-06DE7071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ECBE5-36A1-4E9D-A40F-5C729C86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94C05-9B35-487D-949A-41AE7DE1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3098C-64AB-411D-B6C6-19131238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D35D8-6110-4E10-8EAB-6E7D2432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0B7D9-7973-410E-AE52-CE39ED3E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5D01-9875-4234-BB2D-067A677E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87D5E-157F-4394-92F1-D575D49B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CF0E9-7E44-4720-B281-DC92C237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EC1E4-F972-4201-8938-CD1F1EC9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E238D-FF07-4EA0-A6B6-F5119DCB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CA1CB-E669-430C-905F-B27D9D15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149FB-74EE-403E-B795-882B65C2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40C33-A6B0-4F0D-8620-CAF20F26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00C550-B3E8-4270-A2D5-367BF329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FA2176-41E8-4AFC-B4C8-B236FD37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0030EB-D253-48CC-A1F6-E95CCB9C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AF3-E77F-4370-B810-4DF415B2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8C9137-952A-45DE-916B-EAE630B5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C3165F-629D-427F-B355-FECD3E52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DA3266-B3A5-4F4B-808C-3A908800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0725F5-F333-4974-8D70-FDC68374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D04908-97D8-4EE5-B65E-3A7F3077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9049DA-65A8-4378-9F78-8FE5CD9A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1ADEA3-D118-4747-B4EC-1779A672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C21AD1-04C9-48E1-BFDF-A36E2E7D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C833BE-C23D-4735-A97C-7C5ABF72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DDF12-CE53-49F4-BD64-233F86B9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A2C-A138-40AB-AE5E-D637B5FD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13C7A-740A-444F-8C50-F560F7F5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C5075B-8497-4A9F-9154-3F5952CE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B4874F-E32B-401D-AB9E-F07D8CD2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8324B1-6FCB-421F-8FA4-236AD720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F65172-E47C-4B92-8A7A-1ED7BAAE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E34E0D-9940-4C30-A4F7-04161FBC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E85572-AB0B-470D-A6F5-5DAA2ED1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C5941-54B8-4274-8B76-8DD32A0A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0F6B4B-1A2F-46A4-890D-F91ABF12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AC995-E183-488C-9024-BEECDD8A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C9D-4ED5-48D6-BE8D-A42891DC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3A2FB3-251F-41FB-ABB2-412FC70C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64F0FC-53C3-4854-8741-13DA6CBF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90E00E-0007-4B90-8868-969265A7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BA5C9-7660-41C9-A3C6-36D952BC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97B614-8492-4E0D-B9E3-B07F085F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9DAD21-CE3E-4F86-B2A4-EC35294A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8D0A2-1D48-4B1D-A6C4-25A71562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FDB9EC-2C9C-413D-BB99-AFE0E959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0489B2-50E5-455B-8197-4DED9388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0152F7-4A99-47C6-8447-13F563CA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061F-829A-47F3-A5D8-A2BE1D0F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159499-BCD2-40AA-9036-00530A30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35D0AC-77AE-49FC-A324-CBCD9E03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CB182F-626A-4AB0-BB24-EB9F25CC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B45-C543-44A0-ADC3-27DDB565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1E1A-CC2A-4C2E-97A3-926C6E3B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1F6D-CFD0-4EB9-9DAA-B92391E51DC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E39D-6BA2-4770-AB52-A6722BD288D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93B6-C3D5-420D-A862-9A71DE15404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2D99-0BC9-468E-8518-CC690603C7E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79D1-5D4E-44AD-AD84-E2063913AF4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0E38-872C-4B74-AA7D-07E281C8884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433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54" name="Рисунок 3" descr=""/>
          <p:cNvPicPr/>
          <p:nvPr/>
        </p:nvPicPr>
        <p:blipFill>
          <a:blip r:embed="rId1"/>
          <a:stretch/>
        </p:blipFill>
        <p:spPr>
          <a:xfrm>
            <a:off x="714240" y="785880"/>
            <a:ext cx="7643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56" name="Содержимое 3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7858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58" name="Содержимое 3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7429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0" name="Содержимое 3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857840" cy="33573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4" descr=""/>
          <p:cNvPicPr/>
          <p:nvPr/>
        </p:nvPicPr>
        <p:blipFill>
          <a:blip r:embed="rId2"/>
          <a:stretch/>
        </p:blipFill>
        <p:spPr>
          <a:xfrm>
            <a:off x="214200" y="3429000"/>
            <a:ext cx="5500800" cy="321156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5" descr=""/>
          <p:cNvPicPr/>
          <p:nvPr/>
        </p:nvPicPr>
        <p:blipFill>
          <a:blip r:embed="rId3"/>
          <a:stretch/>
        </p:blipFill>
        <p:spPr>
          <a:xfrm>
            <a:off x="4929120" y="428760"/>
            <a:ext cx="400680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0-11-29T12:54:13Z</dcterms:modified>
  <cp:revision>2</cp:revision>
  <dc:subject/>
  <dc:title>Слайд 1</dc:title>
</cp:coreProperties>
</file>