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E8D-5E21-4E9D-994E-07491E24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67B-47BE-446B-8B52-E4F41A17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CC8-C85A-4893-972E-A23DE7F6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AAF-8420-4665-B452-114C6931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853F5-59B6-416B-8954-68FDE83E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D80C6-3497-40AF-BC6D-68A056EC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18C99-5D6A-4690-9790-680DEEF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106C3-D0AA-459C-B135-9D4F263A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1A263-C88A-493F-9D84-F90B1DB1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86F42-1853-460A-AD1E-8CEC7D38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3B019-575B-4C35-9082-688D5BB7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2EB-D77F-4971-B601-61774E3A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06458-8BF0-48B3-A04B-B5E48341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A4B47-B3E2-4FD9-A373-774405C1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E21A6-CB6A-4C23-B2DB-93145AB5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7A52C-B3BD-4D37-8CE7-55D13A49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D35E-1F0B-450F-A9ED-BB54F0BA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0EBC-0C9E-4224-866B-D68AF9AD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5580-3047-4E9E-A650-73F84646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5F93-05D9-4014-91C3-9E8905D4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2CD9-CBB5-4F90-8B92-2D5AD51D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1ADF-253E-49D3-9903-D3183BF7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1DD-7AED-4F06-812C-0D4ACAF9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2CD2-BDEE-41FD-B772-8D0E752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F749-7DF7-487D-A621-9396F74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98AC-4E64-46FD-9323-CC3E86F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7F2D-81EE-4C58-86E0-EEE7FFAD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1257-E807-44BD-88D0-38F547A9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6FA4-9CD0-4CB7-BA3D-D21BC375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D6CE9-D565-4A56-8EA8-9A48C906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D23F9-3425-4A76-8E34-825124F5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9D5D02-F112-4917-A1D8-6DA1C51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9208D-8DD5-4D9E-AFC4-4F015B4E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21A-7527-4708-A224-E85E2707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604BE-2586-4672-886B-3A04BFD6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E55BC-2E28-4DC1-8B25-C6B6EE55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A0733-82EB-4AB9-8FE2-974FC0D3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28385-2D0E-4988-9157-2231F1E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D1BCB-5CC8-41AE-9F32-98C93F8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91E45-AE84-47C7-9A7E-33F2E3D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2A286-4B7B-4395-B33D-C9066F3D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03A2F-151E-409D-BD19-FF272AB3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DFC78-8584-4437-BDB6-D1E47F44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668DF-34E5-4F5B-980E-A14D3F42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36E-BFEE-43E4-A1CA-2337FBC3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59CFB-72F5-4F0E-8597-299D0A7D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7CC4B-20CD-4D84-BCD3-0741C40C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10E41-0BE6-4886-8ADD-A8405A58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223E8-F60A-44F1-A4C0-B515CDF1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14E86-7BD9-46B1-9596-D9B05855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A9DB8-71FC-44F8-9914-D5897C9B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DAA3D-3D28-486D-AAD3-49F25568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704B5-1F53-4E3D-B5C7-7893AF8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70F91-0E36-4222-8221-65D9C6DD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0B57F-3A0D-436D-8889-52ABA6E0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0A6-8532-43C2-B4DE-380319B1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CAAE9-1F9F-4B6A-B77D-9DED3714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24758-0829-4221-A7DF-8BF09238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B1247-9029-49C8-9F7E-5FBF7B6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076E8-9B3E-432E-A95C-2248CD60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11FE9-28CC-4291-B5BF-09F532C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764C7-6D24-4D63-8F82-3C5F9FC4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3AD2A-2C8C-4FF7-80E2-18D2EBB7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FEAA0-0887-45F7-9909-3723B17C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382DA-3F8B-4287-AD8B-3C9FEAE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417DA-35DE-4F68-8A71-95D07D3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07F-677D-4BC1-82AA-5F5F33D9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CD327-6CBC-496B-A098-D0F42B70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BED38-46D8-4558-A71A-6465B24E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5AF73-6FCE-463D-A966-33DE839F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449-5230-4AE3-B82C-98F791C3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6D7-C148-442E-A00F-F29B43C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8EE6-E5AC-4B02-8231-695E7F60061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4E00-7B7A-4671-AD20-9462430C71F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C09C-681F-496F-9399-E6C74B6CB9A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8EFC-7E65-491F-AC04-9C3CF2D2F92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10F5-AEBC-4A6D-A9A9-2D541F18C09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91D7-CDEA-4253-BBDB-70BCB4F3F2E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4" name="Рисунок 3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7643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6" name="Содержимое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85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8" name="Содержимое 3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429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"/>
          <p:cNvPicPr/>
          <p:nvPr/>
        </p:nvPicPr>
        <p:blipFill>
          <a:blip r:embed="rId2"/>
          <a:stretch/>
        </p:blipFill>
        <p:spPr>
          <a:xfrm>
            <a:off x="214200" y="3429000"/>
            <a:ext cx="5500800" cy="32115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"/>
          <p:cNvPicPr/>
          <p:nvPr/>
        </p:nvPicPr>
        <p:blipFill>
          <a:blip r:embed="rId3"/>
          <a:stretch/>
        </p:blipFill>
        <p:spPr>
          <a:xfrm>
            <a:off x="4929120" y="428760"/>
            <a:ext cx="40068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1-29T12:54:13Z</dcterms:modified>
  <cp:revision>2</cp:revision>
  <dc:subject/>
  <dc:title>Слайд 1</dc:title>
</cp:coreProperties>
</file>