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944-7A4C-48B2-B245-7BFA7B20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7E4-7388-4B7C-9901-310F7528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71554-00B0-4FC9-8231-74563C15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85B88-55BE-4EFD-A2C5-801F8705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F273C-8F93-4E6B-AB72-E7C92E8D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E16B2-722A-4CA5-A723-FC56E25D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4BA26-C5A4-4646-B952-8BEFBCB9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0B32B-DE86-4457-A027-45EB01EF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AD984-FABB-472E-8BCF-2D1463CA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AF41A-EF08-4661-A46C-35111552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16672-776E-4507-AAF4-3BEF2C3D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824-7293-40A6-B7AC-790CA14D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D2CC-D64B-45DF-9C67-56A77806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EF09-179C-4789-920E-1037B039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053C-CDD6-4C85-82F2-B75BD9C4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5F6F-15BF-4BD4-BE84-C19BB6E5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87E3-3CAF-447E-A3AF-5446E6F8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5081-4DBA-4F14-BD36-E8B79A56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861C-FA54-4442-9442-BE33F31C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882C-CC50-4FDB-ABD4-E38A43B6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F8E-D83C-450A-8EEB-4D7C73D4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333B-E750-4AB6-94EF-3FFF3249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2069-11B7-4BA5-9841-C47DD87D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D91C-8FF6-41FB-A051-BE5EB269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A3DD-5CDF-4494-88B6-02A533D0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E93B-E221-4E7F-9109-017DF6C4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4016-D92B-4B84-BCDE-07F6C02A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43DAC-0907-4F18-8FCF-99959778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97071-EDB7-485C-9A25-562FB2B2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AA27D-1F4D-40D2-BFBD-E3822623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2EF7-F4D7-4C0C-B8BE-E3E2C3EE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69C-0656-4073-86CC-292779A4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36ED2-D868-4493-82A7-28CB2A12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2DCDE-AFF1-46CD-B708-225142D4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46541-827D-4061-A102-C4FDF0B8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9B989-B2CB-4ABB-A7F1-57E918EB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570EE-709C-4E6B-9A0C-FFC902DD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55293-0C0C-474F-8513-F559A4CD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74981-F00F-4820-AFF4-770EFC2A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80B5F-77ED-45C6-B425-AABFC54E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FFDBB-9957-4A1A-9323-65C5DB17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BA479-54C6-4772-B83A-E2F56EDB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85C-2252-4206-B1D7-B21D8785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946F7-D047-4447-B38A-87C0239D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E1E70-D7C5-498C-B0A5-6D9D1F8F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6B628-F706-448E-BCAD-59A95379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B4FB0-0F53-4B6D-BC68-9896F7B3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EF1B0-5395-4641-A2ED-47AE4EB0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52EF1-0D15-4CA1-8E43-E61E0A88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2EE15-E414-4613-95FA-9DFD56A1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7D374-DD26-44FA-AFFC-AC309510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EFCCA-8509-41AB-9DE1-CA223CBE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4F150-C753-40AC-84BA-F5943216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BEE-24CB-4466-8EBE-741E30D9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86A4C-5DBB-4293-BC68-EB22BC6C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07A12-AAB8-4679-9B51-02E94658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8FE13-2B0B-4BBC-840D-96C0A27E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8CFEA-2D53-41B2-B472-9361D929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0CD35-5E7C-4603-929A-259E4F6B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9ABB7-9600-4570-947E-8F1715FF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A69DB-E72F-4E19-86C5-4AF58F5B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60F72-8E8A-4B78-B26D-79131842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8BDBA-2F94-4168-A07B-21C45002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70D94-1712-4340-8BC9-32357094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13E-C3E1-4ED5-B68F-57EF7961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79276-54B0-41F5-9012-4BCC5ABA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18D3F-EE52-45C0-B120-D09210BF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9EC62-A110-4281-A0A6-D2E63E57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96438-6255-495C-9247-1A365DF0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C6743-676E-4776-8417-AF424A8D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FB8C5-8FE3-4E5B-86D6-18492955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FC5F8-8F83-4139-844F-07FC1C38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0D66B-D7C6-41F1-BB1A-E472F206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0D848-C306-4789-B1A1-1F47B463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2C86B-0A30-439F-ABD8-D38AB1C6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F3D-F998-481A-8948-A8F0704E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B59C7-0063-4D88-B218-01537DB5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9B264-2ED2-497B-B7B3-B620CB74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74594-534B-46FC-AFE7-CFFA2289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B6B28-7C0C-46F8-B112-7B631D33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B12DC-E949-4785-B501-465CF621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4412D-4C6D-4C9C-A29E-DAF373F0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1E190-5BEC-4D67-A66C-31F9A2A2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357ED-F3D9-4BFF-9B54-288278D5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DB609-20AE-4F5C-9BB6-9FBCC854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EA986-9A80-4B11-948F-63D9D24D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6BA-A57F-4B7A-97AB-CD95DE60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AE5D2-8E78-498D-B87F-C8A89760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A9764-B770-41F2-AA9B-7F02F8C8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27140-2569-4AF3-AD4C-090D7A29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3412E-392D-4F5A-97F3-B04C2A86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7D408-5385-4729-84D5-C972A2C6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407E1-7F27-4720-A433-0BF2C078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5392A-2E5A-42B6-BA8A-4EA4A023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F5E99-E87E-4E04-92C4-3745601C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671BA-0547-4FB6-ABC8-620D083D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D6454-1E98-4E90-8BF9-E4020205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FF6-6A5F-47B2-AF0E-5E2BA334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5C8E8-E156-48BE-83FF-B0831453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227EC-A9E6-4A1C-869C-6F21A4B4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BDEC7-5D0B-4365-8087-7D5F1053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55FAE-895C-4840-953A-DFEAFC8C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56982-A329-4C08-B3DC-9D8EBD3B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FD1EE-5439-4933-94D2-17891603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DD52F-9510-4070-9F70-0EAC16A7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35581-C6DB-4404-BB0F-4D18BCDA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D3955-B975-457F-B1ED-283E2D44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5D27D-F9E2-4049-8D7C-FF54AEF6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4323-2161-444F-86AA-3D1D6645005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5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5D6B-EE54-44B4-8EFE-FA219C8AB0F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0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E70E-CC52-46F9-B254-B557A62D327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0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31C1-F130-4175-A4ED-96394ADD703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B0BD-8315-44FB-AF4A-63B10151A30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24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2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C17C-623E-46A1-82D1-3ED3B726D357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8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EDFA-CF92-4CDC-965D-D2EC4914AB4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22DD-B793-46A5-8929-F225D9476278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7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1BDD-F61D-4532-9401-1CBFF676B06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тепени сравне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1) положительна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2) сравнительная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-er-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mor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) превосходная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-est-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he mos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This torch is … light … that one. Let’s take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Your flat is … small … hers, there are only 2 rooms in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The film was … interesting … the book, I don’t like 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I can help you. My backpack is … heavy … your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f4e7ed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rebuchet MS"/>
              </a:rPr>
              <a:t>My story is … scary … his, everybody was frighten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hoose the right word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at tent wasn’t him/hi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e is her/his frien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at kettle is their/their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ook at his/hi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s pen isn’t my/min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y job is as good as her/her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Our pizza was as tasty as your/your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is story is as interesting as my/min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It is as hungry as a hunter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Picture 2" descr="C:\Documents and Settings\UserXP\Рабочий стол\Новая папка (2)\IMG_1640.JPG"/>
          <p:cNvPicPr/>
          <p:nvPr/>
        </p:nvPicPr>
        <p:blipFill>
          <a:blip r:embed="rId1"/>
          <a:stretch/>
        </p:blipFill>
        <p:spPr>
          <a:xfrm>
            <a:off x="730080" y="2071800"/>
            <a:ext cx="77346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He is as good as a gold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4" name="Picture 2" descr="C:\Documents and Settings\UserXP\Рабочий стол\Новая папка (2)\IMG_1638.JPG"/>
          <p:cNvPicPr/>
          <p:nvPr/>
        </p:nvPicPr>
        <p:blipFill>
          <a:blip r:embed="rId1"/>
          <a:stretch/>
        </p:blipFill>
        <p:spPr>
          <a:xfrm>
            <a:off x="2071800" y="1992240"/>
            <a:ext cx="535788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His face is as red as a beetroot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6" name="Picture 2" descr="C:\Documents and Settings\UserXP\Рабочий стол\Новая папка (2)\IMG_1639.JPG"/>
          <p:cNvPicPr/>
          <p:nvPr/>
        </p:nvPicPr>
        <p:blipFill>
          <a:blip r:embed="rId1"/>
          <a:stretch/>
        </p:blipFill>
        <p:spPr>
          <a:xfrm>
            <a:off x="3429000" y="1854360"/>
            <a:ext cx="2571840" cy="50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He is as strong as an ox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8" name="Picture 2" descr="C:\Documents and Settings\UserXP\Рабочий стол\Новая папка (2)\IMG_1641.JPG"/>
          <p:cNvPicPr/>
          <p:nvPr/>
        </p:nvPicPr>
        <p:blipFill>
          <a:blip r:embed="rId1"/>
          <a:stretch/>
        </p:blipFill>
        <p:spPr>
          <a:xfrm>
            <a:off x="1390680" y="1857240"/>
            <a:ext cx="67006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0-10-15T12:10:23Z</dcterms:modified>
  <cp:revision>7</cp:revision>
  <dc:subject/>
  <dc:title>Степени сравнения:</dc:title>
</cp:coreProperties>
</file>