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745-ACEA-49DA-9461-F72FCB2C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B9A-3653-47B4-A1A4-95AA9BA5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68009-967C-4CE8-A89C-17A8E4B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B6D35-5F27-4D38-A8FB-B8016E4D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2F211-8183-4066-AAAB-5042955D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7375-7464-4B8F-8D7D-5F9FBE15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6A733-C244-4CE2-8809-38F0B77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03E6C-3285-4197-AD2F-9BBED6C8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8A85F-FB2F-439D-96C1-D6E9EB2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84E52-D7F4-4DE7-AEF0-F4C72911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3CCC0-25A4-471D-98A3-2935DD82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9EA-5263-4F50-A405-A1DEFDBC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650-78C7-4D63-86A1-21499BD8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3861-B2EF-4436-8667-EB4C684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F362-5E7F-4A35-BA74-88F1139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E7D-F5D2-45D2-8D93-0BE24FDC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B20-2789-4982-B072-74E7B321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002C-512F-4F12-A3E1-A674121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D19B-4285-4BF1-8620-415D4A73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E549-3709-441A-884E-5A46346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202-C77A-4F73-821A-8A4E850B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189-E323-4F2F-BC2A-6C7A461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B1B8-101A-41DF-A799-A7064433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A4E6-8696-425D-88D4-8A5EBD4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8EBB-2F74-4874-8465-F7C2107C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8835-A500-46A0-BBF7-30B55A8E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BF6D-2BF8-4DB5-B1FB-F33E05DA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3117-CDC3-43DE-8A58-6CA0C8D2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D131-67B1-40D5-BF99-4D9C9B9A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1882-48DA-499C-8A01-3B03A147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4BB4-F1DD-4C65-8323-DA1275B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E34-CCFC-42B7-8C9B-F2F2C60C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7B78-F094-49CF-9BB7-B4C0ED03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4DD7-B4D8-4127-AA44-898E652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A984-9F78-435B-9330-E301E96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380E-8328-499B-B6C3-E663234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C8D8-6B5D-4D91-8906-3C6E9AA2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48E4-FD11-4938-BFBE-BB81F893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6115-E17F-4A3B-9D06-75357EAF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12CC-C378-4288-8EF9-DED4A096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1FD4-19EB-4C51-A884-8624BA3E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769C-C0AF-4146-84BE-932E5E29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CE3-738E-4555-A5E4-87F52C72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8052-CCC0-48CD-87B7-CA6E89E7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A01D-C39F-43C4-93CD-8956D7A0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2707-D1B3-437E-B0B2-0C9C7F84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438C-04A9-4E2A-B949-1BCB911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916A-5800-4684-81E8-D49BA41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5F3C7-55A5-44AC-8D7A-E1D4CFB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9B85-D1C6-4027-B073-F649590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AFED-5832-4973-9AEA-00611C6F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F38E-C97F-4BBF-9673-62501019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7938-8D3F-4B3A-93D7-0429F7D5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2F0-AA93-44D2-874C-6E38397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0F77-4ABB-42B0-9228-962E819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84C8-7CDC-4CF7-BAF1-DA9C2BCB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CE7A8-D421-4DCB-90A6-68924F0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98CA5-C90F-4BB2-A382-7539C693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F641-205F-463A-A992-EE016DA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417F-9076-4A90-97D8-DB77BF23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5888-BBD8-4781-9D64-E8AF15A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5601-5B04-4D21-A3AE-DA79895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9CAF-E596-44EE-B261-202F40E8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D5D4-2D80-4102-BDC8-1BB91034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AD9-6B89-4D6B-9CD6-D4B8630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0070-6A02-4A98-A80C-D0BBBC6F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CAA0-BC03-45CF-9008-63B86DCC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E236-1E9E-41B5-B15E-B83C6D8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BCEA-275C-4F70-8F67-3566BD2B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ECBB4-8C25-4B90-B4E8-ABF17912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4ED9-0CE0-4859-B0FF-A96B3F46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6B6E-8F6A-47B1-B02C-8457577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24E78-46A2-43D4-990A-792702C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678A-FD44-4712-9C0E-B53E788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6C80-A6E8-4F4C-A683-0C1D7CD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135-1CD2-430C-B4EC-BE2BF97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0253-54A5-46D6-B29D-60A29C94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1B6A-48FF-4843-A130-2EDAD230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CFDA-E0DD-4475-9744-39D67D04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D601-C970-43AC-B00A-580978DE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9978-F8F5-4DC0-AE99-4AEC583B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850E-CD52-4ED6-A766-609ED161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C6F1-34F9-4869-8B9E-70BDA74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787D-1132-43DF-B093-8A5CD26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EF8C2-0D4A-418A-90DA-54318AC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1173-1995-49AF-8DA8-C44E879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38B-ED2D-4259-A9EE-1D7C044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6ADA-5704-491E-A5CD-6A662A1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A204-8000-4D34-A6E3-59374EF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7877-4461-4682-9B28-AC9AE133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EA4AA-F818-4CF6-8C9C-AA68F9E3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3114-8D40-4394-BBD3-E344AC51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A2F7-FE2C-44E2-A433-3F07D609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2FD3F-F47B-4D09-9F2A-55257329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285A-3308-4343-B34A-45B7193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33F6F-EC81-4688-9F0D-975ADFE7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87D5-C5FD-4673-B34F-0B0586A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57C-A97D-4748-8EBA-07B652D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8B40A-F26B-41DD-9758-4A77189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DC863-2F82-484C-BED5-1519E373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DEF11-C478-40D2-B30C-B927687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F257-55E7-4060-8F2E-3C782F3F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020FD-603A-465F-A6E7-D3834750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9A1A-34A5-435C-9C69-04BA53D6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CC15F-8FDF-40C9-8026-7F46C11F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DB39-554C-452F-955A-AAF1C0E3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F2249-6B84-48A1-BD11-FC63033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E200B-D91B-498B-A798-4EDB236B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1A5-6E11-4459-A0D3-FE8C49862CB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261-8C54-448E-9BB2-5F90A884CBA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B0C-E8F2-4553-87EE-9B584CB8414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7A2-EAA6-4813-B6F7-79BF54ACCD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C5E9-EBEA-41AA-AB52-64FD434FA17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2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0A76-23B1-437A-838A-5C4A426568C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1C9-92CC-4820-BF2B-616F0B93A55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ADDF-BAA5-4D16-885A-6555692F546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2CB-7196-448F-BAD8-A15D6C14D15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епени сравне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) положительна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) сравнительна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-er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) превосходна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-est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m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This torch is … light … that one. Let’s take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Your flat is … small … hers, there are only 2 rooms in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The film was … interesting … the book, I don’t like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I can help you. My backpack is … heavy … you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My story is … scary … his, everybody was frighten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oose the right wor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at tent wasn’t him/hi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is her/his frien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at kettle is their/thei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ok at his/hi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s pen isn’t my/mi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y job is as good as her/h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ur pizza was as tasty as your/you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s story is as interesting as my/mi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t is as hungry as a hunter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Picture 2" descr="C:\Documents and Settings\UserXP\Рабочий стол\Новая папка (2)\IMG_1640.JPG"/>
          <p:cNvPicPr/>
          <p:nvPr/>
        </p:nvPicPr>
        <p:blipFill>
          <a:blip r:embed="rId1"/>
          <a:stretch/>
        </p:blipFill>
        <p:spPr>
          <a:xfrm>
            <a:off x="730080" y="2071800"/>
            <a:ext cx="7734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He is as good as a gold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Picture 2" descr="C:\Documents and Settings\UserXP\Рабочий стол\Новая папка (2)\IMG_1638.JPG"/>
          <p:cNvPicPr/>
          <p:nvPr/>
        </p:nvPicPr>
        <p:blipFill>
          <a:blip r:embed="rId1"/>
          <a:stretch/>
        </p:blipFill>
        <p:spPr>
          <a:xfrm>
            <a:off x="2071800" y="1992240"/>
            <a:ext cx="53578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His face is as red as a beetroot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6" name="Picture 2" descr="C:\Documents and Settings\UserXP\Рабочий стол\Новая папка (2)\IMG_1639.JPG"/>
          <p:cNvPicPr/>
          <p:nvPr/>
        </p:nvPicPr>
        <p:blipFill>
          <a:blip r:embed="rId1"/>
          <a:stretch/>
        </p:blipFill>
        <p:spPr>
          <a:xfrm>
            <a:off x="3429000" y="1854360"/>
            <a:ext cx="257184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He is as strong as an ox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8" name="Picture 2" descr="C:\Documents and Settings\UserXP\Рабочий стол\Новая папка (2)\IMG_1641.JPG"/>
          <p:cNvPicPr/>
          <p:nvPr/>
        </p:nvPicPr>
        <p:blipFill>
          <a:blip r:embed="rId1"/>
          <a:stretch/>
        </p:blipFill>
        <p:spPr>
          <a:xfrm>
            <a:off x="1390680" y="1857240"/>
            <a:ext cx="670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0-15T12:10:23Z</dcterms:modified>
  <cp:revision>7</cp:revision>
  <dc:subject/>
  <dc:title>Степени сравнения:</dc:title>
</cp:coreProperties>
</file>