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A30-4FE3-4F85-9158-641AF86E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D09-A3B7-4537-8C9B-9308DD4C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E5345-D8A0-4C3F-9175-EFD61882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281A6-75CB-4832-9767-5541856B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094C4-1B55-4043-97C6-CA5729FE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F8DDB-8600-49D9-B9FB-3AD7E7B9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0F059-828B-4FD2-A915-375385D2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35043-BA58-4758-86D4-026F3F69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FC34D-9239-4F84-B276-C12CBFA4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D7EAB-27D6-49D1-8519-5FD637E6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2D9D2-791B-40DC-B71E-DA7292FE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D5F-EF47-47CD-9763-D0CFDB8B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F56-E153-4EDA-8D7D-E8935A95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B93C-21AE-4D7E-87F0-9D2CA53A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188F-996E-4250-A46E-4D6DC785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8B50-E064-4ADF-BA15-05D0AD87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81A9-97AF-407E-914D-356612B5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7D3A-9C0B-41B5-8130-540C8DF2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8925-0C0C-47E4-9988-25F1A823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B0EC-CE9C-40EA-A782-022C6792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D25-7CE3-4876-8C7A-59A56C90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DCF1-859D-44B7-BE4F-D2FB639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39EC-EAB0-4584-A406-926F7DE5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5259-B6D4-469B-A236-4B07C130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9410-79CE-4F47-A2CB-04F75536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343E-7524-4C44-840D-1A254C1A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19A8F-B5B8-491F-8E78-27587DC5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A7EF-3F17-453E-BE68-CE23B64C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BB5BD-A86F-41A7-A253-CA811229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FB341-A902-410A-B846-5BF19C7B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E0395-F5A7-48A4-BA3D-367F8C60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121-037F-46FB-BEF2-2025A8F4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DEA9-7DA2-4136-A22F-6FD59901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982D-33FC-49FF-8C4C-B2F100E8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7901-3992-4BCF-847A-65BF3042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AA5A-AF56-4C2D-91A6-A1CA3CAF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6A59-826A-4A74-BAE8-FA59ADC5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51EA0-40D8-4E2D-850A-06BCCF52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AD94-2371-46E2-BB78-A2BA4E5B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01359-225D-4C42-BC02-711E4362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56134-DE4F-4B42-AAAD-0A0A5F78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F909D-8B29-4B6C-A83B-71A47369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449-2ABA-47F3-B164-22C79518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0593C-1418-4C2C-B87C-12E67087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CF50-1A39-4978-9A19-2ACFFECC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99F0B-1582-4710-9885-29732E3B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1C865-381E-47CB-BE1B-4A418F2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DD23F-4018-4BA1-9439-2ADED2A0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9D45-16EB-4B62-BE2A-B0E533F1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F03A3-8E93-46C7-A132-8C423033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101A4-F2EF-4F25-B892-139E40E7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A2188-E95F-4B3E-96AE-1683C1C8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F16B1-B067-4F0F-BC45-7BAE3D8A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569-D21E-4E67-97A3-794DBB13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2F878-1A26-45C3-BC61-9A9F3B60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6C0F5-3381-4555-B514-0091BCEC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5740C-A8BF-4987-9312-7A1F763D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51601-0703-4466-AEB2-ACE15F80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71EE0-DB14-45B4-ADE7-66DE8FC2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0BFC3-3255-4BCB-BD4B-A81668E9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C700B-1804-47EE-8FE9-EEAD5F2A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A0EC4-C626-4BCA-A37A-9A53695E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A63D9-85CE-450A-8DE9-416479A6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91491-03B7-43E2-BA6E-763D8C39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B1A-8EB0-4364-9903-52C0CEC6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458CB-8956-4C17-BEDD-69E29D29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6BF38-CEFF-4F6D-92CD-5CF7F62E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0CBD6-9DBB-41EE-AD49-3BC5FFC9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25E99-A6FB-45DA-B6BB-84A3C0FE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26D89-5C00-4247-91E7-6A78857D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921C1-2964-42EF-97EF-5B1958BF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776C2-5F6F-4C87-905B-D6A3DA57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348F2-4F4C-4AFE-8317-CCAA27C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264A0-20B7-4F44-9F54-0F4249D6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1D4EC-7848-47F0-A58A-7E076685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18C-673C-47DD-9918-B78DAEF0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6B0BB-A9D9-41A5-8E55-7A5BF60D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2C420-83C9-48D3-964B-2CA3C5E7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73B65-E76C-4743-9FD0-9626F8DB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E5A0D-A61F-4387-B75B-00EBBB02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13EE5-6D5E-4804-BAFB-0C9D0B0B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E3999-7AC4-4641-B18D-86C1E811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9A87C-CC72-4B51-83AF-2BC42357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81452-4B01-4026-A9DE-68AE8032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75E39-3340-44F7-80A0-DAE80860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6FD12-93FA-4B9D-90A1-01DE0B84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7EE-92D0-4FB8-B8E9-50D82EC6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6C304-F361-452F-BCC1-07F12C42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7FFEE-077F-4EF3-BC07-80D012BF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51EA7-C926-424B-8A6C-D0F49E0C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329A8-2A63-49D4-9107-A75EFA00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B92C6-AD3F-4151-8038-7D89672F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DEB4F-EC0B-48EF-B310-C2308A75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7FF37-9A2F-409E-91F5-503116C6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66813-B791-4B95-8D78-264D8648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F1F54-6052-48E7-A550-460EDC24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9C972-7387-437D-BF2A-62DD9626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C9E-93DB-4511-A830-A1E80690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CDC19-288C-48F5-8722-7EC06A69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7302C-F0E8-410F-AAA3-4104DF2B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9CFF2-794B-457F-81AA-CDA22651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A815C-DC84-46CB-9473-E4A1B3D9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07FE0-247E-4F42-9E97-DC3CDAB4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04D05-7247-4369-BBA7-ED990D6E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96960-6813-466B-A23D-FC4DE588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10245-041D-403A-B79D-8558CAAA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975D1-1818-4462-BD00-746B1D5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AC5D7-1112-4E21-8055-48CD5068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5E63-11B4-4B78-8571-E00960C30B0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F564-77A8-4A20-A7CD-9A34AF2453A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0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21AB-813F-4D1B-A74F-4B9C88EFB7F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0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D588-FDB2-4B9E-9AD1-B8C6915FCE9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F5AB-D4E0-4F98-B146-505CAE31176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24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2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7C43-AF45-4CA9-99E7-D8FD263092E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8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DC5A-6472-4493-8614-E6A843DCEAA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67F9-072E-4733-AC04-1713E56298BB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7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4C65-E5BC-4F21-B6DE-2F90FB194AB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тепени сравне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) положительна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2) сравнительная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-er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or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) превосходная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-est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mos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This torch is … light … that one. Let’s take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Your flat is … small … hers, there are only 2 rooms in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The film was … interesting … the book, I don’t like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I can help you. My backpack is … heavy … you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My story is … scary … his, everybody was frighten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hoose the right word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at tent wasn’t him/hi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 is her/his frien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at kettle is their/their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ook at his/hi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s pen isn’t my/min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y job is as good as her/her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ur pizza was as tasty as your/your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is story is as interesting as my/min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t is as hungry as a hunter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Picture 2" descr="C:\Documents and Settings\UserXP\Рабочий стол\Новая папка (2)\IMG_1640.JPG"/>
          <p:cNvPicPr/>
          <p:nvPr/>
        </p:nvPicPr>
        <p:blipFill>
          <a:blip r:embed="rId1"/>
          <a:stretch/>
        </p:blipFill>
        <p:spPr>
          <a:xfrm>
            <a:off x="730080" y="2071800"/>
            <a:ext cx="7734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He is as good as a gold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4" name="Picture 2" descr="C:\Documents and Settings\UserXP\Рабочий стол\Новая папка (2)\IMG_1638.JPG"/>
          <p:cNvPicPr/>
          <p:nvPr/>
        </p:nvPicPr>
        <p:blipFill>
          <a:blip r:embed="rId1"/>
          <a:stretch/>
        </p:blipFill>
        <p:spPr>
          <a:xfrm>
            <a:off x="2071800" y="1992240"/>
            <a:ext cx="53578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His face is as red as a beetroot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6" name="Picture 2" descr="C:\Documents and Settings\UserXP\Рабочий стол\Новая папка (2)\IMG_1639.JPG"/>
          <p:cNvPicPr/>
          <p:nvPr/>
        </p:nvPicPr>
        <p:blipFill>
          <a:blip r:embed="rId1"/>
          <a:stretch/>
        </p:blipFill>
        <p:spPr>
          <a:xfrm>
            <a:off x="3429000" y="1854360"/>
            <a:ext cx="257184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He is as strong as an ox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8" name="Picture 2" descr="C:\Documents and Settings\UserXP\Рабочий стол\Новая папка (2)\IMG_1641.JPG"/>
          <p:cNvPicPr/>
          <p:nvPr/>
        </p:nvPicPr>
        <p:blipFill>
          <a:blip r:embed="rId1"/>
          <a:stretch/>
        </p:blipFill>
        <p:spPr>
          <a:xfrm>
            <a:off x="1390680" y="1857240"/>
            <a:ext cx="67006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10-15T12:10:23Z</dcterms:modified>
  <cp:revision>7</cp:revision>
  <dc:subject/>
  <dc:title>Степени сравнения:</dc:title>
</cp:coreProperties>
</file>