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34B1C-1DEF-463B-9958-3E815411F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0B6FC-F5D3-456A-A23E-78FC8FF4F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4E1A-2704-4EE4-A485-674A0AD3A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B6135-5688-40F2-833F-C53E7022C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8FC31-4170-4258-82B7-B27530F1F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CBB5C-1FE3-43B1-8666-ED079F453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25EBD-078B-443E-B8A7-3B7147D01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AF55B-90D6-4989-AB2E-D19A9D4C7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22096-CC80-4A34-8758-4903F4B29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8EDD2-C1DE-4AD8-A278-A1E180A35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BABFC-948B-4149-824B-4975987B0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8757E-2EF4-4793-8A1A-FEDF97644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52543-77EE-4139-9A4E-E047F3357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A4621-B6B5-4FB1-AD0E-26F867835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B99C4-34AE-45EE-B0A6-17C6C4A50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70C1C-CBB4-410D-B9B0-75762219C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8D69E-39D6-4403-8241-8D4F1C236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CA10F9-664D-489F-9B45-683233C52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EE4F4-68DC-4246-92D4-7E1E65203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AF2AD-755D-4685-888D-013B44A79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6058B-764D-440A-BAC2-6805D81C3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C6B6A-2A2D-42D5-8175-EAED932C9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99CAF-6D30-44E6-857E-0DA73E07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459C0-658C-4B34-A77A-EA6E5B9A6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A6F35-4036-4320-9654-FFA488134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3C825-7A03-4ACD-AA6F-6CD615DC3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E83E1-8117-488C-AF91-00227E796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51E05-B281-44DE-A411-286CC0DA7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8A573F-B6D4-4FAD-9340-C8134A3849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3D8915-4DC1-403F-8E1D-D43A6E2A4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6A32EC-8BA5-4BF0-9F7C-123672EDD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650E3-94C1-45E3-A6A1-E59AB05BD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8B597-DCBB-4E80-A6E9-112732362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32A9-7B20-4485-86FF-1D5286D0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29F65-394F-4CD2-8D86-9227B7BC2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E60B99-B6ED-4DE4-AA63-128931DE8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D8395-1115-4BBA-B44B-BEE1AD9A4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7BD01-1182-4106-851F-86C48B4CC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5F535-C772-40B8-A0D7-FCAC88F54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3AF29A-E978-4912-9506-1FDA200CA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7ABF1-8465-4F42-A963-E5BC46CE0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120D3C-3E3B-4525-8F49-CD7ED8342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DD740-32FE-4E65-8473-6098BF6F78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0780DB-2939-4B78-A435-66433EB7A0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2AA63-C715-438E-8F15-E4763375C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9547E-7F4F-41F0-8A37-409B84277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DDBC3-BE78-4ACA-B47D-0F4054837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E48C8F-5206-48B2-B061-459047F392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963C30-C00C-40EA-9AED-E32C9937F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013A9C-BFE0-480B-B3E9-E63E92A8FE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BA4AD-0056-4CE7-BBC7-0953D86B7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73DF6-9ED2-478F-9729-CAADBA254A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F5E13-DB66-43DE-B1E7-3DFC489F4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E4F3C-C28E-47E6-9E81-744340ED21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4A41F6-1008-4810-94A1-EE04D453DE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862C1-6F1E-4C57-BC45-0249423A1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C13096-520D-4165-B576-EC3F02C134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30BD7F-D18C-48EA-A609-48EB162777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F6BD0-C550-4CDE-9261-B7E2CB249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BD29D-1D3E-4443-BAA2-DF24A44DD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AA18F-F762-45FA-A3D4-E77565BD0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A7B2C1-A3EC-4163-BB60-FA5221C19D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8EF87C-1193-416E-9DF1-DDBE4FD96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F401E-59A6-4F9A-9521-B3EB3450A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5E0B7-FB13-4F98-B310-532938400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AB05A-5AD5-4D45-A3F5-0951C6E5C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112CC-2900-48DE-AC1D-789A862D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71F38-0EB1-4C04-B544-677E2C148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E7CCF7-16F4-4529-99D7-0CC20F9EEF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BEDF84-B2FE-4DD3-B4E8-A9262739DB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EDE717-DEAF-4F47-91EA-B080C12519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49BB0-5CA8-481E-8D63-599323BA60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3F50FA-522B-42B7-95A7-E8DC463788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E0EFD-9970-438E-BAA1-4924EA1DB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8D8B2-F6FD-4FE7-9058-2046998188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FC5C9-DD7F-4A77-A75B-BA2C38E7C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18164-530B-4B50-9E3D-DAE90EB60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5A48-35FF-494C-87BA-76459A143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EC4C61-1BEC-4100-8740-A07FB84C4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EF84D-C0E0-4342-99F5-BF8DC06D82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3F265E-8911-48B7-94E6-50380AC9D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4180F0-8290-4965-8564-35E3F5899C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C4B486-7246-4693-B9A3-9041CE06DA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5465-3BDB-4236-8249-8D04EC0C1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0709-1262-4B58-B55C-951BE6310F5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79FB-6F5F-48EB-833D-FA47521FE2C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0861-323D-4FF1-A847-58035D74D84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B01D-A7F8-44E0-8F0D-D79C79B8D9FC}"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490A-F3A5-4298-9388-1A632D8AC36D}"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224C-9046-44CA-81CF-D0A3BB492437}"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B80E-6A60-4BBA-BE56-C47A0EF3828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213840"/>
            <a:ext cx="7407000" cy="628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wo little eyes to look around</a:t>
            </a:r>
            <a:br>
              <a:rPr sz="3600"/>
            </a:br>
            <a:r>
              <a:rPr b="0" lang="en-US" sz="3600" spc="-1" strike="noStrike">
                <a:solidFill>
                  <a:srgbClr val="572314"/>
                </a:solidFill>
                <a:latin typeface="Gill Sans MT"/>
              </a:rPr>
              <a:t> Two little ears to hear any sound,</a:t>
            </a:r>
            <a:br>
              <a:rPr sz="3600"/>
            </a:br>
            <a:r>
              <a:rPr b="0" lang="en-US" sz="3600" spc="-1" strike="noStrike">
                <a:solidFill>
                  <a:srgbClr val="572314"/>
                </a:solidFill>
                <a:latin typeface="Gill Sans MT"/>
              </a:rPr>
              <a:t> Two little hands to hold them tight,</a:t>
            </a:r>
            <a:br>
              <a:rPr sz="3600"/>
            </a:br>
            <a:r>
              <a:rPr b="0" lang="en-US" sz="3600" spc="-1" strike="noStrike">
                <a:solidFill>
                  <a:srgbClr val="572314"/>
                </a:solidFill>
                <a:latin typeface="Gill Sans MT"/>
              </a:rPr>
              <a:t> Two little feet to walk left or right,</a:t>
            </a:r>
            <a:br>
              <a:rPr sz="3600"/>
            </a:br>
            <a:r>
              <a:rPr b="0" lang="en-US" sz="3600" spc="-1" strike="noStrike">
                <a:solidFill>
                  <a:srgbClr val="572314"/>
                </a:solidFill>
                <a:latin typeface="Gill Sans MT"/>
              </a:rPr>
              <a:t>Two little lips to say: “Beware!”</a:t>
            </a:r>
            <a:br>
              <a:rPr sz="3600"/>
            </a:br>
            <a:r>
              <a:rPr b="0" lang="en-US" sz="3600" spc="-1" strike="noStrike">
                <a:solidFill>
                  <a:srgbClr val="572314"/>
                </a:solidFill>
                <a:latin typeface="Gill Sans MT"/>
              </a:rPr>
              <a:t>and one teenager to cross the roads with care.</a:t>
            </a:r>
            <a:br>
              <a:rPr sz="3600"/>
            </a:br>
            <a:br>
              <a:rPr sz="3600"/>
            </a:br>
            <a:br>
              <a:rPr sz="3600"/>
            </a:br>
            <a:endParaRPr b="0" lang="en-US" sz="36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pic>
        <p:nvPicPr>
          <p:cNvPr id="320" name="Picture 2" descr=""/>
          <p:cNvPicPr/>
          <p:nvPr/>
        </p:nvPicPr>
        <p:blipFill>
          <a:blip r:embed="rId1"/>
          <a:stretch/>
        </p:blipFill>
        <p:spPr>
          <a:xfrm>
            <a:off x="0" y="0"/>
            <a:ext cx="3438360" cy="5357880"/>
          </a:xfrm>
          <a:prstGeom prst="rect">
            <a:avLst/>
          </a:prstGeom>
          <a:ln w="0">
            <a:noFill/>
          </a:ln>
        </p:spPr>
      </p:pic>
      <p:pic>
        <p:nvPicPr>
          <p:cNvPr id="321" name="Picture 3" descr=""/>
          <p:cNvPicPr/>
          <p:nvPr/>
        </p:nvPicPr>
        <p:blipFill>
          <a:blip r:embed="rId2"/>
          <a:stretch/>
        </p:blipFill>
        <p:spPr>
          <a:xfrm>
            <a:off x="2327400" y="1638360"/>
            <a:ext cx="5715000" cy="4419720"/>
          </a:xfrm>
          <a:prstGeom prst="rect">
            <a:avLst/>
          </a:prstGeom>
          <a:ln w="0">
            <a:noFill/>
          </a:ln>
        </p:spPr>
      </p:pic>
      <p:pic>
        <p:nvPicPr>
          <p:cNvPr id="322" name="Picture 4" descr=""/>
          <p:cNvPicPr/>
          <p:nvPr/>
        </p:nvPicPr>
        <p:blipFill>
          <a:blip r:embed="rId3"/>
          <a:stretch/>
        </p:blipFill>
        <p:spPr>
          <a:xfrm>
            <a:off x="3048120" y="0"/>
            <a:ext cx="6095880" cy="4467240"/>
          </a:xfrm>
          <a:prstGeom prst="rect">
            <a:avLst/>
          </a:prstGeom>
          <a:ln w="0">
            <a:noFill/>
          </a:ln>
        </p:spPr>
      </p:pic>
      <p:pic>
        <p:nvPicPr>
          <p:cNvPr id="323" name="Picture 5" descr=""/>
          <p:cNvPicPr/>
          <p:nvPr/>
        </p:nvPicPr>
        <p:blipFill>
          <a:blip r:embed="rId4"/>
          <a:stretch/>
        </p:blipFill>
        <p:spPr>
          <a:xfrm>
            <a:off x="0" y="3000240"/>
            <a:ext cx="5749920" cy="3857760"/>
          </a:xfrm>
          <a:prstGeom prst="rect">
            <a:avLst/>
          </a:prstGeom>
          <a:ln w="0">
            <a:noFill/>
          </a:ln>
        </p:spPr>
      </p:pic>
      <p:pic>
        <p:nvPicPr>
          <p:cNvPr id="324" name="Picture 6" descr=""/>
          <p:cNvPicPr/>
          <p:nvPr/>
        </p:nvPicPr>
        <p:blipFill>
          <a:blip r:embed="rId5"/>
          <a:stretch/>
        </p:blipFill>
        <p:spPr>
          <a:xfrm>
            <a:off x="3648240" y="3143160"/>
            <a:ext cx="5495760" cy="371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20"/>
                                        </p:tgtEl>
                                        <p:attrNameLst>
                                          <p:attrName>style.visibility</p:attrName>
                                        </p:attrNameLst>
                                      </p:cBhvr>
                                      <p:to>
                                        <p:strVal val="visible"/>
                                      </p:to>
                                    </p:set>
                                    <p:animEffect filter="fade" transition="in">
                                      <p:cBhvr additive="repl">
                                        <p:cTn id="7" dur="2000"/>
                                        <p:tgtEl>
                                          <p:spTgt spid="3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21"/>
                                        </p:tgtEl>
                                        <p:attrNameLst>
                                          <p:attrName>style.visibility</p:attrName>
                                        </p:attrNameLst>
                                      </p:cBhvr>
                                      <p:to>
                                        <p:strVal val="visible"/>
                                      </p:to>
                                    </p:set>
                                    <p:animEffect filter="fade" transition="in">
                                      <p:cBhvr additive="repl">
                                        <p:cTn id="12" dur="2000"/>
                                        <p:tgtEl>
                                          <p:spTgt spid="32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22"/>
                                        </p:tgtEl>
                                        <p:attrNameLst>
                                          <p:attrName>style.visibility</p:attrName>
                                        </p:attrNameLst>
                                      </p:cBhvr>
                                      <p:to>
                                        <p:strVal val="visible"/>
                                      </p:to>
                                    </p:set>
                                    <p:animEffect filter="fade" transition="in">
                                      <p:cBhvr additive="repl">
                                        <p:cTn id="17" dur="2000"/>
                                        <p:tgtEl>
                                          <p:spTgt spid="32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23"/>
                                        </p:tgtEl>
                                        <p:attrNameLst>
                                          <p:attrName>style.visibility</p:attrName>
                                        </p:attrNameLst>
                                      </p:cBhvr>
                                      <p:to>
                                        <p:strVal val="visible"/>
                                      </p:to>
                                    </p:set>
                                    <p:animEffect filter="fade" transition="in">
                                      <p:cBhvr additive="repl">
                                        <p:cTn id="22" dur="2000"/>
                                        <p:tgtEl>
                                          <p:spTgt spid="3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24"/>
                                        </p:tgtEl>
                                        <p:attrNameLst>
                                          <p:attrName>style.visibility</p:attrName>
                                        </p:attrNameLst>
                                      </p:cBhvr>
                                      <p:to>
                                        <p:strVal val="visible"/>
                                      </p:to>
                                    </p:set>
                                    <p:animEffect filter="fade" transition="in">
                                      <p:cBhvr additive="repl">
                                        <p:cTn id="27"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14240" y="214200"/>
            <a:ext cx="8220240" cy="6034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te                 clov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lack                a charm</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oss               fingers</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od                magpies</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ve                a spid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              horseshoe</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ill                   the number 13</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ear               cat</a:t>
            </a:r>
            <a:endParaRPr b="0" lang="en-US" sz="3200" spc="-1" strike="noStrike">
              <a:solidFill>
                <a:srgbClr val="000000"/>
              </a:solidFill>
              <a:latin typeface="Corbel"/>
            </a:endParaRPr>
          </a:p>
        </p:txBody>
      </p:sp>
      <p:pic>
        <p:nvPicPr>
          <p:cNvPr id="326" name="Picture 2" descr=""/>
          <p:cNvPicPr/>
          <p:nvPr/>
        </p:nvPicPr>
        <p:blipFill>
          <a:blip r:embed="rId1"/>
          <a:stretch/>
        </p:blipFill>
        <p:spPr>
          <a:xfrm>
            <a:off x="5643720" y="0"/>
            <a:ext cx="1428480" cy="1714680"/>
          </a:xfrm>
          <a:prstGeom prst="rect">
            <a:avLst/>
          </a:prstGeom>
          <a:ln w="0">
            <a:noFill/>
          </a:ln>
        </p:spPr>
      </p:pic>
      <p:pic>
        <p:nvPicPr>
          <p:cNvPr id="327" name="Picture 3" descr=""/>
          <p:cNvPicPr/>
          <p:nvPr/>
        </p:nvPicPr>
        <p:blipFill>
          <a:blip r:embed="rId2"/>
          <a:stretch/>
        </p:blipFill>
        <p:spPr>
          <a:xfrm>
            <a:off x="6143760" y="1258920"/>
            <a:ext cx="1428480" cy="1598760"/>
          </a:xfrm>
          <a:prstGeom prst="rect">
            <a:avLst/>
          </a:prstGeom>
          <a:ln w="0">
            <a:noFill/>
          </a:ln>
        </p:spPr>
      </p:pic>
      <p:pic>
        <p:nvPicPr>
          <p:cNvPr id="328" name="Picture 4" descr=""/>
          <p:cNvPicPr/>
          <p:nvPr/>
        </p:nvPicPr>
        <p:blipFill>
          <a:blip r:embed="rId3"/>
          <a:stretch/>
        </p:blipFill>
        <p:spPr>
          <a:xfrm>
            <a:off x="6858000" y="2571840"/>
            <a:ext cx="2055960" cy="1490400"/>
          </a:xfrm>
          <a:prstGeom prst="rect">
            <a:avLst/>
          </a:prstGeom>
          <a:ln w="0">
            <a:noFill/>
          </a:ln>
        </p:spPr>
      </p:pic>
      <p:pic>
        <p:nvPicPr>
          <p:cNvPr id="329" name="Picture 5" descr=""/>
          <p:cNvPicPr/>
          <p:nvPr/>
        </p:nvPicPr>
        <p:blipFill>
          <a:blip r:embed="rId4"/>
          <a:stretch/>
        </p:blipFill>
        <p:spPr>
          <a:xfrm>
            <a:off x="6429240" y="4357800"/>
            <a:ext cx="2232000" cy="1681200"/>
          </a:xfrm>
          <a:prstGeom prst="rect">
            <a:avLst/>
          </a:prstGeom>
          <a:ln w="0">
            <a:noFill/>
          </a:ln>
        </p:spPr>
      </p:pic>
      <p:cxnSp>
        <p:nvCxnSpPr>
          <p:cNvPr id="330" name="Прямая со стрелкой 8"/>
          <p:cNvCxnSpPr/>
          <p:nvPr/>
        </p:nvCxnSpPr>
        <p:spPr>
          <a:xfrm flipV="1">
            <a:off x="5000400" y="499320"/>
            <a:ext cx="572040" cy="72360"/>
          </a:xfrm>
          <a:prstGeom prst="straightConnector1">
            <a:avLst/>
          </a:prstGeom>
          <a:ln w="9360">
            <a:solidFill>
              <a:srgbClr val="3891a7"/>
            </a:solidFill>
            <a:miter/>
            <a:tailEnd len="med" type="arrow" w="med"/>
          </a:ln>
        </p:spPr>
      </p:cxnSp>
      <p:cxnSp>
        <p:nvCxnSpPr>
          <p:cNvPr id="331" name="Прямая со стрелкой 10"/>
          <p:cNvCxnSpPr/>
          <p:nvPr/>
        </p:nvCxnSpPr>
        <p:spPr>
          <a:xfrm flipV="1">
            <a:off x="5429160" y="2071080"/>
            <a:ext cx="643320" cy="286200"/>
          </a:xfrm>
          <a:prstGeom prst="straightConnector1">
            <a:avLst/>
          </a:prstGeom>
          <a:ln w="9360">
            <a:solidFill>
              <a:srgbClr val="3891a7"/>
            </a:solidFill>
            <a:miter/>
            <a:tailEnd len="med" type="arrow" w="med"/>
          </a:ln>
        </p:spPr>
      </p:cxnSp>
      <p:cxnSp>
        <p:nvCxnSpPr>
          <p:cNvPr id="332" name="Прямая со стрелкой 12"/>
          <p:cNvCxnSpPr/>
          <p:nvPr/>
        </p:nvCxnSpPr>
        <p:spPr>
          <a:xfrm>
            <a:off x="5357520" y="2785680"/>
            <a:ext cx="1429560" cy="500760"/>
          </a:xfrm>
          <a:prstGeom prst="straightConnector1">
            <a:avLst/>
          </a:prstGeom>
          <a:ln w="9360">
            <a:solidFill>
              <a:srgbClr val="3891a7"/>
            </a:solidFill>
            <a:miter/>
            <a:tailEnd len="med" type="arrow" w="med"/>
          </a:ln>
        </p:spPr>
      </p:cxnSp>
      <p:cxnSp>
        <p:nvCxnSpPr>
          <p:cNvPr id="333" name="Прямая со стрелкой 14"/>
          <p:cNvCxnSpPr/>
          <p:nvPr/>
        </p:nvCxnSpPr>
        <p:spPr>
          <a:xfrm>
            <a:off x="5785920" y="3429000"/>
            <a:ext cx="1143720" cy="100080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35" name=""/>
          <p:cNvSpPr txBox="1"/>
          <p:nvPr/>
        </p:nvSpPr>
        <p:spPr>
          <a:xfrm>
            <a:off x="213840" y="500040"/>
            <a:ext cx="8720280" cy="5748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touching a wood?</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wearing a charm?</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having a horseshoe over the doo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killing a spider?</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o you believe in crossing fingers?</a:t>
            </a:r>
            <a:endParaRPr b="0" lang="en-US" sz="3200" spc="-1" strike="noStrike">
              <a:solidFill>
                <a:srgbClr val="000000"/>
              </a:solidFill>
              <a:latin typeface="Corbel"/>
            </a:endParaRPr>
          </a:p>
        </p:txBody>
      </p:sp>
      <p:pic>
        <p:nvPicPr>
          <p:cNvPr id="336" name="Picture 4" descr=""/>
          <p:cNvPicPr/>
          <p:nvPr/>
        </p:nvPicPr>
        <p:blipFill>
          <a:blip r:embed="rId1"/>
          <a:stretch/>
        </p:blipFill>
        <p:spPr>
          <a:xfrm>
            <a:off x="7088040" y="3429000"/>
            <a:ext cx="2055960" cy="1490760"/>
          </a:xfrm>
          <a:prstGeom prst="rect">
            <a:avLst/>
          </a:prstGeom>
          <a:ln w="0">
            <a:noFill/>
          </a:ln>
        </p:spPr>
      </p:pic>
      <p:pic>
        <p:nvPicPr>
          <p:cNvPr id="337" name="Picture 5" descr=""/>
          <p:cNvPicPr/>
          <p:nvPr/>
        </p:nvPicPr>
        <p:blipFill>
          <a:blip r:embed="rId2"/>
          <a:stretch/>
        </p:blipFill>
        <p:spPr>
          <a:xfrm>
            <a:off x="5072040" y="2143080"/>
            <a:ext cx="22320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285840" y="285480"/>
            <a:ext cx="8648640" cy="5962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 to catch falling leaves!</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why?</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You’ll have a …!</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Watch out! …</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I know. It means 7 year’s bad luck.</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Don’t … a ladder!</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 Don’t worry, I will no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Юрий</dc:creator>
  <dc:description/>
  <dc:language>en-US</dc:language>
  <cp:lastModifiedBy>Юрий</cp:lastModifiedBy>
  <dcterms:modified xsi:type="dcterms:W3CDTF">2016-01-17T18:30:56Z</dcterms:modified>
  <cp:revision>9</cp:revision>
  <dc:subject/>
  <dc:title>Two little eyes to look around  Two little ears to hear any sound,  Two little hands to hold them tight,  Two little feet to walk left or right, Two little lips to say: “Beware!” and one teenager to cross the roads with care.</dc:title>
</cp:coreProperties>
</file>