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2C5C9-FA18-4B92-9094-A1FCCF4BD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5B42E-20DB-4474-8E76-8F119BF98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E4004-0EEF-4E2B-97B7-26BAE5CE2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D0DB0-F949-4D62-9C21-143153669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90F35-4C30-4209-8F96-74BBEC0F1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CE4A5-BC2E-4E90-BD39-C4E077EC1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F1191-0FC0-4BDC-BE0E-DC1F3BBA0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30541-6958-4970-AF59-CFFEB4DB3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033DE-432E-4FB4-96AF-014397102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ACCFE-8D99-47B8-BBC8-EAC94859F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10E7E-D63B-4AE9-8CB8-F610DF10C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E71B2-F8E1-4AEA-A4AC-97B1A5D56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E01BC-EE54-4F4E-A932-96FE8A735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502A5-29E5-4610-8404-6B2B3221A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CEE12-615B-4FF4-928F-2BEE783BF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E9597-CE7C-4E99-BD88-4E2E1AB71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DE0D6-5634-41FA-B9C6-94222FC2C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14D66-CEAD-4828-B485-F9C2AE9DF9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2514B-FB70-4ABA-8017-5F92B1183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F5E490-000D-470C-85FF-A3222581F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680A0-7901-4068-9A0F-35F272F6C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15602-E89B-4EB4-AA8D-1DE66E15E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F23C8-13A7-4C3A-BDA7-3FB28E37F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997EA-E740-42DD-8147-F7781C0B3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88E7F-9AD9-4142-81C2-9075C3FAE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583B8-9772-4C69-A182-732DE53A4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C83FE-F16A-4FFC-8000-9A47DF377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C7AF97-D473-437E-B76D-B2E8284B0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DFF13C-E4C1-4C43-8F0A-8E7E66B47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695720-FF15-4C7E-BA1B-53CE2D5BC6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4BF454-8286-462F-8B59-604EFACACD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CF214-6C5E-4A3D-85E9-DEC762A62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1A7A0-DB9D-4A32-904C-816650C16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26F6-F4E9-4C84-89E2-009D5324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84A82-5950-4228-B4D1-F24E3D78E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3FC6A-AB3D-49D4-BA60-92FA5AEF5E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2A593-945A-4448-BA43-06EBD673E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8ED68-F587-447A-9255-31899AF93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5A6AE-F828-4048-BB20-198075436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88687-EC65-40C8-ACDF-400CC2787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72F265-4646-4223-8ACB-55C681A30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40FFED-23C9-4B30-A7B7-C9D9C05326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45CEC9-2113-4AF1-80CE-045BB978C2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F93632-E3B7-4949-B9E8-F0E4D34732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BB318-B467-492E-A0A8-A93F03E41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744E0-8550-45F2-9A7A-CBD83EF88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1215E-B107-4F38-AA6D-2225CC566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53A14-F140-4291-A2F9-98A535023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E5C532-1B5E-4FA2-A9FC-6A19474A0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1B797B-E072-45CE-91F1-34DA6B52D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16CA9-E8D0-4DE1-980D-9C5BEE193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D96E0-2928-4AE1-8427-C61E76464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388D0-350D-4EC5-8EE0-34F9AAB98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36852-3375-4F2E-AF80-9956F27E1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E9145B-96F5-46BB-BB5A-1E6F2FF213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4CD68-3051-402E-A2DF-F33CAE69F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01E8D1-0F3D-44FD-98AA-9F6C09EE37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B6DCAA-2F27-4B64-9B4B-7D42AE71AF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A8627E-2C1C-4369-99F1-68025BB03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6D23E-31AE-4EC9-B1A4-0708636D10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5D9CF1-9A65-4CEC-91F1-D5B7B6A353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0144A-D828-49B0-8603-8017947AC4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8FCC63-FDC7-40CF-B4A4-178AEE5622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01C292-6B86-46A9-8A1F-C5388BC42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15E6E-4DC0-4614-BA71-357CF69C2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38522-69D3-4333-B85A-621072BBC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A612-35AA-4269-B6DF-9FCF206DE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1519F7-7BA0-40C9-8FBF-089AAB7F0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1F257B-E10C-4D40-AF65-58BD7666B7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76AE81-545A-4F56-84EF-F5FE8366B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39EAEB-0515-4910-B455-0EE930CF7A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A3FBD-5AEC-44A5-B3C8-C8465D5F01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6113E0-66FD-4B38-9CFB-EC1068C7D2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EF5B5-A171-45F6-B69E-2638922332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115BB7-9FED-42F6-9418-A15DB1C763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282825-24E4-4BF7-8641-A668907280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FB331-1951-4EA5-B15E-F628816CC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FB4FE-4F9B-4699-8F65-9BEA659F7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168B1-C31E-496E-9A58-C67CF7A92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A4D0D-3274-4823-9D5E-E042444F4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F2D97-161E-4E96-BDD2-7E3007591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67B2E7-21C5-4DF0-A8B2-098C18E573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22005D-5D2A-47DF-8066-3A8AE8E875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50D7-D62C-4A7D-A8B9-CC653D9DB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F4C7-7F07-42BE-9596-623494AB3CC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2AF7-AE6B-4BCD-B943-8E6AED5633F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B31E-366D-4AF8-A665-88C1707E746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434F-3910-44AA-BA24-0C9819E965D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018A-F4B4-45B6-9D01-911430F00B8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CB37-0933-4545-97EB-384315421AB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768F-1CFD-433D-AA14-72E265C3C42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213840"/>
            <a:ext cx="7407000" cy="628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wo little eyes to look around</a:t>
            </a:r>
            <a:br>
              <a:rPr sz="3600"/>
            </a:br>
            <a:r>
              <a:rPr b="0" lang="en-US" sz="3600" spc="-1" strike="noStrike">
                <a:solidFill>
                  <a:srgbClr val="572314"/>
                </a:solidFill>
                <a:latin typeface="Gill Sans MT"/>
              </a:rPr>
              <a:t> Two little ears to hear any sound,</a:t>
            </a:r>
            <a:br>
              <a:rPr sz="3600"/>
            </a:br>
            <a:r>
              <a:rPr b="0" lang="en-US" sz="3600" spc="-1" strike="noStrike">
                <a:solidFill>
                  <a:srgbClr val="572314"/>
                </a:solidFill>
                <a:latin typeface="Gill Sans MT"/>
              </a:rPr>
              <a:t> Two little hands to hold them tight,</a:t>
            </a:r>
            <a:br>
              <a:rPr sz="3600"/>
            </a:br>
            <a:r>
              <a:rPr b="0" lang="en-US" sz="3600" spc="-1" strike="noStrike">
                <a:solidFill>
                  <a:srgbClr val="572314"/>
                </a:solidFill>
                <a:latin typeface="Gill Sans MT"/>
              </a:rPr>
              <a:t> Two little feet to walk left or right,</a:t>
            </a:r>
            <a:br>
              <a:rPr sz="3600"/>
            </a:br>
            <a:r>
              <a:rPr b="0" lang="en-US" sz="3600" spc="-1" strike="noStrike">
                <a:solidFill>
                  <a:srgbClr val="572314"/>
                </a:solidFill>
                <a:latin typeface="Gill Sans MT"/>
              </a:rPr>
              <a:t>Two little lips to say: “Beware!”</a:t>
            </a:r>
            <a:br>
              <a:rPr sz="3600"/>
            </a:br>
            <a:r>
              <a:rPr b="0" lang="en-US" sz="3600" spc="-1" strike="noStrike">
                <a:solidFill>
                  <a:srgbClr val="572314"/>
                </a:solidFill>
                <a:latin typeface="Gill Sans MT"/>
              </a:rPr>
              <a:t>and one teenager to cross the roads with care.</a:t>
            </a:r>
            <a:br>
              <a:rPr sz="3600"/>
            </a:br>
            <a:br>
              <a:rPr sz="3600"/>
            </a:br>
            <a:br>
              <a:rPr sz="3600"/>
            </a:br>
            <a:endParaRPr b="0" lang="en-US" sz="36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pic>
        <p:nvPicPr>
          <p:cNvPr id="320" name="Picture 2" descr=""/>
          <p:cNvPicPr/>
          <p:nvPr/>
        </p:nvPicPr>
        <p:blipFill>
          <a:blip r:embed="rId1"/>
          <a:stretch/>
        </p:blipFill>
        <p:spPr>
          <a:xfrm>
            <a:off x="0" y="0"/>
            <a:ext cx="3438360" cy="5357880"/>
          </a:xfrm>
          <a:prstGeom prst="rect">
            <a:avLst/>
          </a:prstGeom>
          <a:ln w="0">
            <a:noFill/>
          </a:ln>
        </p:spPr>
      </p:pic>
      <p:pic>
        <p:nvPicPr>
          <p:cNvPr id="321" name="Picture 3" descr=""/>
          <p:cNvPicPr/>
          <p:nvPr/>
        </p:nvPicPr>
        <p:blipFill>
          <a:blip r:embed="rId2"/>
          <a:stretch/>
        </p:blipFill>
        <p:spPr>
          <a:xfrm>
            <a:off x="2327400" y="1638360"/>
            <a:ext cx="5715000" cy="4419720"/>
          </a:xfrm>
          <a:prstGeom prst="rect">
            <a:avLst/>
          </a:prstGeom>
          <a:ln w="0">
            <a:noFill/>
          </a:ln>
        </p:spPr>
      </p:pic>
      <p:pic>
        <p:nvPicPr>
          <p:cNvPr id="322" name="Picture 4" descr=""/>
          <p:cNvPicPr/>
          <p:nvPr/>
        </p:nvPicPr>
        <p:blipFill>
          <a:blip r:embed="rId3"/>
          <a:stretch/>
        </p:blipFill>
        <p:spPr>
          <a:xfrm>
            <a:off x="3048120" y="0"/>
            <a:ext cx="6095880" cy="4467240"/>
          </a:xfrm>
          <a:prstGeom prst="rect">
            <a:avLst/>
          </a:prstGeom>
          <a:ln w="0">
            <a:noFill/>
          </a:ln>
        </p:spPr>
      </p:pic>
      <p:pic>
        <p:nvPicPr>
          <p:cNvPr id="323" name="Picture 5" descr=""/>
          <p:cNvPicPr/>
          <p:nvPr/>
        </p:nvPicPr>
        <p:blipFill>
          <a:blip r:embed="rId4"/>
          <a:stretch/>
        </p:blipFill>
        <p:spPr>
          <a:xfrm>
            <a:off x="0" y="3000240"/>
            <a:ext cx="5749920" cy="3857760"/>
          </a:xfrm>
          <a:prstGeom prst="rect">
            <a:avLst/>
          </a:prstGeom>
          <a:ln w="0">
            <a:noFill/>
          </a:ln>
        </p:spPr>
      </p:pic>
      <p:pic>
        <p:nvPicPr>
          <p:cNvPr id="324" name="Picture 6" descr=""/>
          <p:cNvPicPr/>
          <p:nvPr/>
        </p:nvPicPr>
        <p:blipFill>
          <a:blip r:embed="rId5"/>
          <a:stretch/>
        </p:blipFill>
        <p:spPr>
          <a:xfrm>
            <a:off x="3648240" y="3143160"/>
            <a:ext cx="5495760" cy="371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20"/>
                                        </p:tgtEl>
                                        <p:attrNameLst>
                                          <p:attrName>style.visibility</p:attrName>
                                        </p:attrNameLst>
                                      </p:cBhvr>
                                      <p:to>
                                        <p:strVal val="visible"/>
                                      </p:to>
                                    </p:set>
                                    <p:animEffect filter="fade" transition="in">
                                      <p:cBhvr additive="repl">
                                        <p:cTn id="7" dur="2000"/>
                                        <p:tgtEl>
                                          <p:spTgt spid="3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21"/>
                                        </p:tgtEl>
                                        <p:attrNameLst>
                                          <p:attrName>style.visibility</p:attrName>
                                        </p:attrNameLst>
                                      </p:cBhvr>
                                      <p:to>
                                        <p:strVal val="visible"/>
                                      </p:to>
                                    </p:set>
                                    <p:animEffect filter="fade" transition="in">
                                      <p:cBhvr additive="repl">
                                        <p:cTn id="12" dur="2000"/>
                                        <p:tgtEl>
                                          <p:spTgt spid="32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22"/>
                                        </p:tgtEl>
                                        <p:attrNameLst>
                                          <p:attrName>style.visibility</p:attrName>
                                        </p:attrNameLst>
                                      </p:cBhvr>
                                      <p:to>
                                        <p:strVal val="visible"/>
                                      </p:to>
                                    </p:set>
                                    <p:animEffect filter="fade" transition="in">
                                      <p:cBhvr additive="repl">
                                        <p:cTn id="17" dur="2000"/>
                                        <p:tgtEl>
                                          <p:spTgt spid="32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23"/>
                                        </p:tgtEl>
                                        <p:attrNameLst>
                                          <p:attrName>style.visibility</p:attrName>
                                        </p:attrNameLst>
                                      </p:cBhvr>
                                      <p:to>
                                        <p:strVal val="visible"/>
                                      </p:to>
                                    </p:set>
                                    <p:animEffect filter="fade" transition="in">
                                      <p:cBhvr additive="repl">
                                        <p:cTn id="22" dur="2000"/>
                                        <p:tgtEl>
                                          <p:spTgt spid="3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24"/>
                                        </p:tgtEl>
                                        <p:attrNameLst>
                                          <p:attrName>style.visibility</p:attrName>
                                        </p:attrNameLst>
                                      </p:cBhvr>
                                      <p:to>
                                        <p:strVal val="visible"/>
                                      </p:to>
                                    </p:set>
                                    <p:animEffect filter="fade" transition="in">
                                      <p:cBhvr additive="repl">
                                        <p:cTn id="27"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14240" y="214200"/>
            <a:ext cx="8220240" cy="6034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te                 clov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lack                a charm</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oss               fingers</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od                magpies</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ve                a spid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              horseshoe</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ill                   the number 13</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ear               cat</a:t>
            </a:r>
            <a:endParaRPr b="0" lang="en-US" sz="3200" spc="-1" strike="noStrike">
              <a:solidFill>
                <a:srgbClr val="000000"/>
              </a:solidFill>
              <a:latin typeface="Corbel"/>
            </a:endParaRPr>
          </a:p>
        </p:txBody>
      </p:sp>
      <p:pic>
        <p:nvPicPr>
          <p:cNvPr id="326" name="Picture 2" descr=""/>
          <p:cNvPicPr/>
          <p:nvPr/>
        </p:nvPicPr>
        <p:blipFill>
          <a:blip r:embed="rId1"/>
          <a:stretch/>
        </p:blipFill>
        <p:spPr>
          <a:xfrm>
            <a:off x="5643720" y="0"/>
            <a:ext cx="1428480" cy="1714680"/>
          </a:xfrm>
          <a:prstGeom prst="rect">
            <a:avLst/>
          </a:prstGeom>
          <a:ln w="0">
            <a:noFill/>
          </a:ln>
        </p:spPr>
      </p:pic>
      <p:pic>
        <p:nvPicPr>
          <p:cNvPr id="327" name="Picture 3" descr=""/>
          <p:cNvPicPr/>
          <p:nvPr/>
        </p:nvPicPr>
        <p:blipFill>
          <a:blip r:embed="rId2"/>
          <a:stretch/>
        </p:blipFill>
        <p:spPr>
          <a:xfrm>
            <a:off x="6143760" y="1258920"/>
            <a:ext cx="1428480" cy="1598760"/>
          </a:xfrm>
          <a:prstGeom prst="rect">
            <a:avLst/>
          </a:prstGeom>
          <a:ln w="0">
            <a:noFill/>
          </a:ln>
        </p:spPr>
      </p:pic>
      <p:pic>
        <p:nvPicPr>
          <p:cNvPr id="328" name="Picture 4" descr=""/>
          <p:cNvPicPr/>
          <p:nvPr/>
        </p:nvPicPr>
        <p:blipFill>
          <a:blip r:embed="rId3"/>
          <a:stretch/>
        </p:blipFill>
        <p:spPr>
          <a:xfrm>
            <a:off x="6858000" y="2571840"/>
            <a:ext cx="2055960" cy="1490400"/>
          </a:xfrm>
          <a:prstGeom prst="rect">
            <a:avLst/>
          </a:prstGeom>
          <a:ln w="0">
            <a:noFill/>
          </a:ln>
        </p:spPr>
      </p:pic>
      <p:pic>
        <p:nvPicPr>
          <p:cNvPr id="329" name="Picture 5" descr=""/>
          <p:cNvPicPr/>
          <p:nvPr/>
        </p:nvPicPr>
        <p:blipFill>
          <a:blip r:embed="rId4"/>
          <a:stretch/>
        </p:blipFill>
        <p:spPr>
          <a:xfrm>
            <a:off x="6429240" y="4357800"/>
            <a:ext cx="2232000" cy="1681200"/>
          </a:xfrm>
          <a:prstGeom prst="rect">
            <a:avLst/>
          </a:prstGeom>
          <a:ln w="0">
            <a:noFill/>
          </a:ln>
        </p:spPr>
      </p:pic>
      <p:cxnSp>
        <p:nvCxnSpPr>
          <p:cNvPr id="330" name="Прямая со стрелкой 8"/>
          <p:cNvCxnSpPr/>
          <p:nvPr/>
        </p:nvCxnSpPr>
        <p:spPr>
          <a:xfrm flipV="1">
            <a:off x="5000400" y="499320"/>
            <a:ext cx="572040" cy="72360"/>
          </a:xfrm>
          <a:prstGeom prst="straightConnector1">
            <a:avLst/>
          </a:prstGeom>
          <a:ln w="9360">
            <a:solidFill>
              <a:srgbClr val="3891a7"/>
            </a:solidFill>
            <a:miter/>
            <a:tailEnd len="med" type="arrow" w="med"/>
          </a:ln>
        </p:spPr>
      </p:cxnSp>
      <p:cxnSp>
        <p:nvCxnSpPr>
          <p:cNvPr id="331" name="Прямая со стрелкой 10"/>
          <p:cNvCxnSpPr/>
          <p:nvPr/>
        </p:nvCxnSpPr>
        <p:spPr>
          <a:xfrm flipV="1">
            <a:off x="5429160" y="2071080"/>
            <a:ext cx="643320" cy="286200"/>
          </a:xfrm>
          <a:prstGeom prst="straightConnector1">
            <a:avLst/>
          </a:prstGeom>
          <a:ln w="9360">
            <a:solidFill>
              <a:srgbClr val="3891a7"/>
            </a:solidFill>
            <a:miter/>
            <a:tailEnd len="med" type="arrow" w="med"/>
          </a:ln>
        </p:spPr>
      </p:cxnSp>
      <p:cxnSp>
        <p:nvCxnSpPr>
          <p:cNvPr id="332" name="Прямая со стрелкой 12"/>
          <p:cNvCxnSpPr/>
          <p:nvPr/>
        </p:nvCxnSpPr>
        <p:spPr>
          <a:xfrm>
            <a:off x="5357520" y="2785680"/>
            <a:ext cx="1429560" cy="500760"/>
          </a:xfrm>
          <a:prstGeom prst="straightConnector1">
            <a:avLst/>
          </a:prstGeom>
          <a:ln w="9360">
            <a:solidFill>
              <a:srgbClr val="3891a7"/>
            </a:solidFill>
            <a:miter/>
            <a:tailEnd len="med" type="arrow" w="med"/>
          </a:ln>
        </p:spPr>
      </p:cxnSp>
      <p:cxnSp>
        <p:nvCxnSpPr>
          <p:cNvPr id="333" name="Прямая со стрелкой 14"/>
          <p:cNvCxnSpPr/>
          <p:nvPr/>
        </p:nvCxnSpPr>
        <p:spPr>
          <a:xfrm>
            <a:off x="5785920" y="3429000"/>
            <a:ext cx="1143720" cy="100080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35" name=""/>
          <p:cNvSpPr txBox="1"/>
          <p:nvPr/>
        </p:nvSpPr>
        <p:spPr>
          <a:xfrm>
            <a:off x="213840" y="500040"/>
            <a:ext cx="8720280" cy="5748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touching a wood?</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wearing a charm?</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having a horseshoe over the doo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killing a spid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crossing fingers?</a:t>
            </a:r>
            <a:endParaRPr b="0" lang="en-US" sz="3200" spc="-1" strike="noStrike">
              <a:solidFill>
                <a:srgbClr val="000000"/>
              </a:solidFill>
              <a:latin typeface="Corbel"/>
            </a:endParaRPr>
          </a:p>
        </p:txBody>
      </p:sp>
      <p:pic>
        <p:nvPicPr>
          <p:cNvPr id="336" name="Picture 4" descr=""/>
          <p:cNvPicPr/>
          <p:nvPr/>
        </p:nvPicPr>
        <p:blipFill>
          <a:blip r:embed="rId1"/>
          <a:stretch/>
        </p:blipFill>
        <p:spPr>
          <a:xfrm>
            <a:off x="7088040" y="3429000"/>
            <a:ext cx="2055960" cy="1490760"/>
          </a:xfrm>
          <a:prstGeom prst="rect">
            <a:avLst/>
          </a:prstGeom>
          <a:ln w="0">
            <a:noFill/>
          </a:ln>
        </p:spPr>
      </p:pic>
      <p:pic>
        <p:nvPicPr>
          <p:cNvPr id="337" name="Picture 5" descr=""/>
          <p:cNvPicPr/>
          <p:nvPr/>
        </p:nvPicPr>
        <p:blipFill>
          <a:blip r:embed="rId2"/>
          <a:stretch/>
        </p:blipFill>
        <p:spPr>
          <a:xfrm>
            <a:off x="5072040" y="2143080"/>
            <a:ext cx="22320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285840" y="285480"/>
            <a:ext cx="8648640" cy="5962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 to catch falling leaves!</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why?</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You’ll have a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Watch out! …</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I know. It means 7 year’s bad luck.</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Don’t … a ladder!</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Don’t worry, I will no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Юрий</dc:creator>
  <dc:description/>
  <dc:language>en-US</dc:language>
  <cp:lastModifiedBy>Юрий</cp:lastModifiedBy>
  <dcterms:modified xsi:type="dcterms:W3CDTF">2016-01-17T18:30:56Z</dcterms:modified>
  <cp:revision>9</cp:revision>
  <dc:subject/>
  <dc:title>Two little eyes to look around  Two little ears to hear any sound,  Two little hands to hold them tight,  Two little feet to walk left or right, Two little lips to say: “Beware!” and one teenager to cross the roads with care.</dc:title>
</cp:coreProperties>
</file>