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1697-E894-468E-B939-E0B6CF9DE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9AB6-8FD5-4AEE-A50B-E0F386CB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148D-FA91-47E6-9FFF-544804732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4D49-CBCB-4CBD-B717-E4FD8AE81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6AE1-C002-41DE-AEA8-EA61A0AF9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2706-4129-4CA2-9503-6F9B467E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BAF1-4A62-41B3-B761-4669F56E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4011-2F36-489F-BDEB-F2B4C7B1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E0B8-A4BE-4BCA-BADE-D6933A93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A3AF-289F-4060-A7C8-D4D1AFE6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584B-E492-4CE4-845E-62403A69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E36A-47C3-434D-B6A5-340B8EDA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1FDD-4DA2-4920-8FFD-BC8FA05B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8AB4-73F7-42A3-8DBD-2086FC82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56D2-3F40-4AF8-B71A-0BF4DE32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8D55-00CC-4035-A038-46C7EA00D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3545-AE6F-44F4-A4DA-065E36C5D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E48FAD-89F3-4DF2-81DA-71A452613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802165-3049-4569-80B1-5302FCC7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79C95C-FA15-433D-9299-89EAB930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3321AE-8336-46BE-81D3-EDE3AAC5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E7B8DF-DE7E-4192-A3A5-7CBA0CA6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3610-4E77-48EF-A1DB-CEF0645F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044414-7102-481D-AE9D-C05EF33F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F43213-D30A-43B8-81CB-B90B9A88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4DCAE7-B7D4-4829-9F98-DE69BF37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953228-B4D1-4047-9462-2111D1A7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351887-D980-4213-9762-C6CAEA87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E42E1A-B17C-4005-A448-40B3927FD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73810D-9792-455A-B28E-34CBDE8CA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DE2F4-D816-47F3-AAFB-A46276F91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9F0D4-FDB0-445F-9C72-C3E98400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D068F-5AA3-49F9-9B34-520990F1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875F-912D-4103-9FE9-2AEA5B06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9BC72-0490-4B29-92C9-CBCE0C23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C1805-9610-43F2-AD51-305FFBA7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11684-0199-40C2-ADA5-E29CAF68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1466E-633D-474A-9DB7-B164AF20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F2ECE-9E5C-43DE-B94F-C26667C6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1ED37-C4E8-4C03-B941-3F34F793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F12F9-078F-49F8-A2C3-FD20B07A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B45B0-8BB0-4FE2-87E5-E96A01F35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38E80-94C2-4D7E-8AAF-5340F1829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40FEC4-646C-47D1-A601-0043C7DDA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0C91-09B9-40A4-9262-BCD06484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D2B69C-7FB7-4F91-9AC6-EB03B1BC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F72578-3D3B-47DD-9871-660DF65A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42DAB1-2B5E-47D0-B694-B92D7F19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C5DA66-8B97-474D-BE40-5B6D8F9D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6D2F5B-0FCE-4184-AF3A-D66F7579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D3FEB0-72CE-4E67-8846-830BF2AD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0F2F42-D2BA-4F13-A005-97E50A53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E9CDC3-D422-4E63-96F0-D71B6089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DB7DA2-80C4-4740-8350-70557138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5E52D0-36FE-4FCC-B5BD-1943973C3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BBE0-34AE-4545-8145-040C9D57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C9CCA4-43DB-4537-BCC5-DCB9C0D6E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888770-3B08-47DF-9752-5407B1DA6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BFD945-5DE9-4863-AD82-4D4B00E5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99038D-1B37-41A0-B2E8-EE5BA3A0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44ED22-B05D-47C6-9B7B-AE97A613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BD0CF9-7CDB-4142-B99D-FEEF8BE3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65DE77-9E55-4624-9C6D-48302B05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E772B5-E5F2-4634-AA77-77DFC43B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AA4335-1870-46AF-869B-0A129F25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6369FC-0981-458A-B743-F3B1FA4B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3848-CAC8-4486-AA11-F3FE93F2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C4803D-C45A-47DA-BC41-978B2D4E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26B5E5-ECA9-423E-B784-64932BFBB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D1F89C-3F5E-4B6E-B8CB-4405AD2F5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52E222-DF1B-4843-BBCF-F4111B199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F7F7A7-F1F4-43AA-A519-AFF52A37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6AEEAB-7782-4E82-8586-3E452494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0C22D6-23DE-4073-82EA-F190BBC6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28258F-F58B-49AE-B4E7-7BF966B8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BF892E-9BE1-40B2-BBE2-8747E20D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487C0A-19F4-4CF3-BADA-A18BD170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3076-DF0C-4365-8BE6-CADEF691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9846D5-8F72-4DFE-88C8-7DF73031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6C07E8-50B5-4670-B75F-71CA738D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EF1A79-AC16-4ACF-9732-E296C3B5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9B020F-F7F9-4DBC-A712-21CC2E05F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CA9C8F-2056-470E-8FE8-2919A3338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39F1-F651-415F-B4AD-177C4417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C852-5515-41E0-AC1D-17D30B3D5DA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5201-F5A4-453F-A2EA-D11DCAD79AF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D030-2548-43F3-82EE-863161A12DF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708B-7A4B-4C0B-BBC5-0394F0C6BC2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F991-7059-42C3-ACD7-B56085E73B3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7D13-404A-4F04-ABFE-CC2B511C347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0126-7A28-482C-A878-C937C049A3C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21520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TO PAY                              TO BE ENTITLED TO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AVAILABLE                        TO CLAIM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TO PROVIDE                      TO CONTRIBUTE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356760" y="1356840"/>
            <a:ext cx="857268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It is said that 1 in 10 of some 18 million European workers are jobless. They ______________ unemployment benefits, though it does not mean that they all __________ them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Half of the jobless European s have been ____________ with the dole money for more than a year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Over the last 4 years in the US, 12 million new jobs have become _______________ to American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The US government _______________ to the construction costs of some hospitals. Today they are nearly 7,000 hospitals in the US; many of them __________ some free or low-cost care to those who cannot ______________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Europeans seem to want __________ unemployment benefits rather than _____________ low wage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57200" y="214200"/>
            <a:ext cx="8400960" cy="625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6. Many Germans believe they are ____________ not just ______ a job, but to the right kind of a lob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7. Some people, who are elderly, disabled or live on low incomes sometimes don’t __________ the benefit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o which they _______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8. Some benefits are no longer ___________ to the young and it caused difficulties for those who cannot live at home, but cannot find a job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9. Child benefit is __________ to everybody, although many middle-class people do not actually need financial help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0. People do not try hard to get a job, because they know that in a Welfare State they will be ________________ with financial help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928440"/>
            <a:ext cx="7467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I wonde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I’d like t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I’m interested to know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if / whether / how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where / whe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what / which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285480"/>
            <a:ext cx="7467480" cy="61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She is a pensioner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She was put into the elderly home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She got pension in 1985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My father became disable after a car accident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Pensioners get free medical care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e elderly are available to reduced payment for housing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1-10-11T15:55:55Z</dcterms:modified>
  <cp:revision>5</cp:revision>
  <dc:subject/>
  <dc:title>To pay                              to be entitled to available                        to claim to provide                      to contribute</dc:title>
</cp:coreProperties>
</file>