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179-ED0D-4597-837E-DD9354E2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320-1837-4931-80FB-F083B9A2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C47-307B-4494-A210-897A4EEC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D12-1463-4BE4-9CA3-020A4C10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4B09-BD43-4EBC-92E0-69B6CF59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8FF8-6F6F-43EE-B2A3-7463A1E3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AD9B-A749-48D1-8C65-91E3F726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DC1B-0574-4826-BB66-DE1B369B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5B54-B77E-4CD0-8CE5-87C9964A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BC9C-D07C-469A-813E-74EE862D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9701-55E2-4154-98A3-CC71599A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3AD3-A383-4BDA-9724-ED0F7BAB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B992-CD29-4133-A480-2B178CEA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AEFC-A471-421B-8965-44854EFF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2BB8-FB2A-467D-A47B-52997049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F14B-DF9E-487E-AD0B-ED81BE78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F3CC-9FFB-4B26-8F4A-D6F8FA77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64704-276A-4130-AF66-B1DF9483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04704-216E-46D9-8AC0-7A3C6F9E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E05CD-0CFC-40DC-9931-25BEAE54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BE511-ADA0-48C4-BDAC-AD374BA9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EDA50-B976-49E4-80F3-F1D7DB55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588-59BB-4170-842C-88C3C226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F6722-7E7C-4A91-B419-FA01D633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94626-90C6-464C-84A3-E71666F6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69DEE-E094-4292-97D6-02202B5A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C8371-D15D-4EC8-B736-F26010DB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0EA6B-7C8C-4511-A889-88BD683D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9B1EB-1E77-4726-B30A-DB252CFC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2C0E1-BF9D-491C-8318-FE81C895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2B245-1933-44B9-92F2-FC9DA52A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DB583-826B-4154-A9AB-B97292C7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001BC-4376-482D-B4B7-5E5CD4BB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66B-7F9E-4F6F-B699-B382C6A2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641C6-D905-4D18-81BD-9BF73C76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7173F-6150-49D0-A4E7-22B66F21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FABDD-D03C-460D-BE5F-ABF8DC45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99F71-9E9F-4F9C-AB51-016CC766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AE17E-D440-49AA-B5C1-BF5E2A64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87B58-6CCD-4B9F-98D3-1610C7F4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BC50E-6C7A-4506-AD89-0EC207D3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15F28-3BF2-4B34-A37A-8AE4FDC3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2DA0C-5EC1-4006-AB3C-A8DAA356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3A920-2467-41D4-AE7C-B27C3FEE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578-EE38-401B-BC21-869165CA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91D2B-BE55-42AC-BB36-325309AB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8A1469-FDFA-459F-A452-BFAED8F2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73A25-CAE0-4FC7-8D13-E8CA4F67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827445-2D7E-4FC0-AB9A-511DEF60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356C2-5B33-4B11-B222-395DC37E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5658E-B2F4-467F-AE37-F5FA7922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277F2-4F38-4DA1-98FC-ADFE9763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FAE00-03EE-4737-B203-CAA9D1CE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54772-CB6C-4420-8D5A-50F1F417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E09C1-BA17-40DE-93E1-F69F64A6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013-1ABE-4BFB-AF50-ABFA6CAD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754A0-609B-4371-AC2B-71C456CF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3092ED-2A89-4922-AC48-65B8B4D1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C85DB-6870-4367-ABA1-EFA7DB59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418D10-5CF1-4D4B-87AF-80490A85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97350-FC52-455D-9091-D4402682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F7D5A-8E7F-45C8-B80C-7D0413FE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DEA0A9-FEDC-4A60-B3D1-EA217AE8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BF778-BD89-4296-8542-8CBFCFF2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81C1D-B21F-4295-93FA-CAEFCF66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CD5A6-3533-44C6-A6C9-56EF88CC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F81-D4D3-4BD0-A158-B772AB29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A2C556-0555-4032-B6CB-78578B05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EE4F32-A064-4BE1-A62F-B2D2BC46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92D550-AED4-4727-87A7-7B48ACB8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BC6F75-9CF9-4F8C-8800-280E247C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112725-5C03-47D6-B329-5F8E13B9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FFB5B8-8148-4E16-BA96-AC8EED61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95D007-0061-4671-B0E9-FD8CDCB9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FDDE8D-4C56-4851-B38C-7F94C5AF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15F8FC-8F5C-460F-A046-58D57C95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D7511F-74F5-4BF1-B661-19B59A9F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1C3-F4F9-4B08-84B7-B3AD2E9D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88267-28D3-448E-926C-3B1799A9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50C95-31AB-4BBA-B917-C7A2AF81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95E08-AFA9-48B2-81C7-B185862F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2FB38C-3925-4F46-9E88-35FB8A49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9D7842-1883-41B9-8248-A8DE475D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5DD-0BCD-4F8A-A8FC-EE4AD3C8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384E-8522-47A4-A76D-F07720D89D4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74D2-7175-4B24-BDF8-CDBDA30EA2F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9B76-A95B-4D12-A6AC-6FD362FA88B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49A3-5F39-4040-A3C9-D540A05638F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92D8-9B24-4631-82B4-A44DDB26A1A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4452-A590-44A4-B77F-52BA2301A9E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C6F7-73DE-476D-93CF-FB56AC584FF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152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TO PAY                              TO BE ENTITLED TO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AVAILABLE                        TO CLAIM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TO PROVIDE                      TO CONTRIBUTE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56760" y="1356840"/>
            <a:ext cx="857268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It is said that 1 in 10 of some 18 million European workers are jobless. They ______________ unemployment benefits, though it does not mean that they all __________ them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Half of the jobless European s have been ____________ with the dole money for more than a year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Over the last 4 years in the US, 12 million new jobs have become _______________ to American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he US government _______________ to the construction costs of some hospitals. Today they are nearly 7,000 hospitals in the US; many of them __________ some free or low-cost care to those who cannot ______________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Europeans seem to want __________ unemployment benefits rather than _____________ low wag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214200"/>
            <a:ext cx="840096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6. Many Germans believe they are ____________ not just ______ a job, but to the right kind of a lob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7. Some people, who are elderly, disabled or live on low incomes sometimes don’t __________ the benefit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o which they _______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8. Some benefits are no longer ___________ to the young and it caused difficulties for those who cannot live at home, but cannot find a job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9. Child benefit is __________ to everybody, although many middle-class people do not actually need financial help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0. People do not try hard to get a job, because they know that in a Welfare State they will be ________________ with financial help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 wond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’d like 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’m interested to know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f / whether / how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here / whe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hat / whic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285480"/>
            <a:ext cx="74674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he is a pensione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he was put into the elderly hom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he got pension in 1985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y father became disable after a car accident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ensioners get free medical car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 elderly are available to reduced payment for housing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10-11T15:55:55Z</dcterms:modified>
  <cp:revision>5</cp:revision>
  <dc:subject/>
  <dc:title>To pay                              to be entitled to available                        to claim to provide                      to contribute</dc:title>
</cp:coreProperties>
</file>