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92D-8628-4697-ACC0-44423B80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B78-D793-473D-89DD-7DBE7EE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0D8-9490-4125-9A34-4CF70C99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BFC-DF4C-4792-A8DD-B0751358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A934-9F72-4B45-9670-BBDF7124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E2C6-C467-49CF-9BA4-3AD48CE8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2176-B916-4B56-94F5-4F045CD5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AB57-C5C8-42CF-824A-F3F7A29C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A93-9E16-4649-8E05-F3CBBD7C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82B4-F9FB-4FB2-9C49-E17616ED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02EB-4E25-4324-AC2E-600300D9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7F2-580C-4E5E-AE05-BF3D1C2A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AD5A-2822-47F5-B282-20CD5024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D0BA-99C6-4C15-8DC4-CF0F32D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935-0BE3-45C1-99DA-14AE65A2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1478-9706-433B-B066-D4370655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70B7-42CF-45B5-AE2D-AA600AF8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3A38D-0CE5-4B16-A212-3974B6B5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94EED-FBCA-49CC-8787-B22ECD97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66B58-C9D9-4DBD-8011-2AEE9F80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FAD77-56DD-4FB3-8438-A406C52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6D87B-CA98-4C2D-ABC7-D979B3D1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C40-A303-49AC-9044-FD01E8B9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8756D-0838-4BA8-8C52-160AB65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6073E-AFE4-4AC8-8E7D-3FE36DB4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EAA26-515D-4EE9-A163-23F1C77A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DDD76-A35E-497F-8813-0C049C6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43CF3-2AE0-4B80-A881-15359708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3D2DC-D89D-4D4E-9E31-F18C531B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6F9B3-925A-4D32-824F-9DE8C14C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C653-70C3-48D5-8CC2-FE5CD7FC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DB49-C8C5-4C5A-AD4A-93964127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5389-B148-4880-B715-FE758396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B06-89A0-49CC-AEE2-05295E44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3E7D-CB89-41D7-9B78-384776A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166F-F106-4835-A165-07E871E0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79F2-EDE2-4429-8A77-F1FE225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D8EB-0DE9-4767-AD7C-270B0022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4699-B6B3-4149-B06C-F6DE411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2F195-068A-400D-902B-0AEC06B9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C9D2-78B5-4556-9ED9-156F963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4E8F-E514-4B6D-8EFA-FECA3D31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1C85-20DE-4770-9585-7211044E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C156F-04B0-485D-BC62-CC64BE07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377-11A3-4278-927E-6E68E3CD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26F52-70CE-471E-BD9C-239BAB51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D1C19-5B26-47F7-9D29-03B6E7F2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ECFF3-E34E-40B8-B52B-6DCBA057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3E1B4-1809-4D50-A5F9-747F837E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62DFC-6D33-4AFB-9F2A-8470A29B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C73DC-AB89-41A7-BDD4-7B2262A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A88F8-7ADE-4F58-B213-C78A7F9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5828D-CB97-41DA-A1E7-E149891F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D4BD2-AAF0-41D6-9A55-395134FF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0CE8D-37FB-4A61-B77D-8537206A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B04-BAA9-4C70-A2C4-DC9FC8B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CB096-2B13-480B-A3E5-7DEF4CBE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1C2CD-B7BD-4228-96E4-A6A44AC6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BA733-6878-49E0-80CF-24675830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D213E-1A21-4B3A-8410-1846F5A6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7C925-9337-4E6B-BA4B-2597C365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5FF4D-0189-4D5B-B770-0F18DF35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939BF-60C6-4C0F-A22E-28A0DCFB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B600F-E657-4AA5-98F1-B1536D1C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C584C-BD22-4FE2-8F0A-712BBB7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F26B5-604E-4439-9AEA-B0B8A81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848-75AF-4DCD-94B4-D2363D0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1EE23-A081-4BD7-BFC3-05BF0BC2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70BED-F891-4BFC-A450-8CCBD60F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4FEFD-ECC0-420F-B6F9-CA40D036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487FA-90AC-4F55-8307-8EBE3B8C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8B109-15C3-4BD3-A2F8-3961A87D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B1ADF-DB00-448D-BFD5-36F93A25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581E9-BB50-46BB-89F6-DC225528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5C71D-5A62-4D21-BF2F-4CD43CEA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11996-9E18-4E98-8A4B-480FE93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D0C16-157E-4131-A990-2382C512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BE5-9930-4EF7-888D-56FC9B5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0316D-2F65-4D4F-BDCC-11FBEF0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57042-1E57-4692-B3C8-A6069B0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1507C-80D1-4E89-9245-9B32129E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91528-F2E3-4DE8-8DED-9700573C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B9EE4-4AFC-4240-8547-F0202D02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A48-87FE-45D0-B69A-8B7D08F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5983-58BD-4EF8-93A5-EC0E0B67AB7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2A5B-9EA7-481E-95D8-5B844EB4470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3A77-AD91-4EBA-BB41-ABBAC7033E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76E6-44BE-49A2-B37B-32AF84C31C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B5B3-6BD6-485F-A6D7-A2BCECD059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81CB-3967-4AB8-8A16-1FCD30B3DB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9F65-66CB-4686-9971-A1186E3B42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152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TO PAY                              TO BE ENTITLED TO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AVAILABLE                        TO CLAIM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TO PROVIDE                      TO CONTRIBUTE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56760" y="1356840"/>
            <a:ext cx="857268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t is said that 1 in 10 of some 18 million European workers are jobless. They ______________ unemployment benefits, though it does not mean that they all __________ them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Half of the jobless European s have been ____________ with the dole money for more than a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ver the last 4 years in the US, 12 million new jobs have become _______________ to American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US government _______________ to the construction costs of some hospitals. Today they are nearly 7,000 hospitals in the US; many of them __________ some free or low-cost care to those who cannot ______________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uropeans seem to want __________ unemployment benefits rather than _____________ low wag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214200"/>
            <a:ext cx="840096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. Many Germans believe they are ____________ not just ______ a job, but to the right kind of a lob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7. Some people, who are elderly, disabled or live on low incomes sometimes don’t __________ the benefi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o which they _______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8. Some benefits are no longer ___________ to the young and it caused difficulties for those who cannot live at home, but cannot find a job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9. Child benefit is __________ to everybody, although many middle-class people do not actually need financial help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0. People do not try hard to get a job, because they know that in a Welfare State they will be ________________ with financial help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 wond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’d like 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’m interested to know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/ whether / ho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re / wh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at / whic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is a pensione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was put into the elderly hom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got pension in 1985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y father became disable after a car acciden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ensioners get free medical car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elderly are available to reduced payment for housing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11T15:55:55Z</dcterms:modified>
  <cp:revision>5</cp:revision>
  <dc:subject/>
  <dc:title>To pay                              to be entitled to available                        to claim to provide                      to contribute</dc:title>
</cp:coreProperties>
</file>