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51F3-DF7C-4A4F-8BF1-2ACC5835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C916-E559-4161-8FAC-55B5216A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ABC7-C287-483D-B6CD-4C7E48C2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21E8-99C1-40DA-B2B3-421E4E6A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66E0-600B-4974-B8D9-32FA06E52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01F2-4FF7-4637-989A-34826464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C287-56CB-4A33-834A-2AB95119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D50E-FE05-4CFC-A043-DFBEC983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03D0-C5AB-41C7-8029-09F2F62F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7B62-80EC-4364-B5F5-C54326F8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0155-6CB5-4E0B-A1A9-5486A39D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B0A6-631F-41E3-9AC6-BE857E8A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EB65-336C-4FB7-B3F7-E62BD23D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F310-EC71-4FC7-893E-E953B735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6FFC-BC7C-4502-A65D-941DB32D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3CF7-E16E-45F9-B0B5-583DEBC6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9786-E5AC-45FC-BA0D-7115A88C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F9F8FA-7252-4930-BC60-ED7E2B35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30528B-D6A3-413F-A16B-63777765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C02CCE-62D1-41F9-A72E-5C58D3FC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19B08F-5C85-4D1E-A194-E71A5E29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7D304B-8080-4387-A6F1-AEDB7D1A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BC48-1A63-4501-A27F-AF048BAC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C96A85-EC51-4382-B99C-B3702C77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948C1F-1033-4358-8B1F-F5A7E373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C30134-2332-4330-A261-372BBBC0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54DB5E-F5D0-4F8C-BAFE-EAD1C20F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CD7FC-9170-4D6F-8073-E842248F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929E45-75C6-4D36-B347-D06AA5D4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98E42-09DA-4747-9ACC-1579B901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DB3CE-AAF2-449B-8D73-C914745A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DCB85-9E1C-4FFD-A829-DEBA5F65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DF372-CF82-4B0C-A832-4A5FF103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E181-D4E6-4222-8068-EE6E3FAE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E2613-09AE-4D81-BA8C-2B3D37D0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154AE-3C47-4EA3-B42C-A8E4D27A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C4034-1354-4874-81E0-7810F6A5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389F5-FE89-42DF-9A27-49227DFE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D7BB8-309C-4F03-AF3B-39F13B17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E1129-C74D-4BBD-A9C7-B8A1A5D7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F5A61-EB34-4CA3-AAEF-9C11E2F8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41630-F7F9-4A56-AB36-525ECCC2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79FCC-91F5-43D7-825B-E1CF6883D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95730E-12CA-4B79-AAB2-127E40CC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759E-18DA-4B25-AE18-6E64CB07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33CFAC-C038-4A0B-9721-D9113F24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7CD43A-0BD8-4D84-8A61-A92B52D2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BC90E7-4A1A-4365-8156-8B605780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726244-10B8-40A2-AF78-C128310E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8C02E0-1F81-4329-9051-EB29C39D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416885-0513-474F-AE24-C85D2D5C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D63F45-F3C2-4753-8007-30156E66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F17696-D5DD-471E-94AF-942F91AB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B0C17E-F171-4C44-B210-B2C07514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54D205-C52F-494F-84CE-AA709B36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DAE0-CB87-4DD3-B283-FB93CD48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B8F7CE-30BB-4936-BAA3-1EDD01FD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0F07B5-F8C1-4D52-8338-A9E44118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B3E44A-0356-4EA7-A3EC-1B1B842F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E368CB-D0D4-4DED-B96C-1B0C7242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EC50F0-E055-4BED-9E60-92BB8FFE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A492FF-4E87-405C-B2CE-AEA98362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E60508-74CE-4732-B545-76B7A188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E815F7-D669-49BB-8EE6-D4A8857E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F4DD0A-A62D-41A3-A73C-C613040D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9B7820-3247-4815-AA55-77674188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5A7C-EC18-42E8-899B-5860442F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9C2EBE-A3FB-45C5-832D-81DFC863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08292B-7F77-4FCB-BEC2-FB9E9118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1795A8-310D-4C79-9B9D-47FB814C7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01FFFF-AF73-4179-9813-2D65D105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AC77AF-2E4F-4A7D-A5AE-1938114E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77F04F-1BB6-4C5D-BBA5-2DB448B4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530069-4433-4950-B515-38B6832B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8B1B93-016C-4B44-ACE9-7F90E6AF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EA074B-794C-479F-B004-C085D1D3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B66CBB-9C33-4E21-AE50-A0558373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4FF1-91B5-47A6-A5B1-C7F1DC6B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499323-48A7-4AE4-8D29-0FBF6200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0CA2A5-BD73-4AD3-8266-B47C45F0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1B1C90-5D77-4BE9-88F8-955302EA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4D539D-E03E-44E9-A5F7-9A826BBA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6BA50D-6CF5-49D2-A4FD-C6B70A0A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5721-37B9-4162-BD4A-45840FC4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2C49-9345-4C46-893B-55B9FE79839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36F5-94CF-4782-B62A-4DB65DE0E6D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BF08-4875-4D88-A0A1-73AF4BB0E21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7894-0896-4140-BA94-CBA1A7E3EBB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E5A6-1050-481E-B00A-FD2050C9D2E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0FF1-D727-4854-99A4-DDFE47CAF68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2151-6AE3-4202-BC52-48C7F111C12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1285560"/>
            <a:ext cx="61722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TO BE GOING TO – </a:t>
            </a: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СОБИРАТЬСЯ ЧТО-ТО ДЕЛАТЬ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LAY THE COMPUT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C:\Program Files\Microsoft Office\MEDIA\CAGCAT10\j0195384.wmf"/>
          <p:cNvPicPr/>
          <p:nvPr/>
        </p:nvPicPr>
        <p:blipFill>
          <a:blip r:embed="rId1"/>
          <a:stretch/>
        </p:blipFill>
        <p:spPr>
          <a:xfrm>
            <a:off x="2571840" y="1387440"/>
            <a:ext cx="395928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RITE A LETT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2057400" y="1857240"/>
            <a:ext cx="394344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O HOME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1209600" y="1928880"/>
            <a:ext cx="521964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OK DIN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2243160" y="2246400"/>
            <a:ext cx="432900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EAR UNIFOR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2214720" y="1619280"/>
            <a:ext cx="346536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Schoolbook"/>
              </a:rPr>
              <a:t>IF I …, I WOULD…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e a letter, have a pen frie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ke hands, be a bo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atch TV, do homewor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et 5, learn math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ake photos, go abro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o to the cinema, have a ticke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o shopping, have mone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et grandma, kiss on both cheek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0-12-10T06:26:05Z</dcterms:modified>
  <cp:revision>2</cp:revision>
  <dc:subject/>
  <dc:title>To be going to – собираться что-то делать</dc:title>
</cp:coreProperties>
</file>