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B73-B27B-41B7-8FE4-B6A96511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1B8-6386-47AA-BBE0-0A0BB0A5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BCC-F38B-4731-B7EA-FB5D021C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AF3-811E-482A-B214-98A5ED7E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E48B-8EB9-48E7-93E6-A09DC77B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5C0E-EEBC-4D67-90C4-11A41178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EC26-D712-4440-B8EA-C425ED54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00B8-1D98-4F9C-B9D8-843C5F04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CC6C-3461-4626-9B1C-055B0C7F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3DD3-6A82-4240-B3C5-C6822A55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A375-4D24-4B3D-9D21-4041BB9E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0E5-BAAF-4CE4-AA0D-DF59EE0D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CE2A-559A-4393-89F8-250BCD0D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70D0-752D-43E1-9B20-723A7098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FD53-7326-4D52-9C7B-117F68C9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FA4C-33AE-4621-8CB9-16670F8B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6C6C-095A-484E-B8DF-897B9E44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246D3-2AC8-4740-AF43-67FE855F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AFFB3-184A-4717-AF10-AF714410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5F6D6-D24F-4F1B-93E2-306A4EC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71FD9-C602-4F86-8391-3502ADCF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E4009-0807-4E2E-84EA-4C2F9B55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07F-A51B-4AB8-8B71-64139ABB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A0375-867B-489F-826D-87656749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D75D7-2EDD-4D6B-A9F1-D4E0185D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F044C-BD0C-4F0D-BE96-CCBA33B3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87E02-3EE2-430E-B33D-3BE10D03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4DB56-7A74-4FDB-956E-375FC204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F52EB-36C1-4300-9CA1-4B79D8B4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E60BA-BDCD-4A5B-B3C1-BA2EECDA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C709-2071-413C-8B2B-1E34BE4F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FFEE0-46F5-4ED1-B5BC-1C9B4289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1AA9-C7FA-4AE4-BB26-DC329493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49D-33EA-4C8D-B15C-2AF8AA8B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93C4-E824-4F6C-A110-6969A086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5FADE-FC88-4D3E-AED4-153A2E18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6DA36-4B8F-43D3-9A74-7EEB1512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185E0-AA1E-41C2-AD7F-3D93AABE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C5EFA-B0F1-4A48-86F5-BABFDD4A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9543-62E2-4C38-9F32-E67B3EFA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7DCED-8A73-4691-86E3-CB6F4F5D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A5311-9E9A-470A-A974-E9CCCBAA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DC2DE-F6D9-4BE4-88A4-D634D232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8084C-0EB5-4A3B-A8B1-517FE05C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A15-1A16-45F2-BA5F-20AABB57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A574B-43A5-4F6E-9E5E-FADFCD36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D7207-4F2C-4BDF-BC04-25204F1A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15858-A502-4850-8E62-A6333E64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C19E2-9881-4C73-A70F-D3F13213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EFEC0-81A2-4D78-99FD-E0F1530E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1B367-87E2-4E0F-9F82-A115EB57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8985D-33B6-4C83-AD43-02697257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0187F-4A7C-461C-9237-AFAA5316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9E468-995D-4078-A7A0-43829225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D1CA0-851F-4CAE-930D-E11724A4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C23-919F-4B71-AF59-AA743096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3C224-80EE-4B91-A968-08BCA7E4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52B94-94A5-41B0-BDF9-6AE8B84A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08604-A4F6-4265-9699-551FD498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E5793-C955-40AB-B9E7-CAE48732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439A7B-FD79-44F0-841D-505E1AE2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1A3C8-1235-4D37-8A63-A58B8A6F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B81DE-46CB-43FF-9326-68ED88EA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6BAFF-B559-4C9C-9576-37A2F686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DB134-5A66-43CC-83C9-5224495E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19886-3A4F-43D2-BA64-4B6F36D2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4FD-C599-4095-8729-B6A0B594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9BE29-4787-4E61-AE21-B86D9180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4BB063-06FE-4782-B538-549DC14B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386B8-79E9-4193-B705-9749C968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637EC-9D6B-4B34-AE10-6BD1B93F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1CA40-7722-4E29-9574-4AD33FA4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AB1DF3-FE32-4704-A8F2-66C9079D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DA96D-A145-4830-96FB-A6907696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BDF51-73FB-41ED-8ABF-C3D8E366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E2E68-F2C5-4F53-B6F6-C117700E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2D848-0489-4E31-A1AC-D9C7DD70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55D-FB04-4292-943C-C0795FB2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00CE6-C451-44FD-89A8-8B72496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5EE60F-6138-49CE-9B75-8A5EF5DC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B69DE-0905-42DE-901A-76DF4A5C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DB0E7-2CC7-41DC-AB15-EA1112F5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6C708-767C-445B-916B-2A6B1D64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197-7CFE-4724-AEAC-3398BB7F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D0D6-2892-4811-B3CD-01C57C24485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09DB-64E5-4805-94C8-1E9CE9E7DE1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2143-6AD8-42A4-A888-4BB4AACB73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FA8B-930B-4A9F-8B5F-0606B5E5D6D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4CCA-1AEF-4DD8-AC94-E9B6F20C66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F848-B7AE-41F3-8350-2B5BD4D07B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8297-D373-4AC8-B52A-6876F21D22C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285560"/>
            <a:ext cx="61722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O BE GOING TO – 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ОБИРАТЬСЯ ЧТО-ТО ДЕЛАТЬ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LAY THE COMPUT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2571840" y="1387440"/>
            <a:ext cx="39592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RITE A LETT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057400" y="1857240"/>
            <a:ext cx="394344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209600" y="1928880"/>
            <a:ext cx="52196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OK DIN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2243160" y="2246400"/>
            <a:ext cx="43290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EAR UNIFOR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2214720" y="1619280"/>
            <a:ext cx="34653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IF I …, I WOULD…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 a letter, have a pen fri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ke hands, be a bo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tch TV, do home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t 5, learn mat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e photos, go abro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to the cinema, have a tick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shopping, have mone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et grandma, kiss on both chee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2-10T06:26:05Z</dcterms:modified>
  <cp:revision>2</cp:revision>
  <dc:subject/>
  <dc:title>To be going to – собираться что-то делать</dc:title>
</cp:coreProperties>
</file>