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73B-E225-4034-8553-25CDA750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AAD-49E7-4DB2-B824-A0749768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0A1-AA77-4D5B-9295-EDB286BA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66D-5290-4003-972A-FB91E3EE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24E5-7846-49A6-BE24-2FCF848D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4609-86FD-4639-B33A-11DB3C85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4C0A-FE88-4A3D-B1D1-34D6F945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1A06-70AD-4A38-8984-F4E354C5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83B7-3DA5-4511-BED0-58C2B7AC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8804-CA45-4B3B-8815-E6052376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737A-B6EB-46BB-A883-4D46E349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C46-217A-4EED-B6DA-5ADB06DA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4184-C1F3-4FB1-B8BD-0B6D028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89DC-DA30-428E-AA98-112607D7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D1F9-B070-4CDA-971F-81CBFD47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BBCE-3F6A-405E-A107-1A46729A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2CC9-58E8-419D-865C-AD9A9AD9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A0AAD-59A6-48BE-A93F-AB6B62A1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A0B36-1D35-4C50-86E7-63C7C8ED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2E1DD-B77A-4D5A-9535-4FC5875E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D817D-29CD-4BD7-BA90-4A868519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537DA-126C-45FE-8ED8-9EC8D06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FDC-5E4D-40E8-A301-6305EC87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6E036-E93B-4C64-88D3-B35AE842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BCDD0-7BB6-4742-BF41-35C043E3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3F215-6157-4937-B224-A68CDEA3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96199-0869-4AF1-BFC7-E9A8996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7226A-0ADA-4D61-B0E9-5BB4DE18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22275-9E4A-41CF-ADC0-E7FA8900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57F3E-599C-4964-B1EE-3146E27D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D0D48-71F5-41A5-A4A4-4712BAE1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809BF-0E7A-4EB9-9F94-8C254F23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EF6B3-9DB9-411A-BE7C-EE4A39BA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195-FE2D-4F82-8A11-8FF8B6F4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B3DEE-11BE-4F61-BEF5-64BA4E68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BCCE8-E317-463D-B04F-E28FE5B8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B41E-4D90-4FDE-9723-ADEEE5A9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A8C8-27D3-4226-A1F0-BFDD8A4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0D54-DEE4-490E-8101-72B83CC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E9A8-6F21-4896-87B4-0D36187A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BAB4-95EB-4348-B375-AA5B8B4A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6E44D-57BC-4315-B401-3768E950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2139-1554-46B4-8EDA-73DB31FA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99478-D964-4D15-AB7F-C1D2877D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8B8-A24F-4646-B65D-F5FC2F40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592F4-1EB9-448C-8BC4-DA6601C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29F58-6369-49B1-9D6A-BB737279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B494D-46F5-494D-B7A8-DA26C226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0B22A-38CD-42E2-ADDC-C449024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E85EB-8B9C-41DC-BCE8-3D1B906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017E4-009C-44CB-8642-F1AAB8C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4F3C5-FC12-42D0-AF27-B8DDE18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F930A-7A60-41B2-A13B-F688F171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1ED38-08B8-4EA5-9212-EBEAF47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10B0E-E226-45EC-8E37-94C93D2D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526-57D4-4587-84B0-8ADD38A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9AAA0-D843-49C2-8347-BE3DAA83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3F220-A209-4D83-AE8A-2959B659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E6BD5-BED0-45B4-AB6A-46B66E75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139D0-1F74-456F-B726-2830B768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A8197-5AE3-4204-A11A-37F659CF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A49A8-E495-44E8-8F70-4A0EF8A6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0C531-51FA-48BF-838F-28A6330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46F6F-9766-4849-81DB-4F8BFF9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75ADC-C10C-4B47-AA1E-B306E841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D57E2-C083-4821-8750-EBB38D56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209-CD0A-4979-AD7A-2B076722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45497-47B2-4A7F-B589-7FA18040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45E23-97FF-429E-8499-28F8835C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2B558-4E93-49C0-8672-3C63D0CC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D820D-1412-41F8-98B0-750D93D5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01E8A-B92C-40FB-9DA5-4953821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95DA1-26C6-416F-BF0D-C2CADCE4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29690-8FD7-4285-9185-0B994AFB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C303E-5455-4A30-ACE3-3A461D6A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C9B54-1C2D-44FD-B6B1-790D557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73326-EB18-47D0-8631-E507E91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9F9-9A7F-44DD-8AA0-B035DDC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7878E2-F344-4A0B-9526-CD0A4D8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07C72-198D-443C-A93B-6715564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373E5-4C58-4B41-B269-394BDDFF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C380F-3D3E-4226-9954-C4BE9C27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D5398-89E1-4DC0-80F8-CDEC0B50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07C-3A2E-4F32-8B3E-D3884FD9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0C7B-F5BA-4E90-8A07-59F851C9F1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97DE-98D4-4883-985E-F2EDFA5F89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4B4B-0B92-4561-BDE2-BAC0A621F7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7908-540F-4B84-9CB7-9E58FFA55A1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80DC-2E63-4148-BF2A-BCE451895B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33A3-9520-4169-9B70-2E238D88ABC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7240-AC0B-44D2-9714-312B66AB41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285560"/>
            <a:ext cx="61722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O BE GOING TO –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ОБИРАТЬСЯ ЧТО-ТО ДЕЛАТЬ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LAY THE COMPU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2571840" y="1387440"/>
            <a:ext cx="39592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RITE A LET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057400" y="1857240"/>
            <a:ext cx="394344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209600" y="1928880"/>
            <a:ext cx="52196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OK DIN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2243160" y="2246400"/>
            <a:ext cx="43290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EAR UNIFOR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2214720" y="1619280"/>
            <a:ext cx="34653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IF I …, I WOULD…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 a letter, have a pen fri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ke hands, be a bo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tch TV, do home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 5, learn mat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photos, go abro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to the cinema, have a tick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shopping, have mone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et grandma, kiss on both chee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2-10T06:26:05Z</dcterms:modified>
  <cp:revision>2</cp:revision>
  <dc:subject/>
  <dc:title>To be going to – собираться что-то делать</dc:title>
</cp:coreProperties>
</file>