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396B-3F13-4CF8-8496-3AF4EEA57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28A2-AD97-4EC0-BE7B-B6767400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A529-2200-49AF-AC82-784F7E83D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6772-6534-4DA5-83B1-93E0FCE91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EECBA-2A8A-41FD-AA48-2626A8DDA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C78EB3-097C-4E46-BC3D-1910FB79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11DF5-708F-4FA7-BF3E-5439E14B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DCC2B-23C1-40F6-AFE5-B0D6E6A5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7900C-9817-4F2A-BE53-4F9A9E78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323CE-5B38-451E-8A09-897470BB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70BCC-8033-4818-B2F4-32B6E8B6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FEF9-B0D2-416C-89D3-3732C174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376B1-363C-49A9-BBDC-B60182E3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B1B61-F13B-44CE-9742-30D3823E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F8A84-E8FF-4E32-89ED-075EC184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99997-6EC8-4E95-9CD8-C6AF46ABD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81A9E-98D7-4773-9BB6-7A47933A2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274BA-C6F8-4B5C-9BE0-1ED1D1376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B778A-1FE9-4EBE-8232-8A20DBF6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655DE-66B7-4FCC-99CC-3A969516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EABB1-0169-4445-AE41-804B3155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15751-041E-45F7-AF0A-0CD2F6E4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25AC-AEFF-4655-90B4-8140C28F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02176-C4A5-4D24-ABD8-8C3F4BD0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22566-F5E8-4139-A0AD-0CECC4E4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9B9F5-67BB-4691-AF4B-B07B105B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FE2F8-C361-4086-8447-29196D33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9622B-9A79-4686-B3A9-5FE7945E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6EE7B-BADD-46C1-A809-2A986957C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8181F-B568-4237-A80C-181403A1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F924B7-D9E0-4A09-B9E0-C7EAEA276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D34FD9-6E27-4B3F-9BA1-460D660F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A3C8FD-18AD-4403-B441-9B8C02FA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CF52-902F-4CE5-9B46-3BCBB8B8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82EB2D-F8A6-4279-A3C9-6CE6F1DB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BD5F93-08AC-4261-AA9B-7C7934A2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4789C0-28FB-4FA4-A69A-161187D6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6263FD-AEB7-4E38-A90C-62C23F1D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8D7E13-C1B0-48CE-A601-676CF984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9BE37E-964B-4B13-8706-E9B0335B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FD6504-0C2F-4E27-AD1C-F8B23E5A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DF0E4A-A23F-4E8A-B3F1-1C9C90929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BF223A-993D-4D75-9DD4-7A05C4EC0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9A95-ED5E-4AB4-B423-502E9728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7965-9CBB-4CA3-9517-6F961E6E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A37B-3BFC-4680-A117-14096EC8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4B8B-BFB0-4BD6-A9C7-2489273D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1C0F-88A9-4429-93CC-F55F4A8D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91A4-9C69-489B-89E3-F6F26CD4814E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9979-320C-4AFB-84F6-EF031D96C0BF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28AA-8D89-4A73-85BA-A0D39301206B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78BF-3005-462D-BC0D-1B1E77B7AF4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nstantia"/>
              </a:rPr>
              <a:t>What can we do to save the Earth?</a:t>
            </a:r>
            <a:endParaRPr b="0" lang="en-US" sz="8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84000" y="2492280"/>
            <a:ext cx="78483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73" name="Заголовок 1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772400" cy="201780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3" descr="Image0020.JPG"/>
          <p:cNvPicPr/>
          <p:nvPr/>
        </p:nvPicPr>
        <p:blipFill>
          <a:blip r:embed="rId2"/>
          <a:stretch/>
        </p:blipFill>
        <p:spPr>
          <a:xfrm>
            <a:off x="873000" y="2205000"/>
            <a:ext cx="765972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1268280"/>
            <a:ext cx="850752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What are the bins used for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Do you have such bins in your school / yard /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street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What does your family do with the rubbish?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Who takes the rubbish out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What products are recycled in Russia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6" name="Заголовок 1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Содержимое 3" descr="Image0021.JPG"/>
          <p:cNvPicPr/>
          <p:nvPr/>
        </p:nvPicPr>
        <p:blipFill>
          <a:blip r:embed="rId1"/>
          <a:stretch/>
        </p:blipFill>
        <p:spPr>
          <a:xfrm>
            <a:off x="1403280" y="1484280"/>
            <a:ext cx="6913800" cy="4824360"/>
          </a:xfrm>
          <a:prstGeom prst="rect">
            <a:avLst/>
          </a:prstGeom>
          <a:ln w="0">
            <a:noFill/>
          </a:ln>
        </p:spPr>
      </p:pic>
      <p:pic>
        <p:nvPicPr>
          <p:cNvPr id="178" name="Заголовок 1" descr=""/>
          <p:cNvPicPr/>
          <p:nvPr/>
        </p:nvPicPr>
        <p:blipFill>
          <a:blip r:embed="rId2"/>
          <a:stretch/>
        </p:blipFill>
        <p:spPr>
          <a:xfrm>
            <a:off x="262080" y="152280"/>
            <a:ext cx="84247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Содержимое 3" descr="12_1.jpg"/>
          <p:cNvPicPr/>
          <p:nvPr/>
        </p:nvPicPr>
        <p:blipFill>
          <a:blip r:embed="rId1"/>
          <a:stretch/>
        </p:blipFill>
        <p:spPr>
          <a:xfrm>
            <a:off x="395280" y="1628640"/>
            <a:ext cx="8064360" cy="4824720"/>
          </a:xfrm>
          <a:prstGeom prst="rect">
            <a:avLst/>
          </a:prstGeom>
          <a:ln w="0">
            <a:noFill/>
          </a:ln>
        </p:spPr>
      </p:pic>
      <p:pic>
        <p:nvPicPr>
          <p:cNvPr id="180" name="Заголовок 1" descr=""/>
          <p:cNvPicPr/>
          <p:nvPr/>
        </p:nvPicPr>
        <p:blipFill>
          <a:blip r:embed="rId2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Содержимое 3" descr="IMG_20130305_140743.jpg"/>
          <p:cNvPicPr/>
          <p:nvPr/>
        </p:nvPicPr>
        <p:blipFill>
          <a:blip r:embed="rId1"/>
          <a:stretch/>
        </p:blipFill>
        <p:spPr>
          <a:xfrm>
            <a:off x="1042920" y="1600200"/>
            <a:ext cx="6842160" cy="4525920"/>
          </a:xfrm>
          <a:prstGeom prst="rect">
            <a:avLst/>
          </a:prstGeom>
          <a:ln w="0">
            <a:noFill/>
          </a:ln>
        </p:spPr>
      </p:pic>
      <p:pic>
        <p:nvPicPr>
          <p:cNvPr id="182" name="Заголовок 1" descr=""/>
          <p:cNvPicPr/>
          <p:nvPr/>
        </p:nvPicPr>
        <p:blipFill>
          <a:blip r:embed="rId2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Содержимое 3" descr="p_39563_1_gallerybig.jpg"/>
          <p:cNvPicPr/>
          <p:nvPr/>
        </p:nvPicPr>
        <p:blipFill>
          <a:blip r:embed="rId1"/>
          <a:stretch/>
        </p:blipFill>
        <p:spPr>
          <a:xfrm>
            <a:off x="1571760" y="1814400"/>
            <a:ext cx="6000480" cy="3990960"/>
          </a:xfrm>
          <a:prstGeom prst="rect">
            <a:avLst/>
          </a:prstGeom>
          <a:ln w="0">
            <a:noFill/>
          </a:ln>
        </p:spPr>
      </p:pic>
      <p:pic>
        <p:nvPicPr>
          <p:cNvPr id="184" name="Заголовок 1" descr=""/>
          <p:cNvPicPr/>
          <p:nvPr/>
        </p:nvPicPr>
        <p:blipFill>
          <a:blip r:embed="rId2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1.People throw away paper, glasses, cans, bottles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2. People can’t recycle paper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3. Recycling is expensive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4. Rubbish can hurt or kill domestic and farm animals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5.People don’t drop any litter in the streets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6. Our environment isn’t clean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9:00:38Z</dcterms:created>
  <dc:creator>Кнопа423</dc:creator>
  <dc:description/>
  <dc:language>en-US</dc:language>
  <cp:lastModifiedBy>Юрий</cp:lastModifiedBy>
  <dcterms:modified xsi:type="dcterms:W3CDTF">2015-12-08T16:26:54Z</dcterms:modified>
  <cp:revision>8</cp:revision>
  <dc:subject/>
  <dc:title>Why throw away? Why not recycle?</dc:title>
</cp:coreProperties>
</file>