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12C-856B-41DB-A4F5-4379318C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DBA8-BABD-4A16-BF58-14F0D393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33A5-9773-4910-8EBA-0CAF1D8E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53D3-76BA-48B4-9740-2DFCAFE4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3DC3A-F3BC-49FB-ADF1-AB143B30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1B835-5744-40F6-AB13-531A2D9E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99CA2-8692-443C-A45E-AB7551F0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706C5-DC1D-4CC5-8CD6-44CB5216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9964A-A38F-4DF7-B17C-347B4E3C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BD5B6-EE2A-4B91-8C48-117794BC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058BA-6FFF-48F2-B118-4C33E100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31E-D7FC-4FC0-964A-A1F699F4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F2F07-45FF-404C-9D01-6EE47DEC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811A9-B64D-40D6-8353-9ADC2F25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20807-C806-494C-B373-C570D937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F2062-C49C-4196-BEF9-F364D89E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0985C-E919-4E28-941D-DE070B6F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568C7-B3DC-4876-A399-3DFA301F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B42A9-84C4-4481-ABBF-A7A64C04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BC40D-934D-4EE3-A9C1-030293E4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F0DD9-3792-4103-A435-9668B5DD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4B9DC-8C9D-43F9-8112-41395DD9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2DA9-7A78-41B5-93E8-1484CF41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4AB5F-A764-4EBE-8C35-6DFDB212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78430-6F0B-4B1C-A1D7-5EEC743E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B9D6E-29E8-4D46-8337-61847E76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C854A-EC65-4AF4-A4E9-58F14273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F8A52-0339-49DA-B65B-3BD267B6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62212-3079-4502-BBBA-CB887100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F53E2-ECDC-4EC4-BC58-233DF5C6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A8966B-BADA-4717-9BC6-7C13978D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06709B-0ECE-4821-8D74-98CECCED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4C0EE9-D6C7-4A28-AA9E-4E0CC833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6CD-5871-484A-B486-5A86914B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B70042-83CF-44CA-AA9E-AE8A5176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07AAB3-392B-4C8F-82D8-14AF45DB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4345E5-2541-405C-88BF-95C9C1F2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2CFD1C-5DF5-463C-B836-56E4D82B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FE5A48-3C15-414E-B1EE-F3A60E6C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BB2868-2DDB-44AC-BC1C-99410DCE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86F1E4-82D6-4F71-96DD-F8368A4A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FC6D96-42DC-476A-8C31-E98A4D20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F6B701-20DC-40CF-84D3-0C12620A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79B6-07FD-4262-8561-6BFD304E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779-279A-4A23-80DB-A3D87F46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11E-48EE-4270-9BD4-70A80A3B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E6F-F5E8-4A22-90CD-D3DD50CA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BA42-EA8B-4269-933A-3BB465B5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B9AA-D01E-472B-B990-F701C471A0E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5C07-EA70-4870-AFBE-326DDD1C25C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ADFD-CE11-464F-9845-B51A954DDFB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0E16-D5A8-4E63-81A5-B4C984635BF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nstantia"/>
              </a:rPr>
              <a:t>What can we do to save the Earth?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4000" y="2492280"/>
            <a:ext cx="78483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72400" cy="20178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3" descr="Image0020.JPG"/>
          <p:cNvPicPr/>
          <p:nvPr/>
        </p:nvPicPr>
        <p:blipFill>
          <a:blip r:embed="rId2"/>
          <a:stretch/>
        </p:blipFill>
        <p:spPr>
          <a:xfrm>
            <a:off x="873000" y="2205000"/>
            <a:ext cx="76597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268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What are the bins used for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Do you have such bins in your school / yard /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street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What does your family do with the rubbish?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Who takes the rubbish out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What products are recycled in Russia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Содержимое 3" descr="Image0021.JPG"/>
          <p:cNvPicPr/>
          <p:nvPr/>
        </p:nvPicPr>
        <p:blipFill>
          <a:blip r:embed="rId1"/>
          <a:stretch/>
        </p:blipFill>
        <p:spPr>
          <a:xfrm>
            <a:off x="1403280" y="1484280"/>
            <a:ext cx="6913800" cy="4824360"/>
          </a:xfrm>
          <a:prstGeom prst="rect">
            <a:avLst/>
          </a:prstGeom>
          <a:ln w="0">
            <a:noFill/>
          </a:ln>
        </p:spPr>
      </p:pic>
      <p:pic>
        <p:nvPicPr>
          <p:cNvPr id="178" name="Заголовок 1" descr=""/>
          <p:cNvPicPr/>
          <p:nvPr/>
        </p:nvPicPr>
        <p:blipFill>
          <a:blip r:embed="rId2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Содержимое 3" descr="12_1.jpg"/>
          <p:cNvPicPr/>
          <p:nvPr/>
        </p:nvPicPr>
        <p:blipFill>
          <a:blip r:embed="rId1"/>
          <a:stretch/>
        </p:blipFill>
        <p:spPr>
          <a:xfrm>
            <a:off x="395280" y="1628640"/>
            <a:ext cx="8064360" cy="4824720"/>
          </a:xfrm>
          <a:prstGeom prst="rect">
            <a:avLst/>
          </a:prstGeom>
          <a:ln w="0">
            <a:noFill/>
          </a:ln>
        </p:spPr>
      </p:pic>
      <p:pic>
        <p:nvPicPr>
          <p:cNvPr id="180" name="Заголовок 1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Содержимое 3" descr="IMG_20130305_140743.jpg"/>
          <p:cNvPicPr/>
          <p:nvPr/>
        </p:nvPicPr>
        <p:blipFill>
          <a:blip r:embed="rId1"/>
          <a:stretch/>
        </p:blipFill>
        <p:spPr>
          <a:xfrm>
            <a:off x="1042920" y="1600200"/>
            <a:ext cx="6842160" cy="4525920"/>
          </a:xfrm>
          <a:prstGeom prst="rect">
            <a:avLst/>
          </a:prstGeom>
          <a:ln w="0">
            <a:noFill/>
          </a:ln>
        </p:spPr>
      </p:pic>
      <p:pic>
        <p:nvPicPr>
          <p:cNvPr id="182" name="Заголовок 1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Содержимое 3" descr="p_39563_1_gallerybig.jpg"/>
          <p:cNvPicPr/>
          <p:nvPr/>
        </p:nvPicPr>
        <p:blipFill>
          <a:blip r:embed="rId1"/>
          <a:stretch/>
        </p:blipFill>
        <p:spPr>
          <a:xfrm>
            <a:off x="1571760" y="1814400"/>
            <a:ext cx="6000480" cy="3990960"/>
          </a:xfrm>
          <a:prstGeom prst="rect">
            <a:avLst/>
          </a:prstGeom>
          <a:ln w="0">
            <a:noFill/>
          </a:ln>
        </p:spPr>
      </p:pic>
      <p:pic>
        <p:nvPicPr>
          <p:cNvPr id="184" name="Заголовок 1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1.People throw away paper, glasses, cans, bottle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2. People can’t recycle paper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3. Recycling is expensive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4. Rubbish can hurt or kill domestic and farm animal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5.People don’t drop any litter in the street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6. Our environment isn’t clean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9:00:38Z</dcterms:created>
  <dc:creator>Кнопа423</dc:creator>
  <dc:description/>
  <dc:language>en-US</dc:language>
  <cp:lastModifiedBy>Юрий</cp:lastModifiedBy>
  <dcterms:modified xsi:type="dcterms:W3CDTF">2015-12-08T16:26:54Z</dcterms:modified>
  <cp:revision>8</cp:revision>
  <dc:subject/>
  <dc:title>Why throw away? Why not recycle?</dc:title>
</cp:coreProperties>
</file>