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5B7-4AE5-40F7-A29A-2A24267D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9DD-56CA-4A71-8DD3-5A9A9CDD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000-BE19-4BDD-A465-6DF5E89C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A13-3B94-44F0-866F-B8BF8A54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8BD44-9DDD-4E75-9955-7A868E8E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5DA20-E9BA-4C80-BEEA-1B98D32A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76B01-5674-4940-AE29-D56B3F6C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BF2B3-2B8A-43CF-8A68-3A507C36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541A9-F694-478A-8092-E547F9A6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9C7C8-F886-462E-85CC-722D367B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C4F4E-8000-427F-B40D-1741B361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543-375C-4336-97D2-C8C4F5B2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576D0-C746-48FD-ABAD-DA9A3FB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27678-13BC-4D0E-9A22-01465940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3EC32-2786-4298-8081-BBE27DE8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4B3CC-07AE-4FF2-A697-6D540035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D1829-1FB4-4F6A-BF5B-1BA0F6FB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33DE-250F-480E-A1E9-ECBAAB1A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9ACF-F348-4B23-AAFC-7174782F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C5346-7CBD-4E5A-885C-F36CE768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FCC1E-41F6-4B8B-A08B-68B12433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C693-83A3-4D59-8D54-07AD5464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8CF-88EB-4E98-A1FA-35E3025C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4E5E-1CC0-4C00-974C-FDC4F834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9903-CA32-4574-9C00-37174CCF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B13B-4B83-4FD9-9F17-5D4F94CB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8A05-2156-46EE-9F22-A6713A96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AB575-911C-4396-A359-F9729C8A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5F37-9F27-4A7F-AE2E-E504C99D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F139-5295-4139-81F8-1A82D1B7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571B2-04C9-46A4-B8CC-92B6B059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30DCE-259E-48C4-A8A0-4242991F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A11A1-93D0-4C23-AA40-FDD38065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1E8-0119-48DA-91E3-BE953C48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0EC13-0E2D-4315-8206-69101C4A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0B172-2FA9-466C-9FFA-B724257D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EF4699-B8BE-472A-BA65-85FC35F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BBE6F-1960-4609-9B2E-914F16B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0E0F1-48E0-4576-ACED-45D706FD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B27D3-0BA5-469D-8332-0E7104E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26DE0-27E0-43E7-B0C6-E2B77B96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F5646-3EC6-409C-994E-AC9AE79F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78756-C099-47C8-A417-EE375C9B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59B-9F7A-4D27-982C-46621519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66D-60D7-4517-A39A-EB80663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FBE-1046-4FA9-922E-0AE655C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BFF-A9AB-465D-92C5-641B4C4E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710-A59F-4BB4-A1C7-0F8C4C6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91EC-E862-447E-BFB4-88A3E4AEC23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8190-D0F6-46B9-B46C-10C76733E3E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5477-7586-411A-8DC1-5F69518E482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0A88-80BE-4A93-82AB-9F68808B066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nstantia"/>
              </a:rPr>
              <a:t>What can we do to save the Earth?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4000" y="2492280"/>
            <a:ext cx="78483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72400" cy="20178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3" descr="Image0020.JPG"/>
          <p:cNvPicPr/>
          <p:nvPr/>
        </p:nvPicPr>
        <p:blipFill>
          <a:blip r:embed="rId2"/>
          <a:stretch/>
        </p:blipFill>
        <p:spPr>
          <a:xfrm>
            <a:off x="873000" y="2205000"/>
            <a:ext cx="7659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268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at are the bins used for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Do you have such bins in your school / yard /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treet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at does your family do with the rubbish?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o takes the rubbish out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What products are recycled in Russia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одержимое 3" descr="Image0021.JPG"/>
          <p:cNvPicPr/>
          <p:nvPr/>
        </p:nvPicPr>
        <p:blipFill>
          <a:blip r:embed="rId1"/>
          <a:stretch/>
        </p:blipFill>
        <p:spPr>
          <a:xfrm>
            <a:off x="1403280" y="1484280"/>
            <a:ext cx="6913800" cy="482436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Содержимое 3" descr="12_1.jpg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824720"/>
          </a:xfrm>
          <a:prstGeom prst="rect">
            <a:avLst/>
          </a:prstGeom>
          <a:ln w="0">
            <a:noFill/>
          </a:ln>
        </p:spPr>
      </p:pic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3" descr="IMG_20130305_140743.jpg"/>
          <p:cNvPicPr/>
          <p:nvPr/>
        </p:nvPicPr>
        <p:blipFill>
          <a:blip r:embed="rId1"/>
          <a:stretch/>
        </p:blipFill>
        <p:spPr>
          <a:xfrm>
            <a:off x="1042920" y="1600200"/>
            <a:ext cx="684216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3" descr="p_39563_1_gallerybig.jpg"/>
          <p:cNvPicPr/>
          <p:nvPr/>
        </p:nvPicPr>
        <p:blipFill>
          <a:blip r:embed="rId1"/>
          <a:stretch/>
        </p:blipFill>
        <p:spPr>
          <a:xfrm>
            <a:off x="1571760" y="1814400"/>
            <a:ext cx="6000480" cy="3990960"/>
          </a:xfrm>
          <a:prstGeom prst="rect">
            <a:avLst/>
          </a:prstGeom>
          <a:ln w="0">
            <a:noFill/>
          </a:ln>
        </p:spPr>
      </p:pic>
      <p:pic>
        <p:nvPicPr>
          <p:cNvPr id="184" name="Заголовок 1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1.People throw away paper, glasses, cans, bottl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2. People can’t recycle pap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3. Recycling is expensiv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4. Rubbish can hurt or kill domestic and farm animal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5.People don’t drop any litter in the street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6. Our environment isn’t clea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9:00:38Z</dcterms:created>
  <dc:creator>Кнопа423</dc:creator>
  <dc:description/>
  <dc:language>en-US</dc:language>
  <cp:lastModifiedBy>Юрий</cp:lastModifiedBy>
  <dcterms:modified xsi:type="dcterms:W3CDTF">2015-12-08T16:26:54Z</dcterms:modified>
  <cp:revision>8</cp:revision>
  <dc:subject/>
  <dc:title>Why throw away? Why not recycle?</dc:title>
</cp:coreProperties>
</file>