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7.gif" ContentType="image/gif"/>
  <Override PartName="/ppt/media/image15.wmf" ContentType="image/x-wmf"/>
  <Override PartName="/ppt/media/image1.jpeg" ContentType="image/jpeg"/>
  <Override PartName="/ppt/media/image3.gif" ContentType="image/gif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media/image12.wmf" ContentType="image/x-wmf"/>
  <Override PartName="/ppt/media/image9.wmf" ContentType="image/x-wmf"/>
  <Override PartName="/ppt/media/image11.gif" ContentType="image/gi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8D5-2C07-4701-BC7F-090E1322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550-A9AD-4846-B004-AE0FCB2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DE3-B3E7-4726-A2BB-0CCEF776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B73-BC87-43A2-9D8D-BA481CB5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790-8AC8-417B-A943-5288AD9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F09-4CDE-48F4-83B0-8A31FCE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9DD-D634-4A67-99A7-09720B2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9F2-BA83-40D6-AFDA-4B910324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92C-C24E-4C86-9AA1-4025DD50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0DD-5568-4538-8A3D-1D3EC14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DA7-CFE9-4993-8AD1-70AAAD9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1CC-8864-4F1D-891A-5F96B12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C90-22A7-4180-90D4-5C96B79FB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692280"/>
            <a:ext cx="70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ические закон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3141720"/>
            <a:ext cx="67262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равила преобразовани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4508640"/>
            <a:ext cx="676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огических выражений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погло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1125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\/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715000">
            <a:off x="3094560" y="1448280"/>
            <a:ext cx="1297080" cy="1368360"/>
          </a:xfrm>
          <a:custGeom>
            <a:avLst/>
            <a:gdLst>
              <a:gd name="textAreaLeft" fmla="*/ 372240 w 1297080"/>
              <a:gd name="textAreaRight" fmla="*/ 1110960 w 1297080"/>
              <a:gd name="textAreaTop" fmla="*/ 7880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7129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3573360"/>
            <a:ext cx="7559640" cy="19432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ариантов вмес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924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ловесная формулировка законов де М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78936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зъюнкции               кон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ицание                        есть                             отриц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ъюнкции               дизъю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365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3573360"/>
            <a:ext cx="8785440" cy="2160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8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е Морг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981000"/>
            <a:ext cx="30240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\/ B =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риантов в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981000"/>
            <a:ext cx="30240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B = A \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й исти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981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89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немоническое правило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Monotype Corsiva"/>
              </a:rPr>
              <a:t>в левой части тождества операция отрицания стоит над всем высказыванием. В правой она как бы разрывается и отрицание стоит над каждым из простых высказываний, но одновременно меняется операция: дизъюнкция на конъюнкцию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260280"/>
            <a:ext cx="215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98100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казыв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знаю арабский или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китайский язык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тождественно высказыванию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не знаю арабского языка и не знаю китай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492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я выучил урок и получил по нему двой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ждественно высказыван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Или я не выучил урок или я не получил по нем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1594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333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Замена операции импликации и эквивален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\/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90792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Для замены операции эквивалентности существует два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852640"/>
            <a:ext cx="45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&amp; B) \/ (A &amp;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\/ B) &amp; (A \/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85264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3500280"/>
            <a:ext cx="128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4071200">
            <a:off x="5337000" y="3124080"/>
            <a:ext cx="1008000" cy="122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оказ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1071720" cy="2133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A &amp;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мена им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162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26028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8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800080"/>
                </a:solidFill>
                <a:latin typeface="Monotype Corsiva"/>
              </a:rPr>
              <a:t>Неверно, что если я выиграю конкурс, то получу пр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628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выиграю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= Я получу пр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0686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=&gt;B = A \/ B = A &amp; B = A &amp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71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800080"/>
                </a:solidFill>
                <a:latin typeface="Monotype Corsiva"/>
              </a:rPr>
              <a:t>Я выиграю конкурс, но приз не полу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068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29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3068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2997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068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3068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26028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Интерес представляют следующи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268280"/>
            <a:ext cx="84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&gt; B = B =&gt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= (A =&gt;B) &amp; (B =&gt; 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268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852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раза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съел мед, то он сы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тождественна фразе </a:t>
            </a:r>
            <a:r>
              <a:rPr b="1" lang="ru-RU" sz="2400" spc="-1" strike="noStrike">
                <a:solidFill>
                  <a:srgbClr val="800080"/>
                </a:solidFill>
                <a:latin typeface="Monotype Corsiva"/>
              </a:rPr>
              <a:t>Если Винни-Пух не сыт, то меда он не 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051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320"/>
                            </p:stCondLst>
                            <p:childTnLst>
                              <p:par>
                                <p:cTn id="6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32000" y="333360"/>
            <a:ext cx="473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ая спра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197000"/>
            <a:ext cx="770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отфрид Вильгельм Лейб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гастес де М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жордж Б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жордж Ве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03280" y="40464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коны формальной лог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268280"/>
            <a:ext cx="5256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тождеств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процессе определенного рассуждения всякое понятие и суждение должны быть тождественны самим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непротивореч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невозможно что-либо одновременно утверждать и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исключения третьего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из двух противоречащих суждений одно истинно, другое ложно, а третьего не 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кон достаточного основа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сякая истинная мысль должна быть достаточно обосно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475400">
            <a:off x="5526000" y="1871280"/>
            <a:ext cx="936720" cy="432000"/>
          </a:xfrm>
          <a:prstGeom prst="leftArrow">
            <a:avLst>
              <a:gd name="adj1" fmla="val 50000"/>
              <a:gd name="adj2" fmla="val 54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70828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404600">
            <a:off x="5651640" y="3571920"/>
            <a:ext cx="865080" cy="433440"/>
          </a:xfrm>
          <a:prstGeom prst="leftArrow">
            <a:avLst>
              <a:gd name="adj1" fmla="val 50000"/>
              <a:gd name="adj2" fmla="val 4989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24922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формулированы Аристотил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869000"/>
            <a:ext cx="720720" cy="288720"/>
          </a:xfrm>
          <a:prstGeom prst="leftArrow">
            <a:avLst>
              <a:gd name="adj1" fmla="val 50000"/>
              <a:gd name="adj2" fmla="val 6240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4653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Сформулирован Лейбни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72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2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40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казать можно только истинные мысли, ложные доказ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«Ошибаться свойственно всякому человеку, но настаивать на ошибке свойственно только глупц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997360"/>
            <a:ext cx="504720" cy="1223640"/>
          </a:xfrm>
          <a:prstGeom prst="upArrow">
            <a:avLst>
              <a:gd name="adj1" fmla="val 50000"/>
              <a:gd name="adj2" fmla="val 6061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797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олько содержатель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15112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32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32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549360"/>
            <a:ext cx="72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ы алгебры высказыва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77336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и решении многих логических задач часто приходится упрощать формулы, полученные при формализации и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прощение формул в алгебре высказываний производится на основе эквивалентных  преобразований, опирающихся на основные логические зак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221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Законы алгебры высказываний (алгебры логики) – это тавт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71640" y="47628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закон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95640" y="1197000"/>
            <a:ext cx="49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гебры высказывани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628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(содержат одну перемен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кон тожд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492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2565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Всякое понятие и суждение тождественно самому се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06864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Закон тождества означает, что в процессе рассуждения нельзя подменять одну мысль другой, одно понятие другим. При нарушении этого закона возможны логические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407664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24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вижение вечно. Хождение в школу – движение. Следовательно, хождение в школу ве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непротиво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98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&amp; A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98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34936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На Марсе есть жизнь и на Марсе жизни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92428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Светлана окончила среднюю школу и учится в 10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860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исключения треть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292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\/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3657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Число 12345 либо четное либо нечетное, третьего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7340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Ученик учится или хорошо или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237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Эта жидкость является или не является кис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26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 двойного отриц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03640" y="907920"/>
          <a:ext cx="2327040" cy="206532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28472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41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1341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335772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7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Матроскин -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86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3333cc"/>
                </a:solidFill>
                <a:latin typeface="Monotype Corsiva"/>
              </a:rPr>
              <a:t>Неверно, что Матроскин не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357336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0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=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2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40"/>
                            </p:stCondLst>
                            <p:childTnLst>
                              <p:par>
                                <p:cTn id="28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войства конста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лжи есть ист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0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\/ 1 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197000"/>
            <a:ext cx="345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рицание истины есть лож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1197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идемпо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\/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отсутствие коэффици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отсутствие степен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60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комму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\/ В = В \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98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=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916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ассоци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0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\/(B \/ C) = (A \/ B) \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2708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amp;(B &amp; C) = (A &amp; B)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3573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аконы дистрибу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\/(B &amp; C) = (A \/ B) &amp; (A \/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дизъюнкции относительно кон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437000"/>
            <a:ext cx="41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&amp;(B \/ C) = (A &amp; B) \/ (A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дистрибутивность конъюнкции относительно дизъюн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5877000"/>
            <a:ext cx="216000" cy="288720"/>
          </a:xfrm>
          <a:prstGeom prst="upArrow">
            <a:avLst>
              <a:gd name="adj1" fmla="val 50000"/>
              <a:gd name="adj2" fmla="val 3341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6308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20:14Z</dcterms:created>
  <dc:creator>User</dc:creator>
  <dc:description/>
  <dc:language>en-US</dc:language>
  <cp:lastModifiedBy>Ирина</cp:lastModifiedBy>
  <dcterms:modified xsi:type="dcterms:W3CDTF">2016-01-23T07:38:38Z</dcterms:modified>
  <cp:revision>21</cp:revision>
  <dc:subject/>
  <dc:title>Слайд 1</dc:title>
</cp:coreProperties>
</file>