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7.gif" ContentType="image/gif"/>
  <Override PartName="/ppt/media/image15.wmf" ContentType="image/x-wmf"/>
  <Override PartName="/ppt/media/image1.jpeg" ContentType="image/jpeg"/>
  <Override PartName="/ppt/media/image3.gif" ContentType="image/gif"/>
  <Override PartName="/ppt/media/image13.wmf" ContentType="image/x-wmf"/>
  <Override PartName="/ppt/media/image6.jpeg" ContentType="image/jpeg"/>
  <Override PartName="/ppt/media/image5.gif" ContentType="image/gif"/>
  <Override PartName="/ppt/media/image8.png" ContentType="image/png"/>
  <Override PartName="/ppt/media/image12.wmf" ContentType="image/x-wmf"/>
  <Override PartName="/ppt/media/image9.wmf" ContentType="image/x-wmf"/>
  <Override PartName="/ppt/media/image11.gif" ContentType="image/gif"/>
  <Override PartName="/ppt/media/image10.wmf" ContentType="image/x-wmf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129-CE0E-4918-AFFD-8261F46B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937-BF3A-44E4-A02C-F90CE760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318-8C93-4F54-9307-C593242E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3F5-88A2-4AB0-875E-2427C967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EFE-D438-4E7D-B316-CFFDA31F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24B-59CE-4E91-B65A-ABD1D759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FA2-8EAC-4C44-8DAE-E819D883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480-8886-4087-A144-1FCC8A09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E6B-BF88-4CDE-B489-ADD49130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503-25F7-4A2C-98CD-0A0FB4AE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8DC-5853-4EEE-89BC-465601F3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C32-28B8-47B8-B115-565E83E5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E0F7-BE62-4B86-8509-740AB2593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692280"/>
            <a:ext cx="7056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гические закон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63640" y="3141720"/>
            <a:ext cx="67262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правила преобразования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4508640"/>
            <a:ext cx="6767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огических выражений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поглощ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125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\/ (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1125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\/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715000">
            <a:off x="3094560" y="1448280"/>
            <a:ext cx="1297080" cy="1368360"/>
          </a:xfrm>
          <a:custGeom>
            <a:avLst/>
            <a:gdLst>
              <a:gd name="textAreaLeft" fmla="*/ 372240 w 1297080"/>
              <a:gd name="textAreaRight" fmla="*/ 1110960 w 1297080"/>
              <a:gd name="textAreaTop" fmla="*/ 7880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285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Д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27129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3573360"/>
            <a:ext cx="7559640" cy="194328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8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де Морг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981000"/>
            <a:ext cx="302400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\/ B = A &amp;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трицание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ариантов вмес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981000"/>
            <a:ext cx="3024000" cy="16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&amp; B = A \/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трицание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дновременной исти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981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981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2924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Словесная формулировка законов де Морг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3789360"/>
            <a:ext cx="79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зъюнкции               конъю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рицание                        есть                             отриц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ъюнкции               дизъю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4365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365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3573360"/>
            <a:ext cx="8785440" cy="216072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8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де Морг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981000"/>
            <a:ext cx="302400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\/ B = A &amp;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риантов вме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981000"/>
            <a:ext cx="3024000" cy="16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&amp; B = A \/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временной исти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981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981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0400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78936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немоническое правило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Monotype Corsiva"/>
              </a:rPr>
              <a:t>в левой части тождества операция отрицания стоит над всем высказыванием. В правой она как бы разрывается и отрицание стоит над каждым из простых высказываний, но одновременно меняется операция: дизъюнкция на конъюнкцию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6000"/>
                            </p:stCondLst>
                            <p:childTnLst>
                              <p:par>
                                <p:cTn id="4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26028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Пример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981000"/>
            <a:ext cx="856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Высказыв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Неверно, что я знаю арабский или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китайский язык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тождественно высказыванию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Я не знаю арабского языка и не знаю китайск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249228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Неверно, что я выучил урок и получил по нему двойк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тождественно высказывани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Или я не выучил урок или я не получил по нему двой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940360" y="3573360"/>
            <a:ext cx="15940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5280" y="333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Замена операции импликации и эквивалент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9079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=&gt; B = A \/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мена импл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90792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349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Для замены операции эквивалентности существует два пр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2852640"/>
            <a:ext cx="453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= (A &amp; B) \/ (A &amp; 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= (A \/ B) &amp; (A \/ 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852640"/>
            <a:ext cx="128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80000" y="2852640"/>
            <a:ext cx="128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3500280"/>
            <a:ext cx="128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0000" y="3500280"/>
            <a:ext cx="128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4071200">
            <a:off x="5337000" y="3124080"/>
            <a:ext cx="1008000" cy="1224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оказ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04000" y="3716280"/>
            <a:ext cx="1071720" cy="2133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5280" y="1628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=&gt; B = A &amp;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мена импл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1628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5280" y="260280"/>
            <a:ext cx="18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Пример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81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800080"/>
                </a:solidFill>
                <a:latin typeface="Monotype Corsiva"/>
              </a:rPr>
              <a:t>Неверно, что если я выиграю конкурс, то получу пр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628640"/>
            <a:ext cx="51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= Я выиграю конк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= Я получу пр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306864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=&gt;B = A \/ B = A &amp; B = A &amp;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71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Я выиграю конкурс, но приз не полу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3068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29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306864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299736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3068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3068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6000" y="3068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4000" y="26028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Arial"/>
              </a:rPr>
              <a:t>Интерес представляют следующие пра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1268280"/>
            <a:ext cx="849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=&gt; B = B =&gt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= (A =&gt;B) &amp; (B =&gt; 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79640" y="1268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268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2852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раза </a:t>
            </a:r>
            <a:r>
              <a:rPr b="1" lang="ru-RU" sz="2400" spc="-1" strike="noStrike">
                <a:solidFill>
                  <a:srgbClr val="800080"/>
                </a:solidFill>
                <a:latin typeface="Monotype Corsiva"/>
              </a:rPr>
              <a:t>Если Винни-Пух съел мед, то он сы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тождественна фразе </a:t>
            </a:r>
            <a:r>
              <a:rPr b="1" lang="ru-RU" sz="2400" spc="-1" strike="noStrike">
                <a:solidFill>
                  <a:srgbClr val="800080"/>
                </a:solidFill>
                <a:latin typeface="Monotype Corsiva"/>
              </a:rPr>
              <a:t>Если Винни-Пух не сыт, то меда он не 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58920" y="4149720"/>
            <a:ext cx="19051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320"/>
                            </p:stCondLst>
                            <p:childTnLst>
                              <p:par>
                                <p:cTn id="6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332000" y="333360"/>
            <a:ext cx="473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ческая справ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197000"/>
            <a:ext cx="7705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Аристо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отфрид Вильгельм Лейб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гастес де Морг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жордж Б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Джордж Ве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403280" y="40464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коны формальной лог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268280"/>
            <a:ext cx="525636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Закон тождеств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 процессе определенного рассуждения всякое понятие и суждение должны быть тождественны самим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Закон непротиворечия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невозможно что-либо одновременно утверждать и отриц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Закон исключения третьего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из двух противоречащих суждений одно истинно, другое ложно, а третьего не д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Закон достаточного основания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сякая истинная мысль должна быть достаточно обоснов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475400">
            <a:off x="5526000" y="1871280"/>
            <a:ext cx="936720" cy="432000"/>
          </a:xfrm>
          <a:prstGeom prst="leftArrow">
            <a:avLst>
              <a:gd name="adj1" fmla="val 50000"/>
              <a:gd name="adj2" fmla="val 5420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708280"/>
            <a:ext cx="792000" cy="289080"/>
          </a:xfrm>
          <a:prstGeom prst="leftArrow">
            <a:avLst>
              <a:gd name="adj1" fmla="val 50000"/>
              <a:gd name="adj2" fmla="val 68493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404600">
            <a:off x="5651640" y="3571920"/>
            <a:ext cx="865080" cy="433440"/>
          </a:xfrm>
          <a:prstGeom prst="leftArrow">
            <a:avLst>
              <a:gd name="adj1" fmla="val 50000"/>
              <a:gd name="adj2" fmla="val 49896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9640" y="249228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формулированы Аристотил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4869000"/>
            <a:ext cx="720720" cy="288720"/>
          </a:xfrm>
          <a:prstGeom prst="leftArrow">
            <a:avLst>
              <a:gd name="adj1" fmla="val 50000"/>
              <a:gd name="adj2" fmla="val 62406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32720" y="465300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Сформулирован Лейбниц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72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12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404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оказать можно только истинные мысли, ложные доказа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916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«Ошибаться свойственно всякому человеку, но настаивать на ошибке свойственно только глупц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2997360"/>
            <a:ext cx="504720" cy="1223640"/>
          </a:xfrm>
          <a:prstGeom prst="upArrow">
            <a:avLst>
              <a:gd name="adj1" fmla="val 50000"/>
              <a:gd name="adj2" fmla="val 6061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4797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Только содержательный харак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308720" y="3429000"/>
            <a:ext cx="15112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32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32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58920" y="549360"/>
            <a:ext cx="727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ы алгебры высказыва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1773360"/>
            <a:ext cx="7848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и решении многих логических задач часто приходится упрощать формулы, полученные при формализации их услов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Упрощение формул в алгебре высказываний производится на основе эквивалентных  преобразований, опирающихся на основные логические зак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422100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Законы алгебры высказываний (алгебры логики) – это тавт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771640" y="476280"/>
            <a:ext cx="375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закон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95640" y="1197000"/>
            <a:ext cx="4952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лгебры высказываний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1628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(содержат одну переменну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060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Закон тожд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492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 =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4000" y="2565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Всякое понятие и суждение тождественно самому себ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3068640"/>
            <a:ext cx="77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Закон тождества означает, что в процессе рассуждения нельзя подменять одну мысль другой, одно понятие другим. При нарушении этого закона возможны логические оши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4076640"/>
            <a:ext cx="152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Times New Roman"/>
              </a:rPr>
              <a:t>При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4724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Движение вечно. Хождение в школу – движение. Следовательно, хождение в школу ве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26028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кон непротивореч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98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&amp; A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83664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98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&amp; A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844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349360"/>
            <a:ext cx="67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На Марсе есть жизнь и на Марсе жизни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292428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Светлана окончила среднюю школу и учится в 10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386064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 исключения треть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29264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\/ А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436572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4797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22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Число 12345 либо четное либо нечетное, третьего не д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57340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Ученик учится или хорошо или плох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6237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Эта жидкость является или не является кисл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260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 двойного отриц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052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=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052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125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03640" y="907920"/>
          <a:ext cx="2327040" cy="2065320"/>
        </p:xfrm>
        <a:graphic>
          <a:graphicData uri="http://schemas.openxmlformats.org/drawingml/2006/table">
            <a:tbl>
              <a:tblPr/>
              <a:tblGrid>
                <a:gridCol w="776160"/>
                <a:gridCol w="774720"/>
                <a:gridCol w="7761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284720" y="1413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1413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3640" y="1341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1280" y="3357720"/>
            <a:ext cx="1647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Прим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076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800" spc="-1" strike="noStrike">
                <a:solidFill>
                  <a:srgbClr val="3333cc"/>
                </a:solidFill>
                <a:latin typeface="Monotype Corsiva"/>
              </a:rPr>
              <a:t>Матроскин - 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869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3333cc"/>
                </a:solidFill>
                <a:latin typeface="Monotype Corsiva"/>
              </a:rPr>
              <a:t>Неверно, что Матроскин не  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00720" y="3573360"/>
            <a:ext cx="1881360" cy="1871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1052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125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052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=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052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125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40"/>
                            </p:stCondLst>
                            <p:childTnLst>
                              <p:par>
                                <p:cTn id="2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64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260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Свойства констан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197000"/>
            <a:ext cx="345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трицание лжи есть ист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\/ 0 =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\/ 1 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1197000"/>
            <a:ext cx="345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трицание истины есть лож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0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1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1197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1197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3213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идемпотен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933720"/>
            <a:ext cx="30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\/ А =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отсутствие коэффициен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3933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 =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(отсутствие степен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коммута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981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\/ В = В \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981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=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916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ассоциа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708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\/(B \/ C) = (A \/ B) \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2708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amp;(B &amp; C) = (A &amp; B) &amp;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357336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дистрибу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4437000"/>
            <a:ext cx="4176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\/(B &amp; C) = (A \/ B) &amp; (A \/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дистрибутивность дизъюнкции относительно конъюнк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437000"/>
            <a:ext cx="4176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&amp;(B \/ C) = (A &amp; B) \/ (A &amp;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дистрибутивность конъюнкции относительно дизъюнк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5877000"/>
            <a:ext cx="216000" cy="288720"/>
          </a:xfrm>
          <a:prstGeom prst="upArrow">
            <a:avLst>
              <a:gd name="adj1" fmla="val 50000"/>
              <a:gd name="adj2" fmla="val 334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630864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Д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6:20:14Z</dcterms:created>
  <dc:creator>User</dc:creator>
  <dc:description/>
  <dc:language>en-US</dc:language>
  <cp:lastModifiedBy>Ирина</cp:lastModifiedBy>
  <dcterms:modified xsi:type="dcterms:W3CDTF">2016-01-23T07:38:38Z</dcterms:modified>
  <cp:revision>21</cp:revision>
  <dc:subject/>
  <dc:title>Слайд 1</dc:title>
</cp:coreProperties>
</file>