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gif" ContentType="image/gif"/>
  <Override PartName="/ppt/media/image7.gif" ContentType="image/gif"/>
  <Override PartName="/ppt/media/image15.wmf" ContentType="image/x-wmf"/>
  <Override PartName="/ppt/media/image1.jpeg" ContentType="image/jpeg"/>
  <Override PartName="/ppt/media/image3.gif" ContentType="image/gif"/>
  <Override PartName="/ppt/media/image13.wmf" ContentType="image/x-wmf"/>
  <Override PartName="/ppt/media/image6.jpeg" ContentType="image/jpeg"/>
  <Override PartName="/ppt/media/image5.gif" ContentType="image/gif"/>
  <Override PartName="/ppt/media/image8.png" ContentType="image/png"/>
  <Override PartName="/ppt/media/image12.wmf" ContentType="image/x-wmf"/>
  <Override PartName="/ppt/media/image9.wmf" ContentType="image/x-wmf"/>
  <Override PartName="/ppt/media/image11.gif" ContentType="image/gif"/>
  <Override PartName="/ppt/media/image10.wmf" ContentType="image/x-wmf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B843-20E2-41CE-9670-9FF17A5F5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FB2D-1F70-4E36-A380-F116EB22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D85A-F26E-464A-9519-F62442924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7131-6BFD-43B9-8ED0-F01FFA50E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7041-A6A5-4C9D-9563-6220FCB5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D6B0-810C-4B1D-A291-7DC11001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BA8B-19B0-4CB0-838C-BF1E6A31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8173-84A2-47EF-9F6B-318B005E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CFD4-7D96-41DC-8C66-B7A9F77D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A050-8EC0-4BEC-AE60-FD989F7B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D641-0CBA-42FF-B4FE-561F1112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2261-47F4-4DC9-B100-D9679CD0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E52E-35D8-48E7-B28C-A4EECCD85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76360" y="692280"/>
            <a:ext cx="705636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огические законы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c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63640" y="3141720"/>
            <a:ext cx="672624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правила преобразования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476360" y="4508640"/>
            <a:ext cx="67676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огических выражений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24000" y="260280"/>
            <a:ext cx="46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Законы поглощ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112536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\/ (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=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1640" y="112536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\/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=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2715000">
            <a:off x="3094560" y="1448280"/>
            <a:ext cx="1297080" cy="1368360"/>
          </a:xfrm>
          <a:custGeom>
            <a:avLst/>
            <a:gdLst>
              <a:gd name="textAreaLeft" fmla="*/ 372240 w 1297080"/>
              <a:gd name="textAreaRight" fmla="*/ 1110960 w 1297080"/>
              <a:gd name="textAreaTop" fmla="*/ 788040 h 1368360"/>
              <a:gd name="textAreaBottom" fmla="*/ 117216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2852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Доказ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271296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4000"/>
                            </p:stCondLst>
                            <p:childTnLst>
                              <p:par>
                                <p:cTn id="4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68360" y="3573360"/>
            <a:ext cx="7559640" cy="1943280"/>
          </a:xfrm>
          <a:prstGeom prst="rect">
            <a:avLst/>
          </a:prstGeom>
          <a:solidFill>
            <a:srgbClr val="cccc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8900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Законы де Морга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981000"/>
            <a:ext cx="302400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\/ B = A &amp;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отрицание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вариантов вмест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27640" y="981000"/>
            <a:ext cx="3024000" cy="16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&amp; B = A \/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отрицание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одновременной истин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98100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59280" y="98100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9810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95640" y="9810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56360" y="9810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04000" y="9810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2924280"/>
            <a:ext cx="79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Словесная формулировка законов де Морг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9640" y="3789360"/>
            <a:ext cx="7920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изъюнкции               конъюн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рицание                        есть                             отриц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нъюнкции               дизъюн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79640" y="4365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56000" y="4365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4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6000"/>
                            </p:stCondLst>
                            <p:childTnLst>
                              <p:par>
                                <p:cTn id="4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8000"/>
                            </p:stCondLst>
                            <p:childTnLst>
                              <p:par>
                                <p:cTn id="4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79280" y="3573360"/>
            <a:ext cx="8785440" cy="2160720"/>
          </a:xfrm>
          <a:prstGeom prst="rect">
            <a:avLst/>
          </a:prstGeom>
          <a:solidFill>
            <a:srgbClr val="cccc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18900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Законы де Морга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981000"/>
            <a:ext cx="302400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\/ B = A &amp;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рицание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ариантов вмест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27640" y="981000"/>
            <a:ext cx="3024000" cy="16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&amp; B = A \/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рицание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овременной истин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98100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98100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43280" y="9810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95640" y="9810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56360" y="9810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04000" y="9810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3789360"/>
            <a:ext cx="85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Мнемоническое правило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80"/>
                </a:solidFill>
                <a:latin typeface="Monotype Corsiva"/>
              </a:rPr>
              <a:t>в левой части тождества операция отрицания стоит над всем высказыванием. В правой она как бы разрывается и отрицание стоит над каждым из простых высказываний, но одновременно меняется операция: дизъюнкция на конъюнкцию и наобо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000"/>
                            </p:stCondLst>
                            <p:childTnLst>
                              <p:par>
                                <p:cTn id="4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000"/>
                            </p:stCondLst>
                            <p:childTnLst>
                              <p:par>
                                <p:cTn id="4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6000"/>
                            </p:stCondLst>
                            <p:childTnLst>
                              <p:par>
                                <p:cTn id="4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8000"/>
                            </p:stCondLst>
                            <p:childTnLst>
                              <p:par>
                                <p:cTn id="4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95280" y="260280"/>
            <a:ext cx="2152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Times New Roman"/>
              </a:rPr>
              <a:t>Примеры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9280" y="981000"/>
            <a:ext cx="8569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Высказыва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800080"/>
                </a:solidFill>
                <a:latin typeface="Monotype Corsiva"/>
              </a:rPr>
              <a:t>Неверно, что я знаю арабский или</a:t>
            </a:r>
            <a:r>
              <a:rPr b="1" lang="en-US" sz="2800" spc="-1" strike="noStrike">
                <a:solidFill>
                  <a:srgbClr val="ff00ff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800080"/>
                </a:solidFill>
                <a:latin typeface="Monotype Corsiva"/>
              </a:rPr>
              <a:t>китайский язык</a:t>
            </a:r>
            <a:r>
              <a:rPr b="1" lang="en-US" sz="2800" spc="-1" strike="noStrike">
                <a:solidFill>
                  <a:srgbClr val="ff00ff"/>
                </a:solidFill>
                <a:latin typeface="Monotype Corsiva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тождественно высказыванию</a:t>
            </a:r>
            <a:r>
              <a:rPr b="1" lang="en-US" sz="2800" spc="-1" strike="noStrike">
                <a:solidFill>
                  <a:srgbClr val="ff00ff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800080"/>
                </a:solidFill>
                <a:latin typeface="Monotype Corsiva"/>
              </a:rPr>
              <a:t>Я не знаю арабского языка и не знаю китайского язы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2492280"/>
            <a:ext cx="835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Monotype Corsiva"/>
              </a:rPr>
              <a:t>Неверно, что я выучил урок и получил по нему двойк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тождественно высказывани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800080"/>
                </a:solidFill>
                <a:latin typeface="Monotype Corsiva"/>
              </a:rPr>
              <a:t>Или я не выучил урок или я не получил по нему двой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5940360" y="3573360"/>
            <a:ext cx="15940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000"/>
                            </p:stCondLst>
                            <p:childTnLst>
                              <p:par>
                                <p:cTn id="5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95280" y="33336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Замена операции импликации и эквивалент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9079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=&gt; B = A \/ 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замена имплик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50920" y="90792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234936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Для замены операции эквивалентности существует два пра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9640" y="2852640"/>
            <a:ext cx="453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 = (A &amp; B) \/ (A &amp; 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 = (A \/ B) &amp; (A \/ B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00720" y="2852640"/>
            <a:ext cx="1285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80000" y="2852640"/>
            <a:ext cx="1285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3500280"/>
            <a:ext cx="1285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0000" y="3500280"/>
            <a:ext cx="1285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4071200">
            <a:off x="5337000" y="3124080"/>
            <a:ext cx="1008000" cy="122400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04000" y="3141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Доказа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804000" y="3716280"/>
            <a:ext cx="1071720" cy="21337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95280" y="162864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=&gt; B = A &amp; 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замена имплик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9640" y="162864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00360" y="162864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000"/>
                            </p:stCondLst>
                            <p:childTnLst>
                              <p:par>
                                <p:cTn id="5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95280" y="260280"/>
            <a:ext cx="1800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Times New Roman"/>
              </a:rPr>
              <a:t>Пример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981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800" spc="-1" strike="noStrike">
                <a:solidFill>
                  <a:srgbClr val="800080"/>
                </a:solidFill>
                <a:latin typeface="Monotype Corsiva"/>
              </a:rPr>
              <a:t>Неверно, что если я выиграю конкурс, то получу при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9640" y="1628640"/>
            <a:ext cx="518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= Я выиграю конкур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= Я получу при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3068640"/>
            <a:ext cx="82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=&gt;B = A \/ B = A &amp; B = A &amp;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0920" y="3716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800080"/>
                </a:solidFill>
                <a:latin typeface="Monotype Corsiva"/>
              </a:rPr>
              <a:t>Я выиграю конкурс, но приз не получ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71640" y="306864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08000" y="299736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08000" y="306864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43280" y="299736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3280" y="3068640"/>
            <a:ext cx="14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8000" y="306864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356000" y="3068640"/>
            <a:ext cx="14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2000"/>
                            </p:stCondLst>
                            <p:childTnLst>
                              <p:par>
                                <p:cTn id="5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24000" y="260280"/>
            <a:ext cx="81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80"/>
                </a:solidFill>
                <a:uFillTx/>
                <a:latin typeface="Arial"/>
              </a:rPr>
              <a:t>Интерес представляют следующие прав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1268280"/>
            <a:ext cx="849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=&gt; B = B =&gt;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 = (A =&gt;B) &amp; (B =&gt; 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979640" y="126828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43280" y="126828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2852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Фраза </a:t>
            </a:r>
            <a:r>
              <a:rPr b="1" lang="ru-RU" sz="2400" spc="-1" strike="noStrike">
                <a:solidFill>
                  <a:srgbClr val="800080"/>
                </a:solidFill>
                <a:latin typeface="Monotype Corsiva"/>
              </a:rPr>
              <a:t>Если Винни-Пух съел мед, то он сыт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тождественна фразе </a:t>
            </a:r>
            <a:r>
              <a:rPr b="1" lang="ru-RU" sz="2400" spc="-1" strike="noStrike">
                <a:solidFill>
                  <a:srgbClr val="800080"/>
                </a:solidFill>
                <a:latin typeface="Monotype Corsiva"/>
              </a:rPr>
              <a:t>Если Винни-Пух не сыт, то меда он не 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258920" y="4149720"/>
            <a:ext cx="190512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5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6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7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3320"/>
                            </p:stCondLst>
                            <p:childTnLst>
                              <p:par>
                                <p:cTn id="65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332000" y="333360"/>
            <a:ext cx="4734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торическая справк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0" name=""/>
          <p:cNvSpPr/>
          <p:nvPr/>
        </p:nvSpPr>
        <p:spPr>
          <a:xfrm>
            <a:off x="611280" y="1197000"/>
            <a:ext cx="77058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80008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Аристо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Готфрид Вильгельм Лейбн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80008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Огастес де Морг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жордж Бу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80008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Джордж Вен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403280" y="40464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Законы формальной логи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1268280"/>
            <a:ext cx="5256360" cy="40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80008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Закон тождества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в процессе определенного рассуждения всякое понятие и суждение должны быть тождественны самим себ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80008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Закон непротиворечия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невозможно что-либо одновременно утверждать и отриц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80008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Закон исключения третьего</a:t>
            </a:r>
            <a:r>
              <a:rPr b="1" lang="ru-RU" sz="1800" spc="-1" strike="noStrike">
                <a:solidFill>
                  <a:srgbClr val="ff00ff"/>
                </a:solidFill>
                <a:latin typeface="Arial"/>
              </a:rPr>
              <a:t>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из двух противоречащих суждений одно истинно, другое ложно, а третьего не да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80008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Закон достаточного основания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всякая истинная мысль должна быть достаточно обоснов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475400">
            <a:off x="5526000" y="1871280"/>
            <a:ext cx="936720" cy="432000"/>
          </a:xfrm>
          <a:prstGeom prst="leftArrow">
            <a:avLst>
              <a:gd name="adj1" fmla="val 50000"/>
              <a:gd name="adj2" fmla="val 54208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651640" y="2708280"/>
            <a:ext cx="792000" cy="289080"/>
          </a:xfrm>
          <a:prstGeom prst="leftArrow">
            <a:avLst>
              <a:gd name="adj1" fmla="val 50000"/>
              <a:gd name="adj2" fmla="val 68493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9404600">
            <a:off x="5651640" y="3571920"/>
            <a:ext cx="865080" cy="433440"/>
          </a:xfrm>
          <a:prstGeom prst="leftArrow">
            <a:avLst>
              <a:gd name="adj1" fmla="val 50000"/>
              <a:gd name="adj2" fmla="val 49896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659640" y="2492280"/>
            <a:ext cx="24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Сформулированы Аристотиле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96000" y="4869000"/>
            <a:ext cx="720720" cy="288720"/>
          </a:xfrm>
          <a:prstGeom prst="leftArrow">
            <a:avLst>
              <a:gd name="adj1" fmla="val 50000"/>
              <a:gd name="adj2" fmla="val 62406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32720" y="465300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Arial"/>
              </a:rPr>
              <a:t>Сформулирован Лейбниц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72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12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1280" y="40464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оказать можно только истинные мысли, ложные доказать нельз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191628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«Ошибаться свойственно всякому человеку, но настаивать на ошибке свойственно только глупцу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51280" y="2997360"/>
            <a:ext cx="504720" cy="1223640"/>
          </a:xfrm>
          <a:prstGeom prst="upArrow">
            <a:avLst>
              <a:gd name="adj1" fmla="val 50000"/>
              <a:gd name="adj2" fmla="val 6061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4797360"/>
            <a:ext cx="53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Только содержательный характ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308720" y="3429000"/>
            <a:ext cx="151128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320"/>
                            </p:stCondLst>
                            <p:childTnLst>
                              <p:par>
                                <p:cTn id="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32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258920" y="549360"/>
            <a:ext cx="7273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коны алгебры высказыван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/>
          <p:nvPr/>
        </p:nvSpPr>
        <p:spPr>
          <a:xfrm>
            <a:off x="755640" y="1773360"/>
            <a:ext cx="784872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При решении многих логических задач часто приходится упрощать формулы, полученные при формализации их услов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Упрощение формул в алгебре высказываний производится на основе эквивалентных  преобразований, опирающихся на основные логические зак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6920" y="4221000"/>
            <a:ext cx="756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Законы алгебры высказываний (алгебры логики) – это тавтолог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771640" y="476280"/>
            <a:ext cx="3753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сновные законы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195640" y="1197000"/>
            <a:ext cx="4952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лгебры высказываний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8000" y="162864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(содержат одну переменну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20606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Закон тожд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249228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А =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24000" y="256536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Всякое понятие и суждение тождественно самому себ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3068640"/>
            <a:ext cx="777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Закон тождества означает, что в процессе рассуждения нельзя подменять одну мысль другой, одно понятие другим. При нарушении этого закона возможны логические ошиб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95280" y="4076640"/>
            <a:ext cx="1523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Times New Roman"/>
              </a:rPr>
              <a:t>Приме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472428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Движение вечно. Хождение в школу – движение. Следовательно, хождение в школу веч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0920" y="260280"/>
            <a:ext cx="51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Закон непротивореч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981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&amp; A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16000" y="9810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836640"/>
            <a:ext cx="10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981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&amp; A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00720" y="9810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18446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Arial"/>
              </a:rPr>
              <a:t>Приме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349360"/>
            <a:ext cx="67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Monotype Corsiva"/>
              </a:rPr>
              <a:t>На Марсе есть жизнь и на Марсе жизни 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2924280"/>
            <a:ext cx="633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Monotype Corsiva"/>
              </a:rPr>
              <a:t>Светлана окончила среднюю школу и учится в 10 клас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3860640"/>
            <a:ext cx="57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Закон исключения треть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4292640"/>
            <a:ext cx="45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 \/ А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16000" y="436572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8360" y="4797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Arial"/>
              </a:rPr>
              <a:t>Приме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22936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Monotype Corsiva"/>
              </a:rPr>
              <a:t>Число 12345 либо четное либо нечетное, третьего не да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57340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Monotype Corsiva"/>
              </a:rPr>
              <a:t>Ученик учится или хорошо или плох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623736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Monotype Corsiva"/>
              </a:rPr>
              <a:t>Эта жидкость является или не является кисло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4000" y="2602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Закон двойного отриц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1052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 =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105264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112536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203640" y="907920"/>
          <a:ext cx="2327040" cy="2065320"/>
        </p:xfrm>
        <a:graphic>
          <a:graphicData uri="http://schemas.openxmlformats.org/drawingml/2006/table">
            <a:tbl>
              <a:tblPr/>
              <a:tblGrid>
                <a:gridCol w="776160"/>
                <a:gridCol w="774720"/>
                <a:gridCol w="77616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4284720" y="141300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03640" y="141300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03640" y="134136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11280" y="3357720"/>
            <a:ext cx="1647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Times New Roman"/>
              </a:rPr>
              <a:t>Приме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407664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ff"/>
                </a:solidFill>
                <a:latin typeface="Arial"/>
              </a:rPr>
              <a:t>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2800" spc="-1" strike="noStrike">
                <a:solidFill>
                  <a:srgbClr val="3333cc"/>
                </a:solidFill>
                <a:latin typeface="Monotype Corsiva"/>
              </a:rPr>
              <a:t>Матроскин - к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486900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ff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2800" spc="-1" strike="noStrike">
                <a:solidFill>
                  <a:srgbClr val="3333cc"/>
                </a:solidFill>
                <a:latin typeface="Monotype Corsiva"/>
              </a:rPr>
              <a:t>Неверно, что Матроскин не  к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300720" y="3573360"/>
            <a:ext cx="1881360" cy="1871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24000" y="105264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12536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1052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 =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105264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112536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640"/>
                            </p:stCondLst>
                            <p:childTnLst>
                              <p:par>
                                <p:cTn id="28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4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4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640"/>
                            </p:stCondLst>
                            <p:childTnLst>
                              <p:par>
                                <p:cTn id="2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4000" y="2602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Свойства констан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197000"/>
            <a:ext cx="3456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отрицание лжи есть ист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\/ 0 =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\/ 1 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00720" y="1197000"/>
            <a:ext cx="3456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отрицание истины есть лож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0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1 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40360" y="119700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63640" y="119700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32130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Законы идемпотен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3933720"/>
            <a:ext cx="3095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 \/ А =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(отсутствие коэффициент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88000" y="3933720"/>
            <a:ext cx="309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amp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А =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(отсутствие степен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50920" y="26028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Законы коммута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98100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\/ В = В \/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16360" y="98100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 = 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191628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Законы ассоциа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27082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\/(B \/ C) = (A \/ B) \/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27640" y="2708280"/>
            <a:ext cx="44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&amp;(B &amp; C) = (A &amp; B) &amp;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357336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Законы дистрибу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4437000"/>
            <a:ext cx="41767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\/(B &amp; C) = (A \/ B) &amp; (A \/ 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дистрибутивность дизъюнкции относительно конъюнкц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16360" y="4437000"/>
            <a:ext cx="41767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&amp;(B \/ C) = (A &amp; B) \/ (A &amp; 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дистрибутивность конъюнкции относительно дизъюнкц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5877000"/>
            <a:ext cx="216000" cy="288720"/>
          </a:xfrm>
          <a:prstGeom prst="upArrow">
            <a:avLst>
              <a:gd name="adj1" fmla="val 50000"/>
              <a:gd name="adj2" fmla="val 3341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58920" y="6308640"/>
            <a:ext cx="20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Доказ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6T16:20:14Z</dcterms:created>
  <dc:creator>User</dc:creator>
  <dc:description/>
  <dc:language>en-US</dc:language>
  <cp:lastModifiedBy>Ирина</cp:lastModifiedBy>
  <dcterms:modified xsi:type="dcterms:W3CDTF">2016-01-23T07:38:38Z</dcterms:modified>
  <cp:revision>21</cp:revision>
  <dc:subject/>
  <dc:title>Слайд 1</dc:title>
</cp:coreProperties>
</file>