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gif" ContentType="image/gi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277-4D6E-44E5-A7F1-74176196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E47-A92E-43C2-A94F-1ECA411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9EA-89BD-4B26-8F7A-A5AE0E87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B31-FE26-4C3D-A091-C5D84446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F920-2ABF-4EE9-9358-0D3E0D55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1F55-09FF-4250-800B-8750221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158-9B8E-4A49-87BE-1068354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278B-C6E7-40EF-A0F9-50B5444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1637-BB3A-4447-99A0-8A72E0B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F13F-F348-4819-BE31-11C95F5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DC3-A6C8-4357-8519-08BAF3F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C4C-6A8B-46B7-8AD8-AC11FCB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A8D9-2994-4930-BB87-2B93ACF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A19E-92C9-4891-945A-9F8D3EF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A832-E776-4A87-A934-F40304F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A9ED-D0B5-4C5D-AA10-CD9A4DBD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D54-9B49-4615-8B50-634BBFFC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F64-FBBC-4766-ABFD-8FFB1C1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50B-4095-4B2A-8968-6815E28B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1D8-8626-4C0C-9636-52ADADC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372-849D-4EAA-B4D6-650B412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919-D0F4-4185-AFE8-B6AE4DD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631-3AA6-4207-87A4-361CF089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CBD-81D3-483C-B013-B969BA7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0707-B3B5-42BE-A53B-C03A501B5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CCB-5400-441B-AF44-9F2CEEE7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hyperlink" Target="file:///logzast.pps#2. &#1057;&#1083;&#1072;&#1081;&#1076; 2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14600" y="1066680"/>
            <a:ext cx="42195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гебра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4680" y="2957400"/>
            <a:ext cx="57150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высказываний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114800" y="4343400"/>
            <a:ext cx="1022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371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Человек любит животны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Он добры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Если человек любит животных, то он добрый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267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ложно, когда истин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 и лож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ETS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1676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0" y="38088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мпликации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13372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Если первое высказывание (предпосылка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ложна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, то вне зависимости от второго высказывания (вывода) составное высказывание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стинно.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Таким образом, из неверной предпосылки может следовать что угод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вивалентность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речи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огда и только тогда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внознач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419720"/>
            <a:ext cx="8229600" cy="19227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Эквивалентность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одновременно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ли одновременно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=&gt;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90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может производить вычислени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5867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Компьютер может производить вычисления тогда и только тогда, когда он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267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lt;=&gt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стинно, когда 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истин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А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лож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EARDESK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15476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2120" y="380880"/>
            <a:ext cx="7867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едставление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905120" y="2057400"/>
            <a:ext cx="54799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ложных суждений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76520" y="3200400"/>
            <a:ext cx="636264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 виде формул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69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352680" y="22860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1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Мы пойдем в театр и будем смотреть балет или пойдем в цирк и посмотрим представ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905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ражение состоит из четырех прост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4880" y="1828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теа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362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будем смотреть бал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6680" y="32004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С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цир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809880"/>
            <a:ext cx="42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D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смотрим представлени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1397160" cy="171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086600" y="4495680"/>
            <a:ext cx="1549440" cy="15890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81080" y="4800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Запись сложного логического выражения с помощью форму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54864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X=A*B+C*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7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600"/>
                            </p:stCondLst>
                            <p:childTnLst>
                              <p:par>
                                <p:cTn id="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1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124080" y="30492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2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юди получают высшее образование тогда, когда они заканчивают институт, университет или академ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916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2000" y="1916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получают высшее 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360" y="2565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институ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A &lt;=&gt; B \/ C \/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3213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университе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8360" y="386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Люди заканчивают академ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304920"/>
            <a:ext cx="205740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3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457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портсмен подлежит дисквалификации, если он некорректно ведет себя по отношению к сопернику или судье, и если он принимал допинг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52578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«Спортсмен подлежит дисквалификации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209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В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оперн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666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С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удье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(B + C) * D  =&gt;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312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«Он принимал допинг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SOCRPLY2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720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52600" y="4191120"/>
            <a:ext cx="85914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оверка усвоения материал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762120"/>
            <a:ext cx="69915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операции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2320"/>
            <a:ext cx="81630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лгебры высказываний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092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971800" y="380880"/>
            <a:ext cx="3286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рс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92468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лов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 верно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и частице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А,    А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иц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97180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80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Отрицание - это логическая операция, которая каждому простому высказыванию ставит в соответствие составное высказывание, заключающееся в том, что исходное высказывание отриц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2320"/>
            <a:ext cx="33526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200" y="37339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20040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724280"/>
            <a:ext cx="114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А=«Мы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19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«Мы не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25780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пределите,  какое из этих высказываний является для Вас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како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amp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,  ^, *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умн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19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*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егодня солнечный де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егодня солнечный день, и 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7339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*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з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, +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4197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из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когда хотя бы одно из двух образующих его высказываний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+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ночь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нег пойдет ночью или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733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 + 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ли оба высказывания истин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плика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Если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…,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то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..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едов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419720"/>
            <a:ext cx="8229600" cy="1557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мплика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условие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следстви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7:30:24Z</dcterms:created>
  <dc:creator>1</dc:creator>
  <dc:description/>
  <dc:language>en-US</dc:language>
  <cp:lastModifiedBy>Ирина</cp:lastModifiedBy>
  <dcterms:modified xsi:type="dcterms:W3CDTF">2012-12-04T17:22:01Z</dcterms:modified>
  <cp:revision>42</cp:revision>
  <dc:subject/>
  <dc:title>Заголовок слайда отсутствует</dc:title>
</cp:coreProperties>
</file>