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0.gif" ContentType="image/gi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CAD-3890-4C9C-AEB8-511A2CA1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CDA-1EDD-48BE-8324-C2337B7D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52C-14EF-4E4F-B4B9-A535817B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0D1-BAC3-40C0-AFE4-97BC4621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F42A-C398-4F53-80A4-90CD3A56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5D00-68EA-4D40-BD42-5A1DC65F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A32B-B38A-4A0C-ABF8-A4957654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81DA-B14F-4933-8034-EC4359B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612B-0CF7-4143-8AE6-6005545F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1B37-5068-4478-B4CE-EA4C416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1204-07B3-4CD7-B8A9-F7C63762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639-2776-490A-85CE-36DD21BE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B624-CC5A-45B0-BD1A-BED55893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314-9FAD-4429-9230-5F5E3FC8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3EC8-4F43-4E77-8162-B729D73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5754-5FC1-45D1-975C-EC1E1833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7831-99FE-4C01-9892-85EBECF2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354-CEBB-4095-A33A-736451DB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259-B2A1-4F6A-866F-01F5C0BD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883-8D8F-4637-9117-318CCF8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815-AEBA-42BD-A18C-DDB6994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A20-1CDF-4F02-9A5D-C44319A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725-236A-4366-A7CD-DB5BBF4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6BE-C35F-4F01-995C-2A5A1F7D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A99D-587C-4B37-B1AB-120A68701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254C-A654-4943-BF3B-DC2DC0908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hyperlink" Target="file:///logzast.pps#2. &#1057;&#1083;&#1072;&#1081;&#1076; 2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14600" y="1066680"/>
            <a:ext cx="42195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лгебра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4680" y="2957400"/>
            <a:ext cx="57150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высказываний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114800" y="4343400"/>
            <a:ext cx="10224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=&gt;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1371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Человек любит животны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Он добры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Если человек любит животных, то он добрый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2670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Х=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В - 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ложно, когда истинно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 и ложно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ETS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1676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=&gt;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0" y="38088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мпликации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2133720"/>
            <a:ext cx="472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Если первое высказывание (предпосылка)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ложна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, то вне зависимости от второго высказывания (вывода) составное высказывание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истинно.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5334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Таким образом, из неверной предпосылки может следовать что угод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вивалентность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600200"/>
            <a:ext cx="6400800" cy="1937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обороту речи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огда и только тогда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внознач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419720"/>
            <a:ext cx="8229600" cy="19227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Эквивалентность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одновременно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ли одновременно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=&gt;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990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Компьютер может производить вычисления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Компьютер включен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5867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Компьютер может производить вычисления тогда и только тогда, когда он включен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267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Х=А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lt;=&gt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В -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стинно, когда 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одновременно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истинны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ли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А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одновременно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ложны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EARDESK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15476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2120" y="380880"/>
            <a:ext cx="7867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едставление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905120" y="2057400"/>
            <a:ext cx="547992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ложных суждений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676520" y="3200400"/>
            <a:ext cx="636264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 виде формул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69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352680" y="228600"/>
            <a:ext cx="20480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1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457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Мы пойдем в театр и будем смотреть балет или пойдем в цирк и посмотрим представ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1905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о сложное логическое выражение состоит из четырех прост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4880" y="182880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йдем в теат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2362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будем смотреть бале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6680" y="32004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С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йдем в цир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809880"/>
            <a:ext cx="42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D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смотрим представлени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1397160" cy="171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7086600" y="4495680"/>
            <a:ext cx="1549440" cy="15890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81080" y="4800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Запись сложного логического выражения с помощью форму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548640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X=A*B+C*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1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2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7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8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600"/>
                            </p:stCondLst>
                            <p:childTnLst>
                              <p:par>
                                <p:cTn id="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1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124080" y="304920"/>
            <a:ext cx="20480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2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Люди получают высшее образование тогда, когда они заканчивают институт, университет или академ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1905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916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Это сложное логическое высказывание состоит из четырех прост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72000" y="1916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получают высшее образ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08360" y="25653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заканчивают институ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4800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Запись сложного логического высказывания с помощью форм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X = A &lt;=&gt; B \/ C \/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3213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заканчивают университе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08360" y="386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Люди заканчивают академи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1133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304920"/>
            <a:ext cx="205740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3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457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Спортсмен подлежит дисквалификации, если он некорректно ведет себя по отношению к сопернику или судье, и если он принимал допинг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905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525780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сложное логическое высказывание состоит из четырех прост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 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«Спортсмен подлежит дисквалификации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209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В =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Он некорректно ведет себя по отношению к соперн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2666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С =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Он некорректно ведет себя по отношению к судье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4800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Запись сложного логического высказывания с помощью форм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X = (B + C) * D  =&gt;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3124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«Он принимал допинг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SOCRPLY2" descr=""/>
          <p:cNvPicPr/>
          <p:nvPr/>
        </p:nvPicPr>
        <p:blipFill>
          <a:blip r:embed="rId2"/>
          <a:stretch/>
        </p:blipFill>
        <p:spPr>
          <a:xfrm>
            <a:off x="7620120" y="3276720"/>
            <a:ext cx="720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52600" y="4191120"/>
            <a:ext cx="85914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оверка усвоения материал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5562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6680" y="762120"/>
            <a:ext cx="69915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операции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362320"/>
            <a:ext cx="816300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лгебры высказываний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092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971800" y="380880"/>
            <a:ext cx="3286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ерс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92468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ловам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е верно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и частице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А,    А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трица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97180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3808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Отрицание - это логическая операция, которая каждому простому высказыванию ставит в соответствие составное высказывание, заключающееся в том, что исходное высказывание отриц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2320"/>
            <a:ext cx="33526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2819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200" y="37339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200400"/>
            <a:ext cx="22860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4956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724280"/>
            <a:ext cx="114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А=«Мы любим информат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4419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=«Мы не любим информат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25780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пределите,  какое из этих высказываний является для Вас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а какое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ъюнк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00200"/>
            <a:ext cx="579132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оюз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amp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,  ^, *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and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умноже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197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нъюнк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*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егодня солнечный ден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Мы пойдем купать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Сегодня солнечный день, и мы пойдем купать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7339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Х=А*В -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стинно, когда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 и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зъюнк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579132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оюз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или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, +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сложе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4197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изъюнк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когда хотя бы одно из двух образующих его высказываний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 +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нег пойдет ночь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нег пойдет утр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Снег пойдет ночью или утр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733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Х=А + В -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стинно, когда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ли оба высказывания истин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плика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600200"/>
            <a:ext cx="6400800" cy="1937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оборот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Если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…,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то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..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следова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419720"/>
            <a:ext cx="8229600" cy="1557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мплика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условие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а следствие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7:30:24Z</dcterms:created>
  <dc:creator>1</dc:creator>
  <dc:description/>
  <dc:language>en-US</dc:language>
  <cp:lastModifiedBy>Ирина</cp:lastModifiedBy>
  <dcterms:modified xsi:type="dcterms:W3CDTF">2012-12-04T17:22:01Z</dcterms:modified>
  <cp:revision>42</cp:revision>
  <dc:subject/>
  <dc:title>Заголовок слайда отсутствует</dc:title>
</cp:coreProperties>
</file>