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0.gif" ContentType="image/gi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1FA9-03A7-4B7B-BDEA-F37B4093C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4DDD-B510-44F3-AA2B-34EE7AEF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6AAB-2359-4C76-B79D-6D63F61E1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A25D-821D-459F-99EC-4DFA77B21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8E3D-DBE4-43D2-A7BE-F4824FB26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563A-92AC-4D78-90F5-647F1C35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94B9-86FF-4211-B612-BF397745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C9CC-13C9-4436-9624-079B8220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2A1F-681C-4DF5-95B7-57ED9585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99EB-AF64-4D16-A6A9-DBCC1824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BF978-AE7A-4DB3-B7CA-1824AF6F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B614-32DF-447A-8AD7-48FA5D0B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5168-98E1-46C2-A15B-47BB6C4D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668B-BA2E-4DFD-BC5C-FD0E6C93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5CECA-57DE-4C2D-9DE3-E0B60CCE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B770-7452-44CF-8077-9A6AEA54C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F41F-8FF3-4E8F-942E-91E8B4065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2EA9-2300-49CF-BEE9-07FC641A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65AB-E4E7-4FF0-9087-572AF1B7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F787-FC0A-40FD-98DF-B6EF2AD5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2C73-7303-4829-B089-391FF988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D35E-613C-414D-8209-5BC560BF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53F0-20DA-4441-A64C-E605D8E2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BDC2-B2C8-42A4-BF10-B066D3C6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1316-FC3A-4BA0-9CE2-AA1CED36B6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5B2A-D189-44B9-B233-936613B526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hyperlink" Target="file:///logzast.pps#2. &#1057;&#1083;&#1072;&#1081;&#1076; 2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514600" y="1066680"/>
            <a:ext cx="4219560" cy="11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лгебра 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714680" y="2957400"/>
            <a:ext cx="5715000" cy="9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высказываний</a:t>
            </a:r>
            <a:endParaRPr b="1" lang="en-US" sz="6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4114800" y="4343400"/>
            <a:ext cx="102240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8080" y="380880"/>
            <a:ext cx="33530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аблица истинности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1295280"/>
            <a:ext cx="32004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20574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14400" y="27432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14400" y="34290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41911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28800" y="12952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743200" y="12952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48120" y="14479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971800" y="21337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971800" y="2819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5812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123360" y="42670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051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19520" y="1447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А=&gt; 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8108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812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48120" y="2819520"/>
            <a:ext cx="6858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812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812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8108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8108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8108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6668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9072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05520" y="6094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267080" y="13716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«Человек любит животных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43400" y="19051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В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«Он добрый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14400" y="5257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Составное высказыва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14400" y="58672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Х</a:t>
            </a: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=«Если человек любит животных, то он добрый.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419720" y="426708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Х=А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=&gt;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В - </a:t>
            </a:r>
            <a:r>
              <a:rPr b="1" lang="ru-RU" sz="2800" spc="-1" strike="noStrike">
                <a:solidFill>
                  <a:srgbClr val="0099cc"/>
                </a:solidFill>
                <a:latin typeface="Times New Roman"/>
              </a:rPr>
              <a:t>ложно, когда истинно </a:t>
            </a:r>
            <a:r>
              <a:rPr b="1" lang="ru-RU" sz="2800" spc="-1" strike="noStrike">
                <a:solidFill>
                  <a:srgbClr val="cc00ff"/>
                </a:solidFill>
                <a:latin typeface="Times New Roman"/>
              </a:rPr>
              <a:t>А</a:t>
            </a:r>
            <a:r>
              <a:rPr b="1" lang="ru-RU" sz="2800" spc="-1" strike="noStrike">
                <a:solidFill>
                  <a:srgbClr val="0099cc"/>
                </a:solidFill>
                <a:latin typeface="Times New Roman"/>
              </a:rPr>
              <a:t> и ложно </a:t>
            </a:r>
            <a:r>
              <a:rPr b="1" lang="ru-RU" sz="2800" spc="-1" strike="noStrike">
                <a:solidFill>
                  <a:srgbClr val="cc00ff"/>
                </a:solidFill>
                <a:latin typeface="Times New Roman"/>
              </a:rPr>
              <a:t>В </a:t>
            </a:r>
            <a:r>
              <a:rPr b="1" lang="ru-RU" sz="2800" spc="-1" strike="noStrike">
                <a:solidFill>
                  <a:srgbClr val="0099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PETS" descr=""/>
          <p:cNvPicPr/>
          <p:nvPr/>
        </p:nvPicPr>
        <p:blipFill>
          <a:blip r:embed="rId2"/>
          <a:stretch/>
        </p:blipFill>
        <p:spPr>
          <a:xfrm>
            <a:off x="5257800" y="2362320"/>
            <a:ext cx="16765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838080" y="380880"/>
            <a:ext cx="33530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аблица истинности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14400" y="1295280"/>
            <a:ext cx="32004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20574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27432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14400" y="34290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41911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28800" y="12952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743200" y="12952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907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8120" y="14479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971800" y="21337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71800" y="2819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71800" y="35812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123360" y="42670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9051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19520" y="1447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А=&gt; 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06668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8108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812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48120" y="2819520"/>
            <a:ext cx="6858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812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4812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8108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8108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8108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06668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9072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9072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0" y="380880"/>
            <a:ext cx="2819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99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мпликации</a:t>
            </a:r>
            <a:endParaRPr b="1" lang="en-US" sz="2400" spc="1" strike="noStrike">
              <a:ln w="12600">
                <a:solidFill>
                  <a:srgbClr val="ff00ff"/>
                </a:solidFill>
                <a:miter/>
              </a:ln>
              <a:solidFill>
                <a:srgbClr val="ff99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191120" y="2133720"/>
            <a:ext cx="4724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Если первое высказывание (предпосылка)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ложна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, то вне зависимости от второго высказывания (вывода) составное высказывание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истинно.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66680" y="533412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Times New Roman"/>
              </a:rPr>
              <a:t>Таким образом, из неверной предпосылки может следовать что угод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2590920" y="380880"/>
            <a:ext cx="439092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квивалентность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1600200"/>
            <a:ext cx="6400800" cy="19378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- в естественном языке соответствует обороту речи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Тогда и только тогда</a:t>
            </a: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- обозначение (  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=&gt;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- иное название: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равнозначн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9480" y="4419720"/>
            <a:ext cx="8229600" cy="192276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Эквивалентность - это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логическая операция,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ставящая в соответствие каждым двум простым высказываниям составное высказывание, являющееся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истинным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 тогда и только тогда, когда оба исходных высказывания одновременно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истинны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или одновременно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ложны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838080" y="380880"/>
            <a:ext cx="33530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аблица истинности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3" name=""/>
          <p:cNvSpPr/>
          <p:nvPr/>
        </p:nvSpPr>
        <p:spPr>
          <a:xfrm>
            <a:off x="914400" y="1295280"/>
            <a:ext cx="32004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" y="20574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14400" y="27432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14400" y="34290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38080" y="41911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28800" y="12952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743200" y="12952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48120" y="14479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971800" y="21337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971800" y="2819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71800" y="35812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3123360" y="42670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051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19520" y="1447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&lt;</a:t>
            </a: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=&gt;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06668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8108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812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048120" y="2819520"/>
            <a:ext cx="6858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4812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04812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8108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8108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8108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6668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9072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9072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105520" y="6094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91120" y="9907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«Компьютер может производить вычисления.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43400" y="19051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В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«Компьютер включен.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5257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Составное высказыва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58672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Х</a:t>
            </a: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=«Компьютер может производить вычисления тогда и только тогда, когда он включен.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267080" y="42670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Х=А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&lt;=&gt;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 В - </a:t>
            </a:r>
            <a:r>
              <a:rPr b="1" lang="ru-RU" sz="2400" spc="-1" strike="noStrike">
                <a:solidFill>
                  <a:srgbClr val="0099cc"/>
                </a:solidFill>
                <a:latin typeface="Times New Roman"/>
              </a:rPr>
              <a:t>истинно, когда  </a:t>
            </a:r>
            <a:r>
              <a:rPr b="1" lang="ru-RU" sz="2400" spc="-1" strike="noStrike">
                <a:solidFill>
                  <a:srgbClr val="cc00ff"/>
                </a:solidFill>
                <a:latin typeface="Times New Roman"/>
              </a:rPr>
              <a:t>А</a:t>
            </a:r>
            <a:r>
              <a:rPr b="1" lang="ru-RU" sz="2400" spc="-1" strike="noStrike">
                <a:solidFill>
                  <a:srgbClr val="0099cc"/>
                </a:solidFill>
                <a:latin typeface="Times New Roman"/>
              </a:rPr>
              <a:t> и </a:t>
            </a:r>
            <a:r>
              <a:rPr b="1" lang="ru-RU" sz="2400" spc="-1" strike="noStrike">
                <a:solidFill>
                  <a:srgbClr val="cc00ff"/>
                </a:solidFill>
                <a:latin typeface="Times New Roman"/>
              </a:rPr>
              <a:t>В </a:t>
            </a:r>
            <a:r>
              <a:rPr b="1" lang="ru-RU" sz="2400" spc="-1" strike="noStrike">
                <a:solidFill>
                  <a:srgbClr val="0099cc"/>
                </a:solidFill>
                <a:latin typeface="Times New Roman"/>
              </a:rPr>
              <a:t>одновременно </a:t>
            </a:r>
            <a:r>
              <a:rPr b="1" lang="ru-RU" sz="2400" spc="-1" strike="noStrike">
                <a:solidFill>
                  <a:srgbClr val="cc00ff"/>
                </a:solidFill>
                <a:latin typeface="Times New Roman"/>
              </a:rPr>
              <a:t>истинны </a:t>
            </a:r>
            <a:r>
              <a:rPr b="1" lang="ru-RU" sz="2400" spc="-1" strike="noStrike">
                <a:solidFill>
                  <a:srgbClr val="0099cc"/>
                </a:solidFill>
                <a:latin typeface="Times New Roman"/>
              </a:rPr>
              <a:t>или</a:t>
            </a:r>
            <a:r>
              <a:rPr b="1" lang="ru-RU" sz="2400" spc="-1" strike="noStrike">
                <a:solidFill>
                  <a:srgbClr val="cc00ff"/>
                </a:solidFill>
                <a:latin typeface="Times New Roman"/>
              </a:rPr>
              <a:t> А </a:t>
            </a:r>
            <a:r>
              <a:rPr b="1" lang="ru-RU" sz="2400" spc="-1" strike="noStrike">
                <a:solidFill>
                  <a:srgbClr val="0099cc"/>
                </a:solidFill>
                <a:latin typeface="Times New Roman"/>
              </a:rPr>
              <a:t>и</a:t>
            </a:r>
            <a:r>
              <a:rPr b="1" lang="ru-RU" sz="2400" spc="-1" strike="noStrike">
                <a:solidFill>
                  <a:srgbClr val="cc00ff"/>
                </a:solidFill>
                <a:latin typeface="Times New Roman"/>
              </a:rPr>
              <a:t> В </a:t>
            </a:r>
            <a:r>
              <a:rPr b="1" lang="ru-RU" sz="2400" spc="-1" strike="noStrike">
                <a:solidFill>
                  <a:srgbClr val="0099cc"/>
                </a:solidFill>
                <a:latin typeface="Times New Roman"/>
              </a:rPr>
              <a:t>одновременно</a:t>
            </a:r>
            <a:r>
              <a:rPr b="1" lang="ru-RU" sz="2400" spc="-1" strike="noStrike">
                <a:solidFill>
                  <a:srgbClr val="cc00ff"/>
                </a:solidFill>
                <a:latin typeface="Times New Roman"/>
              </a:rPr>
              <a:t> ложны </a:t>
            </a:r>
            <a:r>
              <a:rPr b="1" lang="ru-RU" sz="2400" spc="-1" strike="noStrike">
                <a:solidFill>
                  <a:srgbClr val="0099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BEARDESK" descr=""/>
          <p:cNvPicPr/>
          <p:nvPr/>
        </p:nvPicPr>
        <p:blipFill>
          <a:blip r:embed="rId2"/>
          <a:stretch/>
        </p:blipFill>
        <p:spPr>
          <a:xfrm>
            <a:off x="5562720" y="2438280"/>
            <a:ext cx="154764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762120" y="380880"/>
            <a:ext cx="786744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47ff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Представление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47ff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905120" y="2057400"/>
            <a:ext cx="5479920" cy="8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cc00ff"/>
                    </a:gs>
                    <a:gs pos="100000">
                      <a:srgbClr val="0000c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сложных суждений</a:t>
            </a:r>
            <a:endParaRPr b="1" lang="en-US" sz="6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cc00ff"/>
                  </a:gs>
                  <a:gs pos="100000">
                    <a:srgbClr val="0000cc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676520" y="3200400"/>
            <a:ext cx="6362640" cy="162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в виде формул</a:t>
            </a:r>
            <a:endParaRPr b="1" lang="en-US" sz="6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4"/>
          <a:stretch/>
        </p:blipFill>
        <p:spPr>
          <a:xfrm>
            <a:off x="4267080" y="4724280"/>
            <a:ext cx="6987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352680" y="228600"/>
            <a:ext cx="2048040" cy="11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 </a:t>
            </a:r>
            <a:r>
              <a:rPr b="1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Пример 1</a:t>
            </a:r>
            <a:endParaRPr b="1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2" name=""/>
          <p:cNvSpPr/>
          <p:nvPr/>
        </p:nvSpPr>
        <p:spPr>
          <a:xfrm>
            <a:off x="762120" y="4572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Мы пойдем в театр и будем смотреть балет или пойдем в цирк и посмотрим представл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62120" y="1905120"/>
            <a:ext cx="335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Это сложное логическое выражение состоит из четырех простых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4880" y="1828800"/>
            <a:ext cx="35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А=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«Мы пойдем в театр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0" y="23623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В=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«Мы будем смотреть балет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576680" y="3200400"/>
            <a:ext cx="35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С=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«Мы пойдем в цирк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0" y="3809880"/>
            <a:ext cx="420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D=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«Мы посмотрим представление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1397160" cy="171936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7086600" y="4495680"/>
            <a:ext cx="1549440" cy="15890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1981080" y="4800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Times New Roman"/>
              </a:rPr>
              <a:t>Запись сложного логического выражения с помощью формул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90720" y="5486400"/>
            <a:ext cx="25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X=A*B+C*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1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3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3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200"/>
                            </p:stCondLst>
                            <p:childTnLst>
                              <p:par>
                                <p:cTn id="72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7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8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3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3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600"/>
                            </p:stCondLst>
                            <p:childTnLst>
                              <p:par>
                                <p:cTn id="8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1100"/>
                            </p:stCondLst>
                            <p:childTnLst>
                              <p:par>
                                <p:cTn id="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1600"/>
                            </p:stCondLst>
                            <p:childTnLst>
                              <p:par>
                                <p:cTn id="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124080" y="304920"/>
            <a:ext cx="2048040" cy="11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 </a:t>
            </a:r>
            <a:r>
              <a:rPr b="1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Пример 2</a:t>
            </a:r>
            <a:endParaRPr b="1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" y="45720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Люди получают высшее образование тогда, когда они заканчивают институт, университет или академ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38080" y="19051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79280" y="191628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Это сложное логическое высказывание состоит из четырех просты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672000" y="191628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А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«Люди получают высшее образование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708360" y="256536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В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«Люди заканчивают институт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752480" y="4800600"/>
            <a:ext cx="52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3300"/>
                </a:solidFill>
                <a:latin typeface="Times New Roman"/>
              </a:rPr>
              <a:t>Запись сложного логического высказывания с помощью формул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62120" y="563868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imes New Roman"/>
              </a:rPr>
              <a:t>X = A &lt;=&gt; B \/ C \/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08360" y="321300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С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«Люди заканчивают университет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708360" y="386064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«Люди заканчивают академию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1042920" y="3213000"/>
            <a:ext cx="113364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3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3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3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3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3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3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3124080" y="304920"/>
            <a:ext cx="2057400" cy="11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 </a:t>
            </a:r>
            <a:r>
              <a:rPr b="1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Пример 3</a:t>
            </a:r>
            <a:endParaRPr b="1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4" name=""/>
          <p:cNvSpPr/>
          <p:nvPr/>
        </p:nvSpPr>
        <p:spPr>
          <a:xfrm>
            <a:off x="304920" y="4572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Спортсмен подлежит дисквалификации, если он некорректно ведет себя по отношению к сопернику или судье, и если он принимал допинг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19051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791320" y="5257800"/>
            <a:ext cx="3047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Это сложное логическое высказывание состоит из четырех просты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8600" y="16765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А =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«Спортсмен подлежит дисквалификации.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" y="22096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В =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«Он некорректно ведет себя по отношению к сопернику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8600" y="26668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С =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«Он некорректно ведет себя по отношению к судье 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752480" y="4800600"/>
            <a:ext cx="52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3300"/>
                </a:solidFill>
                <a:latin typeface="Times New Roman"/>
              </a:rPr>
              <a:t>Запись сложного логического высказывания с помощью формул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2120" y="563868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imes New Roman"/>
              </a:rPr>
              <a:t>X = (B + C) * D  =&gt; 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8600" y="31240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D</a:t>
            </a: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 = 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«Он принимал допинг 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SOCRPLY2" descr=""/>
          <p:cNvPicPr/>
          <p:nvPr/>
        </p:nvPicPr>
        <p:blipFill>
          <a:blip r:embed="rId2"/>
          <a:stretch/>
        </p:blipFill>
        <p:spPr>
          <a:xfrm>
            <a:off x="7620120" y="3276720"/>
            <a:ext cx="72072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2590920" y="380880"/>
            <a:ext cx="4006800" cy="28576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552600" y="4191120"/>
            <a:ext cx="85914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Проверка усвоения материала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81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90720" y="5562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cc99"/>
                </a:solidFill>
                <a:uFillTx/>
                <a:latin typeface="Times New Roman"/>
                <a:hlinkClick r:id="rId3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066680" y="762120"/>
            <a:ext cx="699156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ные операции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33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09480" y="2362320"/>
            <a:ext cx="8163000" cy="13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алгебры высказываний</a:t>
            </a:r>
            <a:endParaRPr b="1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20923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971800" y="380880"/>
            <a:ext cx="32860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версия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1981080"/>
            <a:ext cx="7924680" cy="24940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- в естественном языке соответствует словам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не верно </a:t>
            </a: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и частице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не</a:t>
            </a: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- обозначение (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 А,    А )</a:t>
            </a: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- в языке программирования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not</a:t>
            </a: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- иное название: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отрицание</a:t>
            </a: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95480" y="2971800"/>
            <a:ext cx="2286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2971800"/>
            <a:ext cx="15264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05320" y="2971800"/>
            <a:ext cx="0" cy="2286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90720" y="380880"/>
            <a:ext cx="7467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Отрицание - это логическая операция, которая каждому простому высказыванию ставит в соответствие составное высказывание, заключающееся в том, что исходное высказывание отрицает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33520" y="2362320"/>
            <a:ext cx="335268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аблица истинности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3048120"/>
            <a:ext cx="281952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1200" y="373392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33720" y="3048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3200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3200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66880" y="3200400"/>
            <a:ext cx="228600" cy="0"/>
          </a:xfrm>
          <a:prstGeom prst="line">
            <a:avLst/>
          </a:prstGeom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449568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3962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3962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47242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0" y="4724280"/>
            <a:ext cx="11430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05520" y="26668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imes New Roman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86200" y="35053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А=«Мы любим информатику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44197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А=«Мы не любим информатику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33920" y="5257800"/>
            <a:ext cx="51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Определите,  какое из этих высказываний является для Вас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истинным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, а какое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ложным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038480" y="4419720"/>
            <a:ext cx="228600" cy="0"/>
          </a:xfrm>
          <a:prstGeom prst="line">
            <a:avLst/>
          </a:prstGeom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590920" y="380880"/>
            <a:ext cx="439092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нъюнкция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600200"/>
            <a:ext cx="5791320" cy="24940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- в естественном языке соответствует союзу </a:t>
            </a:r>
            <a:r>
              <a:rPr b="1" lang="ru-RU" sz="2400" spc="-1" strike="noStrike" u="sng">
                <a:solidFill>
                  <a:srgbClr val="cc0000"/>
                </a:solidFill>
                <a:uFillTx/>
                <a:latin typeface="Times New Roman"/>
              </a:rPr>
              <a:t>и</a:t>
            </a: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- обозначение (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&amp;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,  ^, * )</a:t>
            </a: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- в языке программирования </a:t>
            </a:r>
            <a:r>
              <a:rPr b="1" lang="ru-RU" sz="2400" spc="-1" strike="noStrike" u="sng">
                <a:solidFill>
                  <a:srgbClr val="cc0000"/>
                </a:solidFill>
                <a:uFillTx/>
                <a:latin typeface="Times New Roman"/>
              </a:rPr>
              <a:t>and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- иное название: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логическое умножение</a:t>
            </a: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4419720"/>
            <a:ext cx="792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Конъюнкция - это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логическая операция,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ставящая в соответствие каждым двум простым высказываниям составное высказывание, являющееся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истинным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 тогда и только тогда, когда оба исходных высказывания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истинны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8080" y="380880"/>
            <a:ext cx="33530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аблица истинности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1295280"/>
            <a:ext cx="32004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20574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27432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14400" y="34290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41911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12952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43200" y="12952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8120" y="14479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71800" y="21337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819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71800" y="35812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3123360" y="42670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051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19520" y="1447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А*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8108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812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8120" y="289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812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8108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8108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52880" y="1523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2286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«Сегодня солнечный день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43400" y="30481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В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«Мы пойдем купаться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5257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Составное высказыва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58672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Х</a:t>
            </a: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=«Сегодня солнечный день, и мы пойдем купаться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24280" y="3733920"/>
            <a:ext cx="3505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Х=А*В - </a:t>
            </a:r>
            <a:r>
              <a:rPr b="1" lang="en-US" sz="2800" spc="-1" strike="noStrike">
                <a:solidFill>
                  <a:srgbClr val="0099cc"/>
                </a:solidFill>
                <a:latin typeface="Times New Roman"/>
              </a:rPr>
              <a:t>истинно, когда истинно </a:t>
            </a:r>
            <a:r>
              <a:rPr b="1" lang="en-US" sz="2800" spc="-1" strike="noStrike">
                <a:solidFill>
                  <a:srgbClr val="cc00ff"/>
                </a:solidFill>
                <a:latin typeface="Times New Roman"/>
              </a:rPr>
              <a:t>А</a:t>
            </a:r>
            <a:r>
              <a:rPr b="1" lang="en-US" sz="2800" spc="-1" strike="noStrike">
                <a:solidFill>
                  <a:srgbClr val="0099cc"/>
                </a:solidFill>
                <a:latin typeface="Times New Roman"/>
              </a:rPr>
              <a:t> и истинно </a:t>
            </a:r>
            <a:r>
              <a:rPr b="1" lang="en-US" sz="2800" spc="-1" strike="noStrike">
                <a:solidFill>
                  <a:srgbClr val="cc00ff"/>
                </a:solidFill>
                <a:latin typeface="Times New Roman"/>
              </a:rPr>
              <a:t>В</a:t>
            </a:r>
            <a:r>
              <a:rPr b="1" lang="en-US" sz="2800" spc="-1" strike="noStrike">
                <a:solidFill>
                  <a:srgbClr val="0099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2590920" y="380880"/>
            <a:ext cx="439092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изъюнкция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1600200"/>
            <a:ext cx="5791320" cy="24940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- в естественном языке соответствует союзу </a:t>
            </a:r>
            <a:r>
              <a:rPr b="1" lang="ru-RU" sz="2400" spc="-1" strike="noStrike" u="sng">
                <a:solidFill>
                  <a:srgbClr val="cc0000"/>
                </a:solidFill>
                <a:uFillTx/>
                <a:latin typeface="Times New Roman"/>
              </a:rPr>
              <a:t>или</a:t>
            </a: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- обозначение (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 , + )</a:t>
            </a: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- в языке программирования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or</a:t>
            </a: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- иное название: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логическое сложение</a:t>
            </a: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441972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Дизъюнкция - это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логическая операция,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ставящая в соответствие каждым двум простым высказываниям составное высказывание, являющееся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ложным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 тогда и только тогда, когда оба исходных высказывания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ложны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и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истинным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, когда хотя бы одно из двух образующих его высказываний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истинно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8080" y="380880"/>
            <a:ext cx="33530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аблица истинности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1295280"/>
            <a:ext cx="32004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20574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27432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4400" y="34290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41911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12952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2952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8120" y="14479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71800" y="21337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71800" y="2819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71800" y="35812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3123360" y="42670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05120" y="1447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447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А + 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8108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812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8120" y="2819520"/>
            <a:ext cx="6858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812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812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8108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8108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8108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6668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6668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52880" y="1523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43400" y="2286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«Снег пойдет ночью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43400" y="30481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В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«Снег пойдет утром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14400" y="5257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Составное высказыва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14400" y="58672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Х</a:t>
            </a: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=«Снег пойдет ночью или утром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95680" y="373392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Х=А + В - </a:t>
            </a:r>
            <a:r>
              <a:rPr b="1" lang="en-US" sz="2800" spc="-1" strike="noStrike">
                <a:solidFill>
                  <a:srgbClr val="0099cc"/>
                </a:solidFill>
                <a:latin typeface="Times New Roman"/>
              </a:rPr>
              <a:t>истинно, когда истинно </a:t>
            </a:r>
            <a:r>
              <a:rPr b="1" lang="en-US" sz="2800" spc="-1" strike="noStrike">
                <a:solidFill>
                  <a:srgbClr val="cc00ff"/>
                </a:solidFill>
                <a:latin typeface="Times New Roman"/>
              </a:rPr>
              <a:t>А</a:t>
            </a:r>
            <a:r>
              <a:rPr b="1" lang="en-US" sz="2800" spc="-1" strike="noStrike">
                <a:solidFill>
                  <a:srgbClr val="0099cc"/>
                </a:solidFill>
                <a:latin typeface="Times New Roman"/>
              </a:rPr>
              <a:t> или </a:t>
            </a:r>
            <a:r>
              <a:rPr b="1" lang="en-US" sz="2800" spc="-1" strike="noStrike">
                <a:solidFill>
                  <a:srgbClr val="cc00ff"/>
                </a:solidFill>
                <a:latin typeface="Times New Roman"/>
              </a:rPr>
              <a:t>В </a:t>
            </a:r>
            <a:r>
              <a:rPr b="1" lang="en-US" sz="2800" spc="-1" strike="noStrike">
                <a:solidFill>
                  <a:srgbClr val="0099cc"/>
                </a:solidFill>
                <a:latin typeface="Times New Roman"/>
              </a:rPr>
              <a:t>или оба высказывания истин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2590920" y="380880"/>
            <a:ext cx="439092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мпликация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1600200"/>
            <a:ext cx="6400800" cy="19378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- в естественном языке соответствует обороту </a:t>
            </a:r>
            <a:r>
              <a:rPr b="1" lang="ru-RU" sz="2400" spc="-1" strike="noStrike" u="sng">
                <a:solidFill>
                  <a:srgbClr val="cc0000"/>
                </a:solidFill>
                <a:uFillTx/>
                <a:latin typeface="Times New Roman"/>
              </a:rPr>
              <a:t>Если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…, </a:t>
            </a:r>
            <a:r>
              <a:rPr b="1" lang="ru-RU" sz="2400" spc="-1" strike="noStrike" u="sng">
                <a:solidFill>
                  <a:srgbClr val="cc0000"/>
                </a:solidFill>
                <a:uFillTx/>
                <a:latin typeface="Times New Roman"/>
              </a:rPr>
              <a:t>то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...</a:t>
            </a: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- обозначение (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&gt;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=&gt;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- иное название: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логическое следование</a:t>
            </a: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4419720"/>
            <a:ext cx="8229600" cy="155700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Импликация - это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логическая операция,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ставящая в соответствие каждым двум простым высказываниям составное высказывание, являющееся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ложным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 тогда и только тогда, когда условие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истинно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, а следствие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ложно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5T17:30:24Z</dcterms:created>
  <dc:creator>1</dc:creator>
  <dc:description/>
  <dc:language>en-US</dc:language>
  <cp:lastModifiedBy>Ирина</cp:lastModifiedBy>
  <dcterms:modified xsi:type="dcterms:W3CDTF">2012-12-04T17:22:01Z</dcterms:modified>
  <cp:revision>42</cp:revision>
  <dc:subject/>
  <dc:title>Заголовок слайда отсутствует</dc:title>
</cp:coreProperties>
</file>