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1.wmf" ContentType="image/x-wmf"/>
  <Override PartName="/ppt/media/CLAP.WAV" ContentType="audio/x-wav"/>
  <Override PartName="/ppt/media/image10.gif" ContentType="image/gif"/>
  <Override PartName="/ppt/media/image8.wmf" ContentType="image/x-wmf"/>
  <Override PartName="/ppt/media/image18.gif" ContentType="image/gif"/>
  <Override PartName="/ppt/media/image14.wmf" ContentType="image/x-wmf"/>
  <Override PartName="/ppt/media/image9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6.gif" ContentType="image/gif"/>
  <Override PartName="/ppt/media/image17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2C2-147F-4752-8EBD-C3B519BD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5B8-6841-4443-B277-C74C886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687-23FC-4DAA-8B28-852ECD83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845-BE3C-45F7-8FB5-B0112511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0BFC-5628-4335-8EF4-E559EAB8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080B-89E5-4AA3-B76A-68E12552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F3F-3FA6-48BD-B1D9-AE18084D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87B2-F1FF-4FEC-A8B1-2442AD15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B38-A28A-4553-B797-692F8B89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06C3-E340-4D4A-98D2-6BD12DF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695C-CA59-4C40-840F-4E6E570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307-82A4-4723-8661-814CAFB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261-6D9A-4BCE-8A1B-5B448B9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BDD6-6AE5-44CD-972A-E592597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7ED9-3E16-4F3B-8AF3-0F6CF95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4B78-F4F4-468D-BFA5-B1A1864F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9BEC-3C6C-41F1-9F42-E8DC06DB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5C2-6029-4177-BF70-8F38153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632-3BD4-4A9B-8344-5DEC6D04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53C-24F9-4E90-8249-DB1DBA6F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35E-67B3-4155-8900-13FB18DD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AC5-54E0-4CDD-AF64-9CFC9FF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F20-393E-41C2-B3DB-91643B67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E17-BC47-4BB9-A12E-7B486767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B856-BAB5-4E06-9E95-EAC53EE57CC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CFED-6309-4108-BD88-FE6D7C0520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gubakha.ru/joom/images/stories/0101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835280" y="47628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збу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763640" y="3165480"/>
            <a:ext cx="604836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703d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вовых знаний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703d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724360" y="573264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авелко И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Щекинова М.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116000" y="765000"/>
            <a:ext cx="6840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Шестнадцатилетний подросток пришел устраиваться на работу. С ним составляют трудовой договор, назначают день выхода на работ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опрос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Имеет ли право несовершеннолетний трудоустроиться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042920" y="3068640"/>
            <a:ext cx="684216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Несовершеннолетний с 16 лет может быть признан полностью дееспособным, если работает по трудовому договору или контракту. При этом родители ответственности за него не несут. Ст. 63 Т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116000" y="620640"/>
            <a:ext cx="727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венадцатилетний Олег хвастается перед другом: «Мне всего 12 лет, а я уже зарабатываю, имею карманные деньги. И друг мой Леша тоже предпринимательской деятельностью занимается, немалый доход имеет. Только не ленись!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меют ли право Олег 12 лет и Алексей 17 лет заниматься предпринимательской деятельностью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71640" y="3645000"/>
            <a:ext cx="727236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С согласия родителей подросток с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 лет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может заниматься предпринимательской деятельностью. При этом родители не несут за него ответственности. Ст. 27 Г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Дети с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 до 14 лет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самостоятельно могут совершать только мелкие бытовые сделки (без денег). Все остальное за них совершают родители и отвечают за сделки детей. Ст. 28 Г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042920" y="476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улице шестнадцатилетние парни пристают к прохожим, нарушают общественный порядок и спокойств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Как вы оцениваете данные действия и можно ли этих подростков наказать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042920" y="2997360"/>
            <a:ext cx="6985080" cy="2014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. Это расценивается как мелкое хулиганство (ст. 158). Нецензурная брань в общественных местах, оскорбительное поведение по отношению к прохожим и другие действия, нарушающие порядок и спокойствие граждан – это мелкое хулиганство, и за него предусмотрен штраф до одной минимальной зарплаты, при повторном нарушении – постановка на учет в ИД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826920" y="620640"/>
            <a:ext cx="727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сколько школьников залезли в гараж, но ничего не взяв и не сделав, ушли. Кто-то их видел и рассказал об этом в мили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: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удут ли ребята наказан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357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Наказания не последует: был добровольный отказ от преступления (ст. 31 УПК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ам предстоит по описанию узнать знаменитых героев популярных фильмов, а также назвать другие кинокартины, в которых встречались эти герои. Итак, ответ принимается при поднятии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1916280"/>
            <a:ext cx="792180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Он почти неизвестен за границей, но был начальником отдела по борьбе с бандитизмом в МУРе. Гонялся за «черной кошкой». Считал, что вор должен сидеть в тюрьм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39640" y="3068640"/>
            <a:ext cx="741708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Живет в Лондоне. Он не музыкант, но музыка помогает ему в работе. Его любимый инструмент – скрипка. Его любимая опера – «Волшебная флейта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8" descr="Картинка 2 из 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437000"/>
            <a:ext cx="225108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i?id=324734170-06-24"/>
          <p:cNvPicPr/>
          <p:nvPr/>
        </p:nvPicPr>
        <p:blipFill>
          <a:blip r:embed="rId4"/>
          <a:stretch/>
        </p:blipFill>
        <p:spPr>
          <a:xfrm>
            <a:off x="4932360" y="4365720"/>
            <a:ext cx="2735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403280" y="47628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свидания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1523880" y="5029200"/>
            <a:ext cx="60580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До новых встреч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4" descr="FIREWRK7"/>
          <p:cNvPicPr/>
          <p:nvPr/>
        </p:nvPicPr>
        <p:blipFill>
          <a:blip r:embed="rId2"/>
          <a:stretch/>
        </p:blipFill>
        <p:spPr>
          <a:xfrm>
            <a:off x="2971800" y="1974960"/>
            <a:ext cx="3276720" cy="2976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ANIMKROK"/>
          <p:cNvPicPr/>
          <p:nvPr/>
        </p:nvPicPr>
        <p:blipFill>
          <a:blip r:embed="rId3"/>
          <a:stretch/>
        </p:blipFill>
        <p:spPr>
          <a:xfrm>
            <a:off x="3132000" y="1773360"/>
            <a:ext cx="31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1413000"/>
            <a:ext cx="68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рал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это совокупность правил, принятых в обществе регулирующих поступки каждого члена этого общества. Правила морали требуют от человека «владеть собою настолько, чтобы уважать других, как самого себя, и поступать с ними так, как мы желаем, чтобы поступали с нами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ение правил морали привело бы к неконфликтному осуществованию всех членов общества. Но, к сожалению, некоторые члены общества нарушают моральные нормы и совершают моральные поступ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71640" y="54936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а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42920" y="17002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стоинство (охраняет государств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у и личную неприкосновен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042920" y="314172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еприкосновенность частной жизни, личную и семейную тайну, защиту своей чести и доброго и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 тайну переписки, телефонных переговоров, почтовых, телеграфных и иных сообщ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Жилище неприкосновен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а мысли и сл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ъединение, включая право создавать профессиональные союзы для защиты своих интер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j0339018"/>
          <p:cNvPicPr/>
          <p:nvPr/>
        </p:nvPicPr>
        <p:blipFill>
          <a:blip r:embed="rId4"/>
          <a:stretch/>
        </p:blipFill>
        <p:spPr>
          <a:xfrm>
            <a:off x="1908000" y="4365720"/>
            <a:ext cx="15814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83214"/>
          <p:cNvPicPr/>
          <p:nvPr/>
        </p:nvPicPr>
        <p:blipFill>
          <a:blip r:embed="rId5"/>
          <a:stretch/>
        </p:blipFill>
        <p:spPr>
          <a:xfrm>
            <a:off x="5796000" y="4437000"/>
            <a:ext cx="162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00000" y="1773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участвовать в управлении делами государства как непосредственно, так и через своих представ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меют право избирать и быть избранными в органы государственной власти и органы местного самоуправления, а также участвовать в референдум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щаться лично, а также направлять индивидуальные и коллективные обращения в государственные органы и органы местного самоуправления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42920" y="1773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имеет право свободно распоряжаться своими способностями к труду, выбирать род деятельности и професс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40719"/>
          <p:cNvPicPr/>
          <p:nvPr/>
        </p:nvPicPr>
        <p:blipFill>
          <a:blip r:embed="rId4"/>
          <a:stretch/>
        </p:blipFill>
        <p:spPr>
          <a:xfrm>
            <a:off x="1908000" y="503064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j0234696"/>
          <p:cNvPicPr/>
          <p:nvPr/>
        </p:nvPicPr>
        <p:blipFill>
          <a:blip r:embed="rId5"/>
          <a:stretch/>
        </p:blipFill>
        <p:spPr>
          <a:xfrm>
            <a:off x="7164360" y="4724280"/>
            <a:ext cx="1247760" cy="11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j0295176"/>
          <p:cNvPicPr/>
          <p:nvPr/>
        </p:nvPicPr>
        <p:blipFill>
          <a:blip r:embed="rId6"/>
          <a:stretch/>
        </p:blipFill>
        <p:spPr>
          <a:xfrm>
            <a:off x="4211640" y="5157720"/>
            <a:ext cx="1728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4292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на жилищ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 охрану здоровья и медицинскую помощ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j0200497"/>
          <p:cNvPicPr/>
          <p:nvPr/>
        </p:nvPicPr>
        <p:blipFill>
          <a:blip r:embed="rId4"/>
          <a:stretch/>
        </p:blipFill>
        <p:spPr>
          <a:xfrm>
            <a:off x="1258920" y="3429000"/>
            <a:ext cx="2521080" cy="177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216724"/>
          <p:cNvPicPr/>
          <p:nvPr/>
        </p:nvPicPr>
        <p:blipFill>
          <a:blip r:embed="rId5"/>
          <a:stretch/>
        </p:blipFill>
        <p:spPr>
          <a:xfrm>
            <a:off x="6012000" y="3284640"/>
            <a:ext cx="2062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4292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на образо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льзование учреждениями куль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j0303470"/>
          <p:cNvPicPr/>
          <p:nvPr/>
        </p:nvPicPr>
        <p:blipFill>
          <a:blip r:embed="rId4"/>
          <a:stretch/>
        </p:blipFill>
        <p:spPr>
          <a:xfrm>
            <a:off x="1547640" y="3789360"/>
            <a:ext cx="1944720" cy="134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1943"/>
          <p:cNvPicPr/>
          <p:nvPr/>
        </p:nvPicPr>
        <p:blipFill>
          <a:blip r:embed="rId5"/>
          <a:stretch/>
        </p:blipFill>
        <p:spPr>
          <a:xfrm>
            <a:off x="5580000" y="3573360"/>
            <a:ext cx="2259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258920" y="177336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н платить законно установленные налоги и сбо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н сохранять природу и окружающую среду, бережно относиться к природным богатства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щита Отечества является долгом и обязанностью гражданин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116000" y="404640"/>
            <a:ext cx="662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язанности гражданина Р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0" name="Picture 6" descr="j0283531"/>
          <p:cNvPicPr/>
          <p:nvPr/>
        </p:nvPicPr>
        <p:blipFill>
          <a:blip r:embed="rId4"/>
          <a:stretch/>
        </p:blipFill>
        <p:spPr>
          <a:xfrm>
            <a:off x="1692360" y="5084640"/>
            <a:ext cx="1511280" cy="85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234759"/>
          <p:cNvPicPr/>
          <p:nvPr/>
        </p:nvPicPr>
        <p:blipFill>
          <a:blip r:embed="rId5"/>
          <a:stretch/>
        </p:blipFill>
        <p:spPr>
          <a:xfrm>
            <a:off x="3851280" y="4653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346681"/>
          <p:cNvPicPr/>
          <p:nvPr/>
        </p:nvPicPr>
        <p:blipFill>
          <a:blip r:embed="rId6"/>
          <a:stretch/>
        </p:blipFill>
        <p:spPr>
          <a:xfrm>
            <a:off x="6084720" y="4581360"/>
            <a:ext cx="2016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6:44:15Z</dcterms:created>
  <dc:creator>Ирина</dc:creator>
  <dc:description/>
  <dc:language>en-US</dc:language>
  <cp:lastModifiedBy>Ирина</cp:lastModifiedBy>
  <dcterms:modified xsi:type="dcterms:W3CDTF">2012-06-03T15:48:38Z</dcterms:modified>
  <cp:revision>16</cp:revision>
  <dc:subject/>
  <dc:title>Слайд 1</dc:title>
</cp:coreProperties>
</file>