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gif" ContentType="image/gif"/>
  <Override PartName="/ppt/media/image16.jpeg" ContentType="image/jpeg"/>
  <Override PartName="/ppt/media/image11.wmf" ContentType="image/x-wmf"/>
  <Override PartName="/ppt/media/CLAP.WAV" ContentType="audio/x-wav"/>
  <Override PartName="/ppt/media/image10.gif" ContentType="image/gif"/>
  <Override PartName="/ppt/media/image8.wmf" ContentType="image/x-wmf"/>
  <Override PartName="/ppt/media/image18.gif" ContentType="image/gif"/>
  <Override PartName="/ppt/media/image14.wmf" ContentType="image/x-wmf"/>
  <Override PartName="/ppt/media/image9.wmf" ContentType="image/x-wmf"/>
  <Override PartName="/ppt/media/image2.jpeg" ContentType="image/jpeg"/>
  <Override PartName="/ppt/media/image3.wmf" ContentType="image/x-wmf"/>
  <Override PartName="/ppt/media/image15.jpeg" ContentType="image/jpeg"/>
  <Override PartName="/ppt/media/image6.gif" ContentType="image/gif"/>
  <Override PartName="/ppt/media/image17.wmf" ContentType="image/x-wmf"/>
  <Override PartName="/ppt/media/image1.jpeg" ContentType="image/jpeg"/>
  <Override PartName="/ppt/media/image4.gif" ContentType="image/gif"/>
  <Override PartName="/ppt/media/image5.wmf" ContentType="image/x-wmf"/>
  <Override PartName="/ppt/media/image7.gif" ContentType="image/gif"/>
  <Override PartName="/ppt/media/image12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6937D-51F0-4CBB-994F-9F6CA16A8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B8438-72A6-4137-A236-DD9E4D947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4FF46-5DEE-42C6-A005-E168ADF58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00736-C569-4CCF-B77C-677C01521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14DDA-A0A1-40E5-9F69-BF7D916AB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6FBB5-1EA8-4238-ADD3-A6D480046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FC70B-726B-4EC0-A524-27A2B1974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03265-A0FE-4C22-8D35-2E489312D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DF02A-10B6-4723-9FB5-BC7EA60E1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9ED79-7FD4-4E01-9C40-0F5FFA282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21965-14B8-4252-BC83-E9177DD36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47BE0-52A2-41EE-A766-D83EA4788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D9754-A2FC-45C2-85E2-3B224F112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61987-DC08-4302-B684-96F247F7B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A3B2A-41D5-48A6-A800-85FCB6AA2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EADE9-1D7E-4161-8A74-B0F5CB518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ACE18-25DC-4EFD-804C-E5918AA34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D30EF-F139-4BF9-A983-AF9853376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14B20-2CB8-466F-85BD-0FF5A3B4C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4A8E5-9503-4F69-B0E7-57B79BCDE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F606B-FC32-45E9-995F-64415C556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7DF18-0AB4-4289-B4B4-1C18F5957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3144B-6A0C-4AFF-8D0C-CABC2D5B3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1185E-D16D-4C81-BE61-D926632FC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4FE6D-6EE7-4DCC-ACD5-7EA30BB9E7D1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>
                    <a:gd name="textAreaLeft" fmla="*/ 0 w 243000"/>
                    <a:gd name="textAreaRight" fmla="*/ 243360 w 24300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>
                    <a:gd name="textAreaLeft" fmla="*/ 0 w 427320"/>
                    <a:gd name="textAreaRight" fmla="*/ 427680 w 427320"/>
                    <a:gd name="textAreaTop" fmla="*/ 0 h 695160"/>
                    <a:gd name="textAreaBottom" fmla="*/ 695520 h 69516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>
                    <a:gd name="textAreaLeft" fmla="*/ 0 w 801720"/>
                    <a:gd name="textAreaRight" fmla="*/ 802080 w 80172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>
                    <a:gd name="textAreaLeft" fmla="*/ 0 w 1203480"/>
                    <a:gd name="textAreaRight" fmla="*/ 1203840 w 120348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>
                    <a:gd name="textAreaLeft" fmla="*/ 0 w 268200"/>
                    <a:gd name="textAreaRight" fmla="*/ 268560 w 26820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>
                    <a:gd name="textAreaLeft" fmla="*/ 0 w 287640"/>
                    <a:gd name="textAreaRight" fmla="*/ 288000 w 28764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>
                    <a:gd name="textAreaLeft" fmla="*/ 0 w 287280"/>
                    <a:gd name="textAreaRight" fmla="*/ 287640 w 28728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>
                    <a:gd name="textAreaLeft" fmla="*/ 0 w 284040"/>
                    <a:gd name="textAreaRight" fmla="*/ 284400 w 284040"/>
                    <a:gd name="textAreaTop" fmla="*/ 0 h 218880"/>
                    <a:gd name="textAreaBottom" fmla="*/ 219240 h 21888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5120"/>
                <a:gd name="textAreaBottom" fmla="*/ 465480 h 46512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60440"/>
                <a:gd name="textAreaBottom" fmla="*/ 460800 h 46044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>
                <a:gd name="textAreaLeft" fmla="*/ 0 w 660600"/>
                <a:gd name="textAreaRight" fmla="*/ 660960 w 660600"/>
                <a:gd name="textAreaTop" fmla="*/ 0 h 420840"/>
                <a:gd name="textAreaBottom" fmla="*/ 421200 h 4208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840"/>
                  <a:gd name="textAreaBottom" fmla="*/ 97200 h 9684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3920"/>
                  <a:gd name="textAreaBottom" fmla="*/ 494280 h 4939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9360"/>
                  <a:gd name="textAreaBottom" fmla="*/ 279720 h 27936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87560"/>
                  <a:gd name="textAreaBottom" fmla="*/ 187920 h 18756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72AD3-D182-43CE-9FB0-9B94FB373792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newgubakha.ru/joom/images/stories/0101.jpg" TargetMode="External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wmf"/><Relationship Id="rId3" Type="http://schemas.openxmlformats.org/officeDocument/2006/relationships/image" Target="../media/image18.gif"/><Relationship Id="rId4" Type="http://schemas.openxmlformats.org/officeDocument/2006/relationships/audio" Target="../media/CLAP.WAV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3.wmf"/><Relationship Id="rId5" Type="http://schemas.openxmlformats.org/officeDocument/2006/relationships/image" Target="../media/image4.gif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5.wmf"/><Relationship Id="rId5" Type="http://schemas.openxmlformats.org/officeDocument/2006/relationships/image" Target="../media/image6.gif"/><Relationship Id="rId6" Type="http://schemas.openxmlformats.org/officeDocument/2006/relationships/image" Target="../media/image7.gif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10.gif"/><Relationship Id="rId5" Type="http://schemas.openxmlformats.org/officeDocument/2006/relationships/image" Target="../media/image11.wmf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12.gif"/><Relationship Id="rId5" Type="http://schemas.openxmlformats.org/officeDocument/2006/relationships/image" Target="../media/image13.gif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WordArt 4"/>
          <p:cNvSpPr txBox="1"/>
          <p:nvPr/>
        </p:nvSpPr>
        <p:spPr>
          <a:xfrm>
            <a:off x="1835280" y="476280"/>
            <a:ext cx="5761080" cy="252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Азбук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52" name="WordArt 5"/>
          <p:cNvSpPr txBox="1"/>
          <p:nvPr/>
        </p:nvSpPr>
        <p:spPr>
          <a:xfrm>
            <a:off x="1763640" y="3165480"/>
            <a:ext cx="604836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703dff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правовых знаний</a:t>
            </a:r>
            <a:endParaRPr b="1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0000ff"/>
                  </a:gs>
                  <a:gs pos="100000">
                    <a:srgbClr val="703dff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53" name="TextBox 5"/>
          <p:cNvSpPr/>
          <p:nvPr/>
        </p:nvSpPr>
        <p:spPr>
          <a:xfrm>
            <a:off x="5724360" y="5732640"/>
            <a:ext cx="288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Monotype Corsiva"/>
              </a:rPr>
              <a:t>Павелко И.В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Monotype Corsiva"/>
              </a:rPr>
              <a:t>Щекинова М.Н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 Box 4"/>
          <p:cNvSpPr/>
          <p:nvPr/>
        </p:nvSpPr>
        <p:spPr>
          <a:xfrm>
            <a:off x="1116000" y="765000"/>
            <a:ext cx="6840720" cy="21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Ситуация 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Шестнадцатилетний подросток пришел устраиваться на работу. С ним составляют трудовой договор, назначают день выхода на работу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Вопрос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.</a:t>
            </a:r>
            <a:r>
              <a:rPr b="1" lang="en-US" sz="1800" spc="-1" strike="noStrike">
                <a:solidFill>
                  <a:srgbClr val="6600ff"/>
                </a:solidFill>
                <a:latin typeface="Arial"/>
              </a:rPr>
              <a:t> Имеет ли право несовершеннолетний трудоустроиться?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Text Box 5"/>
          <p:cNvSpPr/>
          <p:nvPr/>
        </p:nvSpPr>
        <p:spPr>
          <a:xfrm>
            <a:off x="1042920" y="3068640"/>
            <a:ext cx="6842160" cy="11912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Да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. Несовершеннолетний с 16 лет может быть признан полностью дееспособным, если работает по трудовому договору или контракту. При этом родители ответственности за него не несут. Ст. 63 ТК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1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4" dur="2000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 Box 4"/>
          <p:cNvSpPr/>
          <p:nvPr/>
        </p:nvSpPr>
        <p:spPr>
          <a:xfrm>
            <a:off x="1116000" y="620640"/>
            <a:ext cx="7272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Ситуация 2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Двенадцатилетний Олег хвастается перед другом: «Мне всего 12 лет, а я уже зарабатываю, имею карманные деньги. И друг мой Леша тоже предпринимательской деятельностью занимается, немалый доход имеет. Только не ленись!»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ff"/>
                </a:solidFill>
                <a:latin typeface="Arial"/>
              </a:rPr>
              <a:t>Вопрос: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Имеют ли право Олег 12 лет и Алексей 17 лет заниматься предпринимательской деятельностью?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971640" y="3645000"/>
            <a:ext cx="7272360" cy="17398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ff"/>
                </a:solidFill>
                <a:latin typeface="Arial"/>
              </a:rPr>
              <a:t>С согласия родителей подросток с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6 лет</a:t>
            </a:r>
            <a:r>
              <a:rPr b="1" lang="en-US" sz="1800" spc="-1" strike="noStrike">
                <a:solidFill>
                  <a:srgbClr val="6600ff"/>
                </a:solidFill>
                <a:latin typeface="Arial"/>
              </a:rPr>
              <a:t> может заниматься предпринимательской деятельностью. При этом родители не несут за него ответственности. Ст. 27 ГК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ff"/>
                </a:solidFill>
                <a:latin typeface="Arial"/>
              </a:rPr>
              <a:t>Дети с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6 до 14 лет</a:t>
            </a:r>
            <a:r>
              <a:rPr b="1" lang="en-US" sz="1800" spc="-1" strike="noStrike">
                <a:solidFill>
                  <a:srgbClr val="6600ff"/>
                </a:solidFill>
                <a:latin typeface="Arial"/>
              </a:rPr>
              <a:t> самостоятельно могут совершать только мелкие бытовые сделки (без денег). Все остальное за них совершают родители и отвечают за сделки детей. Ст. 28 ГК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5" dur="2000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ext Box 4"/>
          <p:cNvSpPr/>
          <p:nvPr/>
        </p:nvSpPr>
        <p:spPr>
          <a:xfrm>
            <a:off x="1042920" y="476280"/>
            <a:ext cx="6913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Ситуация 3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На улице шестнадцатилетние парни пристают к прохожим, нарушают общественный порядок и спокойствие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ff"/>
                </a:solidFill>
                <a:latin typeface="Arial"/>
              </a:rPr>
              <a:t>Вопрос.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Как вы оцениваете данные действия и можно ли этих подростков наказать?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Text Box 5"/>
          <p:cNvSpPr/>
          <p:nvPr/>
        </p:nvSpPr>
        <p:spPr>
          <a:xfrm>
            <a:off x="1042920" y="2997360"/>
            <a:ext cx="6985080" cy="20142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Да</a:t>
            </a:r>
            <a:r>
              <a:rPr b="1" lang="en-US" sz="1800" spc="-1" strike="noStrike">
                <a:solidFill>
                  <a:srgbClr val="6600ff"/>
                </a:solidFill>
                <a:latin typeface="Arial"/>
              </a:rPr>
              <a:t>. Это расценивается как мелкое хулиганство (ст. 158). Нецензурная брань в общественных местах, оскорбительное поведение по отношению к прохожим и другие действия, нарушающие порядок и спокойствие граждан – это мелкое хулиганство, и за него предусмотрен штраф до одной минимальной зарплаты, при повторном нарушении – постановка на учет в ИДН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2000"/>
                            </p:stCondLst>
                            <p:childTnLst>
                              <p:par>
                                <p:cTn id="15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6" dur="2000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4"/>
          <p:cNvSpPr/>
          <p:nvPr/>
        </p:nvSpPr>
        <p:spPr>
          <a:xfrm>
            <a:off x="826920" y="620640"/>
            <a:ext cx="727416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Ситуация 4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Несколько школьников залезли в гараж, но ничего не взяв и не сделав, ушли. Кто-то их видел и рассказал об этом в милиции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ff"/>
                </a:solidFill>
                <a:latin typeface="Arial"/>
              </a:rPr>
              <a:t>Вопрос:</a:t>
            </a: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Будут ли ребята наказаны?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Text Box 5"/>
          <p:cNvSpPr/>
          <p:nvPr/>
        </p:nvSpPr>
        <p:spPr>
          <a:xfrm>
            <a:off x="539640" y="3573360"/>
            <a:ext cx="770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Ответ:</a:t>
            </a:r>
            <a:r>
              <a:rPr b="1" lang="en-US" sz="1800" spc="-1" strike="noStrike">
                <a:solidFill>
                  <a:srgbClr val="6600ff"/>
                </a:solidFill>
                <a:latin typeface="Arial"/>
              </a:rPr>
              <a:t> Наказания не последует: был добровольный отказ от преступления (ст. 31 УПК)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2000"/>
                            </p:stCondLst>
                            <p:childTnLst>
                              <p:par>
                                <p:cTn id="17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7" dur="2000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ext Box 4"/>
          <p:cNvSpPr/>
          <p:nvPr/>
        </p:nvSpPr>
        <p:spPr>
          <a:xfrm>
            <a:off x="539640" y="404640"/>
            <a:ext cx="792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Вам предстоит по описанию узнать знаменитых героев популярных фильмов, а также назвать другие кинокартины, в которых встречались эти герои. Итак, ответ принимается при поднятии руки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Text Box 5"/>
          <p:cNvSpPr/>
          <p:nvPr/>
        </p:nvSpPr>
        <p:spPr>
          <a:xfrm>
            <a:off x="539640" y="1916280"/>
            <a:ext cx="7921800" cy="9169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ff"/>
                </a:solidFill>
                <a:latin typeface="Arial"/>
              </a:rPr>
              <a:t>Он почти неизвестен за границей, но был начальником отдела по борьбе с бандитизмом в МУРе. Гонялся за «черной кошкой». Считал, что вор должен сидеть в тюрьме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Text Box 6"/>
          <p:cNvSpPr/>
          <p:nvPr/>
        </p:nvSpPr>
        <p:spPr>
          <a:xfrm>
            <a:off x="539640" y="3068640"/>
            <a:ext cx="7417080" cy="9169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ff"/>
                </a:solidFill>
                <a:latin typeface="Arial"/>
              </a:rPr>
              <a:t>Живет в Лондоне. Он не музыкант, но музыка помогает ему в работе. Его любимый инструмент – скрипка. Его любимая опера – «Волшебная флейта»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4" name="Picture 8" descr="Картинка 2 из 178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5640" y="4437000"/>
            <a:ext cx="2251080" cy="167652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0" descr="i?id=324734170-06-24"/>
          <p:cNvPicPr/>
          <p:nvPr/>
        </p:nvPicPr>
        <p:blipFill>
          <a:blip r:embed="rId4"/>
          <a:stretch/>
        </p:blipFill>
        <p:spPr>
          <a:xfrm>
            <a:off x="4932360" y="4365720"/>
            <a:ext cx="2735280" cy="181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6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8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WordArt 2"/>
          <p:cNvSpPr txBox="1"/>
          <p:nvPr/>
        </p:nvSpPr>
        <p:spPr>
          <a:xfrm>
            <a:off x="1403280" y="476280"/>
            <a:ext cx="734544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00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До свидания</a:t>
            </a:r>
            <a:endParaRPr b="1" lang="en-US" sz="7200" spc="1" strike="noStrike">
              <a:ln w="12600">
                <a:solidFill>
                  <a:srgbClr val="3333cc"/>
                </a:solidFill>
                <a:miter/>
              </a:ln>
              <a:solidFill>
                <a:srgbClr val="ff00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97" name="WordArt 3"/>
          <p:cNvSpPr txBox="1"/>
          <p:nvPr/>
        </p:nvSpPr>
        <p:spPr>
          <a:xfrm>
            <a:off x="1523880" y="5029200"/>
            <a:ext cx="6058080" cy="1000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Times New Roman"/>
              </a:rPr>
              <a:t>До новых встреч!</a:t>
            </a:r>
            <a:endParaRPr b="1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66"/>
              </a:solidFill>
              <a:latin typeface="Times New Roman"/>
              <a:ea typeface="Times New Roman"/>
            </a:endParaRPr>
          </a:p>
        </p:txBody>
      </p:sp>
      <p:pic>
        <p:nvPicPr>
          <p:cNvPr id="198" name="Picture 4" descr="FIREWRK7"/>
          <p:cNvPicPr/>
          <p:nvPr/>
        </p:nvPicPr>
        <p:blipFill>
          <a:blip r:embed="rId2"/>
          <a:stretch/>
        </p:blipFill>
        <p:spPr>
          <a:xfrm>
            <a:off x="2971800" y="1974960"/>
            <a:ext cx="3276720" cy="297648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5" descr="ANIMKROK"/>
          <p:cNvPicPr/>
          <p:nvPr/>
        </p:nvPicPr>
        <p:blipFill>
          <a:blip r:embed="rId3"/>
          <a:stretch/>
        </p:blipFill>
        <p:spPr>
          <a:xfrm>
            <a:off x="3132000" y="1773360"/>
            <a:ext cx="313236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2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2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6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4000"/>
                            </p:stCondLst>
                            <p:childTnLst>
                              <p:par>
                                <p:cTn id="22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8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500"/>
                            </p:stCondLst>
                            <p:childTnLst>
                              <p:par>
                                <p:cTn id="240" nodeType="after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AP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241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1187280" y="1413000"/>
            <a:ext cx="6840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Мораль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– это совокупность правил, принятых в обществе регулирующих поступки каждого члена этого общества. Правила морали требуют от человека «владеть собою настолько, чтобы уважать других, как самого себя, и поступать с ними так, как мы желаем, чтобы поступали с нами»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Выполнение правил морали привело бы к неконфликтному осуществованию всех членов общества. Но, к сожалению, некоторые члены общества нарушают моральные нормы и совершают моральные поступки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971640" y="549360"/>
            <a:ext cx="15238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ораль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WordArt 5"/>
          <p:cNvSpPr txBox="1"/>
          <p:nvPr/>
        </p:nvSpPr>
        <p:spPr>
          <a:xfrm>
            <a:off x="1547640" y="333360"/>
            <a:ext cx="61246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Права и свободы граждан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57" name="Text Box 6"/>
          <p:cNvSpPr/>
          <p:nvPr/>
        </p:nvSpPr>
        <p:spPr>
          <a:xfrm>
            <a:off x="1042920" y="1700280"/>
            <a:ext cx="727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На жизнь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Достоинство (охраняет государство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Свободу и личную неприкосновенность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Text Box 7"/>
          <p:cNvSpPr/>
          <p:nvPr/>
        </p:nvSpPr>
        <p:spPr>
          <a:xfrm>
            <a:off x="1042920" y="3141720"/>
            <a:ext cx="6481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Arial"/>
              </a:rPr>
              <a:t>Неприкосновенность частной жизни, личную и семейную тайну, защиту своей чести и доброго имени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66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Arial"/>
              </a:rPr>
              <a:t>На тайну переписки, телефонных переговоров, почтовых, телеграфных и иных сообщений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WordArt 5"/>
          <p:cNvSpPr txBox="1"/>
          <p:nvPr/>
        </p:nvSpPr>
        <p:spPr>
          <a:xfrm>
            <a:off x="1547640" y="333360"/>
            <a:ext cx="61246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Права и свободы граждан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60" name="Text Box 6"/>
          <p:cNvSpPr/>
          <p:nvPr/>
        </p:nvSpPr>
        <p:spPr>
          <a:xfrm>
            <a:off x="1042920" y="1773360"/>
            <a:ext cx="7561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Жилище неприкосновенно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Свобода мысли и слова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Объединение, включая право создавать профессиональные союзы для защиты своих интересов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1" name="Picture 9" descr="j0339018"/>
          <p:cNvPicPr/>
          <p:nvPr/>
        </p:nvPicPr>
        <p:blipFill>
          <a:blip r:embed="rId4"/>
          <a:stretch/>
        </p:blipFill>
        <p:spPr>
          <a:xfrm>
            <a:off x="1908000" y="4365720"/>
            <a:ext cx="1581480" cy="158436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0" descr="j0283214"/>
          <p:cNvPicPr/>
          <p:nvPr/>
        </p:nvPicPr>
        <p:blipFill>
          <a:blip r:embed="rId5"/>
          <a:stretch/>
        </p:blipFill>
        <p:spPr>
          <a:xfrm>
            <a:off x="5796000" y="4437000"/>
            <a:ext cx="162072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500"/>
                            </p:stCondLst>
                            <p:childTnLst>
                              <p:par>
                                <p:cTn id="34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3500"/>
                            </p:stCondLst>
                            <p:childTnLst>
                              <p:par>
                                <p:cTn id="4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WordArt 2"/>
          <p:cNvSpPr txBox="1"/>
          <p:nvPr/>
        </p:nvSpPr>
        <p:spPr>
          <a:xfrm>
            <a:off x="1547640" y="333360"/>
            <a:ext cx="61246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Права и свободы граждан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64" name="Text Box 4"/>
          <p:cNvSpPr/>
          <p:nvPr/>
        </p:nvSpPr>
        <p:spPr>
          <a:xfrm>
            <a:off x="900000" y="1773360"/>
            <a:ext cx="7848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Право участвовать в управлении делами государства как непосредственно, так и через своих представителей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Имеют право избирать и быть избранными в органы государственной власти и органы местного самоуправления, а также участвовать в референдуме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Обращаться лично, а также направлять индивидуальные и коллективные обращения в государственные органы и органы местного самоуправления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WordArt 2"/>
          <p:cNvSpPr txBox="1"/>
          <p:nvPr/>
        </p:nvSpPr>
        <p:spPr>
          <a:xfrm>
            <a:off x="1547640" y="333360"/>
            <a:ext cx="61246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Права и свободы граждан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66" name="Text Box 3"/>
          <p:cNvSpPr/>
          <p:nvPr/>
        </p:nvSpPr>
        <p:spPr>
          <a:xfrm>
            <a:off x="1042920" y="1773360"/>
            <a:ext cx="75614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Свободное использование своих способностей и имущества для предпринимательской и иной не запрещенной законом экономической деятельности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Каждый имеет право свободно распоряжаться своими способностями к труду, выбирать род деятельности и профессию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7" name="Picture 4" descr="j0240719"/>
          <p:cNvPicPr/>
          <p:nvPr/>
        </p:nvPicPr>
        <p:blipFill>
          <a:blip r:embed="rId4"/>
          <a:stretch/>
        </p:blipFill>
        <p:spPr>
          <a:xfrm>
            <a:off x="1908000" y="5030640"/>
            <a:ext cx="1163880" cy="182736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5" descr="j0234696"/>
          <p:cNvPicPr/>
          <p:nvPr/>
        </p:nvPicPr>
        <p:blipFill>
          <a:blip r:embed="rId5"/>
          <a:stretch/>
        </p:blipFill>
        <p:spPr>
          <a:xfrm>
            <a:off x="7164360" y="4724280"/>
            <a:ext cx="1247760" cy="111456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6" descr="j0295176"/>
          <p:cNvPicPr/>
          <p:nvPr/>
        </p:nvPicPr>
        <p:blipFill>
          <a:blip r:embed="rId6"/>
          <a:stretch/>
        </p:blipFill>
        <p:spPr>
          <a:xfrm>
            <a:off x="4211640" y="5157720"/>
            <a:ext cx="1728720" cy="127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1" dur="20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2000"/>
                            </p:stCondLst>
                            <p:childTnLst>
                              <p:par>
                                <p:cTn id="6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5" dur="20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WordArt 2"/>
          <p:cNvSpPr txBox="1"/>
          <p:nvPr/>
        </p:nvSpPr>
        <p:spPr>
          <a:xfrm>
            <a:off x="1547640" y="333360"/>
            <a:ext cx="61246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Права и свободы граждан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71" name="Text Box 3"/>
          <p:cNvSpPr/>
          <p:nvPr/>
        </p:nvSpPr>
        <p:spPr>
          <a:xfrm>
            <a:off x="1042920" y="1773360"/>
            <a:ext cx="756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Право на жилище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На охрану здоровья и медицинскую помощ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2" name="Picture 4" descr="j0200497"/>
          <p:cNvPicPr/>
          <p:nvPr/>
        </p:nvPicPr>
        <p:blipFill>
          <a:blip r:embed="rId4"/>
          <a:stretch/>
        </p:blipFill>
        <p:spPr>
          <a:xfrm>
            <a:off x="1258920" y="3429000"/>
            <a:ext cx="2521080" cy="17701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5" descr="j0216724"/>
          <p:cNvPicPr/>
          <p:nvPr/>
        </p:nvPicPr>
        <p:blipFill>
          <a:blip r:embed="rId5"/>
          <a:stretch/>
        </p:blipFill>
        <p:spPr>
          <a:xfrm>
            <a:off x="6012000" y="3284640"/>
            <a:ext cx="206208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2" dur="2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000"/>
                            </p:stCondLst>
                            <p:childTnLst>
                              <p:par>
                                <p:cTn id="7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6" dur="2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WordArt 2"/>
          <p:cNvSpPr txBox="1"/>
          <p:nvPr/>
        </p:nvSpPr>
        <p:spPr>
          <a:xfrm>
            <a:off x="1547640" y="333360"/>
            <a:ext cx="61246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Права и свободы граждан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75" name="Text Box 3"/>
          <p:cNvSpPr/>
          <p:nvPr/>
        </p:nvSpPr>
        <p:spPr>
          <a:xfrm>
            <a:off x="1042920" y="1773360"/>
            <a:ext cx="756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Право на образование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Пользование учреждениями культуры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6" name="Picture 4" descr="j0303470"/>
          <p:cNvPicPr/>
          <p:nvPr/>
        </p:nvPicPr>
        <p:blipFill>
          <a:blip r:embed="rId4"/>
          <a:stretch/>
        </p:blipFill>
        <p:spPr>
          <a:xfrm>
            <a:off x="1547640" y="3789360"/>
            <a:ext cx="1944720" cy="134928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5" descr="j0231943"/>
          <p:cNvPicPr/>
          <p:nvPr/>
        </p:nvPicPr>
        <p:blipFill>
          <a:blip r:embed="rId5"/>
          <a:stretch/>
        </p:blipFill>
        <p:spPr>
          <a:xfrm>
            <a:off x="5580000" y="3573360"/>
            <a:ext cx="2259000" cy="21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3" dur="2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000"/>
                            </p:stCondLst>
                            <p:childTnLst>
                              <p:par>
                                <p:cTn id="8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7" dur="2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0" dur="2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3" dur="2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 Box 4"/>
          <p:cNvSpPr/>
          <p:nvPr/>
        </p:nvSpPr>
        <p:spPr>
          <a:xfrm>
            <a:off x="1258920" y="1773360"/>
            <a:ext cx="70581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обязан платить законно установленные налоги и сборы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обязан сохранять природу и окружающую среду, бережно относиться к природным богатствам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Защита Отечества является долгом и обязанностью гражданина Российской Федерации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WordArt 5"/>
          <p:cNvSpPr txBox="1"/>
          <p:nvPr/>
        </p:nvSpPr>
        <p:spPr>
          <a:xfrm>
            <a:off x="1116000" y="404640"/>
            <a:ext cx="662004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Обязанности гражданина РФ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180" name="Picture 6" descr="j0283531"/>
          <p:cNvPicPr/>
          <p:nvPr/>
        </p:nvPicPr>
        <p:blipFill>
          <a:blip r:embed="rId4"/>
          <a:stretch/>
        </p:blipFill>
        <p:spPr>
          <a:xfrm>
            <a:off x="1692360" y="5084640"/>
            <a:ext cx="1511280" cy="85428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7" descr="j0234759"/>
          <p:cNvPicPr/>
          <p:nvPr/>
        </p:nvPicPr>
        <p:blipFill>
          <a:blip r:embed="rId5"/>
          <a:stretch/>
        </p:blipFill>
        <p:spPr>
          <a:xfrm>
            <a:off x="3851280" y="4653000"/>
            <a:ext cx="1312920" cy="172872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8" descr="j0346681"/>
          <p:cNvPicPr/>
          <p:nvPr/>
        </p:nvPicPr>
        <p:blipFill>
          <a:blip r:embed="rId6"/>
          <a:stretch/>
        </p:blipFill>
        <p:spPr>
          <a:xfrm>
            <a:off x="6084720" y="4581360"/>
            <a:ext cx="2016360" cy="179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0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3T06:44:15Z</dcterms:created>
  <dc:creator>Ирина</dc:creator>
  <dc:description/>
  <dc:language>en-US</dc:language>
  <cp:lastModifiedBy>Ирина</cp:lastModifiedBy>
  <dcterms:modified xsi:type="dcterms:W3CDTF">2012-06-03T15:48:38Z</dcterms:modified>
  <cp:revision>16</cp:revision>
  <dc:subject/>
  <dc:title>Слайд 1</dc:title>
</cp:coreProperties>
</file>