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wmf" ContentType="image/x-wmf"/>
  <Override PartName="/ppt/media/image51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7.gif" ContentType="image/gif"/>
  <Override PartName="/ppt/media/image13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5.wmf" ContentType="image/x-wmf"/>
  <Override PartName="/ppt/media/image2.jpeg" ContentType="image/jpeg"/>
  <Override PartName="/ppt/media/image18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37.gif" ContentType="image/gif"/>
  <Override PartName="/ppt/media/image27.wmf" ContentType="image/x-wmf"/>
  <Override PartName="/ppt/media/image4.wmf" ContentType="image/x-wmf"/>
  <Override PartName="/ppt/media/image34.wmf" ContentType="image/x-wmf"/>
  <Override PartName="/ppt/media/image32.wmf" ContentType="image/x-wmf"/>
  <Override PartName="/ppt/media/image36.wmf" ContentType="image/x-wmf"/>
  <Override PartName="/ppt/media/image38.wmf" ContentType="image/x-wmf"/>
  <Override PartName="/ppt/media/image44.gif" ContentType="image/gif"/>
  <Override PartName="/ppt/media/image40.wmf" ContentType="image/x-wmf"/>
  <Override PartName="/ppt/media/image7.jpeg" ContentType="image/jpeg"/>
  <Override PartName="/ppt/media/image35.wmf" ContentType="image/x-wmf"/>
  <Override PartName="/ppt/media/image42.wmf" ContentType="image/x-wmf"/>
  <Override PartName="/ppt/media/image43.wmf" ContentType="image/x-wmf"/>
  <Override PartName="/ppt/media/image45.wmf" ContentType="image/x-wmf"/>
  <Override PartName="/ppt/media/image22.gif" ContentType="image/gif"/>
  <Override PartName="/ppt/media/image31.gif" ContentType="image/gif"/>
  <Override PartName="/ppt/media/image46.wmf" ContentType="image/x-wmf"/>
  <Override PartName="/ppt/media/image48.jpeg" ContentType="image/jpeg"/>
  <Override PartName="/ppt/media/image50.wmf" ContentType="image/x-wmf"/>
  <Override PartName="/ppt/media/image30.wmf" ContentType="image/x-wmf"/>
  <Override PartName="/ppt/media/image28.wmf" ContentType="image/x-wmf"/>
  <Override PartName="/ppt/media/image8.jpeg" ContentType="image/jpeg"/>
  <Override PartName="/ppt/media/image41.wmf" ContentType="image/x-wmf"/>
  <Override PartName="/ppt/media/image10.wmf" ContentType="image/x-wmf"/>
  <Override PartName="/ppt/media/image47.wmf" ContentType="image/x-wmf"/>
  <Override PartName="/ppt/media/image12.wmf" ContentType="image/x-wmf"/>
  <Override PartName="/ppt/media/image49.wmf" ContentType="image/x-wmf"/>
  <Override PartName="/ppt/media/image11.gif" ContentType="image/gif"/>
  <Override PartName="/ppt/media/image39.wmf" ContentType="image/x-wmf"/>
  <Override PartName="/ppt/media/image9.wmf" ContentType="image/x-wmf"/>
  <Override PartName="/ppt/media/image5.jpeg" ContentType="image/jpeg"/>
  <Override PartName="/ppt/media/image24.gif" ContentType="image/gi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D8B4-8B49-45C2-A315-6BCBE190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4D57-EB9E-44A1-9F0B-B8F5A439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B7E3-43B2-41B6-AA68-CF96EFC2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65C-264F-49E1-9F8D-FE6F8D10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1CB2-6286-43D7-A597-4AFCB62A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19D1-6720-4070-8B18-EB5731CF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7D66-F9E7-4BCC-88C4-B39C40F7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4489-6A81-4DAE-B183-4BAF11C9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4A83-F583-4CC9-A561-B0599FBD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1D54-6BB6-4453-8AA2-882C5DCF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0765-218B-4FCF-89BF-A174CA01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DE46-4B64-4612-B136-D873CC0B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3040-2EC8-4023-887D-F21DEBC2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BDEA-54F9-4A6E-B904-6A742CF4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1919-071C-4998-A139-4DD2D26D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0C61-FB5E-4CD1-BF01-AE1E8CBB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EFA7-8D87-4591-B24E-BC792965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1FB-4DA9-4437-82BE-603BF78C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AAB9-82D3-4CCA-A540-2EAF99F5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06A5-69B9-4578-AAF1-437CEA90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1377-2797-4377-81E3-FDAF8984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37C-9A3F-488D-B5AF-407D45EC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E98-3FBE-4AFE-8812-A7A14F12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E43-95C3-4C6C-B32D-1D8FD436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0DD0-FFD9-48BC-9475-72217E357BD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791F-D24E-43F5-B737-923FC0CB0F9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gif"/><Relationship Id="rId3" Type="http://schemas.openxmlformats.org/officeDocument/2006/relationships/image" Target="../media/image23.wmf"/><Relationship Id="rId4" Type="http://schemas.openxmlformats.org/officeDocument/2006/relationships/image" Target="../media/image24.gi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image" Target="../media/image31.gi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gi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wmf"/><Relationship Id="rId3" Type="http://schemas.openxmlformats.org/officeDocument/2006/relationships/image" Target="../media/image44.gi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gi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050920" y="1125360"/>
            <a:ext cx="5185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доровое пит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32000" y="3170160"/>
            <a:ext cx="6696000" cy="19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ля здоровых людей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19640" y="5516640"/>
            <a:ext cx="309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Comic Sans MS"/>
              </a:rPr>
              <a:t>Павелко И.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Comic Sans MS"/>
              </a:rPr>
              <a:t>Щекинова М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9640" y="47628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Морская рыба, молоко, яйцо, сыр, шампинь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028000" y="1916280"/>
            <a:ext cx="799920" cy="914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4000" y="3789360"/>
            <a:ext cx="2604960" cy="2066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3492360" y="2781360"/>
            <a:ext cx="3259440" cy="1749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6372360" y="4797360"/>
            <a:ext cx="1938240" cy="1679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716360" y="549360"/>
            <a:ext cx="28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итамин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- c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держит фосфор и кальций для 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зубов и кост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95280" y="333360"/>
            <a:ext cx="35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Цитрусовые, клубника, сладкий перец, смородина, шиповник, капуста, картофель, киви,  кислые ябло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68360" y="3735360"/>
            <a:ext cx="3166920" cy="2311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211640" y="4724280"/>
            <a:ext cx="2335320" cy="140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804000" y="2133720"/>
            <a:ext cx="1919160" cy="2104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3419640" y="2565360"/>
            <a:ext cx="2376360" cy="1760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427640" y="26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итамин С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- сохраняет здоровыми 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дёсны, зубы, сосуды, кости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 Противодействует усталости и образованию вредных веществ  в желуд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79280" y="54936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винина, печень, хлеб грубого помола, рис, чечевица, горох, овсянка,  лесной оре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2362320" cy="1716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39640" y="4508640"/>
            <a:ext cx="1152720" cy="1584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3276720" y="2565360"/>
            <a:ext cx="904680" cy="9050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5651640" y="2565360"/>
            <a:ext cx="2311200" cy="1816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3780000" y="3867120"/>
            <a:ext cx="2084400" cy="2990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716360" y="47628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итамин В1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- укрепляет нервную систему, повышает аппет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39640" y="549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Молочные продукты, кукуруза, куры, мясо, рыба, зелёные овощ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1827360" cy="1600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132000" y="4005360"/>
            <a:ext cx="2148120" cy="1966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948360" y="3789360"/>
            <a:ext cx="1324080" cy="885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6948360" y="5084640"/>
            <a:ext cx="1584360" cy="1424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3924360" y="2781360"/>
            <a:ext cx="1839960" cy="1158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859280" y="62064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итамин В2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- превращает вещества в энергию. Отвечает за 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рост и защиту ко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68360" y="54936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Печень, арахис, сардины, скумбрия, говядина, шампиньоны,  абрикос, банан, перс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2662200" cy="1914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492360" y="4005360"/>
            <a:ext cx="2606760" cy="2305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732720" y="3429000"/>
            <a:ext cx="1822320" cy="950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24360" y="476280"/>
            <a:ext cx="48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итамин В3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- даёт стимул для правильной  работы нервной 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сердечно-сосудистой систем, помогает дышать каждой клеточке, нормализует водно-солевой обм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39640" y="476280"/>
            <a:ext cx="30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Зародыши пшеницы, лосось, сардины, соя, цыплята, почки, печень, яйцо, арахис, грецкие орехи, коричневый ри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1523880" cy="1879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348000" y="4653000"/>
            <a:ext cx="1655640" cy="1379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5867280" y="3357720"/>
            <a:ext cx="2462400" cy="1655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788000" y="476280"/>
            <a:ext cx="38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итамин В6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- участвует более чем в 60 процессах нашего организма, в том числе 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кроветворения, пищеварения, обмена жи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5640" y="47628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оя,  кукуруза,  печень, яичные желтки, дрожжи, крупы, морковь, шпинат, арахи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88000" y="476280"/>
            <a:ext cx="36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итамин В9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- участвует в обмене жиров, белков. Влияет на процесс 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роста, состояние клеток крови, необходимых для образования гемоглоб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1912680" cy="21844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708360" y="4076640"/>
            <a:ext cx="1758960" cy="1828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6012000" y="2852640"/>
            <a:ext cx="218916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427640" y="549360"/>
            <a:ext cx="42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Фолиевая кислот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-  Необходима детям в период быстрого роста, основной участник образования гемоглобина и правильного развития будущего ребёнка (зародыш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549360"/>
            <a:ext cx="35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Листовые овощи, дрожжи, печень, арахис, чечевица, апельсины, почки, фасоль, бананы, брюссельская капуста, брокко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2773440" cy="2349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084720" y="3429000"/>
            <a:ext cx="2141640" cy="21621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3059280" y="5157720"/>
            <a:ext cx="29127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979640" y="1484280"/>
            <a:ext cx="4857840" cy="4772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2627280" y="333360"/>
            <a:ext cx="40197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ирамида пит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19120" y="1628640"/>
            <a:ext cx="810576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редные продукты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аспространенные в молодежной сред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00" y="475200"/>
            <a:ext cx="90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Газированная вода и соки промышленного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1860480" cy="2663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7236000" y="1197000"/>
            <a:ext cx="1676160" cy="2554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484360" y="1052640"/>
            <a:ext cx="46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воцируют развитие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заболеваний сосудов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вне зависимости от того, содержится в них сахар, или нет. Эксперты из Ассоциации кардиологов Великобритании проанализировали данные 2.500 человек. В результате было обнаружено, что люди, употребляющие напитки промышленного производства, страдают от болезней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ердечно-сосудистой системы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на 61% чаще тех, кто исключил их из своего раци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4360" y="1125360"/>
            <a:ext cx="792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юбителям всевозможных консервантов, диоксинов, вкусовых добавок, эссенций, эмульгаторов, подсластителей, канцерогена, острых приправ и консервов следует знать, что быстрая еда, пришедшая к нам с Запада с красивым названием "Фаст Фуд", не просто очень вредна для нашего организма, а просто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катастрофически опасна и несет серьезную угрозу нашему здоровью.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и сомнительных плюсах фаст фуда - быстроте приготовления и его особенном вкусе - он обладает рядом несомненных и очень серьезных минус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5440" y="187920"/>
            <a:ext cx="347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Фастфуд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Картинки"/>
          <p:cNvPicPr/>
          <p:nvPr/>
        </p:nvPicPr>
        <p:blipFill>
          <a:blip r:embed="rId2"/>
          <a:stretch/>
        </p:blipFill>
        <p:spPr>
          <a:xfrm>
            <a:off x="395280" y="4759200"/>
            <a:ext cx="2448000" cy="1844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553080" y="4724280"/>
            <a:ext cx="2014560" cy="2133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59280" y="407664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Помимо того, что наш желудок и кишечник просто-напросто не приучен к такой пище, жирной и тяжелой, она не содержит никаких полезных веществ, она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очень жирная, содержит много калорий.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03280" y="836640"/>
            <a:ext cx="648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пунктах питания с подобным названием - вроде "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Макдональдс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" или "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Кентаки Чикенз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" - буквально все продукты жарения -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эндвичи, гамбургеры, картофель фри и жареные куры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- содержат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кисленный холестерин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, который способствует ускорению развития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атеросклеротических бляшек на стенках сосудов.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Кроме этого, частое употребление быстрой пищи чревато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озникновением сердечных заболеваний, аллергии, ожирения, диабета, расстройством желудка и печен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3025800" cy="19670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724360" y="4724280"/>
            <a:ext cx="26244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33800" y="50364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Жевательная рези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126828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снова жвачки - резиновая субстанция из синтетических полимеров, к которым могут добавлять смолы хвойных деревьев или сок дерева саподил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жвачке можно найти подсластители, ароматизаторы, красители, консерванты, загустители, стабилизаторы, глазирова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364500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спартам,  входящий в состав жевательной резинки, о может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угнетать нервную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  сис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39640" y="4365720"/>
            <a:ext cx="1455840" cy="1844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020000" y="4292640"/>
            <a:ext cx="1244520" cy="1857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933480" cy="695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3708360" y="4437000"/>
            <a:ext cx="18273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908000" y="1484280"/>
            <a:ext cx="5759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лезные продук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95280" y="260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Овощи и плоды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оранжевого и жёлтого  цвета, 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ечень, рыбий жир, яйцо, масло, сыр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2492280"/>
            <a:ext cx="3044880" cy="2249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435640" y="1628640"/>
            <a:ext cx="3014640" cy="1454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588000" y="3645000"/>
            <a:ext cx="1854360" cy="1828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3564000" y="4221000"/>
            <a:ext cx="1974960" cy="2068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3635280" y="2997360"/>
            <a:ext cx="1228680" cy="8953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276720" y="33336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итамин А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(бета- каротин) - отвечает за развитие органов 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зрения, формирование костей, здоровое состояние зубов, волос, кож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26920" y="5493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Растительное масло, печень, зелёные овощи, крупы, семена подсолнечн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11280" y="2349360"/>
            <a:ext cx="1598400" cy="1844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372360" y="2492280"/>
            <a:ext cx="2144520" cy="2316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2843280" y="3716280"/>
            <a:ext cx="1692360" cy="2448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6012000" y="5084640"/>
            <a:ext cx="1616040" cy="1474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572000" y="54936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Витамин Е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- защищает и предупреждает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сердце и сосуды о возможных болезнях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4:56:36Z</dcterms:created>
  <dc:creator>Ирина</dc:creator>
  <dc:description/>
  <dc:language>en-US</dc:language>
  <cp:lastModifiedBy>Ирина</cp:lastModifiedBy>
  <dcterms:modified xsi:type="dcterms:W3CDTF">2012-05-30T15:30:01Z</dcterms:modified>
  <cp:revision>19</cp:revision>
  <dc:subject/>
  <dc:title>Слайд 1</dc:title>
</cp:coreProperties>
</file>