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5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7.gif" ContentType="image/gi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7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32.wmf" ContentType="image/x-wmf"/>
  <Override PartName="/ppt/media/image36.wmf" ContentType="image/x-wmf"/>
  <Override PartName="/ppt/media/image38.wmf" ContentType="image/x-wmf"/>
  <Override PartName="/ppt/media/image44.gif" ContentType="image/gif"/>
  <Override PartName="/ppt/media/image40.wmf" ContentType="image/x-wmf"/>
  <Override PartName="/ppt/media/image7.jpeg" ContentType="image/jpeg"/>
  <Override PartName="/ppt/media/image35.wmf" ContentType="image/x-wmf"/>
  <Override PartName="/ppt/media/image42.wmf" ContentType="image/x-wmf"/>
  <Override PartName="/ppt/media/image43.wmf" ContentType="image/x-wmf"/>
  <Override PartName="/ppt/media/image45.wmf" ContentType="image/x-wmf"/>
  <Override PartName="/ppt/media/image22.gif" ContentType="image/gif"/>
  <Override PartName="/ppt/media/image31.gif" ContentType="image/gif"/>
  <Override PartName="/ppt/media/image46.wmf" ContentType="image/x-wmf"/>
  <Override PartName="/ppt/media/image48.jpeg" ContentType="image/jpeg"/>
  <Override PartName="/ppt/media/image50.wmf" ContentType="image/x-wmf"/>
  <Override PartName="/ppt/media/image30.wmf" ContentType="image/x-wmf"/>
  <Override PartName="/ppt/media/image28.wmf" ContentType="image/x-wmf"/>
  <Override PartName="/ppt/media/image8.jpeg" ContentType="image/jpeg"/>
  <Override PartName="/ppt/media/image41.wmf" ContentType="image/x-wmf"/>
  <Override PartName="/ppt/media/image10.wmf" ContentType="image/x-wmf"/>
  <Override PartName="/ppt/media/image47.wmf" ContentType="image/x-wmf"/>
  <Override PartName="/ppt/media/image12.wmf" ContentType="image/x-wmf"/>
  <Override PartName="/ppt/media/image49.wmf" ContentType="image/x-wmf"/>
  <Override PartName="/ppt/media/image11.gif" ContentType="image/gif"/>
  <Override PartName="/ppt/media/image39.wmf" ContentType="image/x-wmf"/>
  <Override PartName="/ppt/media/image9.wmf" ContentType="image/x-wmf"/>
  <Override PartName="/ppt/media/image5.jpeg" ContentType="image/jpeg"/>
  <Override PartName="/ppt/media/image24.gif" ContentType="image/gi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7B1-1DAF-429A-83CF-0B6385FA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B1B-1D98-4566-BA35-306FE9A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F82-64D8-4EA4-8628-00A93092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B72-62B1-4FB8-B3D0-62A84D45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3808-20A4-4EE3-B39B-3601197E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61BF-7ADB-46FE-8B0C-AFB7204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F466-6863-42F6-8036-836914BD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4E4-AA6A-4D5E-AC1D-2EA3007D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3117-3663-4D55-8D91-B9494EEE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E02F-54FE-4039-B760-C8BF50D6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8C7-8F3D-4071-A3D7-AAE6DD6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DC9-3D7A-4D3C-9750-10792295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F0F6-B97E-4097-B8B5-8DE781C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7B40-8A54-4025-ADA0-A93AA19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BED5-1CE6-4E8B-8C7B-BAC1D86B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8C9D-0557-43E5-B91A-A875DF4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C090-8BFD-4BA0-BC48-818EEF4D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5C0-3567-4DA1-9535-DD85866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2DC-57A6-4A44-A964-219A6C6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730-817F-4A88-94BF-34F9F9D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343-12E8-4E08-A3AA-22963FB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D03-2414-487C-A5AC-2674665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A9F-14E8-41F5-8725-5054AC3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84B-5869-42AA-8C3A-F5D7C0F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19F-71CB-4FE9-950F-F74164F1E5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986C-830B-4AC0-BDA7-CFC469B2ED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gi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image" Target="../media/image44.gi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50920" y="1125360"/>
            <a:ext cx="518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2000" y="3170160"/>
            <a:ext cx="669600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ля здоровых люде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516640"/>
            <a:ext cx="30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Павелко И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Щекинова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47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орская рыба, молоко, яйцо, сыр, шампинь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2604960" cy="206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492360" y="2781360"/>
            <a:ext cx="325944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372360" y="4797360"/>
            <a:ext cx="1938240" cy="1679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716360" y="549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итамин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c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держит фосфор и кальций для 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зубов и к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5280" y="33336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Цитрусовые, клубника, сладкий перец, смородина, шиповник, капуста, картофель, киви,  кислые ябл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3735360"/>
            <a:ext cx="3166920" cy="2311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11640" y="4724280"/>
            <a:ext cx="2335320" cy="14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919160" cy="2104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419640" y="2565360"/>
            <a:ext cx="2376360" cy="1760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27640" y="26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С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сохраняет здоровыми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дёсны, зубы, сосуды, кост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 Противодействует усталости и образованию вредных веществ  в желу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549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винина, печень, хлеб грубого помола, рис, чечевица, горох, овсянка,  лесной ор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651640" y="2565360"/>
            <a:ext cx="2311200" cy="181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3780000" y="3867120"/>
            <a:ext cx="2084400" cy="2990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716360" y="476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крепляет нервную систему, повышает аппет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9640" y="549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олочные продукты, кукуруза, куры, мясо, рыба, зелёные овощ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82736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148120" cy="1966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948360" y="3789360"/>
            <a:ext cx="1324080" cy="8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948360" y="5084640"/>
            <a:ext cx="1584360" cy="1424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924360" y="2781360"/>
            <a:ext cx="183996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859280" y="620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превращает вещества в энергию. Отвечает за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ост и защиту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549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ечень, арахис, сардины, скумбрия, говядина, шампиньоны,  абрикос, банан, перс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662200" cy="1914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492360" y="4005360"/>
            <a:ext cx="2606760" cy="2305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732720" y="3429000"/>
            <a:ext cx="1822320" cy="950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24360" y="476280"/>
            <a:ext cx="48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итамин В3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даёт стимул для правильной  работы нервной 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ердечно-сосудистой систем, помогает дышать каждой клеточке, нормализует водно-солевой об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9640" y="47628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родыши пшеницы, лосось, сардины, соя, цыплята, почки, печень, яйцо, арахис, грецкие орехи, коричневый ри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1523880" cy="1879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348000" y="4653000"/>
            <a:ext cx="1655640" cy="137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867280" y="3357720"/>
            <a:ext cx="2462400" cy="1655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88000" y="47628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6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частвует более чем в 60 процессах нашего организма, в том числе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кроветворения, пищеварения, обмена жи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476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я,  кукуруза,  печень, яичные желтки, дрожжи, крупы, морковь, шпинат, арах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47628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9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частвует в обмене жиров, белков. Влияет на процесс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оста, состояние клеток крови, необходимых для образования гемоглоб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1912680" cy="2184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708360" y="4076640"/>
            <a:ext cx="175896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1891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27640" y="54936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олиевая кислот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 Необходима детям в период быстрого роста, основной участник образования гемоглобина и правильного развития будущего ребёнка (зароды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936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Листовые овощи, дрожжи, печень, арахис, чечевица, апельсины, почки, фасоль, бананы, брюссельская капуста, брокк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773440" cy="2349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84720" y="3429000"/>
            <a:ext cx="2141640" cy="2162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059280" y="5157720"/>
            <a:ext cx="29127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4857840" cy="477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627280" y="333360"/>
            <a:ext cx="401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рамида пит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19120" y="1628640"/>
            <a:ext cx="81057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редные продукты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спространенные в молодежной с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00" y="475200"/>
            <a:ext cx="90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Газированная вода и соки промышлен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1860480" cy="266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236000" y="1197000"/>
            <a:ext cx="1676160" cy="255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105264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воцируют развити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болеваний сосудов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не зависимости от того, содержится в них сахар, или нет. Эксперты из Ассоциации кардиологов Великобритании проанализировали данные 2.500 человек. В результате было обнаружено, что люди, употребляющие напитки промышленного производства, страдают от болезней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дечно-сосудистой систем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на 61% чаще тех, кто исключил их из своего рац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11253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юбителям всевозможных консервантов, диоксинов, вкусовых добавок, эссенций, эмульгаторов, подсластителей, канцерогена, острых приправ и консервов следует знать, что быстрая еда, пришедшая к нам с Запада с красивым названием "Фаст Фуд", не просто очень вредна для нашего организма, а прост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тастрофически опасна и несет серьезную угрозу нашему здоровью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и сомнительных плюсах фаст фуда - быстроте приготовления и его особенном вкусе - он обладает рядом несомненных и очень серьезных мину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5440" y="18792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Фастфу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Картинки"/>
          <p:cNvPicPr/>
          <p:nvPr/>
        </p:nvPicPr>
        <p:blipFill>
          <a:blip r:embed="rId2"/>
          <a:stretch/>
        </p:blipFill>
        <p:spPr>
          <a:xfrm>
            <a:off x="395280" y="475920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014560" cy="213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59280" y="4076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омимо того, что наш желудок и кишечник просто-напросто не приучен к такой пище, жирной и тяжелой, она не содержит никаких полезных веществ, она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чень жирная, содержит много калорий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03280" y="83664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пунктах питания с подобным названием - вроде "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акдональдс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" или "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ентаки Чикенз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" - буквально все продукты жарения -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эндвичи, гамбургеры, картофель фри и жареные кур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содержат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кисленный холестерин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, который способствует ускорению развития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теросклеротических бляшек на стенках сосудов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роме этого, частое употребление быстрой пищи чреват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озникновением сердечных заболеваний, аллергии, ожирения, диабета, расстройством желудка и печен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25800" cy="1967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24360" y="4724280"/>
            <a:ext cx="2624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3800" y="50364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Жевательная рез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268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а жвачки - резиновая субстанция из синтетических полимеров, к которым могут добавлять смолы хвойных деревьев или сок дерева саподи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жвачке можно найти подсластители, ароматизаторы, красители, консерванты, загустители, стабилизаторы, глазиров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645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спартам,  входящий в состав жевательной резинки, о может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гнетать нервную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 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455840" cy="1844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244520" cy="1857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93348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708360" y="4437000"/>
            <a:ext cx="1827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8000" y="1484280"/>
            <a:ext cx="57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лезные проду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260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Овощи и плод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оранжевого и жёлтого  цвета,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ечень, рыбий жир, яйцо, масло, сыр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044880" cy="224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014640" cy="145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588000" y="3645000"/>
            <a:ext cx="185436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1974960" cy="2068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635280" y="2997360"/>
            <a:ext cx="1228680" cy="895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76720" y="333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А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(бета- каротин) - отвечает за развитие органов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рения, формирование костей, здоровое состояние зубов, волос, ко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5493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Растительное масло, печень, зелёные овощи, крупы, семена подсолнеч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1598400" cy="1844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372360" y="2492280"/>
            <a:ext cx="2144520" cy="2316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843280" y="3716280"/>
            <a:ext cx="169236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12000" y="5084640"/>
            <a:ext cx="1616040" cy="147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0" y="549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итамин Е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защищает и предупреждает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ердце и сосуды о возможных болезнях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4:56:36Z</dcterms:created>
  <dc:creator>Ирина</dc:creator>
  <dc:description/>
  <dc:language>en-US</dc:language>
  <cp:lastModifiedBy>Ирина</cp:lastModifiedBy>
  <dcterms:modified xsi:type="dcterms:W3CDTF">2012-05-30T15:30:01Z</dcterms:modified>
  <cp:revision>19</cp:revision>
  <dc:subject/>
  <dc:title>Слайд 1</dc:title>
</cp:coreProperties>
</file>