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wmf" ContentType="image/x-wmf"/>
  <Override PartName="/ppt/media/image58.jpeg" ContentType="image/jpeg"/>
  <Override PartName="/ppt/media/image53.png" ContentType="image/png"/>
  <Override PartName="/ppt/media/image52.wmf" ContentType="image/x-wmf"/>
  <Override PartName="/ppt/media/image51.wmf" ContentType="image/x-wmf"/>
  <Override PartName="/ppt/media/image56.wmf" ContentType="image/x-wmf"/>
  <Override PartName="/ppt/media/image49.jpeg" ContentType="image/jpeg"/>
  <Override PartName="/ppt/media/image8.gif" ContentType="image/gif"/>
  <Override PartName="/ppt/media/image26.wmf" ContentType="image/x-wmf"/>
  <Override PartName="/ppt/media/image35.wmf" ContentType="image/x-wmf"/>
  <Override PartName="/ppt/media/image5.wmf" ContentType="image/x-wmf"/>
  <Override PartName="/ppt/media/image39.gif" ContentType="image/gif"/>
  <Override PartName="/ppt/media/image64.wmf" ContentType="image/x-wmf"/>
  <Override PartName="/ppt/media/image10.png" ContentType="image/png"/>
  <Override PartName="/ppt/media/image54.gif" ContentType="image/gif"/>
  <Override PartName="/ppt/media/image50.wmf" ContentType="image/x-wmf"/>
  <Override PartName="/ppt/media/image15.gif" ContentType="image/gif"/>
  <Override PartName="/ppt/media/image48.wmf" ContentType="image/x-wmf"/>
  <Override PartName="/ppt/media/image11.wmf" ContentType="image/x-wmf"/>
  <Override PartName="/ppt/media/image16.gif" ContentType="image/gif"/>
  <Override PartName="/ppt/media/image12.wmf" ContentType="image/x-wmf"/>
  <Override PartName="/ppt/media/image17.gif" ContentType="image/gif"/>
  <Override PartName="/ppt/media/image14.png" ContentType="image/png"/>
  <Override PartName="/ppt/media/image21.gif" ContentType="image/gif"/>
  <Override PartName="/ppt/media/image2.gif" ContentType="image/gif"/>
  <Override PartName="/ppt/media/image61.gif" ContentType="image/gif"/>
  <Override PartName="/ppt/media/image60.gif" ContentType="image/gif"/>
  <Override PartName="/ppt/media/image29.gif" ContentType="image/gif"/>
  <Override PartName="/ppt/media/image67.gif" ContentType="image/gif"/>
  <Override PartName="/ppt/media/image30.gif" ContentType="image/gif"/>
  <Override PartName="/ppt/media/image55.wmf" ContentType="image/x-wmf"/>
  <Override PartName="/ppt/media/image25.png" ContentType="image/png"/>
  <Override PartName="/ppt/media/image22.gif" ContentType="image/gif"/>
  <Override PartName="/ppt/media/image65.gif" ContentType="image/gif"/>
  <Override PartName="/ppt/media/image28.gif" ContentType="image/gif"/>
  <Override PartName="/ppt/media/image24.wmf" ContentType="image/x-wmf"/>
  <Override PartName="/ppt/media/image66.jpeg" ContentType="image/jpeg"/>
  <Override PartName="/ppt/media/image62.png" ContentType="image/png"/>
  <Override PartName="/ppt/media/image3.wmf" ContentType="image/x-wmf"/>
  <Override PartName="/ppt/media/image33.wmf" ContentType="image/x-wmf"/>
  <Override PartName="/ppt/media/image23.png" ContentType="image/png"/>
  <Override PartName="/ppt/media/image20.gif" ContentType="image/gif"/>
  <Override PartName="/ppt/media/image18.wmf" ContentType="image/x-wmf"/>
  <Override PartName="/ppt/media/image6.wmf" ContentType="image/x-wmf"/>
  <Override PartName="/ppt/media/image36.wmf" ContentType="image/x-wmf"/>
  <Override PartName="/ppt/media/image59.gif" ContentType="image/gif"/>
  <Override PartName="/ppt/media/image7.wmf" ContentType="image/x-wmf"/>
  <Override PartName="/ppt/media/image27.png" ContentType="image/png"/>
  <Override PartName="/ppt/media/image1.gif" ContentType="image/gif"/>
  <Override PartName="/ppt/media/image4.png" ContentType="image/png"/>
  <Override PartName="/ppt/media/image34.wmf" ContentType="image/x-wmf"/>
  <Override PartName="/ppt/media/image63.wmf" ContentType="image/x-wmf"/>
  <Override PartName="/ppt/media/image38.gif" ContentType="image/gif"/>
  <Override PartName="/ppt/media/image9.wmf" ContentType="image/x-wmf"/>
  <Override PartName="/ppt/media/image41.png" ContentType="image/png"/>
  <Override PartName="/ppt/media/image31.wmf" ContentType="image/x-wmf"/>
  <Override PartName="/ppt/media/image32.wmf" ContentType="image/x-wmf"/>
  <Override PartName="/ppt/media/image37.jpeg" ContentType="image/jpeg"/>
  <Override PartName="/ppt/media/image40.gif" ContentType="image/gif"/>
  <Override PartName="/ppt/media/image42.png" ContentType="image/png"/>
  <Override PartName="/ppt/media/image43.wmf" ContentType="image/x-wmf"/>
  <Override PartName="/ppt/media/image19.gif" ContentType="image/gif"/>
  <Override PartName="/ppt/media/image44.wmf" ContentType="image/x-wmf"/>
  <Override PartName="/ppt/media/image45.gif" ContentType="image/gif"/>
  <Override PartName="/ppt/media/image46.wmf" ContentType="image/x-wmf"/>
  <Override PartName="/ppt/media/image13.jpeg" ContentType="image/jpeg"/>
  <Override PartName="/ppt/media/image4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9F62-95C2-49F6-8542-6ECB8111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FA07-5192-4716-A016-EFA73F70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17CF-DAF9-472C-9F2D-F1861243B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1E33-7FE0-4522-B758-09AB45DB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7821-4BCF-4946-9142-71D90C30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8F4E-7EEA-4515-A0A0-7010843C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8D35-0D5D-4223-94BB-44752631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CB46-59F3-49B2-88B8-486A5A62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4ACA-A8A6-4765-BA80-96683DE0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DB11-B94C-4148-86FF-25E81DFE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ECE9-1777-4FBD-B2FD-A798B3FC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3D1B-4584-4596-BEAE-8C30B949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A17E-BC10-4BB6-8573-0C490D22F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gi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image" Target="../media/image48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gi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gif"/><Relationship Id="rId3" Type="http://schemas.openxmlformats.org/officeDocument/2006/relationships/image" Target="../media/image60.gif"/><Relationship Id="rId4" Type="http://schemas.openxmlformats.org/officeDocument/2006/relationships/image" Target="../media/image61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image" Target="../media/image65.gif"/><Relationship Id="rId5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gif"/><Relationship Id="rId8" Type="http://schemas.openxmlformats.org/officeDocument/2006/relationships/image" Target="../media/image9.wmf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wmf"/><Relationship Id="rId6" Type="http://schemas.openxmlformats.org/officeDocument/2006/relationships/image" Target="../media/image19.gif"/><Relationship Id="rId7" Type="http://schemas.openxmlformats.org/officeDocument/2006/relationships/image" Target="../media/image20.gif"/><Relationship Id="rId8" Type="http://schemas.openxmlformats.org/officeDocument/2006/relationships/image" Target="../media/image21.gif"/><Relationship Id="rId9" Type="http://schemas.openxmlformats.org/officeDocument/2006/relationships/image" Target="../media/image22.gif"/><Relationship Id="rId10" Type="http://schemas.openxmlformats.org/officeDocument/2006/relationships/image" Target="../media/image17.gif"/><Relationship Id="rId11" Type="http://schemas.openxmlformats.org/officeDocument/2006/relationships/image" Target="../media/image18.wmf"/><Relationship Id="rId12" Type="http://schemas.openxmlformats.org/officeDocument/2006/relationships/image" Target="../media/image22.gi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image" Target="../media/image40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0920" y="1484280"/>
            <a:ext cx="57610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ыбор професс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26920" y="404640"/>
            <a:ext cx="7345440" cy="1584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Bookman Old Style"/>
              </a:rPr>
              <a:t>Типология професс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(по Климову Е.А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492280"/>
            <a:ext cx="2303280" cy="865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Человек -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19640" y="2492280"/>
            <a:ext cx="2232000" cy="865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Человек - тех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2492280"/>
            <a:ext cx="2160360" cy="865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Человек - 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47640" y="4076640"/>
            <a:ext cx="244800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Человек - искус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59280" y="4005360"/>
            <a:ext cx="244944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Человек - при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едицина: врач, медсестра, санитар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бучение и воспитание: учитель, тренер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право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Бытовое обслуживание: продавец, проводник, официан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6920" y="476280"/>
            <a:ext cx="7417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Человек -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1636920" cy="1656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948360" y="1628640"/>
            <a:ext cx="1563840" cy="1900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740720" y="4724280"/>
            <a:ext cx="1276200" cy="1219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4788000" y="5445000"/>
            <a:ext cx="1152360" cy="1038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5796000" y="3357720"/>
            <a:ext cx="833400" cy="1457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6443640" y="5300640"/>
            <a:ext cx="11685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9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2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5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000"/>
                            </p:stCondLst>
                            <p:childTnLst>
                              <p:par>
                                <p:cTn id="5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0"/>
                            </p:stCondLst>
                            <p:childTnLst>
                              <p:par>
                                <p:cTn id="5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7000"/>
                            </p:stCondLst>
                            <p:childTnLst>
                              <p:par>
                                <p:cTn id="5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5800" y="330120"/>
            <a:ext cx="8118000" cy="103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Человек - тех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1055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Эксплуатация технических средств: водитель, ле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шве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414936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Ремонт техники: механик, электромонт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онтаж, наладка технических устройств: сварщи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нжен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484360" y="2637000"/>
            <a:ext cx="1943280" cy="1401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877080" y="3141720"/>
            <a:ext cx="1995480" cy="2028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427640" y="4365720"/>
            <a:ext cx="187164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Человек – знак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Тексты: корректор, машинистка, библиотекарь, переводчик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Цифры, формулы, таблиц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бухгалте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экономи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422064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Чертежи, карты, схемы: чертежн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штурм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148360" y="4149360"/>
            <a:ext cx="353376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Звуковые сигналы: телефонис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ради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059280" y="2421000"/>
            <a:ext cx="1800000" cy="1434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635280" y="4724280"/>
            <a:ext cx="1308240" cy="1670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020000" y="2205000"/>
            <a:ext cx="1779480" cy="1530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7236000" y="4724280"/>
            <a:ext cx="17398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28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вязанные с созданием, проектированием, моделированием произведений искус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омпозит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художн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вязанные с воспроизведением и изготовлением произведений искусст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ювели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кте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вето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декоратор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333360"/>
            <a:ext cx="7344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Человек - искус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55640" y="5084640"/>
            <a:ext cx="1728720" cy="1146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492360" y="5513400"/>
            <a:ext cx="2016360" cy="1344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7236000" y="4724280"/>
            <a:ext cx="10951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зучение живой и неживой прир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икробиоло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грохимик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94920" y="4149360"/>
            <a:ext cx="569916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Уход за растениями, животн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есово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вощев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оотехн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офилактика и лечение заболеваний растений и животных: ветеринар, селекционер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3280" y="333360"/>
            <a:ext cx="68407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Человек - при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771640" y="2492280"/>
            <a:ext cx="1327320" cy="1640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443640" y="3716280"/>
            <a:ext cx="1947960" cy="244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356000" y="5229360"/>
            <a:ext cx="104796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</a:rPr>
              <a:t>Наиболее востребованные професси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Менедж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екрет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Бухгалтер, эконом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ператор П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Инженер- техн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валифицированный рабоч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родаве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Основные факторы или условия выбора професс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9"/>
          <p:cNvSpPr/>
          <p:nvPr/>
        </p:nvSpPr>
        <p:spPr>
          <a:xfrm>
            <a:off x="2057400" y="1905120"/>
            <a:ext cx="2811600" cy="2604960"/>
          </a:xfrm>
          <a:prstGeom prst="ellipse">
            <a:avLst/>
          </a:prstGeom>
          <a:solidFill>
            <a:srgbClr val="ff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хоч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0"/>
          <p:cNvSpPr/>
          <p:nvPr/>
        </p:nvSpPr>
        <p:spPr>
          <a:xfrm>
            <a:off x="3200400" y="3581280"/>
            <a:ext cx="2741760" cy="2535480"/>
          </a:xfrm>
          <a:prstGeom prst="ellipse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надо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31"/>
          <p:cNvSpPr/>
          <p:nvPr/>
        </p:nvSpPr>
        <p:spPr>
          <a:xfrm>
            <a:off x="4114800" y="1905120"/>
            <a:ext cx="2673360" cy="2536560"/>
          </a:xfrm>
          <a:prstGeom prst="ellipse">
            <a:avLst/>
          </a:prstGeom>
          <a:solidFill>
            <a:srgbClr val="cc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395280" y="2205000"/>
            <a:ext cx="16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нтересы  и склонност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6400800" y="205740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способности, состояние здоровь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1371600" y="502920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потребности общества в кадр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63640" y="333360"/>
            <a:ext cx="590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есни о профессия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42920" y="2637000"/>
            <a:ext cx="1728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рач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80000" y="4508640"/>
            <a:ext cx="194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6600ff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етчик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6600ff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084720" y="2708280"/>
            <a:ext cx="230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Учитель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Monotype Corsiva"/>
              </a:rPr>
              <a:t>Насчитывается более 40 тысяч, причем ежегодно появляется около пятисот новых и столько же исчезает или видоизменяетс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J0240695"/>
          <p:cNvPicPr/>
          <p:nvPr/>
        </p:nvPicPr>
        <p:blipFill>
          <a:blip r:embed="rId2"/>
          <a:stretch/>
        </p:blipFill>
        <p:spPr>
          <a:xfrm>
            <a:off x="7010280" y="1981080"/>
            <a:ext cx="1825920" cy="1462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J0240719"/>
          <p:cNvPicPr/>
          <p:nvPr/>
        </p:nvPicPr>
        <p:blipFill>
          <a:blip r:embed="rId3"/>
          <a:stretch/>
        </p:blipFill>
        <p:spPr>
          <a:xfrm>
            <a:off x="5181480" y="4267080"/>
            <a:ext cx="116208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J0301252"/>
          <p:cNvPicPr/>
          <p:nvPr/>
        </p:nvPicPr>
        <p:blipFill>
          <a:blip r:embed="rId4"/>
          <a:stretch/>
        </p:blipFill>
        <p:spPr>
          <a:xfrm>
            <a:off x="1676520" y="20574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J0291984"/>
          <p:cNvPicPr/>
          <p:nvPr/>
        </p:nvPicPr>
        <p:blipFill>
          <a:blip r:embed="rId5"/>
          <a:stretch/>
        </p:blipFill>
        <p:spPr>
          <a:xfrm>
            <a:off x="5105520" y="1905120"/>
            <a:ext cx="1807920" cy="1914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J0188669"/>
          <p:cNvPicPr/>
          <p:nvPr/>
        </p:nvPicPr>
        <p:blipFill>
          <a:blip r:embed="rId6"/>
          <a:stretch/>
        </p:blipFill>
        <p:spPr>
          <a:xfrm>
            <a:off x="3581280" y="2133720"/>
            <a:ext cx="150840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AG00038_"/>
          <p:cNvPicPr/>
          <p:nvPr/>
        </p:nvPicPr>
        <p:blipFill>
          <a:blip r:embed="rId7"/>
          <a:stretch/>
        </p:blipFill>
        <p:spPr>
          <a:xfrm>
            <a:off x="304920" y="4876920"/>
            <a:ext cx="1590480" cy="912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J0188679"/>
          <p:cNvPicPr/>
          <p:nvPr/>
        </p:nvPicPr>
        <p:blipFill>
          <a:blip r:embed="rId8"/>
          <a:stretch/>
        </p:blipFill>
        <p:spPr>
          <a:xfrm>
            <a:off x="1981080" y="4495680"/>
            <a:ext cx="1590840" cy="142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J0216724"/>
          <p:cNvPicPr/>
          <p:nvPr/>
        </p:nvPicPr>
        <p:blipFill>
          <a:blip r:embed="rId9"/>
          <a:stretch/>
        </p:blipFill>
        <p:spPr>
          <a:xfrm>
            <a:off x="250920" y="1844640"/>
            <a:ext cx="1447560" cy="181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BD00173_"/>
          <p:cNvPicPr/>
          <p:nvPr/>
        </p:nvPicPr>
        <p:blipFill>
          <a:blip r:embed="rId10"/>
          <a:stretch/>
        </p:blipFill>
        <p:spPr>
          <a:xfrm>
            <a:off x="3657600" y="4419720"/>
            <a:ext cx="1181160" cy="175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TR00172_"/>
          <p:cNvPicPr/>
          <p:nvPr/>
        </p:nvPicPr>
        <p:blipFill>
          <a:blip r:embed="rId11"/>
          <a:stretch/>
        </p:blipFill>
        <p:spPr>
          <a:xfrm>
            <a:off x="6705720" y="4648320"/>
            <a:ext cx="22017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000"/>
                            </p:stCondLst>
                            <p:childTnLst>
                              <p:par>
                                <p:cTn id="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4000"/>
                            </p:stCondLst>
                            <p:childTnLst>
                              <p:par>
                                <p:cTn id="33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8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0"/>
                            </p:stCondLst>
                            <p:childTnLst>
                              <p:par>
                                <p:cTn id="41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4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6000"/>
                            </p:stCondLst>
                            <p:childTnLst>
                              <p:par>
                                <p:cTn id="4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2000"/>
                            </p:stCondLst>
                            <p:childTnLst>
                              <p:par>
                                <p:cTn id="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4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6000"/>
                            </p:stCondLst>
                            <p:childTnLst>
                              <p:par>
                                <p:cTn id="6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2000"/>
                            </p:stCondLst>
                            <p:childTnLst>
                              <p:par>
                                <p:cTn id="73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6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8000"/>
                            </p:stCondLst>
                            <p:childTnLst>
                              <p:par>
                                <p:cTn id="81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2000"/>
                            </p:stCondLst>
                            <p:childTnLst>
                              <p:par>
                                <p:cTn id="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3000"/>
                            </p:stCondLst>
                            <p:childTnLst>
                              <p:par>
                                <p:cTn id="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4000"/>
                            </p:stCondLst>
                            <p:childTnLst>
                              <p:par>
                                <p:cTn id="1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50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6000"/>
                            </p:stCondLst>
                            <p:childTnLst>
                              <p:par>
                                <p:cTn id="1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7000"/>
                            </p:stCondLst>
                            <p:childTnLst>
                              <p:par>
                                <p:cTn id="1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8000"/>
                            </p:stCondLst>
                            <p:childTnLst>
                              <p:par>
                                <p:cTn id="1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9000"/>
                            </p:stCondLst>
                            <p:childTnLst>
                              <p:par>
                                <p:cTn id="1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0000"/>
                            </p:stCondLst>
                            <p:childTnLst>
                              <p:par>
                                <p:cTn id="1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1000"/>
                            </p:stCondLst>
                            <p:childTnLst>
                              <p:par>
                                <p:cTn id="1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31520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рофессия –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род трудовой деятельности, требующий определённой подготовки и являющийся обычно источником существовани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11280" y="364500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Слово "профессия" происходит от латинского слова «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professio</a:t>
            </a: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», означающего буквально «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официальное объявление своего занятия</a:t>
            </a: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».</a:t>
            </a:r>
            <a:r>
              <a:rPr b="0" i="1" lang="ru-RU" sz="2800" spc="-1" strike="noStrike">
                <a:solidFill>
                  <a:srgbClr val="000099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057400" y="3808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При решении проблемы «кем быть» рекомендуется прежде всего</a:t>
            </a:r>
            <a:r>
              <a:rPr b="1" lang="en-US" sz="2400" spc="-1" strike="noStrike">
                <a:solidFill>
                  <a:srgbClr val="29525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900000" y="3141720"/>
            <a:ext cx="58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доров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интересы и склон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ности, знания и ум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35"/>
          <p:cNvPicPr/>
          <p:nvPr/>
        </p:nvPicPr>
        <p:blipFill>
          <a:blip r:embed="rId2"/>
          <a:stretch/>
        </p:blipFill>
        <p:spPr>
          <a:xfrm>
            <a:off x="533520" y="304920"/>
            <a:ext cx="1428480" cy="1428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619280" y="1773360"/>
            <a:ext cx="640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знать самого себя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804000" y="2852640"/>
            <a:ext cx="1324080" cy="1086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7667640" y="4076640"/>
            <a:ext cx="771480" cy="714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7524720" y="5013360"/>
            <a:ext cx="895320" cy="1355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1042920" y="5300640"/>
            <a:ext cx="72396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2411280" y="5516640"/>
            <a:ext cx="1133640" cy="1209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3924360" y="5516640"/>
            <a:ext cx="1008000" cy="888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6300720" y="4292640"/>
            <a:ext cx="1295640" cy="1181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7667640" y="4076640"/>
            <a:ext cx="771480" cy="714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7524720" y="5013360"/>
            <a:ext cx="895320" cy="1355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2"/>
          <a:stretch/>
        </p:blipFill>
        <p:spPr>
          <a:xfrm>
            <a:off x="6300720" y="4292640"/>
            <a:ext cx="12956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685800" y="6094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5251"/>
                </a:solidFill>
                <a:latin typeface="Times New Roman"/>
              </a:rPr>
              <a:t>РАЗЛИЧАЮТ СЛЕДУЮЩИЕ РАЗНОВИДНОСТИ САМООЦЕНКИ</a:t>
            </a:r>
            <a:r>
              <a:rPr b="1" lang="en-US" sz="2800" spc="-1" strike="noStrike">
                <a:solidFill>
                  <a:srgbClr val="29525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j0078768"/>
          <p:cNvPicPr/>
          <p:nvPr/>
        </p:nvPicPr>
        <p:blipFill>
          <a:blip r:embed="rId2"/>
          <a:stretch/>
        </p:blipFill>
        <p:spPr>
          <a:xfrm>
            <a:off x="1219320" y="1528920"/>
            <a:ext cx="6183360" cy="46227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 rot="20365200">
            <a:off x="3048480" y="23619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b4"/>
                </a:solidFill>
                <a:latin typeface="Times New Roman"/>
              </a:rPr>
              <a:t>Заниже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 rot="20406600">
            <a:off x="3809880" y="365724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b4"/>
                </a:solidFill>
                <a:latin typeface="Times New Roman"/>
              </a:rPr>
              <a:t>Завыше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 rot="20431200">
            <a:off x="3429000" y="29714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b4"/>
                </a:solidFill>
                <a:latin typeface="Times New Roman"/>
              </a:rPr>
              <a:t>Адекват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2060640"/>
            <a:ext cx="7272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Важно воспитывать  умение объективно оценивать самого себя, научиться видеть свои достоинства и недостат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1066680" y="205740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а)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адекватная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нормальная)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самооценка,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соответствующая действительным способностям, возможностям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 </a:t>
            </a:r>
            <a:br>
              <a:rPr sz="2400"/>
            </a:br>
            <a:r>
              <a:rPr b="1" i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б)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завышенная самооценка,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 когда человек переоценивает себ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в)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заниженная самооценка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,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 когда человек недооценивает себя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, свои способности.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j0078625"/>
          <p:cNvPicPr/>
          <p:nvPr/>
        </p:nvPicPr>
        <p:blipFill>
          <a:blip r:embed="rId2"/>
          <a:stretch/>
        </p:blipFill>
        <p:spPr>
          <a:xfrm>
            <a:off x="228600" y="3809880"/>
            <a:ext cx="9144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391520" cy="14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сихологи считают, что наше внутреннее представление о себе зависит от трех условий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насколько мы успешн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как относятся к нам авторитетные для нас люд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насколько мы правильно умеем оценивать свои успехи и отношение других людей к нам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427640" y="5524560"/>
            <a:ext cx="714240" cy="1333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588000" y="5589720"/>
            <a:ext cx="1646280" cy="823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619280" y="5589720"/>
            <a:ext cx="115236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3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3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"/>
                            </p:stCondLst>
                            <p:childTnLst>
                              <p:par>
                                <p:cTn id="33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3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3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"/>
                            </p:stCondLst>
                            <p:childTnLst>
                              <p:par>
                                <p:cTn id="34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3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900"/>
                            </p:stCondLst>
                            <p:childTnLst>
                              <p:par>
                                <p:cTn id="3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5600" y="351000"/>
            <a:ext cx="57848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Предмет труда 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(типы професси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PE00737_"/>
          <p:cNvPicPr/>
          <p:nvPr/>
        </p:nvPicPr>
        <p:blipFill>
          <a:blip r:embed="rId2"/>
          <a:stretch/>
        </p:blipFill>
        <p:spPr>
          <a:xfrm>
            <a:off x="685800" y="4114800"/>
            <a:ext cx="2022480" cy="1452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IN00557_"/>
          <p:cNvPicPr/>
          <p:nvPr/>
        </p:nvPicPr>
        <p:blipFill>
          <a:blip r:embed="rId3"/>
          <a:srcRect l="0" t="0" r="10820" b="0"/>
          <a:stretch/>
        </p:blipFill>
        <p:spPr>
          <a:xfrm>
            <a:off x="5943600" y="2057400"/>
            <a:ext cx="1976400" cy="1522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SO02465_"/>
          <p:cNvPicPr/>
          <p:nvPr/>
        </p:nvPicPr>
        <p:blipFill>
          <a:blip r:embed="rId4"/>
          <a:stretch/>
        </p:blipFill>
        <p:spPr>
          <a:xfrm>
            <a:off x="3505320" y="2057400"/>
            <a:ext cx="1508040" cy="1508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SL01394_"/>
          <p:cNvPicPr/>
          <p:nvPr/>
        </p:nvPicPr>
        <p:blipFill>
          <a:blip r:embed="rId5"/>
          <a:stretch/>
        </p:blipFill>
        <p:spPr>
          <a:xfrm>
            <a:off x="3276720" y="4343400"/>
            <a:ext cx="2093760" cy="1276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BS01603_"/>
          <p:cNvPicPr/>
          <p:nvPr/>
        </p:nvPicPr>
        <p:blipFill>
          <a:blip r:embed="rId6"/>
          <a:srcRect l="8373" t="8337" r="7858" b="4080"/>
          <a:stretch/>
        </p:blipFill>
        <p:spPr>
          <a:xfrm>
            <a:off x="6248520" y="403848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PE00668_"/>
          <p:cNvPicPr/>
          <p:nvPr/>
        </p:nvPicPr>
        <p:blipFill>
          <a:blip r:embed="rId7"/>
          <a:stretch/>
        </p:blipFill>
        <p:spPr>
          <a:xfrm>
            <a:off x="838080" y="2133720"/>
            <a:ext cx="2005200" cy="15015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4"/>
          <p:cNvSpPr/>
          <p:nvPr/>
        </p:nvSpPr>
        <p:spPr>
          <a:xfrm>
            <a:off x="762120" y="2209680"/>
            <a:ext cx="2133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Склонность </a:t>
            </a:r>
            <a:br>
              <a:rPr sz="2000"/>
            </a:b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к работе с люд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3276720" y="2209680"/>
            <a:ext cx="1981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Склонность </a:t>
            </a:r>
            <a:br>
              <a:rPr sz="2000"/>
            </a:b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к умственной рабо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5867280" y="2286000"/>
            <a:ext cx="2286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Склонность </a:t>
            </a:r>
            <a:br>
              <a:rPr sz="2000"/>
            </a:b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к практи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609480" y="4114800"/>
            <a:ext cx="2210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Склонность </a:t>
            </a:r>
            <a:br>
              <a:rPr sz="2000"/>
            </a:b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к эстетическим видам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8"/>
          <p:cNvSpPr/>
          <p:nvPr/>
        </p:nvSpPr>
        <p:spPr>
          <a:xfrm>
            <a:off x="3276720" y="4038480"/>
            <a:ext cx="2514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Склонность </a:t>
            </a:r>
            <a:br>
              <a:rPr sz="2000"/>
            </a:b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к экстремальным видам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5867280" y="411480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Склонность </a:t>
            </a:r>
            <a:br>
              <a:rPr sz="2000"/>
            </a:b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к планово-экономическим </a:t>
            </a:r>
            <a:br>
              <a:rPr sz="2000"/>
            </a:br>
            <a:r>
              <a:rPr b="0" lang="en-US" sz="2000" spc="-1" strike="noStrike">
                <a:solidFill>
                  <a:srgbClr val="295251"/>
                </a:solidFill>
                <a:latin typeface="Arial Black"/>
              </a:rPr>
              <a:t>видам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</a:rPr>
              <a:t>Кем стать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Bookman Old Style"/>
              </a:rPr>
              <a:t>О выборе профессии наши дети начали задумываться уже сейча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42920" y="4437000"/>
            <a:ext cx="885960" cy="1000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132000" y="4437000"/>
            <a:ext cx="1468440" cy="1258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300720" y="4508640"/>
            <a:ext cx="136692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08:03:57Z</dcterms:created>
  <dc:creator>Ирина</dc:creator>
  <dc:description/>
  <dc:language>en-US</dc:language>
  <cp:lastModifiedBy>Ирина</cp:lastModifiedBy>
  <dcterms:modified xsi:type="dcterms:W3CDTF">2011-01-30T13:32:11Z</dcterms:modified>
  <cp:revision>11</cp:revision>
  <dc:subject/>
  <dc:title>Насчитывается более 40 тысяч, причем ежегодно появляется около пятисот новых и столько же исчезает или видоизменяется. </dc:title>
</cp:coreProperties>
</file>