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41240" y="577440"/>
            <a:ext cx="860112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4124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4968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5776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577440"/>
            <a:ext cx="860112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4080"/>
            <a:ext cx="8470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577440"/>
            <a:ext cx="86011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1080" y="27000"/>
            <a:ext cx="953928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БОУ СПО МО “Подольское медицинское училище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179280" y="1260360"/>
            <a:ext cx="9539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Предстерилизационна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чистка изделий медицинского назначен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реподаватель 1 квалификационной категори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о “Основам сестринского дела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Кислицына Юлия  Владимировна 272-023-61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79280" y="5580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60360" y="360360"/>
            <a:ext cx="9360000" cy="684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 на задачу команды №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ьзоваться реактивом нельзя, так как он непригоден. Приготовить новый рабочий раствор, смешивая равные объемы азопирама и 3% раствора перекиси водорода, использовать его в течение 1-2 часов. Пригодный раствор дает розово-сиреневый цвет на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9539280" cy="6966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команды №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 — медицинская сестра приемного отделения. При проведении контроля качества предстерилизационной очистки с помощью фенолфталеиновой пробы появилось в течение 1 минуты окрашивание реактива в розово-малиновый цв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: Оцените ситуацию. Ваши действ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79280"/>
            <a:ext cx="953928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 на задачу команды №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акция положительная, что свидетельствует о наличии остаточных количеств синтетических моющих средств. Стерилизовать инструменты нельзя. Повторить предстерилизационную очистку всей партии мединструментария. Повторный контроль инструмента проводить ежедневно до получения трехкратного отрицательного результа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НАЙДИТЕ ЗАШИФРОВАННОЕ В БУКВАХ СЛО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41240" y="2101680"/>
          <a:ext cx="8605800" cy="5099400"/>
        </p:xfrm>
        <a:graphic>
          <a:graphicData uri="http://schemas.openxmlformats.org/drawingml/2006/table">
            <a:tbl>
              <a:tblPr/>
              <a:tblGrid>
                <a:gridCol w="1228680"/>
                <a:gridCol w="1229040"/>
                <a:gridCol w="1228680"/>
                <a:gridCol w="1230120"/>
                <a:gridCol w="1228680"/>
                <a:gridCol w="1229040"/>
                <a:gridCol w="1231560"/>
              </a:tblGrid>
              <a:tr h="1019520"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Д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</a:tr>
              <a:tr h="1019160"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М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</a:tr>
              <a:tr h="1019160"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</a:tr>
              <a:tr h="1019160"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Ц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</a:tr>
              <a:tr h="1022400"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НАЙДИТЕ ЗАШИФРОВАННОЕ В БУКВАХ СЛО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41240" y="2101680"/>
          <a:ext cx="8605800" cy="5099400"/>
        </p:xfrm>
        <a:graphic>
          <a:graphicData uri="http://schemas.openxmlformats.org/drawingml/2006/table">
            <a:tbl>
              <a:tblPr/>
              <a:tblGrid>
                <a:gridCol w="1228680"/>
                <a:gridCol w="1229040"/>
                <a:gridCol w="1228680"/>
                <a:gridCol w="1230120"/>
                <a:gridCol w="1228680"/>
                <a:gridCol w="1229040"/>
                <a:gridCol w="1231560"/>
              </a:tblGrid>
              <a:tr h="1019520"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Д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</a:tr>
              <a:tr h="1019160"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М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</a:tr>
              <a:tr h="1019160"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</a:tr>
              <a:tr h="1019160"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Ц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Б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2236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4d1"/>
                    </a:solidFill>
                  </a:tcPr>
                </a:tc>
              </a:tr>
              <a:tr h="1022400"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2236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2236"/>
                    </a:solidFill>
                  </a:tcPr>
                </a:tc>
                <a:tc>
                  <a:txBody>
                    <a:bodyPr lIns="90000" rIns="90000" tIns="2836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223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2" descr=""/>
          <p:cNvPicPr/>
          <p:nvPr/>
        </p:nvPicPr>
        <p:blipFill>
          <a:blip r:embed="rId1"/>
          <a:srcRect l="28266" t="20989" r="27449" b="39508"/>
          <a:stretch/>
        </p:blipFill>
        <p:spPr>
          <a:xfrm>
            <a:off x="360360" y="684360"/>
            <a:ext cx="9375840" cy="63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436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ы на тест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9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 вариа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—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 —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 — 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 —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 —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 —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9800" y="2101680"/>
            <a:ext cx="4199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I вариа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— 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 — 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 —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 — 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 — 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 —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31280" y="826560"/>
            <a:ext cx="9217080" cy="56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 вариан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сказк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Это проба проводится на остатки моющего сред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При положительной пробе реактив меняет свой цвет на розово-малиновый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енолфталеиновая проб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4200" y="178920"/>
            <a:ext cx="9506160" cy="712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сказ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Это проба проводится на остатки дезинфекта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При положительной пробе реактив меняет свой цвет на фиолетовый, переходящий в бурый цв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Еще это проба проводится на остаточные количества щелочных компонентов моющего сред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При положительной пробе реактив меняет свой цвет на фиолетовый переходящий в розово-сиренев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зопирамовая проб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60360" y="277920"/>
            <a:ext cx="8607600" cy="64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 вариа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дсказк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Эта проба проводится на остатки масляных препарат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Реакция считается положительной, если на инструменте появились желтые пятна или подте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ба с Суданом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2400" y="17784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Карточка №1 Дополни текст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очистке, изделия, белковых, жировых, механических, лекарствен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предстерилизационной, разобранн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очистка, ручным, механизированны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струйным, ротационным, ершеванием, ультразву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ручным, моющими, определен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412560"/>
            <a:ext cx="9539280" cy="160308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Карточка №2. Соотнесите этапы очистки и порядок ее проведения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2738160"/>
            <a:ext cx="32400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– 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 – 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– 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–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 – 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119640" y="4859280"/>
            <a:ext cx="360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88560"/>
            <a:ext cx="989964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ьте ДА или НЕТ на предложенное утвержд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800360"/>
            <a:ext cx="98996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 fontScale="99000"/>
          </a:bodyPr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контаминация – метод уничтожения микроорганизмов и споровых фор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контаминация включает в себя очистку, дезинфекцию и стерилизаци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се оборудование перед очисткой должно быть разобрано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78920"/>
            <a:ext cx="9539280" cy="7877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Цель предстерилизационной обработки – удаление с изделий медицинского назначения микроорганизмов и споровых форм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дсестра осуществляет самоконтроль после каждой обработанной парти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случае положительной пробы вся партия прошла предстерилизационную очистку и может отправляться на стерилизацию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9280" y="360360"/>
            <a:ext cx="9539280" cy="684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нтролю подлежит 1% от отработанной партии, но не менее 3-5 шт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еакция читается в течение одной минуты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нструмент должен быть теплым и влажны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360360"/>
            <a:ext cx="9539280" cy="6811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команды №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 — медицинская сестра центрального стерилизационного отделения. При проведении контроля качества предстерилизационной очистки с помощью азопирамовой пробы появилось в течение 1 минуты окрашивание реактива в фиолетовый цвет, переходящий в буры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ние: Оцените ситуацию. Ваши действ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81080" y="179280"/>
            <a:ext cx="9539280" cy="897408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 на задачу команды №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акция положительная, что свидетельствует о наличии остаточных количеств синтетических моющих средств, следов дезинфектанта, ржавчины. Стерилизовать инструменты нельзя. Повторить предстерилизационную очистку всей партии мединструментария. Повторный контроль инструмента проводить ежедневно до получения трехкратного отрицательного результа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79280"/>
            <a:ext cx="9539280" cy="7485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команды №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 — старшая медицинская сестра хирургического отделения. При определении пригодности рабочего раствора азопирама нанесли 2 капли реактива на кровяное пятно. В течение 1 минуты цвет кровяного пятна не изменился. Задание: Оцените ситуацию. Ваши действ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6:34:31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>юзер</cp:lastModifiedBy>
  <cp:lastPrinted>2015-03-04T14:54:10Z</cp:lastPrinted>
  <dcterms:modified xsi:type="dcterms:W3CDTF">2015-03-04T14:58:59Z</dcterms:modified>
  <cp:revision>6</cp:revision>
  <dc:subject/>
  <dc:title>Предложение стратегии</dc:title>
</cp:coreProperties>
</file>