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92E-6B8F-40F5-A97F-740CAA7C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B3B-0488-465E-AA00-54DA645D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B808-1278-4B49-9C6D-C2A619F1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C2D-F928-4862-ABEF-57BC0E65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4D0-B068-4517-9C6F-D8002835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D1BA-5801-497B-AF4E-85DAAB6E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86F2-1D18-43C9-A7A3-2D572BF7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CA6-DBA5-4EF1-972B-3C471C5D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B08-A41E-4460-8397-B71B08D6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176-7E8D-4A8B-B1FF-70955FD2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E6A-DA20-43A1-86E4-8022F5FA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C293-4205-441D-8775-73209E8B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ED72-D44C-4C2F-9E9E-D5A1437E12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1857240"/>
            <a:ext cx="721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Задачи в УМК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Г.К. Муравин, О.В.Муравина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 развивающие творческие способности учащих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3716280"/>
            <a:ext cx="61437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МОБУ СОШ №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Дученко Е.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Задачи на нахождение известного в нов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2" descr=""/>
          <p:cNvPicPr/>
          <p:nvPr/>
        </p:nvPicPr>
        <p:blipFill>
          <a:blip r:embed="rId1"/>
          <a:stretch/>
        </p:blipFill>
        <p:spPr>
          <a:xfrm>
            <a:off x="762120" y="1712880"/>
            <a:ext cx="71326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дачи-леген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2" descr=""/>
          <p:cNvPicPr/>
          <p:nvPr/>
        </p:nvPicPr>
        <p:blipFill>
          <a:blip r:embed="rId1"/>
          <a:stretch/>
        </p:blipFill>
        <p:spPr>
          <a:xfrm>
            <a:off x="615960" y="1566720"/>
            <a:ext cx="69912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4875480" y="5732640"/>
            <a:ext cx="35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ченко Елизавет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55640" y="1989000"/>
            <a:ext cx="7129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Если ученик в школе не научился сам ничего творить, то и в жизни он всегда будет только подражать, копировать, так как мало таких, которые бы, научившись копировать, умели сделать самостоятельное приложение этих сведений.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.Толс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учебниках представлены упраж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15800" y="1557360"/>
            <a:ext cx="53290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язательного уровн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2195640" y="30830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енного уров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621240" y="4365720"/>
            <a:ext cx="40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ющего уров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2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Упражнения на нахождение закономер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2" descr=""/>
          <p:cNvPicPr/>
          <p:nvPr/>
        </p:nvPicPr>
        <p:blipFill>
          <a:blip r:embed="rId1"/>
          <a:stretch/>
        </p:blipFill>
        <p:spPr>
          <a:xfrm>
            <a:off x="907920" y="1427040"/>
            <a:ext cx="6042240" cy="50292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"/>
          <p:cNvPicPr/>
          <p:nvPr/>
        </p:nvPicPr>
        <p:blipFill>
          <a:blip r:embed="rId2"/>
          <a:srcRect l="22379" t="20498" r="23400" b="0"/>
          <a:stretch/>
        </p:blipFill>
        <p:spPr>
          <a:xfrm>
            <a:off x="2050920" y="3141720"/>
            <a:ext cx="3222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1"/>
          <p:cNvSpPr/>
          <p:nvPr/>
        </p:nvSpPr>
        <p:spPr>
          <a:xfrm>
            <a:off x="755640" y="0"/>
            <a:ext cx="64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Упражнения на придумывание задачи или контрприм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755640" y="1955880"/>
            <a:ext cx="655308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5 класс (№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но ли, что у большего чис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ма разрядных слагаемых больше, чем у его меньше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ифра старшего разряда больше, чем у меньшего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ответ утвердительный, то объясните его, если отрицательный, то приведит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нтр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755640" y="1324080"/>
            <a:ext cx="669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6 класс  (№1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думайт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ый опровергает утвержд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Если произведение двух натуральных чисел делится на некоторое число, то хотя бы одно из них делится на это чис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Если ни одно из двух натуральных чисел не делится на некоторое число, то и их произведение делится на это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468360" y="0"/>
            <a:ext cx="73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Упражнения на придумывание задачи или контрприм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Занимательные задачи, задачи головоломки, задачи на смекал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64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5 класс (№15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положите 12 спичек так, чтобы получилос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ять квадра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шес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Из спичек сложена фигура, изображенная на рисунке 4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изображено треугольников? Сколько изображено изображено равных треугольник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rcRect l="58761" t="0" r="0" b="15587"/>
          <a:stretch/>
        </p:blipFill>
        <p:spPr>
          <a:xfrm>
            <a:off x="5364000" y="2738520"/>
            <a:ext cx="17686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4920" y="26028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5 класс (№38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ое по очереди разламывают шоколадку, в которой 40 дол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ход разрешается сделать прямолинейный разлом любого из имеющихся кусков вдоль углубления. Выигрывает тот, кто первым отломит одну дольку. Кто первый или второй из любителей шоколада, должен выиграть при правильной стратеги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rcRect l="23065" t="18424" r="24115" b="44836"/>
          <a:stretch/>
        </p:blipFill>
        <p:spPr>
          <a:xfrm>
            <a:off x="2627280" y="1773360"/>
            <a:ext cx="275292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016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Задачи на постро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99640" y="1197000"/>
            <a:ext cx="6551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6 класс (№2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Найдите площади квадратов, изображенных на рисунке 15, если сторона клетки равна 0,5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Постройте на бумаге в клетку квадраты, площади которых равны: 2, 4, 5, 8, 9, 10, 16, 17 клетк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rcRect l="6618" t="23825" r="8372" b="10283"/>
          <a:stretch/>
        </p:blipFill>
        <p:spPr>
          <a:xfrm>
            <a:off x="2198520" y="3716280"/>
            <a:ext cx="475308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1:14:10Z</dcterms:created>
  <dc:creator>Admin</dc:creator>
  <dc:description/>
  <dc:language>en-US</dc:language>
  <cp:lastModifiedBy>User</cp:lastModifiedBy>
  <dcterms:modified xsi:type="dcterms:W3CDTF">2015-05-12T17:26:16Z</dcterms:modified>
  <cp:revision>41</cp:revision>
  <dc:subject/>
  <dc:title>Слайд 1</dc:title>
</cp:coreProperties>
</file>