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164-C93A-49CC-A6CA-E0E44680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5DD-106F-4216-AD3A-751E9FD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63A-4447-4F43-86D4-8252A7E8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F77-11EF-4919-B82D-A29BA3AE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FEB-A714-469D-8F7D-819743DF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2EA-6C29-49BE-8D82-7E37FE2B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133-2239-434E-8859-B2327C36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856-4056-4755-AE48-9856C54A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88A-8712-4E33-9437-077EAF98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6B6-1088-4E86-A8B4-C350393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1B8-5530-4329-B1D3-4E00124A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A18-CC1A-40AA-ADC4-F06C1C6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A816-BF10-4625-B7EF-5C14BC262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857240"/>
            <a:ext cx="721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Задачи в УМК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.К. Муравин, О.В.Муравина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 развивающие творческие способности учащих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716280"/>
            <a:ext cx="61437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МОБУ СОШ №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Дученко Е.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дачи на нахождение известного в нов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762120" y="1712880"/>
            <a:ext cx="7132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дачи-леге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2" descr=""/>
          <p:cNvPicPr/>
          <p:nvPr/>
        </p:nvPicPr>
        <p:blipFill>
          <a:blip r:embed="rId1"/>
          <a:stretch/>
        </p:blipFill>
        <p:spPr>
          <a:xfrm>
            <a:off x="615960" y="1566720"/>
            <a:ext cx="69912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4875480" y="573264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ченко Елизавет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1989000"/>
            <a:ext cx="7129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ученик в школе не научился сам ничего творить, то и в жизни он всегда будет только подражать, копировать, так как мало таких, которые бы, научившись копировать, умели сделать самостоятельное приложение этих сведений.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.Толс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учебниках представлены упраж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15800" y="1557360"/>
            <a:ext cx="5329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ого уровн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2195640" y="30830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ного уров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621240" y="436572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юще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2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Упражнения на нахождение закономер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907920" y="1427040"/>
            <a:ext cx="6042240" cy="5029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2"/>
          <a:srcRect l="22379" t="20498" r="23400" b="0"/>
          <a:stretch/>
        </p:blipFill>
        <p:spPr>
          <a:xfrm>
            <a:off x="2050920" y="3141720"/>
            <a:ext cx="3222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755640" y="0"/>
            <a:ext cx="64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Упражнения на придумывание задачи или контрпри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755640" y="1955880"/>
            <a:ext cx="6553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5 класс (№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 ли, что у большего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разрядных слагаемых больше, чем у его меньше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а старшего разряда больше, чем у меньшего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ответ утвердительный, то объясните его, если отрицательный, то приведит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тр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755640" y="1324080"/>
            <a:ext cx="669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6 класс  (№1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думайт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й опровергает утвержд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Если произведение двух натуральных чисел делится на некоторое число, то хотя бы одно из них делится на это чи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Если ни одно из двух натуральных чисел не делится на некоторое число, то и их произведение делится на это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68360" y="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Упражнения на придумывание задачи или контрпри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нимательные задачи, задачи головоломки, задачи на смекал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класс (№15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оложите 12 спичек так, чтобы получилос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ять квадра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шес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Из спичек сложена фигура, изображенная на рисунке 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изображено треугольников? Сколько изображено изображено равных треугольни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rcRect l="58761" t="0" r="0" b="15587"/>
          <a:stretch/>
        </p:blipFill>
        <p:spPr>
          <a:xfrm>
            <a:off x="5364000" y="2738520"/>
            <a:ext cx="17686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4920" y="26028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класс (№38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е по очереди разламывают шоколадку, в которой 40 дол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ход разрешается сделать прямолинейный разлом любого из имеющихся кусков вдоль углубления. Выигрывает тот, кто первым отломит одну дольку. Кто первый или второй из любителей шоколада, должен выиграть при правильной стратег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rcRect l="23065" t="18424" r="24115" b="44836"/>
          <a:stretch/>
        </p:blipFill>
        <p:spPr>
          <a:xfrm>
            <a:off x="2627280" y="1773360"/>
            <a:ext cx="27529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016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дачи на постро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197000"/>
            <a:ext cx="65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6 класс (№2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Найдите площади квадратов, изображенных на рисунке 15, если сторона клетки равна 0,5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Постройте на бумаге в клетку квадраты, площади которых равны: 2, 4, 5, 8, 9, 10, 16, 17 клетк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rcRect l="6618" t="23825" r="8372" b="10283"/>
          <a:stretch/>
        </p:blipFill>
        <p:spPr>
          <a:xfrm>
            <a:off x="2198520" y="3716280"/>
            <a:ext cx="47530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1:14:10Z</dcterms:created>
  <dc:creator>Admin</dc:creator>
  <dc:description/>
  <dc:language>en-US</dc:language>
  <cp:lastModifiedBy>User</cp:lastModifiedBy>
  <dcterms:modified xsi:type="dcterms:W3CDTF">2015-05-12T17:26:16Z</dcterms:modified>
  <cp:revision>41</cp:revision>
  <dc:subject/>
  <dc:title>Слайд 1</dc:title>
</cp:coreProperties>
</file>