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9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7505-6E3E-43B3-9E21-4D626F440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8CCF-F8C0-4C8D-B3D1-6E7C528E8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4E9E-ADB8-43F9-91B4-7E2F7AFF2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A995-5539-49EA-85B8-8D3058588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FD0B-8078-4646-B683-D5C50FC72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6ACF-DBC5-4F2E-9EC8-59A0C4C57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FBAA-CF19-4533-900D-116A5F767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BACC-35E5-4B84-9AD8-1217F9BF9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E89D-AB5C-44DB-A535-102A976F4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B4B3-1A78-4715-99EE-A73CF250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F4A1-34C4-441C-A794-CE90A4A3A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6CD3-6D8D-4B68-8101-9B6E453A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4032F-6BA1-4AA2-8828-8F5E2990E9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1857240"/>
            <a:ext cx="721512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  <a:ea typeface="Arial"/>
              </a:rPr>
              <a:t>Задачи в УМК </a:t>
            </a: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Г.К. Муравин, О.В.Муравина</a:t>
            </a:r>
            <a:r>
              <a:rPr b="1" lang="ru-RU" sz="4000" spc="-1" strike="noStrike">
                <a:solidFill>
                  <a:srgbClr val="c00000"/>
                </a:solidFill>
                <a:latin typeface="Calibri"/>
                <a:ea typeface="Arial"/>
              </a:rPr>
              <a:t> развивающие творческие способности учащихс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920" y="3716280"/>
            <a:ext cx="614376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Учите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МОБУ СОШ №3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Дученко Е.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Задачи на нахождение известного в новом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Объект 2" descr=""/>
          <p:cNvPicPr/>
          <p:nvPr/>
        </p:nvPicPr>
        <p:blipFill>
          <a:blip r:embed="rId1"/>
          <a:stretch/>
        </p:blipFill>
        <p:spPr>
          <a:xfrm>
            <a:off x="762120" y="1712880"/>
            <a:ext cx="713268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Задачи-леген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Объект 2" descr=""/>
          <p:cNvPicPr/>
          <p:nvPr/>
        </p:nvPicPr>
        <p:blipFill>
          <a:blip r:embed="rId1"/>
          <a:stretch/>
        </p:blipFill>
        <p:spPr>
          <a:xfrm>
            <a:off x="615960" y="1566720"/>
            <a:ext cx="6991200" cy="45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2"/>
          <p:cNvSpPr/>
          <p:nvPr/>
        </p:nvSpPr>
        <p:spPr>
          <a:xfrm>
            <a:off x="4875480" y="5732640"/>
            <a:ext cx="354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ученко Елизавета Викто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755640" y="1989000"/>
            <a:ext cx="7129440" cy="34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Если ученик в школе не научился сам ничего творить, то и в жизни он всегда будет только подражать, копировать, так как мало таких, которые бы, научившись копировать, умели сделать самостоятельное приложение этих сведений.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Л.Толсто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 учебниках представлены упражн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315800" y="1557360"/>
            <a:ext cx="532908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язательного уровн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1"/>
          <p:cNvSpPr/>
          <p:nvPr/>
        </p:nvSpPr>
        <p:spPr>
          <a:xfrm>
            <a:off x="2195640" y="3083040"/>
            <a:ext cx="51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вышенного уровн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4"/>
          <p:cNvSpPr/>
          <p:nvPr/>
        </p:nvSpPr>
        <p:spPr>
          <a:xfrm>
            <a:off x="3621240" y="4365720"/>
            <a:ext cx="403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вивающего уров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126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Упражнения на нахождение закономерносте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Объект 2" descr=""/>
          <p:cNvPicPr/>
          <p:nvPr/>
        </p:nvPicPr>
        <p:blipFill>
          <a:blip r:embed="rId1"/>
          <a:stretch/>
        </p:blipFill>
        <p:spPr>
          <a:xfrm>
            <a:off x="907920" y="1427040"/>
            <a:ext cx="6042240" cy="502920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7" descr=""/>
          <p:cNvPicPr/>
          <p:nvPr/>
        </p:nvPicPr>
        <p:blipFill>
          <a:blip r:embed="rId2"/>
          <a:srcRect l="22379" t="20498" r="23400" b="0"/>
          <a:stretch/>
        </p:blipFill>
        <p:spPr>
          <a:xfrm>
            <a:off x="2050920" y="3141720"/>
            <a:ext cx="3222720" cy="10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Заголовок 1"/>
          <p:cNvSpPr/>
          <p:nvPr/>
        </p:nvSpPr>
        <p:spPr>
          <a:xfrm>
            <a:off x="755640" y="0"/>
            <a:ext cx="6480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Упражнения на придумывание задачи или контрприм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4"/>
          <p:cNvSpPr/>
          <p:nvPr/>
        </p:nvSpPr>
        <p:spPr>
          <a:xfrm>
            <a:off x="755640" y="1955880"/>
            <a:ext cx="6553080" cy="53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5 класс (№4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рно ли, что у большего чис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умма разрядных слагаемых больше, чем у его меньшего чи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ифра старшего разряда больше, чем у меньшего чис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ответ утвердительный, то объясните его, если отрицательный, то приведите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контрприм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755640" y="1324080"/>
            <a:ext cx="6696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6 класс  (№18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думайте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имер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который опровергает утвержд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 Если произведение двух натуральных чисел делится на некоторое число, то хотя бы одно из них делится на это числ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 Если ни одно из двух натуральных чисел не делится на некоторое число, то и их произведение делится на это чи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4"/>
          <p:cNvSpPr/>
          <p:nvPr/>
        </p:nvSpPr>
        <p:spPr>
          <a:xfrm>
            <a:off x="468360" y="0"/>
            <a:ext cx="734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Упражнения на придумывание задачи или контрприм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Занимательные задачи, задачи головоломки, задачи на смекалк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55640" y="1628640"/>
            <a:ext cx="66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5 класс (№155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сположите 12 спичек так, чтобы получилось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) пять квадратов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) шесть квадрат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) Из спичек сложена фигура, изображенная на рисунке 49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колько изображено треугольников? Сколько изображено изображено равных треугольников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Рисунок 1" descr=""/>
          <p:cNvPicPr/>
          <p:nvPr/>
        </p:nvPicPr>
        <p:blipFill>
          <a:blip r:embed="rId1"/>
          <a:srcRect l="58761" t="0" r="0" b="15587"/>
          <a:stretch/>
        </p:blipFill>
        <p:spPr>
          <a:xfrm>
            <a:off x="5364000" y="2738520"/>
            <a:ext cx="176868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94920" y="260280"/>
            <a:ext cx="705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5 класс (№383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вое по очереди разламывают шоколадку, в которой 40 долек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397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397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 ход разрешается сделать прямолинейный разлом любого из имеющихся кусков вдоль углубления. Выигрывает тот, кто первым отломит одну дольку. Кто первый или второй из любителей шоколада, должен выиграть при правильной стратегии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397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Рисунок 3" descr=""/>
          <p:cNvPicPr/>
          <p:nvPr/>
        </p:nvPicPr>
        <p:blipFill>
          <a:blip r:embed="rId1"/>
          <a:srcRect l="23065" t="18424" r="24115" b="44836"/>
          <a:stretch/>
        </p:blipFill>
        <p:spPr>
          <a:xfrm>
            <a:off x="2627280" y="1773360"/>
            <a:ext cx="2752920" cy="10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2016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Задачи на постро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899640" y="1197000"/>
            <a:ext cx="65516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6 класс (№2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) Найдите площади квадратов, изображенных на рисунке 15, если сторона клетки равна 0,5 с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) Постройте на бумаге в клетку квадраты, площади которых равны: 2, 4, 5, 8, 9, 10, 16, 17 клетк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Рисунок 3" descr=""/>
          <p:cNvPicPr/>
          <p:nvPr/>
        </p:nvPicPr>
        <p:blipFill>
          <a:blip r:embed="rId1"/>
          <a:srcRect l="6618" t="23825" r="8372" b="10283"/>
          <a:stretch/>
        </p:blipFill>
        <p:spPr>
          <a:xfrm>
            <a:off x="2198520" y="3716280"/>
            <a:ext cx="4753080" cy="28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01:14:10Z</dcterms:created>
  <dc:creator>Admin</dc:creator>
  <dc:description/>
  <dc:language>en-US</dc:language>
  <cp:lastModifiedBy>User</cp:lastModifiedBy>
  <dcterms:modified xsi:type="dcterms:W3CDTF">2015-05-12T17:26:16Z</dcterms:modified>
  <cp:revision>41</cp:revision>
  <dc:subject/>
  <dc:title>Слайд 1</dc:title>
</cp:coreProperties>
</file>