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E50F-BEC0-4EC7-BD78-5C3BD917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B291-A766-4DEB-82E7-092A0993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7AC5-DE85-485C-A4DD-2E229426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20F1-8444-4C20-9A1F-69E0CAD0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CB7-0D73-41AE-9180-7C411C97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3B9-2996-4933-B6F9-82440226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5FFD-14F9-4B34-A6C7-0901CC4E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2342-DACC-4547-A45B-5BD3A93A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6A4B-83EF-43AE-8FA5-36C923D3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127-A3A7-4D5F-BD1B-7C5B2F31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327A-5043-4D4A-B3C9-B4EC7FDB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05AC-1F67-4B62-88DA-DAE45548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B349-F208-4481-8787-D0F20134A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2060640"/>
            <a:ext cx="6985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ведение в теорию графов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4608360" y="328608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103640" y="83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08360" y="328608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103640" y="83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608360" y="328608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103640" y="83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11640" y="1989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53080" y="1197000"/>
            <a:ext cx="3562200" cy="2233440"/>
          </a:xfrm>
          <a:prstGeom prst="rect">
            <a:avLst/>
          </a:prstGeom>
          <a:noFill/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643280" y="1125360"/>
            <a:ext cx="21600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608360" y="3286080"/>
            <a:ext cx="21600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172360" y="3357720"/>
            <a:ext cx="21600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170920" y="1125360"/>
            <a:ext cx="21600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07280" y="2278080"/>
            <a:ext cx="217440" cy="144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103640" y="83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140360" y="3213000"/>
            <a:ext cx="43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459640" y="9079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388360" y="321300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093080" y="1844640"/>
            <a:ext cx="43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372360" y="76500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75640" y="263700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292720" y="18464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084720" y="2997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788000" y="2421000"/>
            <a:ext cx="2592360" cy="93672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68360" y="2509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067280" y="389880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95640" y="62755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04360" y="634824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389880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307280" y="51228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40360" y="51955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49636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20000" y="46195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067280" y="389880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62755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604360" y="634824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604360" y="389880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07280" y="51228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4140360" y="51955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49636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020000" y="46195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67280" y="389880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62755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604360" y="634824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604360" y="389880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307280" y="51228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4140360" y="51955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49636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20000" y="46195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598920" y="49784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28000" y="465300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ru-RU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067280" y="3898800"/>
            <a:ext cx="21564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995640" y="6275520"/>
            <a:ext cx="21600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604360" y="6348240"/>
            <a:ext cx="21564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604360" y="3898800"/>
            <a:ext cx="21564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270920" y="5122800"/>
            <a:ext cx="217440" cy="144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140360" y="5266800"/>
            <a:ext cx="30589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564000" y="3789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6237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49636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32720" y="64911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20000" y="46195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91280" y="562752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904000" y="64911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175280" y="5266800"/>
            <a:ext cx="3024000" cy="107964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40360" y="400536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40360" y="6381720"/>
            <a:ext cx="45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8748720" y="4005360"/>
            <a:ext cx="0" cy="230328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388360" y="220500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ru-RU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4360" y="1197000"/>
            <a:ext cx="21564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340000" y="2276640"/>
            <a:ext cx="21600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5640" y="3068640"/>
            <a:ext cx="21600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50920" y="76500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68360" y="17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0920" y="335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26920" y="1341360"/>
            <a:ext cx="0" cy="172728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900000" y="1341360"/>
            <a:ext cx="1511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900000" y="2349000"/>
            <a:ext cx="151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95280" y="40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граф граф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403280" y="299736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bbe0e3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92360" y="18900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овной связный подграф граф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651640" y="692280"/>
            <a:ext cx="72720" cy="360360"/>
          </a:xfrm>
          <a:prstGeom prst="downArrow">
            <a:avLst>
              <a:gd name="adj1" fmla="val 50000"/>
              <a:gd name="adj2" fmla="val 123886"/>
            </a:avLst>
          </a:prstGeom>
          <a:solidFill>
            <a:srgbClr val="bbe0e3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530064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овное связное 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76720" y="5445000"/>
            <a:ext cx="718920" cy="71640"/>
          </a:xfrm>
          <a:prstGeom prst="rightArrow">
            <a:avLst>
              <a:gd name="adj1" fmla="val 50000"/>
              <a:gd name="adj2" fmla="val 250879"/>
            </a:avLst>
          </a:prstGeom>
          <a:solidFill>
            <a:srgbClr val="bbe0e3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140360" y="4005360"/>
            <a:ext cx="0" cy="230328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140360" y="6381720"/>
            <a:ext cx="4535280" cy="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900000" y="1341360"/>
            <a:ext cx="1511280" cy="100800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900000" y="2349000"/>
            <a:ext cx="1511280" cy="79236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000"/>
                            </p:stCondLst>
                            <p:childTnLst>
                              <p:par>
                                <p:cTn id="5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500"/>
                            </p:stCondLst>
                            <p:childTnLst>
                              <p:par>
                                <p:cTn id="5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4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68360" y="2509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еобразование графа в остовное связное дерево минимального в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427640" y="981000"/>
            <a:ext cx="417672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усть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G = (V,R)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вязный взвешенный неориентированный граф, где </a:t>
            </a:r>
            <a:r>
              <a:rPr b="1" lang="en-US" sz="1600" spc="-1" strike="noStrike">
                <a:solidFill>
                  <a:srgbClr val="9933ff"/>
                </a:solidFill>
                <a:latin typeface="Arial"/>
              </a:rPr>
              <a:t>V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ножество вершин, а </a:t>
            </a:r>
            <a:r>
              <a:rPr b="1" lang="en-US" sz="16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ножество ребер. </a:t>
            </a:r>
            <a:r>
              <a:rPr b="1" lang="en-US" sz="16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9933ff"/>
                </a:solidFill>
                <a:latin typeface="Arial"/>
              </a:rPr>
              <a:t>nk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en-US" sz="16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9933ff"/>
                </a:solidFill>
                <a:latin typeface="Arial"/>
              </a:rPr>
              <a:t>kn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читаются одним и тем же ребром, поэтому в матрице смежности не учитываются дублирующие друг друга реб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755640" y="1484280"/>
          <a:ext cx="3024360" cy="3105000"/>
        </p:xfrm>
        <a:graphic>
          <a:graphicData uri="http://schemas.openxmlformats.org/drawingml/2006/table">
            <a:tbl>
              <a:tblPr/>
              <a:tblGrid>
                <a:gridCol w="505080"/>
                <a:gridCol w="503280"/>
                <a:gridCol w="504720"/>
                <a:gridCol w="503280"/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"/>
          <p:cNvSpPr/>
          <p:nvPr/>
        </p:nvSpPr>
        <p:spPr>
          <a:xfrm>
            <a:off x="4030560" y="3357720"/>
            <a:ext cx="49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ведем понятие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цикломатическ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числ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ff0066"/>
                </a:solidFill>
                <a:latin typeface="Arial"/>
                <a:ea typeface="Arial"/>
              </a:rPr>
              <a:t>γ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, показывающего , сколько ребер надо удалить, чтобы в нем не осталось ни единого цик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26920" y="5229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66"/>
                </a:solidFill>
                <a:latin typeface="Arial"/>
              </a:rPr>
              <a:t>γ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=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m – n + 1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, где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m –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количество ребер,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 –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количество вер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55640" y="58053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граф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                 </a:t>
            </a:r>
            <a:r>
              <a:rPr b="1" lang="el-GR" sz="1800" spc="-1" strike="noStrike">
                <a:solidFill>
                  <a:srgbClr val="ff0066"/>
                </a:solidFill>
                <a:latin typeface="Arial"/>
              </a:rPr>
              <a:t>γ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= 8 – 5 + 1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2205000"/>
            <a:ext cx="2987640" cy="244800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9640" y="404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остовного связного дерева необходимо убрать 4 ребра, и тогда в нем не будет ни одного цик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11280" y="1197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каждого графа существует несколько остовных связных деревьев, которые обладают различными ве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1280" y="270828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11280" y="3933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340000" y="4005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268360" y="270828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763640" y="328464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490920" y="270828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490920" y="393372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219640" y="4005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292720" y="270828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43280" y="328464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370560" y="2781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370560" y="40068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101080" y="4005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028000" y="2781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523280" y="335772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258920" y="26370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79280" y="2349360"/>
            <a:ext cx="50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68360" y="2276640"/>
            <a:ext cx="50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556000" y="422100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79280" y="4221000"/>
            <a:ext cx="50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403280" y="357336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03640" y="2276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48000" y="422100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427640" y="2852640"/>
            <a:ext cx="43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148360" y="2276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148360" y="2276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148360" y="4292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300720" y="2276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956720" y="2276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64360" y="3068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300720" y="4292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028000" y="422100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132000" y="2205000"/>
            <a:ext cx="2987640" cy="244800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227640" y="2205000"/>
            <a:ext cx="2737080" cy="244800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84360" y="2852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26920" y="400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26920" y="2781360"/>
            <a:ext cx="93672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2411280" y="2852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35280" y="2852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708360" y="3424320"/>
            <a:ext cx="100800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59280" y="342900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364000" y="2852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588000" y="28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667640" y="2924280"/>
            <a:ext cx="43344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8172360" y="2924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6516360" y="4076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32130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58920" y="414972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11280" y="335772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132000" y="335772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780000" y="3429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788000" y="36450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364000" y="335772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020000" y="249228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244000" y="32130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948360" y="414972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380360" y="292428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9640" y="5084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ес графа -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348000" y="5084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ес графа -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588000" y="5013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ес графа -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179280" y="26028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Для построения остовного связного дерева минимального веса используется алгоритм Круск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1052640"/>
            <a:ext cx="914400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начально из графа удаляются все ребра, получается остовной подграф, где все вершины изолирова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бра сортируются по возрастанию ве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бра последовательно по возрастанию весов, включаются в остовное дерево Существуют четыре случ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Обе вершины включаемого ребра принадлежат одноэлементным подмножествам, тогда они объединяются в новое связное множеств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Одна из вершин принадлежит связному подмножеству, а другая нет, тогда включаем вторую в подмножество, которому принадлежит перва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Обе вершины принадлежат разным связным подмножествам, тогда объединяем подмножества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Обе вершины принадлежат одному связному подмножеству, тогда исключаем данное реб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лгоритм заканчивает работу, когда все вершины будут объединены в одно множество, при этом оставшиеся ребра не включаются в остовное 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5" dur="20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4000"/>
                            </p:stCondLst>
                            <p:childTnLst>
                              <p:par>
                                <p:cTn id="5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6000"/>
                            </p:stCondLst>
                            <p:childTnLst>
                              <p:par>
                                <p:cTn id="5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3" dur="20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8000"/>
                            </p:stCondLst>
                            <p:childTnLst>
                              <p:par>
                                <p:cTn id="5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20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2000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2000"/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1523880" y="1397160"/>
          <a:ext cx="6864480" cy="3139920"/>
        </p:xfrm>
        <a:graphic>
          <a:graphicData uri="http://schemas.openxmlformats.org/drawingml/2006/table">
            <a:tbl>
              <a:tblPr/>
              <a:tblGrid>
                <a:gridCol w="750960"/>
                <a:gridCol w="1886040"/>
                <a:gridCol w="1706400"/>
                <a:gridCol w="252108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ыполняемы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ножество верш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ра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Построим остовной граф, содержащий только изолированные верш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Каждая вершина исходного графа помещается в одноэлементное подмножество, получаем пять одноэлементных подмножест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{V</a:t>
                      </a:r>
                      <a:r>
                        <a:rPr b="1" lang="en-US" sz="1400" spc="-1" strike="noStrike" baseline="-25000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}, {V</a:t>
                      </a:r>
                      <a:r>
                        <a:rPr b="1" lang="en-US" sz="1400" spc="-1" strike="noStrike" baseline="-25000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}, {V</a:t>
                      </a:r>
                      <a:r>
                        <a:rPr b="1" lang="en-US" sz="1400" spc="-1" strike="noStrike" baseline="-25000">
                          <a:solidFill>
                            <a:srgbClr val="ff0066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}, {V</a:t>
                      </a:r>
                      <a:r>
                        <a:rPr b="1" lang="en-US" sz="1400" spc="-1" strike="noStrike" baseline="-25000">
                          <a:solidFill>
                            <a:srgbClr val="ff0066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}, {V</a:t>
                      </a:r>
                      <a:r>
                        <a:rPr b="1" lang="en-US" sz="1400" spc="-1" strike="noStrike" baseline="-25000">
                          <a:solidFill>
                            <a:srgbClr val="ff0066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6" name=""/>
          <p:cNvSpPr/>
          <p:nvPr/>
        </p:nvSpPr>
        <p:spPr>
          <a:xfrm>
            <a:off x="6300720" y="2637000"/>
            <a:ext cx="14292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300720" y="3716280"/>
            <a:ext cx="14292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667640" y="3789360"/>
            <a:ext cx="14292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596360" y="2637000"/>
            <a:ext cx="14256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236000" y="3213000"/>
            <a:ext cx="14256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867280" y="2421000"/>
            <a:ext cx="43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940360" y="3860640"/>
            <a:ext cx="43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67640" y="3933720"/>
            <a:ext cx="431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812000" y="2349360"/>
            <a:ext cx="43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804000" y="3357720"/>
            <a:ext cx="43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404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ри проектировании компьютерных сетей, телефонных линий, трубопроводов и строительстве дорог необходимо минимизировать затраты на прокладку коммуникаций.  Прежде всего целесообразно  выбрать минимальный по длине маршр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55640" y="1557360"/>
            <a:ext cx="16477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им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1773360"/>
            <a:ext cx="64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еобходимо соединить телефонным или компьютерным кабелем шесть зданий, расстояния между которыми различны. Кабель должен быть минимальной длины и подходить к каждому здани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3500280"/>
            <a:ext cx="431640" cy="360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6560" y="3932280"/>
            <a:ext cx="432000" cy="360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4437000"/>
            <a:ext cx="432000" cy="360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4581360"/>
            <a:ext cx="431640" cy="360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4920" y="5589720"/>
            <a:ext cx="432000" cy="360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46560" y="5445000"/>
            <a:ext cx="432000" cy="360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274560" y="3860640"/>
            <a:ext cx="71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4797360"/>
            <a:ext cx="216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706920" y="5732640"/>
            <a:ext cx="1439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635280" y="486900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4653000"/>
            <a:ext cx="792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0920" y="378936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643280" y="422100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2200" y="371628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486900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91280" y="4292640"/>
            <a:ext cx="14436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4560" y="40766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4437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35002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40766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4869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8920" y="4221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82920" y="5445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2200" y="50846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87640" y="515772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2560" y="479736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638172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Задача прокладки коммун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357336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Для решения таких задач используется теория граф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11280" y="333360"/>
            <a:ext cx="7238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понятия теории графов.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907920"/>
            <a:ext cx="76327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ф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дается с помощью пары множеств.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 =(V,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г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V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жество (совокупность) вершин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жество ребер, соединяющих пары вершин. Множество ребер может быть пустым, если ни одна из вершин не соединена с другими верши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ычно граф представляется в виде схемы, на которой некоторые вершины, соединены линиями (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ребрам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51640" y="4508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3213000"/>
            <a:ext cx="2916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Вершинами могут служить объекты любой природы: населенные пункты, компьютеры сети, элементы блок-схем алгоритм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00720" y="4797360"/>
            <a:ext cx="2843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од ребрами могут подразумеваться дороги между соседними городами, стороны геометрических фигур, линии связи между компьютерами и т.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4508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422100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5805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335772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1640" y="4508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79640" y="28526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4508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4508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0526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ершины называют </a:t>
            </a: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смежными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, если их соединяет </a:t>
            </a: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ребро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. Например,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1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смежные вершины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, так как их соединяет ребро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7640" y="3213000"/>
            <a:ext cx="259236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ебро и любая из его двух вершин называются </a:t>
            </a: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инцидентными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. Под </a:t>
            </a: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степенью вершины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подразумевается </a:t>
            </a: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количество инцидентных ей ребер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. Так степень вершины </a:t>
            </a:r>
            <a:r>
              <a:rPr b="1" lang="en-US" sz="1600" spc="-1" strike="noStrike">
                <a:solidFill>
                  <a:srgbClr val="9933ff"/>
                </a:solidFill>
                <a:latin typeface="Arial"/>
              </a:rPr>
              <a:t>V</a:t>
            </a:r>
            <a:r>
              <a:rPr b="1" lang="ru-RU" sz="1600" spc="-1" strike="noStrike" baseline="-25000">
                <a:solidFill>
                  <a:srgbClr val="9933ff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равна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, а степень вершины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авна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9640" y="28526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51640" y="4508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79640" y="28526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79640" y="28526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51640" y="4508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87640" y="595008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260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Любую систему улиц в городе можно представить в виде графа. Здесь вершины – это перекрес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1773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жества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V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ются конечными, так как можно перечислить все вершины и ребра графа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личество вершин и количество ребер графа определяют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мощности множества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V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 Так количество вершин графа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а количество ребер равно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56360" y="2676600"/>
            <a:ext cx="298764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дна вершина достижима из другой, если между ними проложен маршрут. Граф считается связанным, если каждая его вершина достижима из любой другой. Например, маршрут между вершинами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1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V 4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жет быть следующи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34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ершины, которые не имеют инцидентных ребер, называются изолированными вершинами. Можно также сказать, сто их степень нулевая. Изолированные вершины недостижимы из любых других верш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42926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067280" y="4437000"/>
            <a:ext cx="217440" cy="144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42920" y="3284640"/>
            <a:ext cx="3024360" cy="115236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936720" y="4581000"/>
            <a:ext cx="30589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43280" y="2781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35280" y="393372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87640" y="4941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580000" y="42926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43280" y="5805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60280"/>
            <a:ext cx="8893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Маршрут граф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это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последовательность чередующихся вершин и ребер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В графах можно выделить различные маршруты. Маршрут является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замкнутым (цикл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, если его начальные и конечные вершины совпадают. Циклические маршруты графа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 –V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23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34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14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5280" y="1628640"/>
            <a:ext cx="77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ршрут называется простой цепью, если все его вершины и ребра различ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ина маршрута равна количеству ребер, входящих в него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971640" y="4581000"/>
            <a:ext cx="3024000" cy="107964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284720" y="3357720"/>
            <a:ext cx="1224000" cy="107928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84720" y="4581360"/>
            <a:ext cx="1224000" cy="115272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3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8000"/>
                            </p:stCondLst>
                            <p:childTnLst>
                              <p:par>
                                <p:cTn id="4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2602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ф, в котором каждое ребро имеет одно направление называется ориентированным (орграф), а ребра в таком графе называют дугами. Другими словами, ребро – это неупорядоченная пара вершин, а дуга – упорядоченная. Дуги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12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21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впадают в орграфе. Для орграфа вводятся такие понятия, как входящая и исходящая степени вер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340000" y="23493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Число входящих в вершину ду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580000" y="1700280"/>
            <a:ext cx="936720" cy="7920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24360" y="2565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Число исходящих из вершины д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9280" y="4149720"/>
            <a:ext cx="8640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асширяя терминологию теории графов, математика вводит понятие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взвешенного граф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или более обобщенно –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с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Взвешенный граф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сеть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– это такой граф, ребрам или дугам которого поставлены в соответствие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числовые величин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Вес сети равен сумме весов ее реб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419280" y="1773360"/>
            <a:ext cx="647640" cy="4316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500"/>
                            </p:stCondLst>
                            <p:childTnLst>
                              <p:par>
                                <p:cTn id="4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70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9000"/>
                            </p:stCondLst>
                            <p:childTnLst>
                              <p:par>
                                <p:cTn id="5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8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16360" y="2421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5640" y="126828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49440" y="2493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16360" y="2421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55640" y="126828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49440" y="2493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16360" y="2421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5640" y="126828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49440" y="2493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8000" y="22766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51280" y="292428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0000" y="2421000"/>
            <a:ext cx="217440" cy="144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5640" y="1268280"/>
            <a:ext cx="3024360" cy="115272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49440" y="2565000"/>
            <a:ext cx="30589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56000" y="76500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47640" y="1917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27640" y="2060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700360" y="292572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92720" y="18464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13080" y="3789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84360" y="2565000"/>
            <a:ext cx="3024000" cy="107964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997440" y="1341000"/>
            <a:ext cx="1224000" cy="107964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97440" y="2565360"/>
            <a:ext cx="1224000" cy="115272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8360" y="2509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260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Описание графа с помощью матрицы сме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12000" y="1052640"/>
            <a:ext cx="29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Для наглядного представления графа используют сх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84720" y="1773360"/>
            <a:ext cx="2735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Для математических расчетов удобно использовать представление графа в форме матриц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5867280" y="3284640"/>
          <a:ext cx="3024000" cy="3105000"/>
        </p:xfrm>
        <a:graphic>
          <a:graphicData uri="http://schemas.openxmlformats.org/drawingml/2006/table">
            <a:tbl>
              <a:tblPr/>
              <a:tblGrid>
                <a:gridCol w="505080"/>
                <a:gridCol w="502920"/>
                <a:gridCol w="504720"/>
                <a:gridCol w="503640"/>
                <a:gridCol w="504720"/>
                <a:gridCol w="50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250920" y="45813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ля смежных вершин элементы матрицы смежности равны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а для несмежных –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0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Диагональные элементы матрицы равны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6000"/>
                            </p:stCondLst>
                            <p:childTnLst>
                              <p:par>
                                <p:cTn id="5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16360" y="2421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55640" y="126828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49440" y="2493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16360" y="2421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55640" y="126828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49440" y="2493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16360" y="2421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5640" y="126828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49440" y="2493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08000" y="2276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08360" y="321300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45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80000" y="2421000"/>
            <a:ext cx="217440" cy="144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55640" y="1268280"/>
            <a:ext cx="3024360" cy="115272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649440" y="2565000"/>
            <a:ext cx="30589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56000" y="76500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2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=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1916280"/>
            <a:ext cx="107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5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=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11640" y="213372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5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700360" y="292572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=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292720" y="1846440"/>
            <a:ext cx="10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r>
              <a:rPr b="1" lang="ru-RU" sz="1800" spc="-1" strike="noStrike" baseline="-25000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13080" y="3789360"/>
            <a:ext cx="107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684360" y="2565000"/>
            <a:ext cx="3024000" cy="107964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997440" y="1341000"/>
            <a:ext cx="1224000" cy="107964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97440" y="2565360"/>
            <a:ext cx="1224000" cy="115272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2509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260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Описание графа с помощью матрицы сме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227640" y="1052640"/>
            <a:ext cx="273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еобразуем граф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сеть, т.е.  Присвоим ребрам, соединяющим смежные верши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5867280" y="3284640"/>
          <a:ext cx="3024360" cy="3105000"/>
        </p:xfrm>
        <a:graphic>
          <a:graphicData uri="http://schemas.openxmlformats.org/drawingml/2006/table">
            <a:tbl>
              <a:tblPr/>
              <a:tblGrid>
                <a:gridCol w="505080"/>
                <a:gridCol w="503280"/>
                <a:gridCol w="504720"/>
                <a:gridCol w="503280"/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1763640" y="189000"/>
            <a:ext cx="590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дграфы и деревь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11280" y="14842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графом граф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ывается граф, у которого все вершины и ребра принадлежат графу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1280" y="270828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ной связный подграф – это подграф граф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который содержит все его вершины и каждая его вершина достижима из любой друг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39640" y="407664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ерево – это граф, в котором нет циклов, т.е. граф, в котором нельзя из некоторой вершины пройти по нескольким различным ребрам и вернуться в туже верш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95280" y="54450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овным связным деревом называется подграф, включающий все вершины исходного графа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каждая вершина которого достижима из любой другой, и при этом не содержит циклов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7:34:53Z</dcterms:created>
  <dc:creator>Павелко И.В.</dc:creator>
  <dc:description/>
  <dc:language>en-US</dc:language>
  <cp:lastModifiedBy>Iuzer</cp:lastModifiedBy>
  <dcterms:modified xsi:type="dcterms:W3CDTF">2014-02-17T17:47:09Z</dcterms:modified>
  <cp:revision>62</cp:revision>
  <dc:subject/>
  <dc:title>Слайд 1</dc:title>
</cp:coreProperties>
</file>