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379-3FCE-479B-B512-D93A4AE6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F99-869D-4EA5-9A32-F6DE950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FA3-BBDF-42A5-A04F-B5DFBD0B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4D-9C5F-4B54-B353-BADBF6D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005-646A-4194-A07C-363792CC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8B8-474C-4C12-88D4-6107CF1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D2D-A96F-4F78-B601-2DC635CD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DB7-7420-4E37-BD50-D2AF408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AC7-D446-4336-B492-03613C0F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79A-0A28-4E14-A55C-DBD26E9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E45-A146-4A02-BE88-F495DEF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5A8-36AF-4741-A525-53F3E3D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C94-CE83-4895-AE53-B79F3DD3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6985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ведение в теорию графо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11640" y="1989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53080" y="1197000"/>
            <a:ext cx="3562200" cy="223344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72360" y="3357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092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07280" y="227808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21300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459640" y="9079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8360" y="3213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93080" y="1844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75640" y="2637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84720" y="2997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88000" y="2421000"/>
            <a:ext cx="2592360" cy="936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98920" y="49784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8000" y="465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70920" y="51228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40360" y="52668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64000" y="3789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6237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32720" y="64911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91280" y="56275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04000" y="6491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75280" y="52668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74872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8360" y="2205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2276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640" y="3068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765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68360" y="17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335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1341360"/>
            <a:ext cx="0" cy="1727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5280" y="40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299736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92360" y="18900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й связный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692280"/>
            <a:ext cx="72720" cy="360360"/>
          </a:xfrm>
          <a:prstGeom prst="down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300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е свя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5445000"/>
            <a:ext cx="718920" cy="71640"/>
          </a:xfrm>
          <a:prstGeom prst="rightArrow">
            <a:avLst>
              <a:gd name="adj1" fmla="val 50000"/>
              <a:gd name="adj2" fmla="val 250879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еобразование графа в остовное связное дерево минимального в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981000"/>
            <a:ext cx="41767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усть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 = (V,R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вязный взвешенный неориентированный граф, где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вершин, а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ребер.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nk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k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итаются одним и тем же ребром, поэтому в матрице смежности не учитываются дублирующие друг друга ре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55640" y="148428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4030560" y="3357720"/>
            <a:ext cx="49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едем понятие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циклома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чис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  <a:ea typeface="Arial"/>
              </a:rPr>
              <a:t>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, показывающего , сколько ребер надо удалить, чтобы в нем не осталось ни еди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5229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m – n + 1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, гд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ребер,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5805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               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 8 – 5 + 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остовного связного дерева необходимо убрать 4 ребра, и тогда в нем не будет ни од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11280" y="119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го графа существует несколько остовных связных деревьев, которые обладают различными в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270828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3933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6836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909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0920" y="393372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927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4328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7056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70560" y="4006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0108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02800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523280" y="335772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5892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9280" y="234936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68360" y="227664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56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422100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03280" y="357336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0364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27640" y="2852640"/>
            <a:ext cx="43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836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00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956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4360" y="3068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30072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02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3200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27640" y="2205000"/>
            <a:ext cx="273708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436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6920" y="40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6920" y="2781360"/>
            <a:ext cx="93672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35280" y="285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708360" y="3424320"/>
            <a:ext cx="10080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59280" y="3429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6400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88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667640" y="292428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7236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516360" y="40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32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80000" y="3429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8000" y="3645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64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20000" y="2492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4400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4836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80360" y="2924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4800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88000" y="501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79280" y="260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ля построения остовного связного дерева минимального веса используется алгоритм Круск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5264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начально из графа удаляются все ребра, получается остовной подграф, где все вершины изолир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сортируются по возрастанию в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последовательно по возрастанию весов, включаются в остовное дерево Существуют четыре случ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включаемого ребра принадлежат одноэлементным подмножествам, тогда они объединяются в новое связное множе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дна из вершин принадлежит связному подмножеству, а другая нет, тогда включаем вторую в подмножество, которому принадлежит пер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разным связным подмножествам, тогда объединяем подмножества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одному связному подмножеству, тогда исключаем данное реб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лгоритм заканчивает работу, когда все вершины будут объединены в одно множество, при этом оставшиеся ребра не включаются в остов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523880" y="1397160"/>
          <a:ext cx="6864480" cy="3139920"/>
        </p:xfrm>
        <a:graphic>
          <a:graphicData uri="http://schemas.openxmlformats.org/drawingml/2006/table">
            <a:tbl>
              <a:tblPr/>
              <a:tblGrid>
                <a:gridCol w="750960"/>
                <a:gridCol w="1886040"/>
                <a:gridCol w="1706400"/>
                <a:gridCol w="252108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ыполняемы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ножество вер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Построим остовной граф, содержащий только изолированные верш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Каждая вершина исходного графа помещается в одноэлементное подмножество, получаем пять одноэлементных подмнож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6300720" y="263700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0720" y="3716280"/>
            <a:ext cx="14292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67640" y="378936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96360" y="2637000"/>
            <a:ext cx="14256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36000" y="3213000"/>
            <a:ext cx="14256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7280" y="242100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386064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67640" y="3933720"/>
            <a:ext cx="43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12000" y="234936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04000" y="335772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и проектировании компьютерных сетей, телефонных линий, трубопроводов и строительстве дорог необходимо минимизировать затраты на прокладку коммуникаций.  Прежде всего целесообразно  выбрать минимальный по длине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1557360"/>
            <a:ext cx="1647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773360"/>
            <a:ext cx="64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обходимо соединить телефонным или компьютерным кабелем шесть зданий, расстояния между которыми различны. Кабель должен быть минимальной длины и подходить к каждому зд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350028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6560" y="393228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437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458136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4920" y="558972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6560" y="5445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74560" y="386064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479736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06920" y="5732640"/>
            <a:ext cx="1439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35280" y="4869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65300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3789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4221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2200" y="371628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869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1280" y="4292640"/>
            <a:ext cx="144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456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4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500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86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892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2920" y="5445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2200" y="5084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5157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479736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6381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адача прокладки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35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Для решения таких задач используется теория граф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333360"/>
            <a:ext cx="723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онятия теории графов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7632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ается с помощью пары множеств.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=(V,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(совокупность) вершин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ребер, соединяющих пары вершин. Множество ребер может быть пустым, если ни одна из вершин не соединена с другими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ычно граф представляется в виде схемы, на которой некоторые вершины, соединены линиями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ебр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3213000"/>
            <a:ext cx="29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ершинами могут служить объекты любой природы: населенные пункты, компьютеры сети, элементы блок-схем алгоритм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797360"/>
            <a:ext cx="284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д ребрами могут подразумеваться дороги между соседними городами, стороны геометрических фигур, линии связи между компьютерами и т.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221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357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052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ершины называю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меж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если их соединяе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ребро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Например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смежные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так как их соединяет ребро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3213000"/>
            <a:ext cx="259236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бро и любая из его двух вершин называю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инцидент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Под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тепенью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подразумевае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количество инцидентных ей ребер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Так степень вершины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ru-RU" sz="1600" spc="-1" strike="noStrike" baseline="-25000">
                <a:solidFill>
                  <a:srgbClr val="9933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а степень вершины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59500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юбую систему улиц в городе можно представить в виде графа. Здесь вершины – это перекре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77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конечными, так как можно перечислить все вершины и ребра графа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вершин и количество ребер графа определяют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ощности множества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 Так количество вершин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а количество ребер 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2676600"/>
            <a:ext cx="29876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дна вершина достижима из другой, если между ними проложен маршрут. Граф считается связанным, если каждая его вершина достижима из любой другой. Например, маршрут между вершинами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1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V 4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жет быть следующ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ершины, которые не имеют инцидентных ребер, называются изолированными вершинами. Можно также сказать, сто их степень нулевая. Изолированные вершины недостижимы из любых других вер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292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4437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3284640"/>
            <a:ext cx="3024360" cy="115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36720" y="4581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27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933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4941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429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0280"/>
            <a:ext cx="8893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ршрут граф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последовательность чередующихся вершин и ребер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В графах можно выделить различные маршруты. Маршрут является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замкнутым (цик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если его начальные и конечные вершины совпадают. Циклические маршруты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–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62864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шрут называется простой цепью, если все его вершины и ребра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на маршрута равна количеству ребер, входящих в него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71640" y="4581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357720"/>
            <a:ext cx="1224000" cy="1079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4581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, в котором каждое ребро имеет одно направление называется ориентированным (орграф), а ребра в таком графе называют дугами. Другими словами, ребро – это неупорядоченная пара вершин, а дуга – упорядоченная. Дуг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12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21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впадают в орграфе. Для орграфа вводятся такие понятия, как входящая и исходящая степени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23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входящих в вершину ду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1700280"/>
            <a:ext cx="936720" cy="792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2565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исходящих из вершины 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4149720"/>
            <a:ext cx="86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ширяя терминологию теории графов, математика вводит понят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ого граф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или более обобщенно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ый гра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– это такой граф, ребрам или дугам которого поставлены в соответств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вые величи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ес сети равен сумме весов ее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19280" y="1773360"/>
            <a:ext cx="647640" cy="431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8000" y="2276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2924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47640" y="1917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27640" y="2060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00360" y="2925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3080" y="3789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2000" y="105264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Для наглядного представления графа используют 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1773360"/>
            <a:ext cx="273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Для математических расчетов удобно использовать представление графа в форме матр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867280" y="3284640"/>
          <a:ext cx="302400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2920"/>
                <a:gridCol w="504720"/>
                <a:gridCol w="503640"/>
                <a:gridCol w="504720"/>
                <a:gridCol w="50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250920" y="4581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ля смежных вершин элементы матрицы смежности равны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а для несмежных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0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Диагональные элементы матрицы равны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2276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08360" y="321300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76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191628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11640" y="2133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0360" y="2925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92720" y="1846440"/>
            <a:ext cx="10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13080" y="378936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1052640"/>
            <a:ext cx="27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образуем граф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сеть, т.е.  Присвоим ребрам, соединяющим смежные верши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867280" y="328464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76364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дграфы и дерев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1484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ом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граф, у которого все вершины и ребра принадлежат графу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2708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ой связный подграф – это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оторый содержит все его вершины и каждая его вершина достижима из любой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4076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рево – это граф, в котором нет циклов, т.е. граф, в котором нельзя из некоторой вершины пройти по нескольким различным ребрам и вернуться в туже вер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ым связным деревом называется подграф, включающий все вершины исходного графа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аждая вершина которого достижима из любой другой, и при этом не содержит цикло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7:34:53Z</dcterms:created>
  <dc:creator>Павелко И.В.</dc:creator>
  <dc:description/>
  <dc:language>en-US</dc:language>
  <cp:lastModifiedBy>Iuzer</cp:lastModifiedBy>
  <dcterms:modified xsi:type="dcterms:W3CDTF">2014-02-17T17:47:09Z</dcterms:modified>
  <cp:revision>62</cp:revision>
  <dc:subject/>
  <dc:title>Слайд 1</dc:title>
</cp:coreProperties>
</file>