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7F0-5ADB-4FCE-AE29-D0F934C0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3CE-1998-4095-B512-990247A8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C8D-841E-4DA9-BBB0-8A3C002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EFC-42E1-45CC-A6DE-A00D122B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33B-DBC9-47CD-B2DE-FAA064CD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1E6-01D3-4AAF-99DC-82A8269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922-B67B-4A8B-8698-85B7E77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F9A-C44D-48D9-9A10-FC50B91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94D-B084-4A84-94A1-F60E93D6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430-5825-452A-AA1E-747E0C9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92E-A723-4069-88B2-DFACF3D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247-FBAE-43E5-94F5-3D54A04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9088-B404-450C-98F1-BEFE9B7EA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36.media.tumblr.com/c2b81496d64b499e217d5dd0f14ab0a3/tumblr_n5m6ojLVxb1t9xw87o1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1440421234_14466527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1974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---img-fotki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433000856316725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9eaf3c8a557912443afd1ae7ff5921d7"/>
          <p:cNvPicPr/>
          <p:nvPr/>
        </p:nvPicPr>
        <p:blipFill>
          <a:blip r:embed="rId1"/>
          <a:stretch/>
        </p:blipFill>
        <p:spPr>
          <a:xfrm>
            <a:off x="304920" y="152280"/>
            <a:ext cx="8496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7-04-97075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ost-474918-0-71655400-1416387952"/>
          <p:cNvPicPr/>
          <p:nvPr/>
        </p:nvPicPr>
        <p:blipFill>
          <a:blip r:embed="rId1"/>
          <a:stretch/>
        </p:blipFill>
        <p:spPr>
          <a:xfrm>
            <a:off x="304920" y="98568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8:57:19Z</dcterms:created>
  <dc:creator>борис грунь</dc:creator>
  <dc:description/>
  <dc:language>en-US</dc:language>
  <cp:lastModifiedBy>xxx</cp:lastModifiedBy>
  <dcterms:modified xsi:type="dcterms:W3CDTF">2015-11-23T16:09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