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DDC-FD8A-4753-B684-C05EA034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16E-72DD-4F67-8198-B5E5D5A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62F-3B9A-470D-A470-13EEEFA2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B80-A172-4A4D-BD64-C627324D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789-B0A0-405D-A54E-0AB1460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0EE-78C5-49FE-A8F0-5041243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344-C4FA-4BFB-A7ED-4E83572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B78-E8F6-4F63-82F9-E5B00DC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769-D3DA-4B19-B136-E384745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D41-708A-460B-B061-3EC7B0D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A92-9FBC-4715-AC25-D71FA11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C1C-CCFC-4E07-A9FC-0E38DEC0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24F-FADF-478B-8698-063623284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36.media.tumblr.com/c2b81496d64b499e217d5dd0f14ab0a3/tumblr_n5m6ojLVxb1t9xw87o1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1440421234_14466527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197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---img-fotki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433000856316725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9eaf3c8a557912443afd1ae7ff5921d7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7-04-97075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ost-474918-0-71655400-1416387952"/>
          <p:cNvPicPr/>
          <p:nvPr/>
        </p:nvPicPr>
        <p:blipFill>
          <a:blip r:embed="rId1"/>
          <a:stretch/>
        </p:blipFill>
        <p:spPr>
          <a:xfrm>
            <a:off x="304920" y="98568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8:57:19Z</dcterms:created>
  <dc:creator>борис грунь</dc:creator>
  <dc:description/>
  <dc:language>en-US</dc:language>
  <cp:lastModifiedBy>xxx</cp:lastModifiedBy>
  <dcterms:modified xsi:type="dcterms:W3CDTF">2015-11-23T16:09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