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84B-F5C2-4A24-8E37-7608FE4E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8C6-F3D9-422F-9880-0D4AA1E7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B5C-B6C3-49B9-A7D5-E99DEFE7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371-FC64-4E5D-A4F2-899E43E2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2E8-376E-4ACC-9F6B-8468D6D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412-3BAB-4D71-9BD0-0AD9D38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465-E0FD-4DAB-9EC2-DA48BD4E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7EC-CC6E-4493-8323-CD76E1DB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01B-B04C-4C98-A717-BCADD12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3E9-34BD-46B7-AB73-04C2F072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DFB-B94E-4B8D-B178-FC1678FE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F97-0E52-4A0B-BA2B-9478BC7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6A03-BA3F-44DF-B261-49D3207E4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36.media.tumblr.com/c2b81496d64b499e217d5dd0f14ab0a3/tumblr_n5m6ojLVxb1t9xw87o1_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1440421234_14466527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1974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---img-fotki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433000856316725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9eaf3c8a557912443afd1ae7ff5921d7"/>
          <p:cNvPicPr/>
          <p:nvPr/>
        </p:nvPicPr>
        <p:blipFill>
          <a:blip r:embed="rId1"/>
          <a:stretch/>
        </p:blipFill>
        <p:spPr>
          <a:xfrm>
            <a:off x="304920" y="152280"/>
            <a:ext cx="8496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7-04-97075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ost-474918-0-71655400-1416387952"/>
          <p:cNvPicPr/>
          <p:nvPr/>
        </p:nvPicPr>
        <p:blipFill>
          <a:blip r:embed="rId1"/>
          <a:stretch/>
        </p:blipFill>
        <p:spPr>
          <a:xfrm>
            <a:off x="304920" y="98568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8:57:19Z</dcterms:created>
  <dc:creator>борис грунь</dc:creator>
  <dc:description/>
  <dc:language>en-US</dc:language>
  <cp:lastModifiedBy>xxx</cp:lastModifiedBy>
  <dcterms:modified xsi:type="dcterms:W3CDTF">2015-11-23T16:09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