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6A6-3CA3-4294-BB78-88B0661F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609-FCF7-4A51-87F2-EAC979B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37F-0F2C-449C-B50B-67C89791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C30-21DD-489A-BDFA-57CD8B42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DAFE-F5DA-4A0A-87BE-07B1ED58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BF03-7AD4-4902-BBDD-DFC00D04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19D0-CEF1-4E7B-A7DD-2666F92E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7D29-ADED-443A-B6E6-DC9B3857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301F-8246-4C1B-A9D4-9A6AD942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98EE-9DEF-455D-92B7-B8541FD8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1E3D-0245-4FB4-965D-0266B0DD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71B-CFC8-4F62-8E15-D23AA7A3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EEB6-3414-4D7B-9B2A-15131BA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4444-BD79-4BF7-BFFC-7653F3D8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D24-A981-4F57-989F-E83F54C9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7CFC-4FF5-4E4E-960A-C4F82BF1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8A7E-3397-4FFA-8D17-EA3B786B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46D98-E4F3-4EB5-9E0A-3DCA72D4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C347-546C-4643-9050-DE9D1EF9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778B-E289-489B-A684-6176D150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CA2D-1875-4727-BF33-E1346C7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DE0D-6D7D-4DC4-A68F-6D18281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002-D705-4D0E-B5D1-31D9C02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62A2-2C64-4322-B5A0-DEEAD396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97A7C-B17F-46F5-AFE6-36923BBA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008C2-BCBF-481C-8E15-99873B4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0BCE-175D-4E20-9A7C-C2186EF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601BB-D74D-46EF-9DDB-81C68747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01F2-B58A-464B-9688-1FC93428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52D1-1DA4-40D7-B231-148793C0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2253-E34C-450A-B166-51A02F40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6BA55-89AB-492B-AB1A-8C122A29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0742-E23D-48FB-B59B-0DC27414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7FDF-937F-461C-AEEC-1B9213DE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B87D2-4898-47C7-99B4-02017BC6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F9F60-4B18-493B-AF2B-B99A81A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33CE-7CAE-4F7B-8A4D-A00AE60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E4CA-CA47-4253-8225-B0EBD0E3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F969F-B5F0-4FC6-AB22-B0B4A7D8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04D4-6AE4-4399-9B5B-30C6B911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82F2-55F1-4415-8CF5-51075E5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73700-EFD2-436A-8CF1-4E64C0DF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E01D8-7966-41F5-9E38-A0330A80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5EF3-BEB1-4FD7-A8B1-C5BBC369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75C-F542-4C99-8966-F2743597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4097-EA84-41DE-BDE9-D808D7DB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9748-CE86-4CEA-BE11-3B1A38C7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86A87-C39D-4656-A9E6-CF6FEFF2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4265-A4AB-43AF-9485-5CF8C68F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4ABC-B56D-4B1A-8923-FFD535F8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545F-6820-416E-A6F8-6ADCDEB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FB3F3-8314-42C3-8A0E-3404772A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A7635-A148-4E29-96AF-34EB013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A1ED7-D156-4E26-9806-8AC76C46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632D-C02D-4DFA-AAFF-D28D88B9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49B-690E-4653-8D8C-8854AD79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7E3D9-4361-4E89-A539-52AF54CF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2283D0-BE3B-4E87-8798-B5E083D0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6ECBA-E63C-4627-9ACF-4E66DDF1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F6DD6-EE4D-453D-A873-3BBFE6F2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68A88-D05D-4196-A444-B4DF8363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D68F71-D71D-4A60-9BD6-EFED6E8F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D38DE5-5DCA-4D4C-922B-B0621EB1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FD1B5-BFF3-4EC5-8FA5-BA8FE72F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9C84A3-7447-473F-9EF6-30463D4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308F2-0EEB-40F6-841C-E30833D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88E-D6D7-4843-9428-C23E9C6D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1A7DE-1904-4411-8829-7D99DAA4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268C5-FD0E-42CA-9769-42B222A4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5272F-9A32-4180-A842-54765525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4435-F697-49DF-AED3-4A0D35B5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A615-94E3-4AA2-B6E2-F7DF996A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4A69C-442F-4941-9AF6-50DF358E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DE6C1-A182-4DDE-90BC-AB8069AF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13C1F-7AAF-4D51-A278-A69AC85E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1C883-95EE-4958-A57A-8A4476E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541D-62A8-40E4-A039-7780F2FC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167-C1B1-4EAB-8920-BDE022E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4BDDF-8CF7-4D31-8DDF-1FE2401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B8500-24BD-4FF0-98F7-809709A3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B5A4C-3D71-461B-B43D-664A79D8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DC207-1543-4FE5-8DCD-02A0A054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FFD3F-26F6-4DC1-AF4B-43A7FD8A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A07-8570-4DD2-B48F-EB33CFC7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DC3E-5BE0-4C20-82CD-27F2A4259B42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6F1-FD7A-4C35-947A-D95C8089854C}" type="slidenum">
              <a:rPr b="0" lang="ru-RU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267D-FB64-482A-A771-107CED2726B8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C697-02D7-4A00-9691-26ED2CDBA76B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1395-6654-4EBC-BF29-76F1C939B89C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B2DC-D353-48FF-9C4C-8512A73DC3A5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96CD-EC24-4CFF-A4D6-11E12133BC80}" type="slidenum">
              <a:rPr b="0" lang="ru-RU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Объект 3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6842160" cy="49989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5520" y="259920"/>
            <a:ext cx="82612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ИЧЕСКИЕ ТЕХНОЛОГИИ В ОБРАЗОВАТЕЛЬНОМ ПРОЦЕССЕ УЧРЕЖДЕНИЯ ДОПОЛНИТЕЛЬНОГО ОБРАЗОВАНИЯ ДЕТЕЙ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6000" y="345456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каченко С.В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1144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. структурным подразделением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предусматривает взаимосвязанную деятельность педагога и обучающихся на договорной основе с учетом принципов индивидуализации </a:t>
            </a:r>
            <a:br>
              <a:rPr sz="2400"/>
            </a:b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 дифференциации, диалогического общени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лементы педагогической технологии должны быть воспроизводимы любым педагогом и должны гарантировать    достижение планируемых результатов (гос. стандарта) всеми обучающимися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едагогическая технология диагностируема: содержит критерии, показатели и инструментарий измерения результатов деятельности </a:t>
            </a:r>
            <a:r>
              <a:rPr b="0" i="1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(В.В. Пикан)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395280" y="357120"/>
            <a:ext cx="87487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Book Antiqua"/>
              </a:rPr>
              <a:t>ОСНОВНЫЕ ИДЕИ</a:t>
            </a:r>
            <a:r>
              <a:rPr b="1" lang="ru-RU" sz="3600" spc="-1" strike="noStrike">
                <a:solidFill>
                  <a:srgbClr val="0070c0"/>
                </a:solidFill>
                <a:latin typeface="Book Antiqua"/>
              </a:rPr>
              <a:t> ТЕХНОЛОГИИ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Book Antiqua"/>
              </a:rPr>
              <a:t>ПЕДАГОГИЧЕСКИЕ ТЕХНОЛОГИИ В УДОД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557360"/>
            <a:ext cx="5607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етод проекто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дифференцированного обучени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разновозрастного обуч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блочно-модульного обучения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учебно-исследовательской деятельности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и эвристического обучения(ТРИЗ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ренинговые технолог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гровые технологи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15360" indent="-21024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доровьесберегающие технологии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300720" y="2666880"/>
            <a:ext cx="25192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индивиду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маршр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71680" y="573120"/>
            <a:ext cx="8572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Book Antiqua"/>
              </a:rPr>
              <a:t>ИННОВАЦИОННЫЕ ТЕХНОЛОГИ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57760" y="1999800"/>
            <a:ext cx="52862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«Инноватика –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это не просто новшества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, некоторая новизна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остиже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нципиально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овых качест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ведением системообразующих элементов, обеспечивающих новизну системе» (П.С. Лернер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746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571680" y="2071800"/>
            <a:ext cx="3071520" cy="3803400"/>
          </a:xfrm>
          <a:custGeom>
            <a:avLst/>
            <a:gdLst>
              <a:gd name="textAreaLeft" fmla="*/ 149760 w 3071520"/>
              <a:gd name="textAreaRight" fmla="*/ 2921760 w 3071520"/>
              <a:gd name="textAreaTop" fmla="*/ 149760 h 3803400"/>
              <a:gd name="textAreaBottom" fmla="*/ 3653640 h 3803400"/>
            </a:gdLst>
            <a:ahLst/>
            <a:rect l="textAreaLeft" t="textAreaTop" r="textAreaRight" b="textAreaBottom"/>
            <a:pathLst>
              <a:path w="21600" h="26746">
                <a:moveTo>
                  <a:pt x="3600" y="0"/>
                </a:moveTo>
                <a:arcTo wR="3600" hR="3600" stAng="16200000" swAng="-5400000"/>
                <a:lnTo>
                  <a:pt x="0" y="23146"/>
                </a:lnTo>
                <a:arcTo wR="3600" hR="3600" stAng="10800000" swAng="-5400000"/>
                <a:lnTo>
                  <a:pt x="18000" y="26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cap="rnd" w="2844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1429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74872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ИННОВАЦИОННЫЕ ТЕХНОЛОГИИ ПРЕДПОЛАГАЮТ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13840" y="1357200"/>
            <a:ext cx="8929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ышение уровня мотивации к учебному труду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ормирование высокого уровня развития обучающихся на основе включения их в постоянно усложняющуюся деятельность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 активной поддержке педагога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оянное повторение, систематизация знаний, проговаривание вместе с педагогом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-226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едущая роль - формирование доброжелательной атмосферы, создание позитивного отношения к учению посредством индивидуального отношения к каждому ученику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619280" y="563400"/>
            <a:ext cx="75247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 Gothic"/>
              </a:rPr>
              <a:t>Инновационные технолог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357200" y="3714840"/>
            <a:ext cx="742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Личностно-ориентированный подход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28800" y="2465280"/>
            <a:ext cx="778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Проектная технолог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научно-исследовательская деятель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3280320" y="4651200"/>
            <a:ext cx="319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ИКТ- технолог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4"/>
          <p:cNvSpPr/>
          <p:nvPr/>
        </p:nvSpPr>
        <p:spPr>
          <a:xfrm>
            <a:off x="4786200" y="52149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5"/>
          <p:cNvSpPr/>
          <p:nvPr/>
        </p:nvSpPr>
        <p:spPr>
          <a:xfrm>
            <a:off x="824040" y="1670040"/>
            <a:ext cx="82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 Gothic"/>
              </a:rPr>
              <a:t>Технологии развивающего обу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3571920" y="558000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мониторин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Стрелка вниз 18"/>
          <p:cNvSpPr/>
          <p:nvPr/>
        </p:nvSpPr>
        <p:spPr>
          <a:xfrm>
            <a:off x="4786200" y="428616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низ 19"/>
          <p:cNvSpPr/>
          <p:nvPr/>
        </p:nvSpPr>
        <p:spPr>
          <a:xfrm>
            <a:off x="4786200" y="3357720"/>
            <a:ext cx="214560" cy="42840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Стрелка вниз 20"/>
          <p:cNvSpPr/>
          <p:nvPr/>
        </p:nvSpPr>
        <p:spPr>
          <a:xfrm>
            <a:off x="4786200" y="2143080"/>
            <a:ext cx="214560" cy="42876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Равно 12"/>
          <p:cNvSpPr/>
          <p:nvPr/>
        </p:nvSpPr>
        <p:spPr>
          <a:xfrm>
            <a:off x="4071960" y="1143000"/>
            <a:ext cx="1571760" cy="571680"/>
          </a:xfrm>
          <a:custGeom>
            <a:avLst/>
            <a:gdLst/>
            <a:ahLst/>
            <a:rect l="l" t="t" r="r" b="b"/>
            <a:pathLst>
              <a:path w="1571625" h="571500">
                <a:moveTo>
                  <a:pt x="208319" y="117729"/>
                </a:moveTo>
                <a:lnTo>
                  <a:pt x="1363306" y="117729"/>
                </a:lnTo>
                <a:lnTo>
                  <a:pt x="1363306" y="252146"/>
                </a:lnTo>
                <a:lnTo>
                  <a:pt x="208319" y="252146"/>
                </a:lnTo>
                <a:lnTo>
                  <a:pt x="208319" y="117729"/>
                </a:lnTo>
                <a:close/>
                <a:moveTo>
                  <a:pt x="208319" y="319354"/>
                </a:moveTo>
                <a:lnTo>
                  <a:pt x="1363306" y="319354"/>
                </a:lnTo>
                <a:lnTo>
                  <a:pt x="1363306" y="453771"/>
                </a:lnTo>
                <a:lnTo>
                  <a:pt x="208319" y="453771"/>
                </a:lnTo>
                <a:lnTo>
                  <a:pt x="208319" y="319354"/>
                </a:lnTo>
                <a:close/>
              </a:path>
            </a:pathLst>
          </a:custGeom>
          <a:solidFill>
            <a:srgbClr val="cf543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542880"/>
            <a:ext cx="896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 Antiqua"/>
                <a:ea typeface="Calibri"/>
              </a:rPr>
              <a:t>ИКТ-ТЕХНОЛОГИИ: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1" name="Rectangle 1"/>
          <p:cNvSpPr/>
          <p:nvPr/>
        </p:nvSpPr>
        <p:spPr>
          <a:xfrm>
            <a:off x="250920" y="207720"/>
            <a:ext cx="8429400" cy="75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в работе ЭОР и Ц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(Цифровые образовательные ресурсы (ЦОР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это представленные в цифровой форме фотографии, видеофрагменты, объекты виртуальной реальности и интерактивного моделирования, звукозаписи, символьные объекты и деловая графика, текстовые документы и иные учебные материалы, необходимые для организации учеб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931160" cy="554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ЛЕКТРОННЫЕ ОБРАЗОВАТЕЛЬНЫЕ РЕСУРСЫ (ЭОР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СРЕДСТВ ПРОГРАММНОГО, ИНФОРМАЦИОННОГО, ТЕХНИЧЕСКОГО И ОРГАНИЗАЦИОННОГО ОБЕСПЕЧЕНИЯ, ЭЛЕКТРОННЫХ ИЗДАНИЙ, РАЗМЕЩАЕМАЯ НА МАШИНОЧИТАЕМЫХ НОСИТЕЛЯХ И/ИЛИ В СЕТИ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C:\Users\USER\Documents\для декады 15\237985_html_2a5ac68a.png"/>
          <p:cNvPicPr/>
          <p:nvPr/>
        </p:nvPicPr>
        <p:blipFill>
          <a:blip r:embed="rId1"/>
          <a:stretch/>
        </p:blipFill>
        <p:spPr>
          <a:xfrm>
            <a:off x="1403280" y="189000"/>
            <a:ext cx="68407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45964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Book Antiqua"/>
              </a:rPr>
              <a:t>ТЕХНОЛОГИЯ ПРОБЛЕМНОГО ОБУЧЕ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3795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построения занятия: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ктуализация опорных знаний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оздание проблемной ситуаци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ановка учебной проблемы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роение проблемной задачи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шение проблемы (выдвижение и доказательство гипотез, анализ возможных последствий)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верка правильности решения и повторение 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22560" y="1557360"/>
            <a:ext cx="4321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лемная ситуация – </a:t>
            </a:r>
            <a:r>
              <a:rPr b="0" lang="ru-RU" sz="20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ознанное учеником затруднения, пути преодоления которого требуют поиска новых знаний, новых способов действий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572000" y="3500280"/>
            <a:ext cx="426708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вни проблем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ое изложение учеб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чно–поисковая деятельность (эвристический диал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исследователь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280" y="45720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Book Antiqua"/>
              </a:rPr>
              <a:t>ТЕХНОЛОГИЯ ПРОБЛЕМНОГО ОБУЧЕ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1280" y="1981080"/>
            <a:ext cx="610236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+»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стижение высокого уровня умственного развития учащихся; стимулирование внутренней мотивации учения; прочное усвоение изученного; формирование убеждений; овладение первичными навыками исследовательской деятельн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-»: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большие затраты времени; слабая управляемость познавательной деятельностью учащихс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0" name="Picture 4" descr="j0195812"/>
          <p:cNvPicPr/>
          <p:nvPr/>
        </p:nvPicPr>
        <p:blipFill>
          <a:blip r:embed="rId1"/>
          <a:stretch/>
        </p:blipFill>
        <p:spPr>
          <a:xfrm>
            <a:off x="-108000" y="2276640"/>
            <a:ext cx="33609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55280" y="255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b7d72"/>
                </a:solidFill>
                <a:latin typeface="Book Antiqua"/>
              </a:rPr>
              <a:t>ЗАКОН  РФ  «ОБ ОБРАЗОВАНИИ»</a:t>
            </a:r>
            <a:endParaRPr b="0" lang="en-US" sz="3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604360" cy="29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Под </a:t>
            </a:r>
            <a:r>
              <a:rPr b="1" lang="ru-RU" sz="3600" spc="-1" strike="noStrike">
                <a:solidFill>
                  <a:srgbClr val="564b3c"/>
                </a:solidFill>
                <a:latin typeface="Times New Roman"/>
              </a:rPr>
              <a:t>образованием </a:t>
            </a:r>
            <a:br>
              <a:rPr sz="3600"/>
            </a:b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в Российской Федерации понимается целенаправленный процесс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учения и воспитания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564b3c"/>
                </a:solidFill>
                <a:latin typeface="Times New Roman"/>
              </a:rPr>
              <a:t>в интересах личности, общества, государства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357120" y="5143680"/>
            <a:ext cx="257184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4"/>
          <p:cNvSpPr/>
          <p:nvPr/>
        </p:nvSpPr>
        <p:spPr>
          <a:xfrm>
            <a:off x="285840" y="51436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Равно 5"/>
          <p:cNvSpPr/>
          <p:nvPr/>
        </p:nvSpPr>
        <p:spPr>
          <a:xfrm>
            <a:off x="3000240" y="5286240"/>
            <a:ext cx="500040" cy="428760"/>
          </a:xfrm>
          <a:custGeom>
            <a:avLst/>
            <a:gdLst/>
            <a:ahLst/>
            <a:rect l="l" t="t" r="r" b="b"/>
            <a:pathLst>
              <a:path w="500063" h="428625">
                <a:moveTo>
                  <a:pt x="66283" y="88297"/>
                </a:moveTo>
                <a:lnTo>
                  <a:pt x="433780" y="88297"/>
                </a:lnTo>
                <a:lnTo>
                  <a:pt x="433780" y="189109"/>
                </a:lnTo>
                <a:lnTo>
                  <a:pt x="66283" y="189109"/>
                </a:lnTo>
                <a:lnTo>
                  <a:pt x="66283" y="88297"/>
                </a:lnTo>
                <a:close/>
                <a:moveTo>
                  <a:pt x="66283" y="239516"/>
                </a:moveTo>
                <a:lnTo>
                  <a:pt x="433780" y="239516"/>
                </a:lnTo>
                <a:lnTo>
                  <a:pt x="433780" y="340328"/>
                </a:lnTo>
                <a:lnTo>
                  <a:pt x="66283" y="340328"/>
                </a:lnTo>
                <a:lnTo>
                  <a:pt x="66283" y="239516"/>
                </a:lnTo>
                <a:close/>
              </a:path>
            </a:pathLst>
          </a:cu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3571920" y="5143680"/>
            <a:ext cx="214308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3429000" y="514368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8"/>
          <p:cNvSpPr/>
          <p:nvPr/>
        </p:nvSpPr>
        <p:spPr>
          <a:xfrm>
            <a:off x="6215040" y="5143680"/>
            <a:ext cx="2500200" cy="714240"/>
          </a:xfrm>
          <a:prstGeom prst="rect">
            <a:avLst/>
          </a:pr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9"/>
          <p:cNvSpPr/>
          <p:nvPr/>
        </p:nvSpPr>
        <p:spPr>
          <a:xfrm>
            <a:off x="6143760" y="5143680"/>
            <a:ext cx="25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люс 10"/>
          <p:cNvSpPr/>
          <p:nvPr/>
        </p:nvSpPr>
        <p:spPr>
          <a:xfrm>
            <a:off x="5786280" y="5357880"/>
            <a:ext cx="357480" cy="357120"/>
          </a:xfrm>
          <a:custGeom>
            <a:avLst/>
            <a:gdLst/>
            <a:ahLst/>
            <a:rect l="l" t="t" r="r" b="b"/>
            <a:pathLst>
              <a:path w="357187" h="357187">
                <a:moveTo>
                  <a:pt x="47345" y="136588"/>
                </a:moveTo>
                <a:lnTo>
                  <a:pt x="136588" y="136588"/>
                </a:lnTo>
                <a:lnTo>
                  <a:pt x="136588" y="47345"/>
                </a:lnTo>
                <a:lnTo>
                  <a:pt x="220599" y="47345"/>
                </a:lnTo>
                <a:lnTo>
                  <a:pt x="220599" y="136588"/>
                </a:lnTo>
                <a:lnTo>
                  <a:pt x="309842" y="136588"/>
                </a:lnTo>
                <a:lnTo>
                  <a:pt x="309842" y="220599"/>
                </a:lnTo>
                <a:lnTo>
                  <a:pt x="220599" y="220599"/>
                </a:lnTo>
                <a:lnTo>
                  <a:pt x="220599" y="309842"/>
                </a:lnTo>
                <a:lnTo>
                  <a:pt x="136588" y="309842"/>
                </a:lnTo>
                <a:lnTo>
                  <a:pt x="136588" y="220599"/>
                </a:lnTo>
                <a:lnTo>
                  <a:pt x="47345" y="220599"/>
                </a:lnTo>
                <a:lnTo>
                  <a:pt x="47345" y="136588"/>
                </a:lnTo>
                <a:close/>
              </a:path>
            </a:pathLst>
          </a:custGeom>
          <a:solidFill>
            <a:srgbClr val="93a299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Book Antiqua"/>
              </a:rPr>
              <a:t>ТЕХНОЛОГИЯ УЧЕБНОГО ПРОЕКТИРОВАНИЯ 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29200" y="1052280"/>
            <a:ext cx="4114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апы учебного проекта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бор темы и участников проекта. 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проблемы проекта (мозговой штурм)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пределение задач, обозначение критериев оценки проекта 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амостоятельная работа над проектом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ащита и оппонирование проекта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  <a:p>
            <a:pPr marL="322200" indent="-214560">
              <a:lnSpc>
                <a:spcPct val="100000"/>
              </a:lnSpc>
              <a:spcBef>
                <a:spcPts val="6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0" y="1125000"/>
            <a:ext cx="45007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 проектов </a:t>
            </a:r>
            <a:r>
              <a:rPr b="0" lang="ru-RU" sz="2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25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я  обучения, при которой учащиеся приобретают знания, умения и навыки, а также компетентности, компетенции и метапрофессиональные качества в процессе конструирования, планирования и выполнения постепенно усложняющихся практических заданий - проектов.</a:t>
            </a:r>
            <a:endParaRPr b="0" lang="en-US" sz="25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ХНОЛОГИЯ УЧЕБНОГО ПРОЕКТИРОВАНИЯ. КЛАССИФИКАЦИЯ УЧЕБНЫХ ПРОЕКТОВ</a:t>
            </a:r>
            <a:endParaRPr b="0" lang="en-US" sz="2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количеству учащихся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ндивидуальные, парные, группов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характеру поисковой деятельност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сследовательские, творческие, информацион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дисциплинарной сфере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нопредметные, межпредметные, надпредме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продолжительност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аткосрочные, среднесрочные, долгосроч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координации: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ямое или скрытое педагогическое управ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714640" y="1267920"/>
            <a:ext cx="3435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ормы презентации результата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ферат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ворческая работа (концерт, выставка, спектакль)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кл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атьи и тезисы,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сс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ендовый доклад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зентация проекта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коменда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ЗДОРОВЬЕСБЕРЕГАЮЩИЕ ТЕХНОЛОГИИ (ТИПЫ):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752480"/>
            <a:ext cx="82296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Здоровьесберегающие (профилактические прививки, обеспечение двигательной активности, витаминизация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рганизация здорового питан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здоровительные (физическая подготовка, физиотерапия, аромотерапия, закаливание, гимнастика, массаж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итотерапия, арттерап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ехнологии обучения здоровью (включение соответствующих тем в программу обучения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спитание культуры здоровья (занятия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 развитию личности обучающихся,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естивали, конкурсы и т.д.).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128000" cy="569736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c000"/>
                </a:solidFill>
                <a:latin typeface="Book Antiqua"/>
              </a:rPr>
              <a:t>ИГРОВЫЕ ТЕХНОЛОГИИ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313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гровая технология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технология обучения, в основе которой лежит взаимосвязь имитационного моделирования и ролевого поведения участников игры в процессе решения учебных задач достаточно высокого уровня проблемности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419280" y="1557000"/>
            <a:ext cx="572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Этапы игровой технологии: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темы, целей, задач ИТ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ределение структуры ИТ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готовка сценари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знакомление с исходной информацией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готовка учащихся к игре (анализ литературы, распределение ролевых функций)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ведение игры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анализ результатов игры учащимис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-2214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дведение итогов игры педагогом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280" y="452520"/>
            <a:ext cx="860436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br>
              <a:rPr sz="3300"/>
            </a:b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ИДЫ ПЕДАГОГИЧЕСКИХ ИГР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50560" y="15235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Century Gothic"/>
              </a:rPr>
              <a:t>    </a:t>
            </a:r>
            <a:r>
              <a:rPr b="0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характеру педагогического процесса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учающие, тренировочные, контролирующие и обобщающ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знавательные, воспитательные, развивающие, социализирующ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епродуктивные, продуктивные, творческие;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e734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оммуникативные, диагностические, профориентационные, психотехнические и др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8604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игровой методике: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едметн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южетная ролев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митационн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елова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649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раматизация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55640" y="3573360"/>
            <a:ext cx="81961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 игровой сред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ез предм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сто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мпьют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 предме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на мес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лочное обучения 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уществляется на основе гибкой программы и состоит из последовательно выполняемых блоков, гарантирующих усвоение определенной темы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информационный блок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тестово-информационный блок (проверка усвоенного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коррекционно-информационный блок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проблемный блок (решение задач на основе полученных знаний)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-блок проверки и коррекци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се темы повторяют вышеприведенную последовательность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ДУЛЬНОЕ ОБУЧЕ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ндивидуализированное самообучение, при котором используется учебная программа, составленная из модулей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дуль - это функциональный узел, в качестве которого выступает  программа обучения, индивидуализированная по выполняемой деятельности. 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5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Прямоугольник 1"/>
          <p:cNvSpPr/>
          <p:nvPr/>
        </p:nvSpPr>
        <p:spPr>
          <a:xfrm>
            <a:off x="468360" y="765000"/>
            <a:ext cx="828036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представляет собой содержание курса в трех уровнях: полном, сокращенном, углубленн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выбирает для себя любой уровень. Содержание обучения представляется в законченных блоках; каждый ученик получает от педагога письменные рекомендации о том, как действовать, где искать нужный материал; обучающийся работает максимум времени самостоятельно, что дает ему возможность осознать себя в процессе  выполнения  деятель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модульного обучения состоит в том, что обучающийся самостоятельно достигает конкретных целей учебно-познавательной деятельности в процессе работы с модул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93400" y="1269360"/>
            <a:ext cx="74923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ПЕДАГОГИЧЕСКИЕ ТЕХНОЛОГИИ В УДОД</a:t>
            </a:r>
            <a:endParaRPr b="0" lang="en-US" sz="41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3068280"/>
            <a:ext cx="8675640" cy="30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труктура,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лассификация,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характеристи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Book Antiqua"/>
              </a:rPr>
              <a:t>ТЕХНОЛОГИЯ «ДЕБАТЫ»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Формирует умения: Умение критически мыслить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тделить важную информацию от второстепенной. 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и вычленить проблему. 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причины и возможные последствия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определить факты и мнения 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эффективно решать проблемы. Умение оценивать доказательства.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  <a:p>
            <a:pPr marL="136440">
              <a:lnSpc>
                <a:spcPct val="90000"/>
              </a:lnSpc>
              <a:spcBef>
                <a:spcPts val="6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Умение работать в команде</a:t>
            </a:r>
            <a:endParaRPr b="0" lang="en-US" sz="2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Book Antiqua"/>
              </a:rPr>
              <a:t>ТЕХНОЛОГИИ «ТРИЗ» </a:t>
            </a:r>
            <a:r>
              <a:rPr b="0" lang="ru-RU" sz="2400" spc="-1" strike="noStrike">
                <a:solidFill>
                  <a:srgbClr val="003399"/>
                </a:solidFill>
                <a:latin typeface="Book Antiqua"/>
              </a:rPr>
              <a:t>ТЕОРИЯ РЕШЕНИЯ ИЗОБРЕТАТЕЛЬСКИХ ЗАДАЧ. </a:t>
            </a:r>
            <a:endParaRPr b="0" lang="en-US" sz="2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8000" y="1557360"/>
            <a:ext cx="8578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10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ТРИЗ - педагогика ставит целью формирование сильного мышления и воспитание творческой личности, подготовленной к решению сложных проблем в различных областях деятельности. Её отличие от известных средств проблемного обучения – в использовании мирового опыта, накопленного в области создания методов решения изобретательских задач. Конечно, этот опыт переработан и согласован с целями педагогики. Под методом решения изобретательских задач прежде всего подразумеваются приёмы и алгоритмы, разработанные в рамках ТРИЗ, а также такие зарубежные методы, как мозговой штурм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Book Antiqua"/>
              </a:rPr>
              <a:t>ПОРТФОЛИО 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, ПОЗВОЛЯЮЩАЯ РЕШАТЬ ПРОБЛЕМУ ОБЪЕКТИВНОЙ ОЦЕНКИ РЕЗУЛЬТАТОВ ДЕЯТЕЛЬНОСТИ ПОРТФОЛИО – ТЕХНОЛОГИЯ ПЛАНИРОВАНИЯ ПРОФЕССИОНАЛЬНОЙ КАРЬЕРЫ И ДОСТИЖЕНИЙ, ТЕМАТИЧЕСКИЙ  ПРЕЗЕНТАЦИОННЫЙ, КОМПЛЕКСНЫЙ ТИПЫ ПОРТФОЛИО: ЭЛЕКТРОННЫЙ ПОРТФОЛИО ПАСПОРТ КОМПЕТЕНЦИЙ И КВАЛИФИКАЦИИ ЕВРОПЕЙСКИЙ ЯЗЫКОВОЙ ПОРТФОЛИО (ЕДИНЫЙ ЕВРОПЕЙСКИЙ ОБРАЗЕЦ, ПРИНЯТЫЙ СОВЕТОМ ЕВРОПЫ)</a:t>
            </a: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25520" y="691920"/>
            <a:ext cx="82612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ТЕХНОЛОГИЯ РАЗВИТИЯ КРИТИЧЕСКОГО МЫШЛЕНИЯ.</a:t>
            </a:r>
            <a:br>
              <a:rPr sz="3200"/>
            </a:b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итическое мышление – это способность анализировать информацию с позиции логики и личностно-ориентированного подхода с тем, чтобы применять полученные результаты, как к стандартам, так и нестандартным ситуациям, вопросам и проблемам. Критическое мышление 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5520" y="620640"/>
            <a:ext cx="8261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Book Antiqua"/>
              </a:rPr>
              <a:t>КРИТЕРИИ ОЦЕНКИ РЕЗУЛЬТАТА В УСЛОВИЯХ ТЕХНОЛОГИИ РАЗВИТИЯ КРИТИЧЕСКОГО МЫШЛЕНИЯ УЧАЩИХСЯ.</a:t>
            </a:r>
            <a:br>
              <a:rPr sz="2800"/>
            </a:b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новным критерием оценки результата является критичность мышления, которая может быть раскрыта через следующие показатели: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ценка (Где ошибка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иагноз (В чём причина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амоконтроль (Каковы недостатки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ритика (Согласны ли вы? Опровергните. Приведите контраргументы?)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гноз (Постройте прогноз)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99"/>
                </a:solidFill>
                <a:latin typeface="Book Antiqua"/>
              </a:rPr>
              <a:t>ТЕХНОЛОГИЯ ИНТЕРАКТИВНОГО ОБУЧЕНИЯ. </a:t>
            </a:r>
            <a:br>
              <a:rPr sz="2500"/>
            </a:br>
            <a:r>
              <a:rPr b="1" lang="ru-RU" sz="2500" spc="-1" strike="noStrike">
                <a:solidFill>
                  <a:srgbClr val="003399"/>
                </a:solidFill>
                <a:latin typeface="Book Antiqua"/>
              </a:rPr>
              <a:t>ТЕХНОЛОГИЯ МОДЕРАЦИИ</a:t>
            </a:r>
            <a:br>
              <a:rPr sz="2500"/>
            </a:br>
            <a:endParaRPr b="0" lang="en-US" sz="2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752120"/>
            <a:ext cx="82296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одерация – это эффективная технология, которая позволяет значительно повысить результативность и качество образовательного процесса. Эффективность модерации определяется тем, что используемые приемы, методы и формы организации познавательной деятельности направлены на активизацию аналитической и рефлексивной деятельности обучающихся, развитие исследовательских и проектировочных умений, развитие коммуникативных способностей и навыков работы в команде. </a:t>
            </a:r>
            <a:br>
              <a:rPr sz="2300"/>
            </a:b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оцесс совместной работы, организованный с помощью приемов и методов модерации способствует снятию барьеров общения, создает условия для развития творческого мышления и принятия нестандартных решений, формирует и развивает навыки совместной деятельности.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Объект 3" descr=""/>
          <p:cNvPicPr/>
          <p:nvPr/>
        </p:nvPicPr>
        <p:blipFill>
          <a:blip r:embed="rId1"/>
          <a:stretch/>
        </p:blipFill>
        <p:spPr>
          <a:xfrm>
            <a:off x="955800" y="404640"/>
            <a:ext cx="656892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6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АЯ ДЕЯТЕЛЬНОСТЬ МОЖЕТ БЫТЬ ЛИБО ТЕХНОЛОГИЕЙ, ЛИБО ИСКУССТВОМ. ИСКУССТВО ОСНОВАНО НА ИНТУИЦИИ, ТЕХНОЛОГИЯ - НА НАУКЕ. С ИСКУССТВА ВСЁ НАЧИНАЕТСЯ, ТЕХНОЛОГИЕЙ ЗАКАНЧИВАЕТСЯ, ЧТОБЫ ЗАТЕМ ВСЁ НАЧАЛОСЬ СНАЧАЛА.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ff00"/>
                </a:solidFill>
                <a:latin typeface="Book Antiqua"/>
              </a:rPr>
              <a:t>БЛАГОДАРЮ ЗА ВНИМАНИЕ!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25" name="Объект 8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6920" y="457200"/>
            <a:ext cx="769176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ЧТО ДАЕТ ТЕХНОЛОГИЧЕСКИЙ ПОДХОД?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9640" y="1989000"/>
            <a:ext cx="38419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дагогу: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е определение конечной цел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ую цепочку педагогических действий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ость инструментария  диагностики;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211640" y="1773000"/>
            <a:ext cx="468144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нику: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овлечение каждого в активный познавательный процесс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рименение знаний на практике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доступ к необходимой информации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бщение и сотрудничество не только с педагогом , но и со сверстниками;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575"/>
              </a:spcBef>
              <a:buClr>
                <a:srgbClr val="93a2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стоянное испытание своих сил для преодоления возникающих проблем. </a:t>
            </a:r>
            <a:endParaRPr b="0" lang="en-US" sz="23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ОСНОВНЫЕ КАТЕГОРИИ И ПОНЯТ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79280" y="1699920"/>
            <a:ext cx="831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едагогическая  технология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конкретное, научно обоснованное, специальным образом организованное  обучение для достижения конкретной, реально выполнимой цели обучени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ехнология  обучения –</a:t>
            </a:r>
            <a:r>
              <a:rPr b="0" lang="ru-RU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пособ реализации содержания обучения, предусмотренного учебными программами, представляющий </a:t>
            </a:r>
            <a:r>
              <a:rPr b="0" lang="ru-RU" sz="2800" spc="-1" strike="noStrike" u="sng">
                <a:solidFill>
                  <a:srgbClr val="564b3c"/>
                </a:solidFill>
                <a:uFillTx/>
                <a:latin typeface="Times New Roman"/>
                <a:ea typeface="Times New Roman"/>
              </a:rPr>
              <a:t>систему форм, методов и средств обучения</a:t>
            </a:r>
            <a:r>
              <a:rPr b="0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, обеспечивающую наиболее эффективное достижение  проставленных целей. 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-360" y="2000160"/>
            <a:ext cx="9001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Научном</a:t>
            </a: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асть педагогической науки, изучающая и разрабатывающая цели, содержание и методы обучения и проектирующая педагогические процессы;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роцессуальном</a:t>
            </a:r>
            <a:r>
              <a:rPr b="1" i="1" lang="ru-RU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писание (алгоритм) процесса, совокупность целей, содержания, методов и средств достижения планируемых результатов обучения;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Деятельностном </a:t>
            </a:r>
            <a:r>
              <a:rPr b="1" i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существление технологического (педагогического) процесса, функционирование всех личностных, инструментальных и методологических педагогических средств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2" name="TextBox 2"/>
          <p:cNvSpPr/>
          <p:nvPr/>
        </p:nvSpPr>
        <p:spPr>
          <a:xfrm>
            <a:off x="468360" y="35712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ическ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в 3-х аспекта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ТЕХНОЛОГИЧЕСКИЕ КОМПОНЕНТЫ УЧЕБНО-ВОСПИТАТЕЛЬНОГО ПРОЦЕСС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УДОД</a:t>
            </a:r>
            <a:endParaRPr b="0" lang="en-US" sz="28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организации обучения и воспитания –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нешняя сторона организации педагогического процесса.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</a:t>
            </a:r>
            <a:r>
              <a:rPr b="0" lang="ru-RU" sz="26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(от греч. </a:t>
            </a:r>
            <a:r>
              <a:rPr b="0" lang="en-US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Methods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– путь, способ продвижения к истине) – упорядоченный способ взаимосвязанной деятельности педагога и учащихся по достижению определенных учебно-воспитательных целей 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редства обучения и воспитания </a:t>
            </a:r>
            <a:r>
              <a:rPr b="0" lang="ru-RU" sz="2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– источники получения знаний и формирования умений; различные орудия труда, предметы культуры, включенные в учебно-познавательную деятельность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457200"/>
            <a:ext cx="8604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Ы ОБУЧЕНИЯ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6" name="Схема 1" descr=""/>
          <p:cNvPicPr/>
          <p:nvPr/>
        </p:nvPicPr>
        <p:blipFill>
          <a:blip r:embed="rId1"/>
          <a:stretch/>
        </p:blipFill>
        <p:spPr>
          <a:xfrm>
            <a:off x="549360" y="2060640"/>
            <a:ext cx="820404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Схема 5" descr=""/>
          <p:cNvPicPr/>
          <p:nvPr/>
        </p:nvPicPr>
        <p:blipFill>
          <a:blip r:embed="rId1"/>
          <a:stretch/>
        </p:blipFill>
        <p:spPr>
          <a:xfrm>
            <a:off x="1474920" y="1627200"/>
            <a:ext cx="7053120" cy="40352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4"/>
          <p:cNvSpPr/>
          <p:nvPr/>
        </p:nvSpPr>
        <p:spPr>
          <a:xfrm>
            <a:off x="684360" y="277920"/>
            <a:ext cx="800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организации педагогического процесс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42:08Z</dcterms:created>
  <dc:creator>C2</dc:creator>
  <dc:description/>
  <dc:language>en-US</dc:language>
  <cp:lastModifiedBy>USER</cp:lastModifiedBy>
  <dcterms:modified xsi:type="dcterms:W3CDTF">2015-11-12T07:24:55Z</dcterms:modified>
  <cp:revision>130</cp:revision>
  <dc:subject/>
  <dc:title>Механические колебания</dc:title>
</cp:coreProperties>
</file>