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9.png" ContentType="image/png"/>
  <Override PartName="/ppt/media/image10.png" ContentType="image/png"/>
  <Override PartName="/ppt/media/image13.wmf" ContentType="image/x-wmf"/>
  <Override PartName="/ppt/media/image8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2C43-F56E-498D-8990-A2E635667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E87D-D47F-4028-91E7-479241A2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11CF-B263-4202-934D-50D53B3DF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C3AD-37F5-4919-8AEB-19F801352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4C80-6569-4177-B530-947403CAD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AC82-44C0-4001-A7C2-EF3CCDF5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E6D1-A24A-4226-8E57-C5E6C917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A8A6-AE1F-45D6-A10F-988A81EE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15D3-EBB5-4995-AAC2-A1F464CB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CCF6-7574-4403-B572-FB4ECD22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82A6-C846-405E-8CA1-2A0EE8F3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4D14-4C00-4A78-B5DE-B5436803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98425-8D01-4E56-B97D-836501E6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86A8-E5C3-49B2-AF64-CBBD0F03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B87F-A140-4639-B93A-EF4837B6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A839-8E37-4CAD-93CB-CA2793A2A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2F14-6A95-41ED-9738-620202443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CCCB7-648E-40C3-A8CB-F60CF3208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5BB6A-DDC6-4FDB-BF3A-A5D45EA1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3C6AE-4F07-4141-A5F2-61AED642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93BD8-BA26-4610-8842-6592737F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E7585-000E-43DE-AC08-02F4C135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304B-FA1E-4DD0-ADB9-84B252BD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81E63-25F3-47BA-87E4-C2ABC652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3A5F0-B1F3-4B75-B727-053B9802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C432C-3F75-4A37-AF52-DFE589C2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98E2E-4A45-4279-987D-32E4BA19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98E3A-C0AA-4315-AE60-AE6AC7E8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8B8EB-071D-4C5A-9689-BBE4E2F9C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857B5-3B79-41FB-B85D-38C04CB47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B716C-08BF-4A77-9A18-C527B72B5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EA5F2-57F0-499A-97C0-575973F2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EF910-7EC8-40C0-BBCD-9194E118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446E-ADDF-4D7C-8AEA-31D42B92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5DAAA-E1C2-4940-A3C6-FEB083DF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99119-D6F2-44F4-97BA-710CF4D1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B5821-7EE3-4379-AD0D-50C46188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FBEA6-B8F9-4F30-932B-7BCB6D3C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67CB5-655C-4489-98DF-AFEB6B8F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E71BB-96EC-4CA4-A04B-BF4EA1A7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3A5EE-DADD-4414-B6AB-91196CFE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68EA2-464A-41B9-AB2F-AF765B2C1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BF5E3-BD14-456E-9B1D-C69EFF97C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556CC-B354-48B1-90C8-47DA87DCC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754A-AD89-4042-963D-17914634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50F6E-35DD-4970-9109-7EA96D6E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B6B83-8DDE-4E82-9D40-EC7E7E32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AE2BF-C8B8-46AF-81DC-047B40F5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0ECED-6521-4CEF-8534-DE254BB8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37FC9-553F-4C24-BA5D-344D4794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D55AB-5096-4D58-9AA7-411887A4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5486C-1B5D-4FFE-A33E-28CF8B07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EB49A-6CDB-4920-BEA1-C0E5FEDE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67761-3635-402F-91B0-53C13B27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CB482-0228-4365-B758-445A6C5DA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FBA7-EFA8-4E66-9D35-2E08B4821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B5C5C-2126-46FE-815C-54F0FA44F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77BCC0-1F3F-426E-B9C5-44C3EDF76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E24E3E-CC67-43BB-8253-E6F07CA2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4B7680-5178-4BBA-951A-11725A8D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84EA8A-6DE3-4140-A25E-E58AA080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7551EC-053C-4F87-BB1B-87F8C701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C89863-800E-479D-AD29-8728D6DA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B0CE09-A713-4C8E-92CD-F15D3EE0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5F2D3E-6796-4D88-916C-02E8D41C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D2FBA1-5084-44A3-8A26-EC9110D4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EFE6-C5B7-4587-823C-BE8C01D1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B5A4AF-1913-4F8A-9057-D88FE265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76167A-B82B-4B02-A402-3CD01F4CA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3D8578-EA78-418A-A7B7-84373F870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F1B46-0683-439F-8133-DEC09B04C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0901B-50F5-4800-A821-FA952803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44543-C3B7-436D-9EA3-4C9BDCEB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C3DED-6EE0-4354-A54F-6927968D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839A8-724C-4463-9646-4C52D8AB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FDDF5-6824-4CBF-B635-31E28871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ACBB1-915C-49BE-983B-8636991E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D3CF-E822-4619-A434-7BE17517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2AFC0-4788-450C-82CA-AFB99BC8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E3B2B-75ED-45B7-A1D2-E4DB58C0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09229-B614-4BD0-AF4A-3C54ADD3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9FDD1-A4A3-443F-ACF5-47E0FE0E7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29271-7D36-4744-A67F-FB5335E60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166A-7F4D-42DB-9147-E1CC9F3E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035F-BD8B-4567-B6B4-14AE6F3C47E4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47534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CAB0-5024-438C-9781-07AB1710DF48}" type="slidenum">
              <a:rPr b="0" lang="ru-RU" sz="2800" spc="-1" strike="noStrike">
                <a:solidFill>
                  <a:srgbClr val="47534c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833C-3F8F-499E-BAB3-F0385C6303CD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03C1-A148-4105-8D25-8C5A86030F4D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42E5-9B28-49C3-9B57-5EC4C2ABA3AC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E233-CB18-48C3-AD6A-EF965C8125BC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F1A4-D32F-4E0E-AF97-66D05B043085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Объект 3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6842160" cy="499896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25520" y="259920"/>
            <a:ext cx="826128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ДАГОГИЧЕСКИЕ ТЕХНОЛОГИИ В ОБРАЗОВАТЕЛЬНОМ ПРОЦЕССЕ УЧРЕЖДЕНИЯ ДОПОЛНИТЕЛЬНОГО ОБРАЗОВАНИЯ ДЕТЕЙ</a:t>
            </a:r>
            <a:endParaRPr b="0" lang="en-US" sz="2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116000" y="3454560"/>
            <a:ext cx="8229600" cy="32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каченко С.В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в. структурным подразделением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91440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технология предусматривает взаимосвязанную деятельность педагога и обучающихся на договорной основе с учетом принципов индивидуализации </a:t>
            </a:r>
            <a:br>
              <a:rPr sz="2400"/>
            </a:b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и дифференциации, диалогического общения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элементы педагогической технологии должны быть воспроизводимы любым педагогом и должны гарантировать    достижение планируемых результатов (гос. стандарта) всеми обучающимися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едагогическая технология диагностируема: содержит критерии, показатели и инструментарий измерения результатов деятельности </a:t>
            </a:r>
            <a:r>
              <a:rPr b="0" i="1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(В.В. Пикан)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title"/>
          </p:nvPr>
        </p:nvSpPr>
        <p:spPr>
          <a:xfrm>
            <a:off x="395280" y="357120"/>
            <a:ext cx="87487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Book Antiqua"/>
              </a:rPr>
              <a:t>ОСНОВНЫЕ ИДЕИ</a:t>
            </a:r>
            <a:r>
              <a:rPr b="1" lang="ru-RU" sz="3600" spc="-1" strike="noStrike">
                <a:solidFill>
                  <a:srgbClr val="0070c0"/>
                </a:solidFill>
                <a:latin typeface="Book Antiqua"/>
              </a:rPr>
              <a:t> ТЕХНОЛОГИИ:</a:t>
            </a: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Book Antiqua"/>
              </a:rPr>
              <a:t>ПЕДАГОГИЧЕСКИЕ ТЕХНОЛОГИИ В УДОД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68000" y="1557360"/>
            <a:ext cx="5607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21024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Метод проектов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5360" indent="-21024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Технология дифференцированного обучения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5360" indent="-21024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Технология разновозрастного обучения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5360" indent="-21024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Технология проблемного обучения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5360" indent="-21024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Технология блочно-модульного обучения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5360" indent="-21024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Технология учебно-исследовательской деятельности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5360" indent="-21024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Технологии эвристического обучения(ТРИЗ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5360" indent="-21024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Тренинговые технологи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5360" indent="-21024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Игровые технологи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5360" indent="-21024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Здоровьесберегающие технологии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6300720" y="2666880"/>
            <a:ext cx="251928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ие индивидуаль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ого маршру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71680" y="573120"/>
            <a:ext cx="857232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Book Antiqua"/>
              </a:rPr>
              <a:t>ИННОВАЦИОННЫЕ ТЕХНОЛОГИИ</a:t>
            </a: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857760" y="1999800"/>
            <a:ext cx="528624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«Инноватика –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1746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это не просто новшества</a:t>
            </a: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, некоторая новизна,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1746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а </a:t>
            </a:r>
            <a:r>
              <a:rPr b="1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достижение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ринципиально </a:t>
            </a:r>
            <a:r>
              <a:rPr b="1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новых качеств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введением системообразующих элементов, обеспечивающих новизну системе» (П.С. Лернер)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1746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6" name="AutoShape 5"/>
          <p:cNvSpPr/>
          <p:nvPr/>
        </p:nvSpPr>
        <p:spPr>
          <a:xfrm>
            <a:off x="571680" y="2071800"/>
            <a:ext cx="3071520" cy="3803400"/>
          </a:xfrm>
          <a:custGeom>
            <a:avLst/>
            <a:gdLst>
              <a:gd name="textAreaLeft" fmla="*/ 149760 w 3071520"/>
              <a:gd name="textAreaRight" fmla="*/ 2921760 w 3071520"/>
              <a:gd name="textAreaTop" fmla="*/ 149760 h 3803400"/>
              <a:gd name="textAreaBottom" fmla="*/ 3653640 h 3803400"/>
            </a:gdLst>
            <a:ahLst/>
            <a:rect l="textAreaLeft" t="textAreaTop" r="textAreaRight" b="textAreaBottom"/>
            <a:pathLst>
              <a:path w="21600" h="26746">
                <a:moveTo>
                  <a:pt x="3600" y="0"/>
                </a:moveTo>
                <a:arcTo wR="3600" hR="3600" stAng="16200000" swAng="-5400000"/>
                <a:lnTo>
                  <a:pt x="0" y="23146"/>
                </a:lnTo>
                <a:arcTo wR="3600" hR="3600" stAng="10800000" swAng="-5400000"/>
                <a:lnTo>
                  <a:pt x="18000" y="267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/>
            <a:srcRect/>
            <a:stretch/>
          </a:blipFill>
          <a:ln cap="rnd" w="2844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1429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74872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Book Antiqua"/>
              </a:rPr>
              <a:t>ИННОВАЦИОННЫЕ ТЕХНОЛОГИИ ПРЕДПОЛАГАЮТ: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13840" y="1357200"/>
            <a:ext cx="89298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вышение уровня мотивации к учебному труду;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формирование высокого уровня развития обучающихся на основе включения их в постоянно усложняющуюся деятельность 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ри активной поддержке педагога;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стоянное повторение, систематизация знаний, проговаривание вместе с педагогом;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ведущая роль - формирование доброжелательной атмосферы, создание позитивного отношения к учению посредством индивидуального отношения к каждому ученику;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1619280" y="563400"/>
            <a:ext cx="752472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entury Gothic"/>
              </a:rPr>
              <a:t>Инновационные технологии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1357200" y="3714840"/>
            <a:ext cx="7429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Личностно-ориентированный подход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928800" y="2465280"/>
            <a:ext cx="7786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Проектная технология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научно-исследовательская деятельность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7"/>
          <p:cNvSpPr/>
          <p:nvPr/>
        </p:nvSpPr>
        <p:spPr>
          <a:xfrm>
            <a:off x="3280320" y="4651200"/>
            <a:ext cx="3198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ИКТ- технологи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Стрелка вниз 14"/>
          <p:cNvSpPr/>
          <p:nvPr/>
        </p:nvSpPr>
        <p:spPr>
          <a:xfrm>
            <a:off x="4786200" y="5214960"/>
            <a:ext cx="214560" cy="42876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cf543f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5"/>
          <p:cNvSpPr/>
          <p:nvPr/>
        </p:nvSpPr>
        <p:spPr>
          <a:xfrm>
            <a:off x="824040" y="1670040"/>
            <a:ext cx="828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entury Gothic"/>
              </a:rPr>
              <a:t>Технологии развивающего обуч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6"/>
          <p:cNvSpPr/>
          <p:nvPr/>
        </p:nvSpPr>
        <p:spPr>
          <a:xfrm>
            <a:off x="3571920" y="5580000"/>
            <a:ext cx="2571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мониторин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Стрелка вниз 18"/>
          <p:cNvSpPr/>
          <p:nvPr/>
        </p:nvSpPr>
        <p:spPr>
          <a:xfrm>
            <a:off x="4786200" y="4286160"/>
            <a:ext cx="214560" cy="42876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cf543f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Стрелка вниз 19"/>
          <p:cNvSpPr/>
          <p:nvPr/>
        </p:nvSpPr>
        <p:spPr>
          <a:xfrm>
            <a:off x="4786200" y="3357720"/>
            <a:ext cx="214560" cy="428400"/>
          </a:xfrm>
          <a:prstGeom prst="downArrow">
            <a:avLst>
              <a:gd name="adj1" fmla="val 50000"/>
              <a:gd name="adj2" fmla="val 49916"/>
            </a:avLst>
          </a:prstGeom>
          <a:solidFill>
            <a:srgbClr val="cf543f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Стрелка вниз 20"/>
          <p:cNvSpPr/>
          <p:nvPr/>
        </p:nvSpPr>
        <p:spPr>
          <a:xfrm>
            <a:off x="4786200" y="2143080"/>
            <a:ext cx="214560" cy="42876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cf543f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Равно 12"/>
          <p:cNvSpPr/>
          <p:nvPr/>
        </p:nvSpPr>
        <p:spPr>
          <a:xfrm>
            <a:off x="4071960" y="1143000"/>
            <a:ext cx="1571760" cy="571680"/>
          </a:xfrm>
          <a:custGeom>
            <a:avLst/>
            <a:gdLst/>
            <a:ahLst/>
            <a:rect l="l" t="t" r="r" b="b"/>
            <a:pathLst>
              <a:path w="1571625" h="571500">
                <a:moveTo>
                  <a:pt x="208319" y="117729"/>
                </a:moveTo>
                <a:lnTo>
                  <a:pt x="1363306" y="117729"/>
                </a:lnTo>
                <a:lnTo>
                  <a:pt x="1363306" y="252146"/>
                </a:lnTo>
                <a:lnTo>
                  <a:pt x="208319" y="252146"/>
                </a:lnTo>
                <a:lnTo>
                  <a:pt x="208319" y="117729"/>
                </a:lnTo>
                <a:close/>
                <a:moveTo>
                  <a:pt x="208319" y="319354"/>
                </a:moveTo>
                <a:lnTo>
                  <a:pt x="1363306" y="319354"/>
                </a:lnTo>
                <a:lnTo>
                  <a:pt x="1363306" y="453771"/>
                </a:lnTo>
                <a:lnTo>
                  <a:pt x="208319" y="453771"/>
                </a:lnTo>
                <a:lnTo>
                  <a:pt x="208319" y="319354"/>
                </a:lnTo>
                <a:close/>
              </a:path>
            </a:pathLst>
          </a:custGeom>
          <a:solidFill>
            <a:srgbClr val="cf543f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542880"/>
            <a:ext cx="8964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Book Antiqua"/>
                <a:ea typeface="Calibri"/>
              </a:rPr>
              <a:t>ИКТ-ТЕХНОЛОГИИ:</a:t>
            </a: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81" name="Rectangle 1"/>
          <p:cNvSpPr/>
          <p:nvPr/>
        </p:nvSpPr>
        <p:spPr>
          <a:xfrm>
            <a:off x="250920" y="207720"/>
            <a:ext cx="8429400" cy="75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пользование в работе ЭОР и ЦО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(Цифровые образовательные ресурсы (ЦОР)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- это представленные в цифровой форме фотографии, видеофрагменты, объекты виртуальной реальности и интерактивного моделирования, звукозаписи, символьные объекты и деловая графика, текстовые документы и иные учебные материалы, необходимые для организации учебного процес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7931160" cy="554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ЛЕКТРОННЫЕ ОБРАЗОВАТЕЛЬНЫЕ РЕСУРСЫ (ЭОР)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ОКУПНОСТЬ СРЕДСТВ ПРОГРАММНОГО, ИНФОРМАЦИОННОГО, ТЕХНИЧЕСКОГО И ОРГАНИЗАЦИОННОГО ОБЕСПЕЧЕНИЯ, ЭЛЕКТРОННЫХ ИЗДАНИЙ, РАЗМЕЩАЕМАЯ НА МАШИНОЧИТАЕМЫХ НОСИТЕЛЯХ И/ИЛИ В СЕТИ</a:t>
            </a: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C:\Users\USER\Documents\для декады 15\237985_html_2a5ac68a.png"/>
          <p:cNvPicPr/>
          <p:nvPr/>
        </p:nvPicPr>
        <p:blipFill>
          <a:blip r:embed="rId1"/>
          <a:stretch/>
        </p:blipFill>
        <p:spPr>
          <a:xfrm>
            <a:off x="1403280" y="189000"/>
            <a:ext cx="6840720" cy="65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845964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70c0"/>
                </a:solidFill>
                <a:latin typeface="Book Antiqua"/>
              </a:rPr>
              <a:t>ТЕХНОЛОГИЯ ПРОБЛЕМНОГО ОБУЧЕНИЯ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37958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тапы построения занятия: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актуализация опорных знаний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создание проблемной ситуации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становка учебной проблемы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строение проблемной задачи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решение проблемы (выдвижение и доказательство гипотез, анализ возможных последствий)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роверка правильности решения и повторение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22560" y="1557360"/>
            <a:ext cx="432108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блемная ситуация – </a:t>
            </a:r>
            <a:r>
              <a:rPr b="0" lang="ru-RU" sz="2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сознанное учеником затруднения, пути преодоления которого требуют поиска новых знаний, новых способов действий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4572000" y="3500280"/>
            <a:ext cx="4267080" cy="29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ровни проблем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ое изложение учебного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чно–поисковая деятельность (эвристический диало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ая исследовательск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55280" y="457200"/>
            <a:ext cx="8388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70c0"/>
                </a:solidFill>
                <a:latin typeface="Book Antiqua"/>
              </a:rPr>
              <a:t>ТЕХНОЛОГИЯ ПРОБЛЕМНОГО ОБУЧЕНИЯ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1280" y="1981080"/>
            <a:ext cx="6102360" cy="38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«+»: </a:t>
            </a: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достижение высокого уровня умственного развития учащихся; стимулирование внутренней мотивации учения; прочное усвоение изученного; формирование убеждений; овладение первичными навыками исследовательской деятельност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«-»:</a:t>
            </a: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большие затраты времени; слабая управляемость познавательной деятельностью учащихся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90" name="Picture 4" descr="j0195812"/>
          <p:cNvPicPr/>
          <p:nvPr/>
        </p:nvPicPr>
        <p:blipFill>
          <a:blip r:embed="rId1"/>
          <a:stretch/>
        </p:blipFill>
        <p:spPr>
          <a:xfrm>
            <a:off x="-108000" y="2276640"/>
            <a:ext cx="3360960" cy="34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55280" y="25560"/>
            <a:ext cx="8388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6b7d72"/>
                </a:solidFill>
                <a:latin typeface="Book Antiqua"/>
              </a:rPr>
              <a:t>ЗАКОН  РФ  «ОБ ОБРАЗОВАНИИ»</a:t>
            </a:r>
            <a:endParaRPr b="0" lang="en-US" sz="31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604360" cy="29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64b3c"/>
                </a:solidFill>
                <a:latin typeface="Times New Roman"/>
              </a:rPr>
              <a:t>Под </a:t>
            </a:r>
            <a:r>
              <a:rPr b="1" lang="ru-RU" sz="3600" spc="-1" strike="noStrike">
                <a:solidFill>
                  <a:srgbClr val="564b3c"/>
                </a:solidFill>
                <a:latin typeface="Times New Roman"/>
              </a:rPr>
              <a:t>образованием </a:t>
            </a:r>
            <a:br>
              <a:rPr sz="3600"/>
            </a:br>
            <a:r>
              <a:rPr b="0" lang="ru-RU" sz="3200" spc="-1" strike="noStrike">
                <a:solidFill>
                  <a:srgbClr val="564b3c"/>
                </a:solidFill>
                <a:latin typeface="Times New Roman"/>
              </a:rPr>
              <a:t>в Российской Федерации понимается целенаправленный процесс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бучения и воспитания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ru-RU" sz="3200" spc="-1" strike="noStrike">
                <a:solidFill>
                  <a:srgbClr val="564b3c"/>
                </a:solidFill>
                <a:latin typeface="Times New Roman"/>
              </a:rPr>
              <a:t>в интересах личности, общества, государства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6" name="Прямоугольник 3"/>
          <p:cNvSpPr/>
          <p:nvPr/>
        </p:nvSpPr>
        <p:spPr>
          <a:xfrm>
            <a:off x="357120" y="5143680"/>
            <a:ext cx="2571840" cy="714240"/>
          </a:xfrm>
          <a:prstGeom prst="rect">
            <a:avLst/>
          </a:prstGeom>
          <a:solidFill>
            <a:srgbClr val="93a299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4"/>
          <p:cNvSpPr/>
          <p:nvPr/>
        </p:nvSpPr>
        <p:spPr>
          <a:xfrm>
            <a:off x="285840" y="514368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Равно 5"/>
          <p:cNvSpPr/>
          <p:nvPr/>
        </p:nvSpPr>
        <p:spPr>
          <a:xfrm>
            <a:off x="3000240" y="5286240"/>
            <a:ext cx="500040" cy="428760"/>
          </a:xfrm>
          <a:custGeom>
            <a:avLst/>
            <a:gdLst/>
            <a:ahLst/>
            <a:rect l="l" t="t" r="r" b="b"/>
            <a:pathLst>
              <a:path w="500063" h="428625">
                <a:moveTo>
                  <a:pt x="66283" y="88297"/>
                </a:moveTo>
                <a:lnTo>
                  <a:pt x="433780" y="88297"/>
                </a:lnTo>
                <a:lnTo>
                  <a:pt x="433780" y="189109"/>
                </a:lnTo>
                <a:lnTo>
                  <a:pt x="66283" y="189109"/>
                </a:lnTo>
                <a:lnTo>
                  <a:pt x="66283" y="88297"/>
                </a:lnTo>
                <a:close/>
                <a:moveTo>
                  <a:pt x="66283" y="239516"/>
                </a:moveTo>
                <a:lnTo>
                  <a:pt x="433780" y="239516"/>
                </a:lnTo>
                <a:lnTo>
                  <a:pt x="433780" y="340328"/>
                </a:lnTo>
                <a:lnTo>
                  <a:pt x="66283" y="340328"/>
                </a:lnTo>
                <a:lnTo>
                  <a:pt x="66283" y="239516"/>
                </a:lnTo>
                <a:close/>
              </a:path>
            </a:pathLst>
          </a:custGeom>
          <a:solidFill>
            <a:srgbClr val="93a299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6"/>
          <p:cNvSpPr/>
          <p:nvPr/>
        </p:nvSpPr>
        <p:spPr>
          <a:xfrm>
            <a:off x="3571920" y="5143680"/>
            <a:ext cx="2143080" cy="714240"/>
          </a:xfrm>
          <a:prstGeom prst="rect">
            <a:avLst/>
          </a:prstGeom>
          <a:solidFill>
            <a:srgbClr val="93a299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7"/>
          <p:cNvSpPr/>
          <p:nvPr/>
        </p:nvSpPr>
        <p:spPr>
          <a:xfrm>
            <a:off x="3429000" y="5143680"/>
            <a:ext cx="23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8"/>
          <p:cNvSpPr/>
          <p:nvPr/>
        </p:nvSpPr>
        <p:spPr>
          <a:xfrm>
            <a:off x="6215040" y="5143680"/>
            <a:ext cx="2500200" cy="714240"/>
          </a:xfrm>
          <a:prstGeom prst="rect">
            <a:avLst/>
          </a:prstGeom>
          <a:solidFill>
            <a:srgbClr val="93a299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9"/>
          <p:cNvSpPr/>
          <p:nvPr/>
        </p:nvSpPr>
        <p:spPr>
          <a:xfrm>
            <a:off x="6143760" y="5143680"/>
            <a:ext cx="257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люс 10"/>
          <p:cNvSpPr/>
          <p:nvPr/>
        </p:nvSpPr>
        <p:spPr>
          <a:xfrm>
            <a:off x="5786280" y="5357880"/>
            <a:ext cx="357480" cy="357120"/>
          </a:xfrm>
          <a:custGeom>
            <a:avLst/>
            <a:gdLst/>
            <a:ahLst/>
            <a:rect l="l" t="t" r="r" b="b"/>
            <a:pathLst>
              <a:path w="357187" h="357187">
                <a:moveTo>
                  <a:pt x="47345" y="136588"/>
                </a:moveTo>
                <a:lnTo>
                  <a:pt x="136588" y="136588"/>
                </a:lnTo>
                <a:lnTo>
                  <a:pt x="136588" y="47345"/>
                </a:lnTo>
                <a:lnTo>
                  <a:pt x="220599" y="47345"/>
                </a:lnTo>
                <a:lnTo>
                  <a:pt x="220599" y="136588"/>
                </a:lnTo>
                <a:lnTo>
                  <a:pt x="309842" y="136588"/>
                </a:lnTo>
                <a:lnTo>
                  <a:pt x="309842" y="220599"/>
                </a:lnTo>
                <a:lnTo>
                  <a:pt x="220599" y="220599"/>
                </a:lnTo>
                <a:lnTo>
                  <a:pt x="220599" y="309842"/>
                </a:lnTo>
                <a:lnTo>
                  <a:pt x="136588" y="309842"/>
                </a:lnTo>
                <a:lnTo>
                  <a:pt x="136588" y="220599"/>
                </a:lnTo>
                <a:lnTo>
                  <a:pt x="47345" y="220599"/>
                </a:lnTo>
                <a:lnTo>
                  <a:pt x="47345" y="136588"/>
                </a:lnTo>
                <a:close/>
              </a:path>
            </a:pathLst>
          </a:custGeom>
          <a:solidFill>
            <a:srgbClr val="93a299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60436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Book Antiqua"/>
              </a:rPr>
              <a:t>ТЕХНОЛОГИЯ УЧЕБНОГО ПРОЕКТИРОВАНИЯ </a:t>
            </a: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29200" y="1052280"/>
            <a:ext cx="41148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тапы учебного проекта</a:t>
            </a:r>
            <a:endParaRPr b="0" lang="en-US" sz="25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lnSpc>
                <a:spcPct val="100000"/>
              </a:lnSpc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Выбор темы и участников проекта. </a:t>
            </a:r>
            <a:endParaRPr b="0" lang="en-US" sz="25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lnSpc>
                <a:spcPct val="100000"/>
              </a:lnSpc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пределение проблемы проекта (мозговой штурм)</a:t>
            </a:r>
            <a:endParaRPr b="0" lang="en-US" sz="25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lnSpc>
                <a:spcPct val="100000"/>
              </a:lnSpc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Распределение задач, обозначение критериев оценки проекта </a:t>
            </a:r>
            <a:endParaRPr b="0" lang="en-US" sz="25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lnSpc>
                <a:spcPct val="100000"/>
              </a:lnSpc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Самостоятельная работа над проектом</a:t>
            </a:r>
            <a:endParaRPr b="0" lang="en-US" sz="25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lnSpc>
                <a:spcPct val="100000"/>
              </a:lnSpc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Защита и оппонирование проекта</a:t>
            </a:r>
            <a:endParaRPr b="0" lang="en-US" sz="25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lnSpc>
                <a:spcPct val="100000"/>
              </a:lnSpc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дведение итогов</a:t>
            </a:r>
            <a:endParaRPr b="0" lang="en-US" sz="25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0" y="1125000"/>
            <a:ext cx="450072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етод проектов </a:t>
            </a:r>
            <a:r>
              <a:rPr b="0" lang="ru-RU" sz="2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– </a:t>
            </a:r>
            <a:r>
              <a:rPr b="0" lang="ru-RU" sz="25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технология  обучения, при которой учащиеся приобретают знания, умения и навыки, а также компетентности, компетенции и метапрофессиональные качества в процессе конструирования, планирования и выполнения постепенно усложняющихся практических заданий - проектов.</a:t>
            </a:r>
            <a:endParaRPr b="0" lang="en-US" sz="25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8200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ТЕХНОЛОГИЯ УЧЕБНОГО ПРОЕКТИРОВАНИЯ. КЛАССИФИКАЦИЯ УЧЕБНЫХ ПРОЕКТОВ</a:t>
            </a:r>
            <a:endParaRPr b="0" lang="en-US" sz="26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53640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о количеству учащихся: </a:t>
            </a: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индивидуальные, парные, групповые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о характеру поисковой деятельности: </a:t>
            </a: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исследовательские, творческие, информационные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о дисциплинарной сфере: </a:t>
            </a: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монопредметные, межпредметные, надпредметные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о продолжительности: </a:t>
            </a: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краткосрочные, среднесрочные, долгосрочные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о координации: </a:t>
            </a: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рямое или скрытое педагогическое управление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714640" y="1267920"/>
            <a:ext cx="34354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Формы презентации результата: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Реферат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Творческая работа (концерт, выставка, спектакль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Доклад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Статьи и тезисы,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Эссе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Стендовый доклад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резентация проекта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Рекомендаци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7d72"/>
                </a:solidFill>
                <a:latin typeface="Book Antiqua"/>
              </a:rPr>
              <a:t>ЗДОРОВЬЕСБЕРЕГАЮЩИЕ ТЕХНОЛОГИИ (ТИПЫ):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752480"/>
            <a:ext cx="82296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5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Здоровьесберегающие (профилактические прививки, обеспечение двигательной активности, витаминизация, </a:t>
            </a:r>
            <a:endParaRPr b="0" lang="en-US" sz="21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рганизация здорового питания).</a:t>
            </a:r>
            <a:endParaRPr b="0" lang="en-US" sz="21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здоровительные (физическая подготовка, физиотерапия, аромотерапия, закаливание, гимнастика, массаж, </a:t>
            </a:r>
            <a:endParaRPr b="0" lang="en-US" sz="21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фитотерапия, арттерапия).</a:t>
            </a:r>
            <a:endParaRPr b="0" lang="en-US" sz="21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Технологии обучения здоровью (включение соответствующих тем в программу обучения).</a:t>
            </a:r>
            <a:endParaRPr b="0" lang="en-US" sz="21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Воспитание культуры здоровья (занятия </a:t>
            </a:r>
            <a:endParaRPr b="0" lang="en-US" sz="21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 развитию личности обучающихся, </a:t>
            </a:r>
            <a:endParaRPr b="0" lang="en-US" sz="21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фестивали, конкурсы и т.д.).</a:t>
            </a:r>
            <a:endParaRPr b="0" lang="en-US" sz="21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900000" y="476280"/>
            <a:ext cx="7128000" cy="569736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668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c000"/>
                </a:solidFill>
                <a:latin typeface="Book Antiqua"/>
              </a:rPr>
              <a:t>ИГРОВЫЕ ТЕХНОЛОГИИ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33130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Игровая технология </a:t>
            </a:r>
            <a:r>
              <a:rPr b="1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–</a:t>
            </a: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технология обучения, в основе которой лежит взаимосвязь имитационного моделирования и ролевого поведения участников игры в процессе решения учебных задач достаточно высокого уровня проблемности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419280" y="1557000"/>
            <a:ext cx="5724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Этапы игровой технологии: 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lnSpc>
                <a:spcPct val="80000"/>
              </a:lnSpc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пределение темы, целей, задач ИТ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lnSpc>
                <a:spcPct val="80000"/>
              </a:lnSpc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пределение структуры ИТ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lnSpc>
                <a:spcPct val="80000"/>
              </a:lnSpc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дготовка сценария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lnSpc>
                <a:spcPct val="80000"/>
              </a:lnSpc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знакомление с исходной информацией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lnSpc>
                <a:spcPct val="80000"/>
              </a:lnSpc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дготовка учащихся к игре (анализ литературы, распределение ролевых функций)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lnSpc>
                <a:spcPct val="80000"/>
              </a:lnSpc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роведение игры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lnSpc>
                <a:spcPct val="80000"/>
              </a:lnSpc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анализ результатов игры учащимися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lnSpc>
                <a:spcPct val="80000"/>
              </a:lnSpc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дведение итогов игры педагогом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280" y="452520"/>
            <a:ext cx="8604360" cy="81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br>
              <a:rPr sz="3300"/>
            </a:b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ИДЫ ПЕДАГОГИЧЕСКИХ ИГР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250560" y="1523520"/>
            <a:ext cx="8893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99"/>
                </a:solidFill>
                <a:latin typeface="Century Gothic"/>
              </a:rPr>
              <a:t>    </a:t>
            </a:r>
            <a:r>
              <a:rPr b="0" lang="ru-RU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о характеру педагогического процесса: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e734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бучающие, тренировочные, контролирующие и обобщающие;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e734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знавательные, воспитательные, развивающие, социализирующие;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e734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репродуктивные, продуктивные, творческие;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e734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коммуникативные, диагностические, профориентационные, психотехнические и др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539280" y="259920"/>
            <a:ext cx="8604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о игровой методике: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93a2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редметная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93a2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сюжетная ролевая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93a2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имитационная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93a2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деловая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93a2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драматизация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755640" y="3573360"/>
            <a:ext cx="819612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о игровой сред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без предм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насто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компьюте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 предме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ули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на мест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179280" y="40428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лочное обучения 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существляется на основе гибкой программы и состоит из последовательно выполняемых блоков, гарантирующих усвоение определенной темы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-информационный блок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-тестово-информационный блок (проверка усвоенного)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-коррекционно-информационный блок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-проблемный блок (решение задач на основе полученных знаний)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-блок проверки и коррекци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Все темы повторяют вышеприведенную последовательность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ОДУЛЬНОЕ ОБУЧЕНИЕ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индивидуализированное самообучение, при котором используется учебная программа, составленная из модулей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Модуль - это функциональный узел, в качестве которого выступает  программа обучения, индивидуализированная по выполняемой деятельности. 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Прямоугольник 1"/>
          <p:cNvSpPr/>
          <p:nvPr/>
        </p:nvSpPr>
        <p:spPr>
          <a:xfrm>
            <a:off x="468360" y="765000"/>
            <a:ext cx="828036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уль представляет собой содержание курса в трех уровнях: полном, сокращенном, углубленном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йся выбирает для себя любой уровень. Содержание обучения представляется в законченных блоках; каждый ученик получает от педагога письменные рекомендации о том, как действовать, где искать нужный материал; обучающийся работает максимум времени самостоятельно, что дает ему возможность осознать себя в процессе  выполнения  деятельност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ность модульного обучения состоит в том, что обучающийся самостоятельно достигает конкретных целей учебно-познавательной деятельности в процессе работы с модуле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1193400" y="1269360"/>
            <a:ext cx="749232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Е ПЕДАГОГИЧЕСКИЕ ТЕХНОЛОГИИ В УДОД</a:t>
            </a:r>
            <a:endParaRPr b="0" lang="en-US" sz="41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6840" y="3068280"/>
            <a:ext cx="8675640" cy="30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структура,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классификация,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характеристик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3399"/>
                </a:solidFill>
                <a:latin typeface="Book Antiqua"/>
              </a:rPr>
              <a:t>ТЕХНОЛОГИЯ «ДЕБАТЫ»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564b3c"/>
              </a:solidFill>
              <a:latin typeface="Century Gothic"/>
            </a:endParaRPr>
          </a:p>
          <a:p>
            <a:pPr marL="1364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Формирует умения: Умение критически мыслить.</a:t>
            </a:r>
            <a:endParaRPr b="0" lang="en-US" sz="2700" spc="-1" strike="noStrike">
              <a:solidFill>
                <a:srgbClr val="564b3c"/>
              </a:solidFill>
              <a:latin typeface="Century Gothic"/>
            </a:endParaRPr>
          </a:p>
          <a:p>
            <a:pPr marL="136440">
              <a:lnSpc>
                <a:spcPct val="90000"/>
              </a:lnSpc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Умение отделить важную информацию от второстепенной. </a:t>
            </a:r>
            <a:endParaRPr b="0" lang="en-US" sz="2700" spc="-1" strike="noStrike">
              <a:solidFill>
                <a:srgbClr val="564b3c"/>
              </a:solidFill>
              <a:latin typeface="Century Gothic"/>
            </a:endParaRPr>
          </a:p>
          <a:p>
            <a:pPr marL="136440">
              <a:lnSpc>
                <a:spcPct val="90000"/>
              </a:lnSpc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Умение определить и вычленить проблему. </a:t>
            </a:r>
            <a:endParaRPr b="0" lang="en-US" sz="2700" spc="-1" strike="noStrike">
              <a:solidFill>
                <a:srgbClr val="564b3c"/>
              </a:solidFill>
              <a:latin typeface="Century Gothic"/>
            </a:endParaRPr>
          </a:p>
          <a:p>
            <a:pPr marL="136440">
              <a:lnSpc>
                <a:spcPct val="90000"/>
              </a:lnSpc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Умение определить причины и возможные последствия.</a:t>
            </a:r>
            <a:endParaRPr b="0" lang="en-US" sz="2700" spc="-1" strike="noStrike">
              <a:solidFill>
                <a:srgbClr val="564b3c"/>
              </a:solidFill>
              <a:latin typeface="Century Gothic"/>
            </a:endParaRPr>
          </a:p>
          <a:p>
            <a:pPr marL="136440">
              <a:lnSpc>
                <a:spcPct val="90000"/>
              </a:lnSpc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Умение определить факты и мнения .</a:t>
            </a:r>
            <a:endParaRPr b="0" lang="en-US" sz="2700" spc="-1" strike="noStrike">
              <a:solidFill>
                <a:srgbClr val="564b3c"/>
              </a:solidFill>
              <a:latin typeface="Century Gothic"/>
            </a:endParaRPr>
          </a:p>
          <a:p>
            <a:pPr marL="136440">
              <a:lnSpc>
                <a:spcPct val="90000"/>
              </a:lnSpc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Умение эффективно решать проблемы. Умение оценивать доказательства.</a:t>
            </a:r>
            <a:endParaRPr b="0" lang="en-US" sz="2700" spc="-1" strike="noStrike">
              <a:solidFill>
                <a:srgbClr val="564b3c"/>
              </a:solidFill>
              <a:latin typeface="Century Gothic"/>
            </a:endParaRPr>
          </a:p>
          <a:p>
            <a:pPr marL="136440">
              <a:lnSpc>
                <a:spcPct val="90000"/>
              </a:lnSpc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Умение работать в команде</a:t>
            </a:r>
            <a:endParaRPr b="0" lang="en-US" sz="27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3399"/>
                </a:solidFill>
                <a:latin typeface="Book Antiqua"/>
              </a:rPr>
              <a:t>ТЕХНОЛОГИИ «ТРИЗ» </a:t>
            </a:r>
            <a:r>
              <a:rPr b="0" lang="ru-RU" sz="2400" spc="-1" strike="noStrike">
                <a:solidFill>
                  <a:srgbClr val="003399"/>
                </a:solidFill>
                <a:latin typeface="Book Antiqua"/>
              </a:rPr>
              <a:t>ТЕОРИЯ РЕШЕНИЯ ИЗОБРЕТАТЕЛЬСКИХ ЗАДАЧ. </a:t>
            </a:r>
            <a:endParaRPr b="0" lang="en-US" sz="24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08000" y="1557360"/>
            <a:ext cx="8578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19240">
              <a:lnSpc>
                <a:spcPct val="100000"/>
              </a:lnSpc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ТРИЗ - педагогика ставит целью формирование сильного мышления и воспитание творческой личности, подготовленной к решению сложных проблем в различных областях деятельности. Её отличие от известных средств проблемного обучения – в использовании мирового опыта, накопленного в области создания методов решения изобретательских задач. Конечно, этот опыт переработан и согласован с целями педагогики. Под методом решения изобретательских задач прежде всего подразумеваются приёмы и алгоритмы, разработанные в рамках ТРИЗ, а также такие зарубежные методы, как мозговой штурм.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362800" cy="53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Book Antiqua"/>
              </a:rPr>
              <a:t>ПОРТФОЛИО </a:t>
            </a:r>
            <a:br>
              <a:rPr sz="3600"/>
            </a:br>
            <a:br>
              <a:rPr sz="3600"/>
            </a:br>
            <a:br>
              <a:rPr sz="24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, ПОЗВОЛЯЮЩАЯ РЕШАТЬ ПРОБЛЕМУ ОБЪЕКТИВНОЙ ОЦЕНКИ РЕЗУЛЬТАТОВ ДЕЯТЕЛЬНОСТИ ПОРТФОЛИО – ТЕХНОЛОГИЯ ПЛАНИРОВАНИЯ ПРОФЕССИОНАЛЬНОЙ КАРЬЕРЫ И ДОСТИЖЕНИЙ, ТЕМАТИЧЕСКИЙ  ПРЕЗЕНТАЦИОННЫЙ, КОМПЛЕКСНЫЙ ТИПЫ ПОРТФОЛИО: ЭЛЕКТРОННЫЙ ПОРТФОЛИО ПАСПОРТ КОМПЕТЕНЦИЙ И КВАЛИФИКАЦИИ ЕВРОПЕЙСКИЙ ЯЗЫКОВОЙ ПОРТФОЛИО (ЕДИНЫЙ ЕВРОПЕЙСКИЙ ОБРАЗЕЦ, ПРИНЯТЫЙ СОВЕТОМ ЕВРОПЫ)</a:t>
            </a:r>
            <a:endParaRPr b="0" lang="en-US" sz="2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25520" y="691920"/>
            <a:ext cx="826128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7d72"/>
                </a:solidFill>
                <a:latin typeface="Book Antiqua"/>
              </a:rPr>
              <a:t>ТЕХНОЛОГИЯ РАЗВИТИЯ КРИТИЧЕСКОГО МЫШЛЕНИЯ.</a:t>
            </a: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Критическое мышление – это способность анализировать информацию с позиции логики и личностно-ориентированного подхода с тем, чтобы применять полученные результаты, как к стандартам, так и нестандартным ситуациям, вопросам и проблемам. Критическое мышление – это способность ставить новые вопросы, вырабатывать разнообразные аргументы, принимать независимые продуманные решения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25520" y="620640"/>
            <a:ext cx="82612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Book Antiqua"/>
              </a:rPr>
              <a:t>КРИТЕРИИ ОЦЕНКИ РЕЗУЛЬТАТА В УСЛОВИЯХ ТЕХНОЛОГИИ РАЗВИТИЯ КРИТИЧЕСКОГО МЫШЛЕНИЯ УЧАЩИХСЯ.</a:t>
            </a:r>
            <a:br>
              <a:rPr sz="2800"/>
            </a:b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сновным критерием оценки результата является критичность мышления, которая может быть раскрыта через следующие показатели: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ценка (Где ошибка?)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Диагноз (В чём причина?)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Самоконтроль (Каковы недостатки?)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Критика (Согласны ли вы? Опровергните. Приведите контраргументы?)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рогноз (Постройте прогноз)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3399"/>
                </a:solidFill>
                <a:latin typeface="Book Antiqua"/>
              </a:rPr>
              <a:t>ТЕХНОЛОГИЯ ИНТЕРАКТИВНОГО ОБУЧЕНИЯ. </a:t>
            </a:r>
            <a:br>
              <a:rPr sz="2500"/>
            </a:br>
            <a:r>
              <a:rPr b="1" lang="ru-RU" sz="2500" spc="-1" strike="noStrike">
                <a:solidFill>
                  <a:srgbClr val="003399"/>
                </a:solidFill>
                <a:latin typeface="Book Antiqua"/>
              </a:rPr>
              <a:t>ТЕХНОЛОГИЯ МОДЕРАЦИИ</a:t>
            </a:r>
            <a:br>
              <a:rPr sz="2500"/>
            </a:br>
            <a:endParaRPr b="0" lang="en-US" sz="2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752120"/>
            <a:ext cx="822960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Модерация – это эффективная технология, которая позволяет значительно повысить результативность и качество образовательного процесса. Эффективность модерации определяется тем, что используемые приемы, методы и формы организации познавательной деятельности направлены на активизацию аналитической и рефлексивной деятельности обучающихся, развитие исследовательских и проектировочных умений, развитие коммуникативных способностей и навыков работы в команде. </a:t>
            </a:r>
            <a:br>
              <a:rPr sz="2300"/>
            </a:br>
            <a:r>
              <a:rPr b="0" lang="ru-RU" sz="23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роцесс совместной работы, организованный с помощью приемов и методов модерации способствует снятию барьеров общения, создает условия для развития творческого мышления и принятия нестандартных решений, формирует и развивает навыки совместной деятельности.</a:t>
            </a:r>
            <a:endParaRPr b="0" lang="en-US" sz="2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Объект 3" descr=""/>
          <p:cNvPicPr/>
          <p:nvPr/>
        </p:nvPicPr>
        <p:blipFill>
          <a:blip r:embed="rId1"/>
          <a:stretch/>
        </p:blipFill>
        <p:spPr>
          <a:xfrm>
            <a:off x="955800" y="404640"/>
            <a:ext cx="6568920" cy="62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6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АЯ ДЕЯТЕЛЬНОСТЬ МОЖЕТ БЫТЬ ЛИБО ТЕХНОЛОГИЕЙ, ЛИБО ИСКУССТВОМ. ИСКУССТВО ОСНОВАНО НА ИНТУИЦИИ, ТЕХНОЛОГИЯ - НА НАУКЕ. С ИСКУССТВА ВСЁ НАЧИНАЕТСЯ, ТЕХНОЛОГИЕЙ ЗАКАНЧИВАЕТСЯ, ЧТОБЫ ЗАТЕМ ВСЁ НАЧАЛОСЬ СНАЧАЛА. 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ff00"/>
                </a:solidFill>
                <a:latin typeface="Book Antiqua"/>
              </a:rPr>
              <a:t>БЛАГОДАРЮ ЗА ВНИМАНИЕ!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425" name="Объект 8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6913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26920" y="457200"/>
            <a:ext cx="7691760" cy="12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ЧТО ДАЕТ ТЕХНОЛОГИЧЕСКИЙ ПОДХОД?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9640" y="1989000"/>
            <a:ext cx="384192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дагогу: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кое определение конечной цели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ескую цепочку педагогических действий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ность инструментария  диагностики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211640" y="1773000"/>
            <a:ext cx="468144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спитаннику: </a:t>
            </a:r>
            <a:endParaRPr b="0" lang="en-US" sz="2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75"/>
              </a:spcBef>
              <a:buClr>
                <a:srgbClr val="93a2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вовлечение каждого в активный познавательный процесс;</a:t>
            </a:r>
            <a:endParaRPr b="0" lang="en-US" sz="2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75"/>
              </a:spcBef>
              <a:buClr>
                <a:srgbClr val="93a2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рименение знаний на практике </a:t>
            </a:r>
            <a:endParaRPr b="0" lang="en-US" sz="2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75"/>
              </a:spcBef>
              <a:buClr>
                <a:srgbClr val="93a2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доступ к необходимой информации;</a:t>
            </a:r>
            <a:endParaRPr b="0" lang="en-US" sz="2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75"/>
              </a:spcBef>
              <a:buClr>
                <a:srgbClr val="93a2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бщение и сотрудничество не только с педагогом , но и со сверстниками;</a:t>
            </a:r>
            <a:endParaRPr b="0" lang="en-US" sz="2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75"/>
              </a:spcBef>
              <a:buClr>
                <a:srgbClr val="93a2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стоянное испытание своих сил для преодоления возникающих проблем. </a:t>
            </a:r>
            <a:endParaRPr b="0" lang="en-US" sz="23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915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ОСНОВНЫЕ КАТЕГОРИИ И ПОНЯТИЯ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79280" y="1699920"/>
            <a:ext cx="831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едагогическая  технология</a:t>
            </a:r>
            <a:r>
              <a:rPr b="0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- </a:t>
            </a:r>
            <a:r>
              <a:rPr b="0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конкретное, научно обоснованное, специальным образом организованное  обучение для достижения конкретной, реально выполнимой цели обучения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Технология  обучения –</a:t>
            </a:r>
            <a:r>
              <a:rPr b="0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способ реализации содержания обучения, предусмотренного учебными программами, представляющий </a:t>
            </a:r>
            <a:r>
              <a:rPr b="0" lang="ru-RU" sz="2800" spc="-1" strike="noStrike" u="sng">
                <a:solidFill>
                  <a:srgbClr val="564b3c"/>
                </a:solidFill>
                <a:uFillTx/>
                <a:latin typeface="Times New Roman"/>
                <a:ea typeface="Times New Roman"/>
              </a:rPr>
              <a:t>систему форм, методов и средств обучения</a:t>
            </a:r>
            <a:r>
              <a:rPr b="0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, обеспечивающую наиболее эффективное достижение  проставленных целей.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-360" y="2000160"/>
            <a:ext cx="90010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Научном</a:t>
            </a:r>
            <a:r>
              <a:rPr b="1" i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– </a:t>
            </a:r>
            <a:r>
              <a:rPr b="1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часть педагогической науки, изучающая и разрабатывающая цели, содержание и методы обучения и проектирующая педагогические процессы;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Процессуальном</a:t>
            </a:r>
            <a:r>
              <a:rPr b="1" i="1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– </a:t>
            </a:r>
            <a:r>
              <a:rPr b="1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писание (алгоритм) процесса, совокупность целей, содержания, методов и средств достижения планируемых результатов обучения; 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Деятельностном </a:t>
            </a:r>
            <a:r>
              <a:rPr b="1" i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</a:t>
            </a:r>
            <a:r>
              <a:rPr b="1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существление технологического (педагогического) процесса, функционирование всех личностных, инструментальных и методологических педагогических средств.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 algn="r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2" name="TextBox 2"/>
          <p:cNvSpPr/>
          <p:nvPr/>
        </p:nvSpPr>
        <p:spPr>
          <a:xfrm>
            <a:off x="468360" y="357120"/>
            <a:ext cx="84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дагогическая техн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в 3-х аспектах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50560" y="457200"/>
            <a:ext cx="8893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ТЕХНОЛОГИЧЕСКИЕ КОМПОНЕНТЫ УЧЕБНО-ВОСПИТАТЕЛЬНОГО ПРОЦЕСС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В УДОД</a:t>
            </a: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ормы организации обучения и воспитания – </a:t>
            </a: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внешняя сторона организации педагогического процесса. 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етоды</a:t>
            </a:r>
            <a:r>
              <a:rPr b="0" lang="ru-RU" sz="2600" spc="-1" strike="noStrike">
                <a:solidFill>
                  <a:srgbClr val="cccc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(от греч. </a:t>
            </a:r>
            <a:r>
              <a:rPr b="0" lang="en-US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Methods</a:t>
            </a: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– путь, способ продвижения к истине) – упорядоченный способ взаимосвязанной деятельности педагога и учащихся по достижению определенных учебно-воспитательных целей 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редства обучения и воспитания </a:t>
            </a: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– источники получения знаний и формирования умений; различные орудия труда, предметы культуры, включенные в учебно-познавательную деятельность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280" y="457200"/>
            <a:ext cx="8604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ЕТОДЫ ОБУЧЕНИЯ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56" name="Схема 1" descr=""/>
          <p:cNvPicPr/>
          <p:nvPr/>
        </p:nvPicPr>
        <p:blipFill>
          <a:blip r:embed="rId1"/>
          <a:stretch/>
        </p:blipFill>
        <p:spPr>
          <a:xfrm>
            <a:off x="549360" y="2060640"/>
            <a:ext cx="8204040" cy="403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Схема 5" descr=""/>
          <p:cNvPicPr/>
          <p:nvPr/>
        </p:nvPicPr>
        <p:blipFill>
          <a:blip r:embed="rId1"/>
          <a:stretch/>
        </p:blipFill>
        <p:spPr>
          <a:xfrm>
            <a:off x="1474920" y="1627200"/>
            <a:ext cx="7053120" cy="4035240"/>
          </a:xfrm>
          <a:prstGeom prst="rect">
            <a:avLst/>
          </a:prstGeom>
          <a:ln w="0">
            <a:noFill/>
          </a:ln>
        </p:spPr>
      </p:pic>
      <p:sp>
        <p:nvSpPr>
          <p:cNvPr id="358" name="AutoShape 4"/>
          <p:cNvSpPr/>
          <p:nvPr/>
        </p:nvSpPr>
        <p:spPr>
          <a:xfrm>
            <a:off x="684360" y="277920"/>
            <a:ext cx="800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ормы организации педагогического процесса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12:42:08Z</dcterms:created>
  <dc:creator>C2</dc:creator>
  <dc:description/>
  <dc:language>en-US</dc:language>
  <cp:lastModifiedBy>USER</cp:lastModifiedBy>
  <dcterms:modified xsi:type="dcterms:W3CDTF">2015-11-12T07:24:55Z</dcterms:modified>
  <cp:revision>130</cp:revision>
  <dc:subject/>
  <dc:title>Механические колебания</dc:title>
</cp:coreProperties>
</file>