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23D-5A29-4077-8990-466882A6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D00-AFEF-48D6-9162-2B019DB3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0B5-3405-4578-B681-246624B5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C5F-634E-4DFE-8562-70ADFC22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5BE3-C133-4426-AA0E-1472EE14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D8FC-1628-4636-A870-CF7745BB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C638-5D39-42AC-8881-85AB089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DBE5-751F-478A-9FDF-FE0051B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B9E2-D7BF-453F-BFAF-8406B2A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35D-55BF-4E2E-8A9E-6DBCE7D3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3630-F686-4B2B-A4D5-78165C9F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50A-3D0C-4055-B8AF-3FD7065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C059-1338-4CE0-856F-1C1459C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5A91-DA86-46C7-9324-429F6F7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D95C-CC63-4303-BE55-DD40B3BD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5DF9-A330-4399-8443-70184809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490-DC51-47AD-ACAF-6DD9195E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D08B-CC6B-4277-BCE9-2027364E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ABB9-4D26-4672-9FBD-B3D2AE0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90B9-865B-4077-8AC6-610100E8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DEB5-FC6F-4C3F-AB97-2869993C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0A75-7BA4-40CF-874E-0529B19B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9B3-C6FF-4850-ACA4-090B4DE3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CE76-60CA-4DC2-BB97-03AFC05E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5C0C-475F-4BFF-B97E-E4A0A09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539E-58D2-4EF8-B969-E81C8E97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8210-4745-4C74-8384-46A0CDC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128E-C956-47D3-9CA8-A4FA1CF4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EF8C-6189-4B9B-8D9A-997B737A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11A0-23AC-4D63-A153-4FD668C5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196C-89C8-487A-9BC9-8021BB24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C473-A636-457A-A665-7AF142E8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16FF-2A21-4F49-8D2C-6585CDC6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BE2-9A2E-4FBB-BA08-06612D83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C7FA-22DE-41FE-8741-E33F6560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6D8D-BB2B-4813-A671-4B060746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39C1-CDC9-42A9-A6EA-6FE153AC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23A19-3FC5-4862-95BC-3E6FC70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4981-A916-4744-A8C3-4BC40A5E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9E9B-2635-4AF9-8C7E-F374D86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FA7E-3338-4C02-BBD0-22D2E640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D653-4C9F-4973-85AE-E5C7AEB1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B8729-D8A9-49BC-B8EC-1D3C10D9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ADA6-3AFB-4D93-B9BD-8AB5C1E4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431-06F4-46D9-A300-724C7441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740F0-9C73-4D60-B8EE-DCC5F982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65D5A-060E-4E50-8242-879F4FD9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01E9-02A9-4E2D-8397-B35A2EA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8780C-3DD6-4C4D-A518-5B9428E6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7917-AB4E-427B-9D8F-A2161B1B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E383-7CBE-41DC-804C-ECF10BE0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A9DA2-56B8-4B17-B125-B195D597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9621-3E06-4629-BA12-F4AEF0C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6D32-5D5D-4844-8D90-48D8501E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6DCD0-4AF7-4A93-BE72-8E2E9C0B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735-436D-4173-AAA9-D3B55AE4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1663-02CF-4A1E-8F7F-33C1FF7C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B337A-3B5B-4368-9FB4-79479D0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49C61-A64D-43ED-8FC3-2ECCA54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952F0-BD6B-44BC-A0C0-4594C338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956E7-5CD3-4D53-88BE-386CC66F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9C6AC-134C-4C77-9DAB-4ED08D0F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C77F3-48CF-4209-8CD0-511F6964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C5AAC-6A79-42F1-9A19-F617E56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0DBC2-1BD9-4C49-A9EA-616D101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7B51D-92DE-480B-B5DA-13FFE01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7E4-A9E4-4B7E-BDFC-835570DB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B7E5D-6556-4A62-8E4E-AAE8AEA4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DC56D-A899-4E0C-928E-CDC5806D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5F266-53B6-4CB0-941B-25C22FEF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69843-B1CB-4030-8161-BC7E6013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56653-A23F-40C6-9A4B-D46EE20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2212-B41A-4C41-AA65-8F37BE0A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AD8E-0C16-46A5-B9CA-3A038FD3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B3C5F-F914-4A2C-9810-C3500F77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8837F-31E1-49CB-8490-3F77DEB3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13452-2B6B-449A-909D-15B7409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CCF-2AB8-4325-B217-E38C8D25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ABDF-20DF-4955-B02C-1512B00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8938-D505-449C-B89A-EA26A6BA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D894B-7178-45AB-A3BA-7B918332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69D7E-488F-40C6-9986-093F4C29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DDEB-A929-4FB3-B35A-A5F8DD7C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8CA-F9C7-4F6B-A617-1D8A8762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06C-B58C-43CA-9A21-38836A089162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3A1A-CB74-4750-9E79-7504186FD484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4713-3742-4ECC-B7D6-C04BB733B842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F763-280C-44BE-AC7A-A0C06F8BBFEF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2D3-CC29-4C97-B5A4-F78206DEDDE9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BDA1-1857-4984-A8F4-443A81CA07DD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F4ED-5D6C-4CCA-ACDF-9D2434C1A2EE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Объект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6842160" cy="49989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5520" y="259920"/>
            <a:ext cx="8261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ИЕ ТЕХНОЛОГИИ В ОБРАЗОВАТЕЛЬНОМ ПРОЦЕССЕ УЧРЕЖДЕНИЯ ДОПОЛНИТЕЛЬНОГО ОБРАЗОВАНИЯ ДЕТЕЙ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6000" y="345456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каченко С.В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. структурным подразделение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предусматривает взаимосвязанную деятельность педагога и обучающихся на договорной основе с учетом принципов индивидуализации </a:t>
            </a:r>
            <a:br>
              <a:rPr sz="2400"/>
            </a:b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 дифференциации, диалогического общени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лементы педагогической технологии должны быть воспроизводимы любым педагогом и должны гарантировать    достижение планируемых результатов (гос. стандарта) всеми обучающимис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едагогическая технология диагностируема: содержит критерии, показатели и инструментарий измерения результатов деятельности </a:t>
            </a:r>
            <a:r>
              <a:rPr b="0" i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(В.В. Пикан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395280" y="357120"/>
            <a:ext cx="87487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Book Antiqua"/>
              </a:rPr>
              <a:t>ОСНОВНЫЕ ИДЕИ</a:t>
            </a:r>
            <a:r>
              <a:rPr b="1" lang="ru-RU" sz="3600" spc="-1" strike="noStrike">
                <a:solidFill>
                  <a:srgbClr val="0070c0"/>
                </a:solidFill>
                <a:latin typeface="Book Antiqua"/>
              </a:rPr>
              <a:t> ТЕХНОЛОГИИ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Book Antiqua"/>
              </a:rPr>
              <a:t>ПЕДАГОГИЧЕСКИЕ ТЕХНОЛОГИИ В УДОД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557360"/>
            <a:ext cx="5607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дифференцированного обучени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разновозрастного обуч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блочно-модульного обучени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учебно-исследовательской деятельности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и эвристического обучения(ТРИЗ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ренинговые технолог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доровьесберегающие технологии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300720" y="2666880"/>
            <a:ext cx="25192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маршр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680" y="573120"/>
            <a:ext cx="8572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Book Antiqua"/>
              </a:rPr>
              <a:t>ИННОВАЦИОННЫЕ ТЕХНОЛОГИ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57760" y="1999800"/>
            <a:ext cx="52862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«Инноватика –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это не просто новшества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, некоторая новизна,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стиже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нципиально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овых качест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ведением системообразующих элементов, обеспечивающих новизну системе» (П.С. Лернер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71680" y="2071800"/>
            <a:ext cx="3071520" cy="3803400"/>
          </a:xfrm>
          <a:custGeom>
            <a:avLst/>
            <a:gdLst>
              <a:gd name="textAreaLeft" fmla="*/ 149760 w 3071520"/>
              <a:gd name="textAreaRight" fmla="*/ 2921760 w 3071520"/>
              <a:gd name="textAreaTop" fmla="*/ 149760 h 3803400"/>
              <a:gd name="textAreaBottom" fmla="*/ 3653640 h 3803400"/>
            </a:gdLst>
            <a:ahLst/>
            <a:rect l="textAreaLeft" t="textAreaTop" r="textAreaRight" b="textAreaBottom"/>
            <a:pathLst>
              <a:path w="21600" h="26746">
                <a:moveTo>
                  <a:pt x="3600" y="0"/>
                </a:moveTo>
                <a:arcTo wR="3600" hR="3600" stAng="16200000" swAng="-5400000"/>
                <a:lnTo>
                  <a:pt x="0" y="23146"/>
                </a:lnTo>
                <a:arcTo wR="3600" hR="3600" stAng="10800000" swAng="-5400000"/>
                <a:lnTo>
                  <a:pt x="18000" y="26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284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1429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748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ИННОВАЦИОННЫЕ ТЕХНОЛОГИИ ПРЕДПОЛАГАЮТ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13840" y="1357200"/>
            <a:ext cx="8929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ышение уровня мотивации к учебному труду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ормирование высокого уровня развития обучающихся на основе включения их в постоянно усложняющуюся деятельность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 активной поддержке педагога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оянное повторение, систематизация знаний, проговаривание вместе с педагогом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едущая роль - формирование доброжелательной атмосферы, создание позитивного отношения к учению посредством индивидуального отношения к каждому ученику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619280" y="563400"/>
            <a:ext cx="75247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 Gothic"/>
              </a:rPr>
              <a:t>Инновационные технолог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57200" y="3714840"/>
            <a:ext cx="742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Личностно-ориентированный подх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28800" y="2465280"/>
            <a:ext cx="778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роектная технолог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научно-исследовательская дея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280320" y="4651200"/>
            <a:ext cx="3198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ИКТ- технолог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4"/>
          <p:cNvSpPr/>
          <p:nvPr/>
        </p:nvSpPr>
        <p:spPr>
          <a:xfrm>
            <a:off x="4786200" y="521496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5"/>
          <p:cNvSpPr/>
          <p:nvPr/>
        </p:nvSpPr>
        <p:spPr>
          <a:xfrm>
            <a:off x="824040" y="1670040"/>
            <a:ext cx="82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Технологии развивающего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6"/>
          <p:cNvSpPr/>
          <p:nvPr/>
        </p:nvSpPr>
        <p:spPr>
          <a:xfrm>
            <a:off x="3571920" y="558000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мониторин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трелка вниз 18"/>
          <p:cNvSpPr/>
          <p:nvPr/>
        </p:nvSpPr>
        <p:spPr>
          <a:xfrm>
            <a:off x="4786200" y="428616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низ 19"/>
          <p:cNvSpPr/>
          <p:nvPr/>
        </p:nvSpPr>
        <p:spPr>
          <a:xfrm>
            <a:off x="4786200" y="3357720"/>
            <a:ext cx="214560" cy="42840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трелка вниз 20"/>
          <p:cNvSpPr/>
          <p:nvPr/>
        </p:nvSpPr>
        <p:spPr>
          <a:xfrm>
            <a:off x="4786200" y="214308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Равно 12"/>
          <p:cNvSpPr/>
          <p:nvPr/>
        </p:nvSpPr>
        <p:spPr>
          <a:xfrm>
            <a:off x="4071960" y="1143000"/>
            <a:ext cx="1571760" cy="571680"/>
          </a:xfrm>
          <a:custGeom>
            <a:avLst/>
            <a:gdLst/>
            <a:ahLst/>
            <a:rect l="l" t="t" r="r" b="b"/>
            <a:pathLst>
              <a:path w="1571625" h="571500">
                <a:moveTo>
                  <a:pt x="208319" y="117729"/>
                </a:moveTo>
                <a:lnTo>
                  <a:pt x="1363306" y="117729"/>
                </a:lnTo>
                <a:lnTo>
                  <a:pt x="1363306" y="252146"/>
                </a:lnTo>
                <a:lnTo>
                  <a:pt x="208319" y="252146"/>
                </a:lnTo>
                <a:lnTo>
                  <a:pt x="208319" y="117729"/>
                </a:lnTo>
                <a:close/>
                <a:moveTo>
                  <a:pt x="208319" y="319354"/>
                </a:moveTo>
                <a:lnTo>
                  <a:pt x="1363306" y="319354"/>
                </a:lnTo>
                <a:lnTo>
                  <a:pt x="1363306" y="453771"/>
                </a:lnTo>
                <a:lnTo>
                  <a:pt x="208319" y="453771"/>
                </a:lnTo>
                <a:lnTo>
                  <a:pt x="208319" y="319354"/>
                </a:lnTo>
                <a:close/>
              </a:path>
            </a:pathLst>
          </a:cu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54288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 Antiqua"/>
                <a:ea typeface="Calibri"/>
              </a:rPr>
              <a:t>ИКТ-ТЕХНОЛОГИИ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250920" y="207720"/>
            <a:ext cx="8429400" cy="75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в работе ЭОР и Ц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(Цифровые образовательные ресурсы (ЦОР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это представленные в цифровой форме фотографии, видеофрагменты, объекты виртуальной реальности и интерактивного моделирования, звукозаписи, символьные объекты и деловая графика, текстовые документы и иные учебные материалы, необходимые для организации учеб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931160" cy="55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НЫЕ ОБРАЗОВАТЕЛЬНЫЕ РЕСУРСЫ (ЭОР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СРЕДСТВ ПРОГРАММНОГО, ИНФОРМАЦИОННОГО, ТЕХНИЧЕСКОГО И ОРГАНИЗАЦИОННОГО ОБЕСПЕЧЕНИЯ, ЭЛЕКТРОННЫХ ИЗДАНИЙ, РАЗМЕЩАЕМАЯ НА МАШИНОЧИТАЕМЫХ НОСИТЕЛЯХ И/ИЛИ В СЕТИ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C:\Users\USER\Documents\для декады 15\237985_html_2a5ac68a.png"/>
          <p:cNvPicPr/>
          <p:nvPr/>
        </p:nvPicPr>
        <p:blipFill>
          <a:blip r:embed="rId1"/>
          <a:stretch/>
        </p:blipFill>
        <p:spPr>
          <a:xfrm>
            <a:off x="1403280" y="189000"/>
            <a:ext cx="684072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Book Antiqua"/>
              </a:rPr>
              <a:t>ТЕХНОЛОГИЯ ПРОБЛЕМНОГО ОБУЧЕ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3795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построения занятия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ктуализация опорных знаний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здание проблемной ситуаци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ановка учебной проблем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роение проблемной задач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шение проблемы (выдвижение и доказательство гипотез, анализ возможных последствий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верка правильности решения и повторение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22560" y="1557360"/>
            <a:ext cx="4321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лемная ситуация – </a:t>
            </a: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ознанное учеником затруднения, пути преодоления которого требуют поиска новых знаний, новых способов действий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572000" y="3500280"/>
            <a:ext cx="426708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вни проблем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изложение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–поисковая деятельность (эвристический диал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Book Antiqua"/>
              </a:rPr>
              <a:t>ТЕХНОЛОГИЯ ПРОБЛЕМНОГО ОБУЧЕ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1280" y="1981080"/>
            <a:ext cx="610236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+»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стижение высокого уровня умственного развития учащихся; стимулирование внутренней мотивации учения; прочное усвоение изученного; формирование убеждений; овладение первичными навыками исследовательской деятельно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-»: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большие затраты времени; слабая управляемость познавательной деятельностью учащихс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0" name="Picture 4" descr="j0195812"/>
          <p:cNvPicPr/>
          <p:nvPr/>
        </p:nvPicPr>
        <p:blipFill>
          <a:blip r:embed="rId1"/>
          <a:stretch/>
        </p:blipFill>
        <p:spPr>
          <a:xfrm>
            <a:off x="-108000" y="2276640"/>
            <a:ext cx="33609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280" y="255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b7d72"/>
                </a:solidFill>
                <a:latin typeface="Book Antiqua"/>
              </a:rPr>
              <a:t>ЗАКОН  РФ  «ОБ ОБРАЗОВАНИИ»</a:t>
            </a:r>
            <a:endParaRPr b="0" lang="en-US" sz="3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60436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Под </a:t>
            </a:r>
            <a:r>
              <a:rPr b="1" lang="ru-RU" sz="3600" spc="-1" strike="noStrike">
                <a:solidFill>
                  <a:srgbClr val="564b3c"/>
                </a:solidFill>
                <a:latin typeface="Times New Roman"/>
              </a:rPr>
              <a:t>образованием </a:t>
            </a:r>
            <a:br>
              <a:rPr sz="3600"/>
            </a:b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в Российской Федерации понимается целенаправленный процесс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учения и воспитания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в интересах личности, общества, государства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357120" y="5143680"/>
            <a:ext cx="257184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285840" y="51436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Равно 5"/>
          <p:cNvSpPr/>
          <p:nvPr/>
        </p:nvSpPr>
        <p:spPr>
          <a:xfrm>
            <a:off x="3000240" y="5286240"/>
            <a:ext cx="500040" cy="428760"/>
          </a:xfrm>
          <a:custGeom>
            <a:avLst/>
            <a:gdLst/>
            <a:ahLst/>
            <a:rect l="l" t="t" r="r" b="b"/>
            <a:pathLst>
              <a:path w="500063" h="428625">
                <a:moveTo>
                  <a:pt x="66283" y="88297"/>
                </a:moveTo>
                <a:lnTo>
                  <a:pt x="433780" y="88297"/>
                </a:lnTo>
                <a:lnTo>
                  <a:pt x="433780" y="189109"/>
                </a:lnTo>
                <a:lnTo>
                  <a:pt x="66283" y="189109"/>
                </a:lnTo>
                <a:lnTo>
                  <a:pt x="66283" y="88297"/>
                </a:lnTo>
                <a:close/>
                <a:moveTo>
                  <a:pt x="66283" y="239516"/>
                </a:moveTo>
                <a:lnTo>
                  <a:pt x="433780" y="239516"/>
                </a:lnTo>
                <a:lnTo>
                  <a:pt x="433780" y="340328"/>
                </a:lnTo>
                <a:lnTo>
                  <a:pt x="66283" y="340328"/>
                </a:lnTo>
                <a:lnTo>
                  <a:pt x="66283" y="239516"/>
                </a:lnTo>
                <a:close/>
              </a:path>
            </a:pathLst>
          </a:cu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3571920" y="5143680"/>
            <a:ext cx="214308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3429000" y="51436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8"/>
          <p:cNvSpPr/>
          <p:nvPr/>
        </p:nvSpPr>
        <p:spPr>
          <a:xfrm>
            <a:off x="6215040" y="5143680"/>
            <a:ext cx="250020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9"/>
          <p:cNvSpPr/>
          <p:nvPr/>
        </p:nvSpPr>
        <p:spPr>
          <a:xfrm>
            <a:off x="6143760" y="5143680"/>
            <a:ext cx="25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люс 10"/>
          <p:cNvSpPr/>
          <p:nvPr/>
        </p:nvSpPr>
        <p:spPr>
          <a:xfrm>
            <a:off x="5786280" y="5357880"/>
            <a:ext cx="357480" cy="357120"/>
          </a:xfrm>
          <a:custGeom>
            <a:avLst/>
            <a:gdLst/>
            <a:ahLst/>
            <a:rect l="l" t="t" r="r" b="b"/>
            <a:pathLst>
              <a:path w="357187" h="357187">
                <a:moveTo>
                  <a:pt x="47345" y="136588"/>
                </a:moveTo>
                <a:lnTo>
                  <a:pt x="136588" y="136588"/>
                </a:lnTo>
                <a:lnTo>
                  <a:pt x="136588" y="47345"/>
                </a:lnTo>
                <a:lnTo>
                  <a:pt x="220599" y="47345"/>
                </a:lnTo>
                <a:lnTo>
                  <a:pt x="220599" y="136588"/>
                </a:lnTo>
                <a:lnTo>
                  <a:pt x="309842" y="136588"/>
                </a:lnTo>
                <a:lnTo>
                  <a:pt x="309842" y="220599"/>
                </a:lnTo>
                <a:lnTo>
                  <a:pt x="220599" y="220599"/>
                </a:lnTo>
                <a:lnTo>
                  <a:pt x="220599" y="309842"/>
                </a:lnTo>
                <a:lnTo>
                  <a:pt x="136588" y="309842"/>
                </a:lnTo>
                <a:lnTo>
                  <a:pt x="136588" y="220599"/>
                </a:lnTo>
                <a:lnTo>
                  <a:pt x="47345" y="220599"/>
                </a:lnTo>
                <a:lnTo>
                  <a:pt x="47345" y="136588"/>
                </a:lnTo>
                <a:close/>
              </a:path>
            </a:pathLst>
          </a:cu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604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Book Antiqua"/>
              </a:rPr>
              <a:t>ТЕХНОЛОГИЯ УЧЕБНОГО ПРОЕКТИРОВАНИЯ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0" y="1052280"/>
            <a:ext cx="41148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учебного проекта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бор темы и участников проекта. 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проблемы проекта (мозговой штурм)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пределение задач, обозначение критериев оценки проекта 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амостоятельная работа над проектом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ащита и оппонирование проекта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0" y="1125000"/>
            <a:ext cx="450072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 проектов </a:t>
            </a:r>
            <a:r>
              <a:rPr b="0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 обучения, при которой учащиеся приобретают знания, умения и навыки, а также компетентности, компетенции и метапрофессиональные качества в процессе конструирования, планирования и выполнения постепенно усложняющихся практических заданий - проектов.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ХНОЛОГИЯ УЧЕБНОГО ПРОЕКТИРОВАНИЯ. КЛАССИФИКАЦИЯ УЧЕБНЫХ ПРОЕКТОВ</a:t>
            </a:r>
            <a:endParaRPr b="0" lang="en-US" sz="2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количеству учащихся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ндивидуальные, парные, группов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характеру поисковой деятельност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сследовательские, творческие, информацион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дисциплинарной сфере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нопредметные, межпредметные, надпредме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продолжительност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аткосрочные, среднесрочные, долгосроч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координаци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ямое или скрытое педагогическое управ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714640" y="1267920"/>
            <a:ext cx="3435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ормы презентации результата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фера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ворческая работа (концерт, выставка, спектакль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кл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атьи и тезисы,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сс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ендовый докл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зентация проек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коменда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ЗДОРОВЬЕСБЕРЕГАЮЩИЕ ТЕХНОЛОГИИ (ТИПЫ)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48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доровьесберегающие (профилактические прививки, обеспечение двигательной активности, витаминизация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рганизация здорового питан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здоровительные (физическая подготовка, физиотерапия, аромотерапия, закаливание, гимнастика, массаж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итотерапия, арттерап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и обучения здоровью (включение соответствующих тем в программу обучен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оспитание культуры здоровья (занятия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 развитию личности обучающихся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естивали, конкурсы и т.д.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128000" cy="569736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6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c000"/>
                </a:solidFill>
                <a:latin typeface="Book Antiqua"/>
              </a:rPr>
              <a:t>ИГРОВЫЕ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313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гровая технология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технология обучения, в основе которой лежит взаимосвязь имитационного моделирования и ролевого поведения участников игры в процессе решения учебных задач достаточно высокого уровня проблемности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419280" y="1557000"/>
            <a:ext cx="572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Этапы игровой технологии: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темы, целей, задач ИТ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структуры ИТ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готовка сценари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знакомление с исходной информацией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готовка учащихся к игре (анализ литературы, распределение ролевых функций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ведение игры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нализ результатов игры учащимис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ведение итогов игры педагогом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280" y="452520"/>
            <a:ext cx="860436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ИДЫ ПЕДАГОГИЧЕСКИХ ИГР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50560" y="15235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Century Gothic"/>
              </a:rPr>
              <a:t>   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характеру педагогического процесса: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учающие, тренировочные, контролирующие и обобщающ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знавательные, воспитательные, развивающие, социализирующ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продуктивные, продуктивные, творческ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оммуникативные, диагностические, профориентационные, психотехнические и др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игровой методике: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дметн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южетная ролев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митационн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елов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раматизаци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55640" y="3573360"/>
            <a:ext cx="81961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игровой сре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з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сто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мпью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 мес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чное обучения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уществляется на основе гибкой программы и состоит из последовательно выполняемых блоков, гарантирующих усвоение определенной тем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информационный блок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тестово-информационный блок (проверка усвоенного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коррекционно-информационный блок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проблемный блок (решение задач на основе полученных знаний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блок проверки и коррек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се темы повторяют вышеприведенную последовательност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ДУЛЬНОЕ ОБУЧЕ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ндивидуализированное самообучение, при котором используется учебная программа, составленная из модулей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дуль - это функциональный узел, в качестве которого выступает  программа обучения, индивидуализированная по выполняемой деятельности.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468360" y="765000"/>
            <a:ext cx="8280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представляет собой содержание курса в трех уровнях: полном, сокращенном, углубленн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выбирает для себя любой уровень. Содержание обучения представляется в законченных блоках; каждый ученик получает от педагога письменные рекомендации о том, как действовать, где искать нужный материал; обучающийся работает максимум времени самостоятельно, что дает ему возможность осознать себя в процессе  выполнения  деятель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модульного обучения состоит в том, что обучающийся самостоятельно достигает конкретных целей учебно-познавательной деятельности в процессе работы с модул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93400" y="1269360"/>
            <a:ext cx="74923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ЕДАГОГИЧЕСКИЕ ТЕХНОЛОГИИ В УДОД</a:t>
            </a:r>
            <a:endParaRPr b="0" lang="en-US" sz="4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3068280"/>
            <a:ext cx="8675640" cy="30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руктура,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лассификация,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характеристи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Book Antiqua"/>
              </a:rPr>
              <a:t>ТЕХНОЛОГИЯ «ДЕБАТЫ»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ормирует умения: Умение критически мыслить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тделить важную информацию от второстепенной. 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и вычленить проблему. 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причины и возможные последствия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факты и мнения 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эффективно решать проблемы. Умение оценивать доказательства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работать в команде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Book Antiqua"/>
              </a:rPr>
              <a:t>ТЕХНОЛОГИИ «ТРИЗ» </a:t>
            </a:r>
            <a:r>
              <a:rPr b="0" lang="ru-RU" sz="2400" spc="-1" strike="noStrike">
                <a:solidFill>
                  <a:srgbClr val="003399"/>
                </a:solidFill>
                <a:latin typeface="Book Antiqua"/>
              </a:rPr>
              <a:t>ТЕОРИЯ РЕШЕНИЯ ИЗОБРЕТАТЕЛЬСКИХ ЗАДАЧ. 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8000" y="155736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РИЗ - педагогика ставит целью формирование сильного мышления и воспитание творческой личности, подготовленной к решению сложных проблем в различных областях деятельности. Её отличие от известных средств проблемного обучения – в использовании мирового опыта, накопленного в области создания методов решения изобретательских задач. Конечно, этот опыт переработан и согласован с целями педагогики. Под методом решения изобретательских задач прежде всего подразумеваются приёмы и алгоритмы, разработанные в рамках ТРИЗ, а также такие зарубежные методы, как мозговой штурм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 Antiqua"/>
              </a:rPr>
              <a:t>ПОРТФОЛИО 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, ПОЗВОЛЯЮЩАЯ РЕШАТЬ ПРОБЛЕМУ ОБЪЕКТИВНОЙ ОЦЕНКИ РЕЗУЛЬТАТОВ ДЕЯТЕЛЬНОСТИ ПОРТФОЛИО – ТЕХНОЛОГИЯ ПЛАНИРОВАНИЯ ПРОФЕССИОНАЛЬНОЙ КАРЬЕРЫ И ДОСТИЖЕНИЙ, ТЕМАТИЧЕСКИЙ  ПРЕЗЕНТАЦИОННЫЙ, КОМПЛЕКСНЫЙ ТИПЫ ПОРТФОЛИО: ЭЛЕКТРОННЫЙ ПОРТФОЛИО ПАСПОРТ КОМПЕТЕНЦИЙ И КВАЛИФИКАЦИИ ЕВРОПЕЙСКИЙ ЯЗЫКОВОЙ ПОРТФОЛИО (ЕДИНЫЙ ЕВРОПЕЙСКИЙ ОБРАЗЕЦ, ПРИНЯТЫЙ СОВЕТОМ ЕВРОПЫ)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691920"/>
            <a:ext cx="82612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ТЕХНОЛОГИЯ РАЗВИТИЯ КРИТИЧЕСКОГО МЫШЛЕНИЯ.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итическое мышление – это способность анализировать информацию с позиции логики и личностно-ориентированного подхода с тем, чтобы применять полученные результаты, как к стандартам, так и нестандартным ситуациям, вопросам и проблемам. Критическое мышление 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261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Book Antiqua"/>
              </a:rPr>
              <a:t>КРИТЕРИИ ОЦЕНКИ РЕЗУЛЬТАТА В УСЛОВИЯХ ТЕХНОЛОГИИ РАЗВИТИЯ КРИТИЧЕСКОГО МЫШЛЕНИЯ УЧАЩИХСЯ.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новным критерием оценки результата является критичность мышления, которая может быть раскрыта через следующие показатели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ценка (Где ошибка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иагноз (В чём причина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амоконтроль (Каковы недостатки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итика (Согласны ли вы? Опровергните. Приведите контраргументы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гноз (Постройте прогноз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99"/>
                </a:solidFill>
                <a:latin typeface="Book Antiqua"/>
              </a:rPr>
              <a:t>ТЕХНОЛОГИЯ ИНТЕРАКТИВНОГО ОБУЧЕНИЯ. </a:t>
            </a:r>
            <a:br>
              <a:rPr sz="2500"/>
            </a:br>
            <a:r>
              <a:rPr b="1" lang="ru-RU" sz="2500" spc="-1" strike="noStrike">
                <a:solidFill>
                  <a:srgbClr val="003399"/>
                </a:solidFill>
                <a:latin typeface="Book Antiqua"/>
              </a:rPr>
              <a:t>ТЕХНОЛОГИЯ МОДЕРАЦИИ</a:t>
            </a:r>
            <a:br>
              <a:rPr sz="2500"/>
            </a:b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7521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дерация – это эффективная технология, которая позволяет значительно повысить результативность и качество образовательного процесса. Эффективность модерации определяется тем, что используемые приемы, методы и формы организации познавательной деятельности направлены на активизацию аналитической и рефлексивной деятельности обучающихся, развитие исследовательских и проектировочных умений, развитие коммуникативных способностей и навыков работы в команде. </a:t>
            </a:r>
            <a:br>
              <a:rPr sz="2300"/>
            </a:b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цесс совместной работы, организованный с помощью приемов и методов модерации способствует снятию барьеров общения, создает условия для развития творческого мышления и принятия нестандартных решений, формирует и развивает навыки совместной деятельности.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Объект 3" descr=""/>
          <p:cNvPicPr/>
          <p:nvPr/>
        </p:nvPicPr>
        <p:blipFill>
          <a:blip r:embed="rId1"/>
          <a:stretch/>
        </p:blipFill>
        <p:spPr>
          <a:xfrm>
            <a:off x="955800" y="404640"/>
            <a:ext cx="656892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6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АЯ ДЕЯТЕЛЬНОСТЬ МОЖЕТ БЫТЬ ЛИБО ТЕХНОЛОГИЕЙ, ЛИБО ИСКУССТВОМ. ИСКУССТВО ОСНОВАНО НА ИНТУИЦИИ, ТЕХНОЛОГИЯ - НА НАУКЕ. С ИСКУССТВА ВСЁ НАЧИНАЕТСЯ, ТЕХНОЛОГИЕЙ ЗАКАНЧИВАЕТСЯ, ЧТОБЫ ЗАТЕМ ВСЁ НАЧАЛОСЬ СНАЧАЛА.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ff00"/>
                </a:solidFill>
                <a:latin typeface="Book Antiqua"/>
              </a:rPr>
              <a:t>БЛАГОДАРЮ ЗА ВНИМАНИЕ!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25" name="Объект 8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920" y="457200"/>
            <a:ext cx="769176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 ДАЕТ ТЕХНОЛОГИЧЕСКИЙ ПОДХОД?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9640" y="1989000"/>
            <a:ext cx="38419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у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 определение конечной цел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ую цепочку педагогических действий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ость инструментария  диагностик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211640" y="1773000"/>
            <a:ext cx="4681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нику: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овлечение каждого в активный познавательный процесс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менение знаний на практике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ступ к необходимой информации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щение и сотрудничество не только с педагогом , но и со сверстниками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оянное испытание своих сил для преодоления возникающих проблем.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СНОВНЫЕ КАТЕГОРИИ И ПОНЯТ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79280" y="1699920"/>
            <a:ext cx="831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едагогическая  технология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онкретное, научно обоснованное, специальным образом организованное  обучение для достижения конкретной, реально выполнимой цели обучени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хнология  обучения –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пособ реализации содержания обучения, предусмотренного учебными программами, представляющий </a:t>
            </a:r>
            <a:r>
              <a:rPr b="0" lang="ru-RU" sz="2800" spc="-1" strike="noStrike" u="sng">
                <a:solidFill>
                  <a:srgbClr val="564b3c"/>
                </a:solidFill>
                <a:uFillTx/>
                <a:latin typeface="Times New Roman"/>
                <a:ea typeface="Times New Roman"/>
              </a:rPr>
              <a:t>систему форм, методов и средств обучения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, обеспечивающую наиболее эффективное достижение  проставленных целей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-360" y="2000160"/>
            <a:ext cx="9001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Научном</a:t>
            </a: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асть педагогической науки, изучающая и разрабатывающая цели, содержание и методы обучения и проектирующая педагогические процессы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оцессуальном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исание (алгоритм) процесса, совокупность целей, содержания, методов и средств достижения планируемых результатов обучения;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Деятельностном </a:t>
            </a: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уществление технологического (педагогического) процесса, функционирование всех личностных, инструментальных и методологических педагогических средств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468360" y="35712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 3-х аспекта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ТЕХНОЛОГИЧЕСКИЕ КОМПОНЕНТЫ УЧЕБНО-ВОСПИТАТЕЛЬНОГО ПРОЦЕСС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УДОД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организации обучения и воспитания –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нешняя сторона организации педагогического процесса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ы</a:t>
            </a:r>
            <a:r>
              <a:rPr b="0" lang="ru-RU" sz="26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(от греч. </a:t>
            </a:r>
            <a:r>
              <a:rPr b="0" lang="en-US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ethods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– путь, способ продвижения к истине) – упорядоченный способ взаимосвязанной деятельности педагога и учащихся по достижению определенных учебно-воспитательных целей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едства обучения и воспитания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источники получения знаний и формирования умений; различные орудия труда, предметы культуры, включенные в учебно-познавательную деятельность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604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Ы ОБУЧЕНИЯ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6" name="Схема 1" descr=""/>
          <p:cNvPicPr/>
          <p:nvPr/>
        </p:nvPicPr>
        <p:blipFill>
          <a:blip r:embed="rId1"/>
          <a:stretch/>
        </p:blipFill>
        <p:spPr>
          <a:xfrm>
            <a:off x="549360" y="2060640"/>
            <a:ext cx="82040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Схема 5" descr=""/>
          <p:cNvPicPr/>
          <p:nvPr/>
        </p:nvPicPr>
        <p:blipFill>
          <a:blip r:embed="rId1"/>
          <a:stretch/>
        </p:blipFill>
        <p:spPr>
          <a:xfrm>
            <a:off x="1474920" y="1627200"/>
            <a:ext cx="7053120" cy="40352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4"/>
          <p:cNvSpPr/>
          <p:nvPr/>
        </p:nvSpPr>
        <p:spPr>
          <a:xfrm>
            <a:off x="684360" y="27792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организации педагогического процесс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42:08Z</dcterms:created>
  <dc:creator>C2</dc:creator>
  <dc:description/>
  <dc:language>en-US</dc:language>
  <cp:lastModifiedBy>USER</cp:lastModifiedBy>
  <dcterms:modified xsi:type="dcterms:W3CDTF">2015-11-12T07:24:55Z</dcterms:modified>
  <cp:revision>130</cp:revision>
  <dc:subject/>
  <dc:title>Механические колебания</dc:title>
</cp:coreProperties>
</file>