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9E9-5B1E-4BB9-94D1-0CB11598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934-0E98-46FC-B8DF-FBD61687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63D-B561-486D-A4CF-A4E58040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A04-8AA0-40C2-B649-FCF1F529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8CE-0651-470F-9A1F-BFDEEA60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1A2-B46D-47C9-B8A0-A2FE75F8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483-E973-4FA6-83C6-6D36EEE9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F62-08DC-4417-B157-F2458177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928-6F88-4BE2-8609-A0ACB4B3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105-BEE5-4BA5-A4AC-22DC9CE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3AF-ED1A-4513-AAA8-D91FF738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C82-6309-4135-8032-04E66BBD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7083-1106-4E42-BA94-CC1301A72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рганизация  работы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етское объединение «Знай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уководитель Винник Е. 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9" descr="DSC02473.JPG"/>
          <p:cNvPicPr/>
          <p:nvPr/>
        </p:nvPicPr>
        <p:blipFill>
          <a:blip r:embed="rId1"/>
          <a:stretch/>
        </p:blipFill>
        <p:spPr>
          <a:xfrm>
            <a:off x="6778800" y="-6480"/>
            <a:ext cx="22320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и  рабо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ановление сотрудничества с родительским сообществом в деле обучения и воспитания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лечение интереса родителей к деятельности детского объедин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лочение взрослого и детского  коллект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работе с родителями предлагаются следующие фор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Проведение собраний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Самая распространённая форма работы. На собрании решаются общие вопросы, касающиеся режима работы д/о, организации досуга детей, знакомство с документацией, тематические лектории, дискуссии, создание родительского актива, привлечение родителей к участию в различных мероприятиях, благотворительная деятельность и др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Индивидуальная работа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Чаще всего это «разговоры по душам: решение личных проблем семьи, советы и помощь педагога, консультации и др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Открытые занятия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роводятся с целью популяризации знаний, умений, творческих способностей детей; знакомство с деятельностью детского коллектива и др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Отчётные занятия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роводятся с целью популяризации знаний, умений, творческих способностей детей и привлечения родителей к совместной проектно-творческой деятельност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Совместные экскурсии, праздник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(Проводятся с целью привлечения родителей к совместной деятельност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Вовлечение в проектную деятельн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работы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1571760"/>
            <a:ext cx="865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аглядно-иллюстратив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показ презентаций о работе детского объединения, презентация детских работ и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ловесны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беседы, дискуссии, обмен опытом и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оектны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знакомление с целями и задачами совместного проекта и работа в проект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Результаты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родительского комит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ие родителей в подготовке к конкурс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местное посещение музеев, теа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ие родителей  в мероприятиях (презентация семейных традиций, собственных увлечений, рассказ о своей профессии и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9:41:33Z</dcterms:created>
  <dc:creator>Admin</dc:creator>
  <dc:description/>
  <dc:language>en-US</dc:language>
  <cp:lastModifiedBy>админ</cp:lastModifiedBy>
  <dcterms:modified xsi:type="dcterms:W3CDTF">2016-03-22T16:35:12Z</dcterms:modified>
  <cp:revision>72</cp:revision>
  <dc:subject/>
  <dc:title>Организация  работы с родителями</dc:title>
</cp:coreProperties>
</file>