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E07-01B5-4509-A25A-82FC775B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CBA-B8F2-45B4-AA34-53A96918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326-BD3A-4D21-BFB1-5E0E4D6A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C74-E03F-4A9A-941A-AD364377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60B-3880-4F56-B685-132D8346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BC7-E2B8-46B2-B04A-E4011511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2E4-E4B5-47C4-9531-4B2C9D1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652-4952-4995-BE08-B9D5D301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FFB-659A-4ABB-B3D1-B9AC8779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0DF-2D0F-4E4D-9314-D2787BA5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10A-B5F7-4705-9A74-019CC5AD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7E0-70AF-4151-A9B3-66764363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A240-C3DC-48A0-99A2-9DB418BC3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рганизация  работы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етское объединение «Знай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уководитель Винник Е.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9" descr="DSC02473.JPG"/>
          <p:cNvPicPr/>
          <p:nvPr/>
        </p:nvPicPr>
        <p:blipFill>
          <a:blip r:embed="rId1"/>
          <a:stretch/>
        </p:blipFill>
        <p:spPr>
          <a:xfrm>
            <a:off x="6778800" y="-6480"/>
            <a:ext cx="22320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и  рабо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ановление сотрудничества с родительским сообществом в деле обучения и воспитания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ение интереса родителей к деятельности детского объедин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лочение взрослого и детского 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аботе с родителями предлагаются следующие фор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Проведение собраний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Самая распространённая форма работы. На собрании решаются общие вопросы, касающиеся режима работы д/о, организации досуга детей, знакомство с документацией, тематические лектории, дискуссии, создание родительского актива, привлечение родителей к участию в различных мероприятиях, благотворительная деятельность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Индивидуальная работа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Чаще всего это «разговоры по душам: решение личных проблем семьи, советы и помощь педагога, консультации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ткрытые занятия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роводятся с целью популяризации знаний, умений, творческих способностей детей; знакомство с деятельностью детского коллектива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тчётные занятия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роводятся с целью популяризации знаний, умений, творческих способностей детей и привлечения родителей к совместной проектно-творческой деятельност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Совместные экскурсии, праздник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(Проводятся с целью привлечения родителей к совместной деятельност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Вовлечение в проектную деятель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работы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1571760"/>
            <a:ext cx="865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аглядно-иллюстратив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показ презентаций о работе детского объединения, презентация детских работ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ловесн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беседы, дискуссии, обмен опытом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ектн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знакомление с целями и задачами совместного проекта и работа в проект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езультат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родительского комит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ие родителей в подготовке к конкурс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ое посещение музеев, теа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ие родителей  в мероприятиях (презентация семейных традиций, собственных увлечений, рассказ о своей профессии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9:41:33Z</dcterms:created>
  <dc:creator>Admin</dc:creator>
  <dc:description/>
  <dc:language>en-US</dc:language>
  <cp:lastModifiedBy>админ</cp:lastModifiedBy>
  <dcterms:modified xsi:type="dcterms:W3CDTF">2016-03-22T16:35:12Z</dcterms:modified>
  <cp:revision>72</cp:revision>
  <dc:subject/>
  <dc:title>Организация  работы с родителями</dc:title>
</cp:coreProperties>
</file>