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B5A-9AE3-4C67-8430-010069A5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A38-8E8A-40D9-BB15-09221B27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7E1-A796-4242-BF6A-9209E371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30C-2CAF-44C6-AC71-FE474E0C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8FB-4A39-45C1-8E1E-C6195AB6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30F-86EA-468C-8B6D-AC1F4942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EDB-8B00-4C7A-846B-5FD578D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2D4-6074-42C9-9FF2-48CADBDB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7EC-7B7E-4F96-96E1-27871EFA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CE1-1D7D-4117-BDF5-18F0ACC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4D2-3020-4119-AB00-0DCA6054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76E-017C-471A-9E91-BFAF1B4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4FD1-167F-44FC-B623-B4326E9CDF18}" type="slidenum"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836280"/>
            <a:ext cx="6553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Чередова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дного звука на другой или одной буквы на другую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 предел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дной морф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692360" y="115920"/>
            <a:ext cx="7272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 портфель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 пальто из гардероба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ёшь от погони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сь сквозь чащу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от испуга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от восторга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ь дверь ключом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ся ногами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ь постель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ся по земле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042560" y="836640"/>
            <a:ext cx="7201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ьничные – мельница – мельн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н//ц//к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ьничные – моло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//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уженные – буди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//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ами – толка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к//к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ами – выталкива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//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драгивали – вздрогну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//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ились – круг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//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р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ратьс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ерус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лс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05816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ередование букв 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//и 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корнях сл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692360" y="1628640"/>
            <a:ext cx="634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..ру портфель,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..раю пальто из гардероба,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116000" y="1484280"/>
            <a:ext cx="6551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..рёшь от погони,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..раюсь сквозь чащу,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332000" y="1341360"/>
            <a:ext cx="66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.р от испуга,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..рать от восторга,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332000" y="1052640"/>
            <a:ext cx="6048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..реть дверь ключом,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..раться ногами,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403280" y="1413000"/>
            <a:ext cx="60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..лть постель,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..латься по земле.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20:41:52Z</dcterms:created>
  <dc:creator>Смирнова</dc:creator>
  <dc:description/>
  <dc:language>en-US</dc:language>
  <cp:lastModifiedBy>Надежда</cp:lastModifiedBy>
  <dcterms:modified xsi:type="dcterms:W3CDTF">2016-03-29T07:54:27Z</dcterms:modified>
  <cp:revision>19</cp:revision>
  <dc:subject/>
  <dc:title>Чередование букв е//и в корнях</dc:title>
</cp:coreProperties>
</file>