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9B96-5D9E-4AA2-BB27-6D6962B16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A751-84E4-4AE1-BD19-5F962A14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7D4D-F1DE-4A5B-9B19-66835D301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7C3D-FA42-4BA6-A218-4A4AE5831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AA06-28C4-484D-A6BA-FCC58D8D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3AF3-4928-4A81-A6CB-DDC53277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CAEB-72C7-483A-9F4C-DEEBE755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D677-FF55-4EC6-8C56-5B2E9314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13AA-8CA1-461E-AE97-C60BC5C1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AC94-E205-4DC8-A4FB-FCEEB173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925E-7FFF-4C14-9273-1B1BE6B5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0098-AE9F-40A6-9D0F-1B742B1B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5A92-6CA1-42E8-AB5F-5DB15288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58AC-8547-4596-A63F-91D9CF0F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E4A2-7095-434C-8298-29762338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12185-7C75-4FBD-8506-1785F97AF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1BF3-CFB6-44CC-BADA-714C75CAD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CEED60-AF75-4037-8DB3-BBD6AB5C4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780E9D-B0B9-4852-89DD-D7FE259A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59AAD6-5526-48AA-A4EC-F009E013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D46106-6D28-44BE-9414-2F924A20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448B6B-0473-4031-943B-C0E09B92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D3BE-10B3-4C15-B29D-E20B8D99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0D67FC-5F2A-46F5-9023-D6E2F0A9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130ADC-3D54-492E-A131-6295EFDB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53E260-FCB0-4CE3-9310-E331E831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206179-D38A-4919-ACB0-B64E955D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BF4F80-F878-4029-B8AA-C0C66091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DD1F66-5D71-4E2E-88C2-6587E4E46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ECF3FF-FB4A-46E1-8413-43A24E665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14EBB-EE4D-42A9-8A0A-BBCEE0CA9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2BB5B-86D7-4572-B8CE-EFA9E754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5BC72-EEF7-424D-B169-AD1CAAAA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1DA8-3BAB-40B7-B16B-14EB94C5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E6F8F-7621-4DF2-A55F-8447C4D2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B6DBC-7819-4FE5-AF6B-0A896289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9D3C6-7B6A-429E-96A4-F89364EF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1C10C-91A6-425F-9B99-E672A476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21DB6-FA06-446B-B1D9-1FE32094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C6BB1-74C9-4F1A-9D81-04050E09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C93CA-2D23-4800-A9E7-DFB065FD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ED4C4-17A4-44F2-9637-435CC5970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3F881-9AE1-4165-B9F5-F37FC88A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DA71A8-EB29-4F5A-A9AE-6562F6160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C62C-4CFC-4BF3-BB1C-63501595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A91B5D-9AB2-4F3D-A277-5B71B898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6E5D78-D07E-42CA-80D7-EA1B7C45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B4BEB8-6A5F-4649-A6F2-BD8CDDE4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2898B2-7D9A-4758-96BD-6AE4AD5E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B5B016-C513-4FA7-850E-56673F51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9C6A2B-8814-4322-9759-93BF10A3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6B447B-F685-4222-9530-C3388282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EACD8C-F201-4388-A93F-2DFDA88E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0DFAF1-0FB8-4CAF-B096-7B0CFD5B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076314-C1B1-4F6F-AB11-4F574085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68B6-653E-418A-A63F-46DC33A7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79CA3D-25C3-434B-AB53-702157581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109A6A-098B-4785-BA84-048B4FD57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C872CB-86A7-4649-BEAA-3D8614A2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120815-6B9E-4DB2-943E-D754F85D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3734CB-C1B8-489C-8654-B0D6835A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CAE178-3142-4B80-B775-1822077C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1DBF92-9887-4597-A6CD-300EB3AD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86E255-F73E-414C-B637-CFD4F1D1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1168BB-6935-4B27-B247-B5905776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5D15F0-748C-4BB4-9368-BF3600FB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A420-8F71-4667-A7EE-73B759F4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C46812-CCEB-45E3-8542-A37C3575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711FC9-877C-42A0-AD18-C5F0B301B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907650-ECEF-4F4E-86D5-9F1F35B64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609375-4175-4070-B8D3-3F5C40E27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5864F2-A50C-4622-991C-11145B6E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8BB854-5A2F-4C2D-A59B-B492923E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23CA25-1464-481D-9329-67DCBBBB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12DCCF-D471-4028-9625-6E807739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459B58-8FA1-4F4F-9E42-8415E83B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1A0E8C-8853-43E4-BE02-9E6A696B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1642-7888-459B-A1C0-1CE48C6D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53B591-BC3F-4418-9533-9880EA5A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9FBCA9-5D1F-4BA8-8B4D-98DA645A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6C618B-9C26-4E78-9E77-AA12F439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8DE365-4005-48EC-8D25-639EF7F8E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C01C0B-8640-4B3C-91A7-743692005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661E-8F98-43CE-A3E4-DAA51B97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D2E4-4648-44BF-920D-1EF779C62CE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870D-E54C-4A64-814A-2764525F776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53F2-A9C2-451B-8C3F-C9841D4BD7B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3575-B519-41A4-87A9-90F3212D22B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39D1-D67C-41CF-8417-4E33BC1B88F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8638-FA19-407D-A2D0-21FD82BC5BF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F634-E8A4-4B35-9D15-082D76F31BD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60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75f6d"/>
                </a:solidFill>
                <a:latin typeface="Century Schoolbook"/>
              </a:rPr>
              <a:t>МАСТЕР-КЛАСС</a:t>
            </a:r>
            <a:br>
              <a:rPr sz="2200"/>
            </a:br>
            <a:r>
              <a:rPr b="1" lang="ru-RU" sz="2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«МЕТОДЫ И ПРИЕМЫ ФОРМИРОВАНИЯ САМОКОНТРОЛЯ И САМООЦЕНКИ НА УРОКАХ ИСТОРИИ»</a:t>
            </a:r>
            <a:br>
              <a:rPr sz="27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714400" y="3886200"/>
            <a:ext cx="5786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Доброгорская Елена Викторовна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стории и обществознания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й квалификационной категори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РИЕМЫ САМООЦЕНКИ</a:t>
            </a: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 «волшебные линеечки» ( изобретение оценочных шкал школьниками)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 «задания-ловушки» (готовые «ловушки» на рефлексию освоения способа действия)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 «составление заданий с ловушками» (определение или видение возможных ошибкоопасных мест или мест, имеющих разные варианты решений и т.п.)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7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АПЫ ФОРМИРОВАНИЯ НАВЫКОВ САМОКОНТРОЛЯ И САМООЦЕНКИ ОБРАЗОВАТЕЛЬНОЙ ДЕЯТЕЛЬНОСТИ ОБУЧАЮЩИХСЯ.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2428920"/>
            <a:ext cx="746748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й этап: Ученик должен научиться понимать и принимать контроль учител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й этап: Ученик должен научиться наблюдать и анализировать учебную деятельность своих товарищей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й этап: Ученик должен овладеть навыками и умениями самоконтроля и самооценки собственной учебной деятельност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АКТУАЛИЗАЦИЯ ЗНАНИЙ.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рассказ о князе, от имени человека жившего на Руси в Х веке. Должны быть использованы слова и выражения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стола помощника. Вспыльчивость, гневливость, мстительность, алчность, безжалостность к врагам, 862 г., 945 г., дважды за данью пришел, месть древлянам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столом помощником. Князь Олег захватил Киев убив…, Князь Игорь дважды пришел за данью…Княгиня Ольга убила 5000 древлян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говариваем критерии оценивания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. САМОСТОЯТЕЛЬНОЕ ПРИМЕНЕНИЕ НОВЫХ ЗНАНИЙ.</a:t>
            </a:r>
            <a:br>
              <a:rPr sz="32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е пропуски в текст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гибели в … году князя Святослава Киевом управлял ….. В 97? году разгорелась междоусобная война между Ярополком и его братьями Владимир заманил ….. на переговоры, где два варяга «подняли его мечами под пазухи». По летописи Владимир воцарился на киевском престоле в …. году. С именем великого князя Владимира Святославича связано выдающееся событие в истории нашей страны: принятие ……Которое произошло в ….. году, князь принял крещение в городе …..За добрые дела Владимира, народ назвал …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стола помощника./ Со столом помощнико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говариваем критерии оценивания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entury Schoolbook"/>
              </a:rPr>
              <a:t>ИУП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й учебный план.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РОМЕЖУТОЧНЫЕ РЕЗУЛЬТАТЫ: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457200" y="1600200"/>
          <a:ext cx="7467480" cy="4791240"/>
        </p:xfrm>
        <a:graphic>
          <a:graphicData uri="http://schemas.openxmlformats.org/drawingml/2006/table">
            <a:tbl>
              <a:tblPr/>
              <a:tblGrid>
                <a:gridCol w="1185840"/>
                <a:gridCol w="1500120"/>
                <a:gridCol w="398520"/>
                <a:gridCol w="398520"/>
                <a:gridCol w="398520"/>
                <a:gridCol w="398520"/>
                <a:gridCol w="398160"/>
                <a:gridCol w="398520"/>
                <a:gridCol w="398520"/>
                <a:gridCol w="398520"/>
                <a:gridCol w="398520"/>
                <a:gridCol w="398520"/>
                <a:gridCol w="398160"/>
                <a:gridCol w="398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Кол-во обучаю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Уровень сформированности ум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контролировать процесс и результат решения учебной задачи (в 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РОВЕНЬ СФОРМИРОВАННОСТИ УМЕНИЯ КОНТРОЛИРОВАТЬ  ПРОЦЕСС И РЕЗУЛЬТАТ РЕШЕНИЯ УЧЕБНОЙ ЗАДАЧИ (%</a:t>
            </a:r>
            <a:r>
              <a:rPr b="1" lang="ru-RU" sz="2500" spc="-1" strike="noStrike">
                <a:solidFill>
                  <a:srgbClr val="c00000"/>
                </a:solidFill>
                <a:latin typeface="Century Schoolbook"/>
              </a:rPr>
              <a:t>).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вод: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обучающихся 6 классов умеют контролировать процесс и результат решения учебной задачи на уровнях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ровня сформированности умения контролировать процесс и результат решения учебной задачи (в сравнении по полугодиям)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ышение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ровней сформированности умения контролировать процесс и результат решения учебной задачи  (в сравнении по полугодиям)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ьность по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равнении по полугодиям)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РОМЕЖУТОЧНЫЕ РЕЗУЛЬТАТ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285840" y="1000080"/>
          <a:ext cx="8115120" cy="5608800"/>
        </p:xfrm>
        <a:graphic>
          <a:graphicData uri="http://schemas.openxmlformats.org/drawingml/2006/table">
            <a:tbl>
              <a:tblPr/>
              <a:tblGrid>
                <a:gridCol w="1055520"/>
                <a:gridCol w="1319400"/>
                <a:gridCol w="479160"/>
                <a:gridCol w="478080"/>
                <a:gridCol w="477720"/>
                <a:gridCol w="479520"/>
                <a:gridCol w="477720"/>
                <a:gridCol w="477720"/>
                <a:gridCol w="479520"/>
                <a:gridCol w="478080"/>
                <a:gridCol w="477720"/>
                <a:gridCol w="477720"/>
                <a:gridCol w="479520"/>
                <a:gridCol w="4777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Кол-во обучаю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Уровень сформированности ум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оценить меру своего продвижения в решении учебной задачи (в 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РОВЕНЬ СФОРМИРОВАННОСТИ УМЕНИЯ ОЦЕНИТЬ МЕРУ СВОЕГО ПРОДВИЖЕНИЯ В РЕШЕНИИ УЧЕБНОЙ ЗАДАЧИ.</a:t>
            </a:r>
            <a:r>
              <a:rPr b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%</a:t>
            </a:r>
            <a:r>
              <a:rPr b="1" lang="ru-RU" sz="2500" spc="-1" strike="noStrike">
                <a:solidFill>
                  <a:srgbClr val="c00000"/>
                </a:solidFill>
                <a:latin typeface="Century Schoolbook"/>
              </a:rPr>
              <a:t>).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вод: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обучающихся 6 классов умеют оценить меру продвижения в  решении учебной задачи на уровнях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ровня сформированности умения оценить меру продвижения в  решении учебной задачи (в сравнении по полугодиям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ышени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ровней сформированности умения  оценить меру продвижения в  решении учебной задачи  (в сравнении по полугодиям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ФЛЕКСИЯ В ФОРМЕ СИНКВЕЙН</a:t>
            </a:r>
            <a:r>
              <a:rPr b="1" lang="ru-RU" sz="2700" spc="-1" strike="noStrike">
                <a:solidFill>
                  <a:srgbClr val="c00000"/>
                </a:solidFill>
                <a:latin typeface="Century Schoolbook"/>
              </a:rPr>
              <a:t>А: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285840" y="857160"/>
            <a:ext cx="840096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entury Schoolbook"/>
              </a:rPr>
              <a:t>Синквейн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 (от фр. </a:t>
            </a:r>
            <a:r>
              <a:rPr b="1" lang="ru-RU" sz="2300" spc="-1" strike="noStrike">
                <a:solidFill>
                  <a:srgbClr val="000000"/>
                </a:solidFill>
                <a:latin typeface="Century Schoolbook"/>
              </a:rPr>
              <a:t>cinquains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, англ. </a:t>
            </a:r>
            <a:r>
              <a:rPr b="1" lang="ru-RU" sz="2300" spc="-1" strike="noStrike">
                <a:solidFill>
                  <a:srgbClr val="000000"/>
                </a:solidFill>
                <a:latin typeface="Century Schoolbook"/>
              </a:rPr>
              <a:t>cinquain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) — это творческая работа, которая имеет короткую форму стихотворения, состоящего из пяти нерифмованных строк.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entury Schoolbook"/>
              </a:rPr>
              <a:t>Синквейн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 – это не простое стихотворение, а стихотворение, написанное по следующим правилам: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1 строка – одно существительное, выражающее главную тему cинквейна.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2 строка – два прилагательных, выражающих главную мысль.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3 строка – три глагола, описывающие действия в рамках темы.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4 строка – фраза, несущая определенный смысл.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5 строка – заключение в форме существительного (ассоциация с первым словом).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ольшое спасибо за работу!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ЦЕЛЬ МАСТЕР- КЛАССА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ить опыт собственной педагогической деятельности по формированию у обучающихся умений и навыков самоконтроля и самооц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к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ЗАДАЧИ МАСТЕР-КЛАССА</a:t>
            </a: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с основным методами и приемами формирования умений и навыков самоконтроля и самооценки обучающихся на уроках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ь приёмы организации деятельности обучающихся по самоконтролю и самооценки на разных этапах урока, на примере урока истории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удить педагогическую общественность к реализации контрольно- оценочной функции обучающихся в практике своих уроков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с методикой отслеживания уровня сформированности у обучающихся  навыков самоконтроля и самооценки собственной образовательной деятельн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ОБХОДИМОСТЬ ФОРМИРОВАНИЯ КОНТРОЛЬНО-ОЦЕНОЧНОЙ ДЕЯТЕЛЬНОСТИ ОБУЧАЮЩИХСЯ, НОРМАТИВНО ОПРЕДЕЛЕН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2356920"/>
            <a:ext cx="7257960" cy="41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едеральном государственном образовательном стандарте основного общего образован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ей программе по предмету в 5 классе ФГОС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6-9 классах ФК ГОС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entury Schoolbook"/>
              </a:rPr>
              <a:t>САМООЦЕНКА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 является одним из существенных условий, благодаря чему индивид становится личностью.  А.Н. Леонтьев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 является центральным, ядерным образованием личности, через призму которого так или иначе преломляются все линии личностного развития. Л.И.Божович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 – компонент деятельности, не связанный с выставлением себе отметок, а с процедурой оценивания, т.е. самостоятельное соотношение достигнутых результатов с планируемыми целями.  Якиманская И.С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ИТЕРИИ САМООЦЕНКИ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енные критер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енные характеристик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4" name="Прямая со стрелкой 5"/>
          <p:cNvCxnSpPr/>
          <p:nvPr/>
        </p:nvCxnSpPr>
        <p:spPr>
          <a:xfrm flipH="1">
            <a:off x="5643360" y="2499840"/>
            <a:ext cx="2160" cy="4294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5" name="Прямая со стрелкой 7"/>
          <p:cNvCxnSpPr/>
          <p:nvPr/>
        </p:nvCxnSpPr>
        <p:spPr>
          <a:xfrm flipH="1">
            <a:off x="6928560" y="2428920"/>
            <a:ext cx="2520" cy="16437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366" name="TextBox 10"/>
          <p:cNvSpPr/>
          <p:nvPr/>
        </p:nvSpPr>
        <p:spPr>
          <a:xfrm>
            <a:off x="4214880" y="3000240"/>
            <a:ext cx="200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одержанию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Прямая со стрелкой 12"/>
          <p:cNvCxnSpPr/>
          <p:nvPr/>
        </p:nvCxnSpPr>
        <p:spPr>
          <a:xfrm flipH="1">
            <a:off x="1142280" y="2500200"/>
            <a:ext cx="1080" cy="5724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368" name="TextBox 14"/>
          <p:cNvSpPr/>
          <p:nvPr/>
        </p:nvSpPr>
        <p:spPr>
          <a:xfrm>
            <a:off x="357120" y="314316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одержа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Прямая со стрелкой 16"/>
          <p:cNvCxnSpPr/>
          <p:nvPr/>
        </p:nvCxnSpPr>
        <p:spPr>
          <a:xfrm flipH="1">
            <a:off x="2712240" y="2285640"/>
            <a:ext cx="2520" cy="17168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370" name="TextBox 17"/>
          <p:cNvSpPr/>
          <p:nvPr/>
        </p:nvSpPr>
        <p:spPr>
          <a:xfrm>
            <a:off x="1714680" y="4214880"/>
            <a:ext cx="192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8"/>
          <p:cNvSpPr/>
          <p:nvPr/>
        </p:nvSpPr>
        <p:spPr>
          <a:xfrm>
            <a:off x="6720480" y="4214880"/>
            <a:ext cx="20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ИТЕРИИ САМООЦЕНКИ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214200" y="2571840"/>
          <a:ext cx="4040280" cy="3657600"/>
        </p:xfrm>
        <a:graphic>
          <a:graphicData uri="http://schemas.openxmlformats.org/drawingml/2006/table">
            <a:tbl>
              <a:tblPr/>
              <a:tblGrid>
                <a:gridCol w="2021040"/>
                <a:gridCol w="2019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о содержанию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о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02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знаю основные термин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знаю основные событ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умею формули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ть проблему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умею составлять алгоритм действ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4286160" y="1785960"/>
          <a:ext cx="4643640" cy="4489560"/>
        </p:xfrm>
        <a:graphic>
          <a:graphicData uri="http://schemas.openxmlformats.org/drawingml/2006/table">
            <a:tbl>
              <a:tblPr/>
              <a:tblGrid>
                <a:gridCol w="2714760"/>
                <a:gridCol w="1928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о содержанию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о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40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Бальная система (за каждый критерий 1-балл) max балл-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%-100%-отметка «5», и т.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Накопительная сист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ьный ответ: 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авильный ответ: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«5» - все верно (max) число «+»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еятельности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ю: 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ично владею:  +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ладею: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sp>
        <p:nvSpPr>
          <p:cNvPr id="375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чественные критери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674600" y="1103040"/>
            <a:ext cx="3980880" cy="5803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ичественные характеристики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37160"/>
            <a:ext cx="822960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ми методами и  приемами должен владеть учитель, чтобы помочь ребенку сформировать навыки самооценки и самоконтроля?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ы этапы формирования самооценки и самоконтроля?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ком этапе урока можно использовать приемы формирующие самооценку?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закрепить  и проверить сформированность данного УУД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Ы САМОКОНТРОЛЯ И САМООЦЕНКИ: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ПРОБЛЕМНЫЙ, МЕТОД ПРОЕКТОВ, ЧАСТИЧНО-ПОИСКОВЫЙ, «МОЗГОВОЙ ШТУРМ», ЭВРИСТИЧЕСКИЙ. 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риемы самоконтроля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рка с написанным образцом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рка с готовым ответом или выполненным заданием в учебнике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ллективное выполнение задания и коллективная проверка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бор нескольких способов выполнения задания и выбор самого рационального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амоконтроль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— это умение сопоставлять результат своего труда с эталоно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9T04:03:51Z</dcterms:created>
  <dc:creator>лена</dc:creator>
  <dc:description/>
  <dc:language>en-US</dc:language>
  <cp:lastModifiedBy>admin</cp:lastModifiedBy>
  <dcterms:modified xsi:type="dcterms:W3CDTF">2016-03-28T18:22:44Z</dcterms:modified>
  <cp:revision>39</cp:revision>
  <dc:subject/>
  <dc:title>МАСТЕР-КЛАСС «МЕТОДЫ И ПРИЕМЫ ФОРМИРОВАНИЯ САМОКОНТРОЛЯ И САМООЦЕНКИ НА УРОКАХ ИСТОРИИ»</dc:title>
</cp:coreProperties>
</file>