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0B28-28D9-4FAA-B48F-1B66D25D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43B3-4283-444D-8E17-C2E7436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60F7-10B0-406A-A021-98029F85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DA6B-7EF7-436F-99B4-6B55C838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6DCC-DC9F-468A-9B7D-0C618B6C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B9D7-1144-4361-A9E6-DB9E0791F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7CC9-D32A-46E5-9AD2-04027B26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F8A4-5D55-4805-9492-12E53D10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7329-4B57-45B5-9EC6-B6590E27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DAAF-1588-44FA-AE3F-B3967C52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C0D5-60A4-438E-9DD3-03486AAD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75C-53BD-43B4-B319-F1CF4812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0401-B936-42F9-A64D-16D6AB8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AB3F-FA95-48EE-B587-73FEB61D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852A-FD87-4983-9359-D10734AB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03B9-2945-454C-9ED0-66DCFCCA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0934-B5AB-434B-8A15-3724AC7F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48F4B1-D88D-4E72-82F5-67C7B6F7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35AFF-EF82-4516-AC80-06A04FD8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E679C-E192-4934-9DB2-024189A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E420C-4504-4552-9E9A-84D7ACB7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1137BE-FC55-442E-BC37-4061658F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E1B-43AA-4D2E-B580-255DE057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B7D2A7-FB51-4477-9183-D6CC5555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64CA9-127A-414D-BA55-3407F4DB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C5E9E-FA31-49A2-9325-569DDB97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A01C6E-9106-4312-B221-CC2B793B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B7A99-FA0D-4BC8-A90C-699FB881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998F5-1216-4B55-B45B-1C0F7811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9A8166-84F0-4F0D-9A5C-52483CB8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2F713-7859-49A3-BFF9-77D7A2F8E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9FE55-6D15-428B-A0F5-C0D124DB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1CF3F-3ABB-4DC8-8167-67BEE760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E6D-AC40-4CE4-8C48-5F9163E5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96FCD-57EA-4409-92C3-24CB160A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29DC-D4AD-4CC3-8E55-A0557A5C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6387E-554C-4EFC-A502-FBCB2DF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61F78-697F-464F-835B-AE06F889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7DB6-9301-4CA4-A70A-85CD1FBE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55E9-E7C9-4F36-B5D5-319183E1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CB00-E024-4DA2-9E47-D9FB5722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6826-8466-41B8-BAE5-293D43C7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7A84-B8B3-4B7B-B4C2-4626E977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C643C-E9E6-46E7-ABEF-5AA42ACB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6F8E-5748-41A4-A21D-A521576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41421-6B18-43F7-8319-737A3B81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E61250-CD98-4298-AE72-6AE44EFE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1D415E-644F-43C7-8DC4-5C6F9335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4580B2-A245-40B2-963B-A544837C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0A8E4C-24CF-4069-ABD5-37122A4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2B0FD9-B8C4-4D89-B7E2-55570836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B6B7C-09CF-4898-A1B3-0ABA5705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0BFC1F-7E8C-46DC-B0BC-C04A9F45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318E5-92A2-4279-A777-37D1EB58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C985EA-65F9-4117-9E0D-C047F4EF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C2CC-F367-405F-92DB-CC91EA9B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13576B-CB57-4017-992F-30D7B7B06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7E2051-D0A2-4925-B02C-3F3DFB04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EBB522-FE51-4D0B-92A1-1C93C8C9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029BF-31D3-4CB2-B912-752C7633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7CD72-6453-4696-9A4D-743DB567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4C279-5CB9-4A72-8FC1-775FD8FA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BBA644-EF43-4F5D-9144-AE163F8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6B5E6F-325A-4295-960B-B810ED4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68FA2-1C76-4BB6-B027-B7DEBFE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24E835-69EA-4ED5-8525-0045493F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C734-0A2D-4C44-8AA4-CC20A36C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7BA133-13D4-4E93-BD2B-755CE256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38BCDF-A9BC-4007-AE6D-3B0F6685C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F0ED48-3CD2-4A3A-B24B-3A1DB3F7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0641C4-CE1A-45DB-B3F2-89E8D138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135118-63CD-48DF-9DE5-61B2C72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769AFC-6362-45D6-B5E1-E3687E06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13E25-B01B-4515-8294-A6B39C40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768295-A3A9-424E-90A8-FD048D61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E0F74-2AC1-410C-AD9C-F454B3A0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CD9A60-D554-4BF1-99D6-00F08A3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91B-D6F9-4935-9DE8-F14368A3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D4514-4529-4904-967B-6DFB34BF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0C072-1A89-4109-B7E8-56A55223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C7A8AD-701A-44B8-A506-3456835A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6C7AC6-BD34-4A2B-BF27-ECFB43BF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BD1BA-D647-492B-B045-5C9FFB62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2E55-5270-4C8D-809C-46D76890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911F-E0C7-4FD5-94E6-59FC74EDB3F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5403-3360-4020-8867-79960112BBF7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7062-FAA3-4899-96D0-B3F053B4CCF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5785-5599-474F-99CB-6CD5C3C6C4E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CAB3-135A-4D4E-917E-5D76458E862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AC23-8C82-492F-89B9-02233213007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549F-F050-49F2-8E5D-94912A8FAC2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000080"/>
            <a:ext cx="8229600" cy="19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5f6d"/>
                </a:solidFill>
                <a:latin typeface="Century Schoolbook"/>
              </a:rPr>
              <a:t>МАСТЕР-КЛАСС</a:t>
            </a:r>
            <a:br>
              <a:rPr sz="2200"/>
            </a:br>
            <a:r>
              <a:rPr b="1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«МЕТОДЫ И ПРИЕМЫ ФОРМИРОВАНИЯ САМОКОНТРОЛЯ И САМООЦЕНКИ НА УРОКАХ ИСТОРИИ»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714400" y="3886200"/>
            <a:ext cx="5786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оброгорская Елена Викторовна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ЕМЫ САМООЦЕНКИ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волшебные линеечки» ( изобретение оценочных шкал школьниками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задания-ловушки» (готовые «ловушки» на рефлексию освоения способа действия)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 «составление заданий с ловушками» (определение или видение возможных ошибкоопасных мест или мест, имеющих разные варианты решений и т.п.)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7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ФОРМИРОВАНИЯ НАВЫКОВ САМОКОНТРОЛЯ И САМООЦЕНКИ ОБРАЗОВАТЕЛЬНОЙ ДЕЯТЕЛЬНОСТИ ОБУЧАЮЩИХСЯ.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2428920"/>
            <a:ext cx="746748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: Ученик должен научиться понимать и принимать контроль учител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: Ученик должен научиться наблюдать и анализировать учебную деятельность своих товарищей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: Ученик должен овладеть навыками и умениями самоконтроля и самооценки собственной учебной деятельности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АКТУАЛИЗАЦИЯ ЗНАНИЙ.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рассказ о князе, от имени человека жившего на Руси в Х веке. Должны быть использованы слова и выражени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ола помощника. Вспыльчивость, гневливость, мстительность, алчность, безжалостность к врагам, 862 г., 945 г., дважды за данью пришел, месть древлянам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лом помощником. Князь Олег захватил Киев убив…, Князь Игорь дважды пришел за данью…Княгиня Ольга убила 5000 древлян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овариваем критерии оценива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3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. САМОСТОЯТЕЛЬНОЕ ПРИМЕНЕНИЕ НОВЫХ ЗНАНИЙ.</a:t>
            </a:r>
            <a:br>
              <a:rPr sz="3200"/>
            </a:b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е пропуски в текс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гибели в … году князя Святослава Киевом управлял ….. В 97? году разгорелась междоусобная война между Ярополком и его братьями Владимир заманил ….. на переговоры, где два варяга «подняли его мечами под пазухи». По летописи Владимир воцарился на киевском престоле в …. году. С именем великого князя Владимира Святославича связано выдающееся событие в истории нашей страны: принятие ……Которое произошло в ….. году, князь принял крещение в городе …..За добрые дела Владимира, народ назвал 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тола помощника./ Со столом помощ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говариваем критерии оценивания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entury Schoolbook"/>
              </a:rPr>
              <a:t>ИУП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ый учебный план.</a:t>
            </a:r>
            <a:endParaRPr b="0" lang="en-US" sz="6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МЕЖУТОЧНЫЕ РЕЗУЛЬТАТЫ: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57200" y="1600200"/>
          <a:ext cx="7467480" cy="4791240"/>
        </p:xfrm>
        <a:graphic>
          <a:graphicData uri="http://schemas.openxmlformats.org/drawingml/2006/table">
            <a:tbl>
              <a:tblPr/>
              <a:tblGrid>
                <a:gridCol w="1185840"/>
                <a:gridCol w="1500120"/>
                <a:gridCol w="398520"/>
                <a:gridCol w="398520"/>
                <a:gridCol w="398520"/>
                <a:gridCol w="398520"/>
                <a:gridCol w="398160"/>
                <a:gridCol w="398520"/>
                <a:gridCol w="398520"/>
                <a:gridCol w="398520"/>
                <a:gridCol w="398520"/>
                <a:gridCol w="398520"/>
                <a:gridCol w="398160"/>
                <a:gridCol w="398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овень сформированности ум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нтролировать процесс и результат решения учебной задачи (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СФОРМИРОВАННОСТИ УМЕНИЯ КОНТРОЛИРОВАТЬ  ПРОЦЕСС И РЕЗУЛЬТАТ РЕШЕНИЯ УЧЕБНОЙ ЗАДАЧИ (%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)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обучающихся 6 классов умеют контролировать процесс и результат решения учебной задачи на уровнях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сформированности умения контролировать процесс и результат решения учебной задачи (в сравнении по полугодия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ей сформированности умения контролировать процесс и результат решения учебной задачи  (в сравнении по полугодиям);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ьность по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сравнении по полугодиям)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ОМЕЖУТОЧНЫЕ РЕЗУЛЬТА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85840" y="1000080"/>
          <a:ext cx="8115120" cy="5608800"/>
        </p:xfrm>
        <a:graphic>
          <a:graphicData uri="http://schemas.openxmlformats.org/drawingml/2006/table">
            <a:tbl>
              <a:tblPr/>
              <a:tblGrid>
                <a:gridCol w="1055520"/>
                <a:gridCol w="1319400"/>
                <a:gridCol w="479160"/>
                <a:gridCol w="478080"/>
                <a:gridCol w="477720"/>
                <a:gridCol w="479520"/>
                <a:gridCol w="477720"/>
                <a:gridCol w="477720"/>
                <a:gridCol w="479520"/>
                <a:gridCol w="478080"/>
                <a:gridCol w="477720"/>
                <a:gridCol w="477720"/>
                <a:gridCol w="479520"/>
                <a:gridCol w="477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лас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Кол-во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Уровень сформированности ум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ценить меру своего продвижения в решении учебной задачи (в 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ВЕНЬ СФОРМИРОВАННОСТИ УМЕНИЯ ОЦЕНИТЬ МЕРУ СВОЕГО ПРОДВИЖЕНИЯ В РЕШЕНИИ УЧЕБНОЙ ЗАДАЧИ.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%</a:t>
            </a:r>
            <a:r>
              <a:rPr b="1" lang="ru-RU" sz="2500" spc="-1" strike="noStrike">
                <a:solidFill>
                  <a:srgbClr val="c00000"/>
                </a:solidFill>
                <a:latin typeface="Century Schoolbook"/>
              </a:rPr>
              <a:t>).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: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ичество обучающихся 6 классов умеют оценить меру продвижения в  решении учебной задачи на уровнях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я сформированности умения оценить меру продвижения в  решении учебной задачи (в сравнении по полугодия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ышени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ровней сформированности умения  оценить меру продвижения в  решении учебной задачи  (в сравнении по полугодиям)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 В ФОРМЕ СИНКВЕЙН</a:t>
            </a:r>
            <a:r>
              <a:rPr b="1" lang="ru-RU" sz="2700" spc="-1" strike="noStrike">
                <a:solidFill>
                  <a:srgbClr val="c00000"/>
                </a:solidFill>
                <a:latin typeface="Century Schoolbook"/>
              </a:rPr>
              <a:t>А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85840" y="857160"/>
            <a:ext cx="8400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Синквейн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 (от фр. 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cinquains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, англ. </a:t>
            </a: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cinquain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) — это творческая работа, которая имеет короткую форму стихотворения, состоящего из пяти нерифмованных строк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entury Schoolbook"/>
              </a:rPr>
              <a:t>Синквейн</a:t>
            </a: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 – это не простое стихотворение, а стихотворение, написанное по следующим правилам: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1 строка – одно существительное, выражающее главную тему cинквейна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2 строка – два прилагательных, выражающих главную мысль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3 строка – три глагола, описывающие действия в рамках темы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4 строка – фраза, несущая определенный смысл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Schoolbook"/>
              </a:rPr>
              <a:t>5 строка – заключение в форме существительного (ассоциация с первым словом).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ольшое спасибо за работу!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ЦЕЛЬ МАСТЕР- КЛАССА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ь опыт собственной педагогической деятельности по формированию у обучающихся умений и навыков самоконтроля и самооце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АЧИ МАСТЕР-КЛАССА</a:t>
            </a: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основным методами и приемами формирования умений и навыков самоконтроля и самооценки обучающихся на урок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приёмы организации деятельности обучающихся по самоконтролю и самооценки на разных этапах урока, на примере урока истори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удить педагогическую общественность к реализации контрольно- оценочной функции обучающихся в практике своих уроков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с методикой отслеживания уровня сформированности у обучающихся  навыков самоконтроля и самооценки собственной образовательной деятель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ОБХОДИМОСТЬ ФОРМИРОВАНИЯ КОНТРОЛЬНО-ОЦЕНОЧНОЙ ДЕЯТЕЛЬНОСТИ ОБУЧАЮЩИХСЯ, НОРМАТИВНО ОПРЕДЕЛЕН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2356920"/>
            <a:ext cx="725796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едеральном государственном образовательном стандарте основного общего образования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ей программе по предмету в 5 классе ФГОС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6-9 классах ФК ГО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САМООЦЕНКА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является одним из существенных условий, благодаря чему индивид становится личностью.  А.Н. Леонтьев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является центральным, ядерным образованием личности, через призму которого так или иначе преломляются все линии личностного развития. Л.И.Божович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– компонент деятельности, не связанный с выставлением себе отметок, а с процедурой оценивания, т.е. самостоятельное соотношение достигнутых результатов с планируемыми целями.  Якиманская И.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САМООЦЕН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енные критери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270320" y="16002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характеристи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4" name="Прямая со стрелкой 5"/>
          <p:cNvCxnSpPr/>
          <p:nvPr/>
        </p:nvCxnSpPr>
        <p:spPr>
          <a:xfrm flipH="1">
            <a:off x="5643360" y="2499840"/>
            <a:ext cx="2160" cy="429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5" name="Прямая со стрелкой 7"/>
          <p:cNvCxnSpPr/>
          <p:nvPr/>
        </p:nvCxnSpPr>
        <p:spPr>
          <a:xfrm flipH="1">
            <a:off x="6928560" y="2428920"/>
            <a:ext cx="2520" cy="1643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6" name="TextBox 10"/>
          <p:cNvSpPr/>
          <p:nvPr/>
        </p:nvSpPr>
        <p:spPr>
          <a:xfrm>
            <a:off x="4214880" y="3000240"/>
            <a:ext cx="200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Прямая со стрелкой 12"/>
          <p:cNvCxnSpPr/>
          <p:nvPr/>
        </p:nvCxnSpPr>
        <p:spPr>
          <a:xfrm flipH="1">
            <a:off x="1142280" y="2500200"/>
            <a:ext cx="1080" cy="5724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68" name="TextBox 14"/>
          <p:cNvSpPr/>
          <p:nvPr/>
        </p:nvSpPr>
        <p:spPr>
          <a:xfrm>
            <a:off x="357120" y="314316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одерж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9" name="Прямая со стрелкой 16"/>
          <p:cNvCxnSpPr/>
          <p:nvPr/>
        </p:nvCxnSpPr>
        <p:spPr>
          <a:xfrm flipH="1">
            <a:off x="2712240" y="2285640"/>
            <a:ext cx="2520" cy="1716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TextBox 17"/>
          <p:cNvSpPr/>
          <p:nvPr/>
        </p:nvSpPr>
        <p:spPr>
          <a:xfrm>
            <a:off x="1714680" y="4214880"/>
            <a:ext cx="192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8"/>
          <p:cNvSpPr/>
          <p:nvPr/>
        </p:nvSpPr>
        <p:spPr>
          <a:xfrm>
            <a:off x="6720480" y="4214880"/>
            <a:ext cx="20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 САМООЦЕНКИ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14200" y="2571840"/>
          <a:ext cx="4040280" cy="3657600"/>
        </p:xfrm>
        <a:graphic>
          <a:graphicData uri="http://schemas.openxmlformats.org/drawingml/2006/table">
            <a:tbl>
              <a:tblPr/>
              <a:tblGrid>
                <a:gridCol w="2021040"/>
                <a:gridCol w="2019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содер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0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сновные термин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знаю основные событ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формули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ть проблем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умею составлять алгоритм действ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286160" y="1785960"/>
          <a:ext cx="4643640" cy="4489560"/>
        </p:xfrm>
        <a:graphic>
          <a:graphicData uri="http://schemas.openxmlformats.org/drawingml/2006/table">
            <a:tbl>
              <a:tblPr/>
              <a:tblGrid>
                <a:gridCol w="2714760"/>
                <a:gridCol w="1928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содержанию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 деятель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405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Бальная система (за каждый критерий 1-балл) max балл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%-100%-отметка «5», и т.д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Накопительная сист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ильный ответ: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ый ответ: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тка «5» - все верно (max) число «+»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деятельност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дею: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чно владею:  +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ладею: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 txBox="1"/>
          <p:nvPr/>
        </p:nvSpPr>
        <p:spPr>
          <a:xfrm>
            <a:off x="489240" y="1602000"/>
            <a:ext cx="3593520" cy="59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чественные критери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74600" y="1103040"/>
            <a:ext cx="3980880" cy="5803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ественные характеристики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3716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и методами и  приемами должен владеть учитель, чтобы помочь ребенку сформировать навыки самооценки и самоконтрол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ы этапы формирования самооценки и самоконтроля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ом этапе урока можно использовать приемы формирующие самооценку?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крепить  и проверить сформированность данного УУД?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ОДЫ САМОКОНТРОЛЯ И САМООЦЕНКИ: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575f6d"/>
                </a:solidFill>
                <a:latin typeface="Times New Roman"/>
                <a:ea typeface="Times New Roman"/>
              </a:rPr>
              <a:t>ПРОБЛЕМНЫЙ, МЕТОД ПРОЕКТОВ, ЧАСТИЧНО-ПОИСКОВЫЙ, «МОЗГОВОЙ ШТУРМ», ЭВРИСТИЧЕСКИЙ. 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емы самоконтроля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рка с написанным образц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ерка с готовым ответом или выполненным заданием в учебнике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ллективное выполнение задания и коллективная проверка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бор нескольких способов выполнения задания и выбор самого рационального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амоконтроль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— это умение сопоставлять результат своего труда с эталон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9T04:03:51Z</dcterms:created>
  <dc:creator>лена</dc:creator>
  <dc:description/>
  <dc:language>en-US</dc:language>
  <cp:lastModifiedBy>admin</cp:lastModifiedBy>
  <dcterms:modified xsi:type="dcterms:W3CDTF">2016-03-28T18:22:44Z</dcterms:modified>
  <cp:revision>39</cp:revision>
  <dc:subject/>
  <dc:title>МАСТЕР-КЛАСС «МЕТОДЫ И ПРИЕМЫ ФОРМИРОВАНИЯ САМОКОНТРОЛЯ И САМООЦЕНКИ НА УРОКАХ ИСТОРИИ»</dc:title>
</cp:coreProperties>
</file>