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3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D47-BD30-4A3E-82F9-E669D801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68BD-BD20-4D73-9150-08782B97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AE2-370C-4379-936C-D510AC17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878-C63F-46C7-AF50-05C5A66E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00FA-6311-4990-B670-E9DF7295F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022F-75EB-474D-A997-64EBD4B7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E2E1-4D90-4E63-B4B2-81EF3E1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01D9-B2C1-45AB-BE87-2F8C9E0F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58E-CC83-45C1-A6CD-6ED1CB8A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619-783F-4DBD-A702-DC074126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D4C-B78E-4FAF-A5E2-91B2DA34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E085-5667-453D-B93A-8F3BB3AC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0B7D-8D86-463E-AC04-A3ACBC74A2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777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597a0"/>
                </a:solidFill>
                <a:latin typeface="Times New Roman"/>
              </a:rPr>
              <a:t>МБОУ «Розентальская ООШ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5840" y="3284280"/>
            <a:ext cx="52228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а: ученица 8 клас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оманенко Анаста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: Жилина И.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1932480"/>
            <a:ext cx="52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724040"/>
                <a:tab algn="l" pos="2104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Физика  на кухне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C:\Users\Admin\Desktop\фото Настя\опыт 1,6\B612_20160119_130340.jpg"/>
          <p:cNvPicPr/>
          <p:nvPr/>
        </p:nvPicPr>
        <p:blipFill>
          <a:blip r:embed="rId1"/>
          <a:stretch/>
        </p:blipFill>
        <p:spPr>
          <a:xfrm>
            <a:off x="5867280" y="1989000"/>
            <a:ext cx="23130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597a0"/>
                </a:solidFill>
                <a:latin typeface="Times New Roman"/>
              </a:rPr>
              <a:t>Сила Архимеда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96640"/>
            <a:ext cx="5194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70c0"/>
                </a:solidFill>
                <a:latin typeface="Times New Roman"/>
              </a:rPr>
              <a:t>Так как плотность воды меньше плотности картофеля, то картофель тонет и всегда лежит на дне стакана. Если добавить соли в воду, то плотность воды увеличивается и картофелина плавает внутри жидкости. Раствор соли в воде должен быть такой крепости,  что бы погруженный в  него картофель вытеснял ровно столько рассола, сколько картофель весит. Можно приготовить такой густой раствор соли в воде, что картофель будет легче,  вытесняемого им рассола. Тогда – по закону плавания, открытому  ещё в древности  Архимедом, - картофелина в такой воде будет  всплывать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C:\Users\Admin\Desktop\фото Настя\опыт 14\DSCN3082.JPG"/>
          <p:cNvPicPr/>
          <p:nvPr/>
        </p:nvPicPr>
        <p:blipFill>
          <a:blip r:embed="rId1"/>
          <a:stretch/>
        </p:blipFill>
        <p:spPr>
          <a:xfrm>
            <a:off x="5651640" y="1413000"/>
            <a:ext cx="2736720" cy="2016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5867280" y="3700440"/>
            <a:ext cx="266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о закону Архимеда на тело находящееся в воде действует сила выталкивания. Она зависит от плотности жидк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2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597a0"/>
                </a:solidFill>
                <a:latin typeface="Times New Roman"/>
              </a:rPr>
              <a:t>Вредные воздействия на организм человека, встречающиеся на кухн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268280"/>
            <a:ext cx="836280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6b6bcf"/>
                </a:solidFill>
                <a:latin typeface="Times New Roman"/>
              </a:rPr>
              <a:t>На кухне нас окружает много техники, вещей, разнообразной посуды, и я решила узнать влияет ли бытовая   техника и материалы, используемые на кухне  на мое  здоровье и здоровье моих близких. Для этого я провела опрос среди учеников и педагог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1"/>
          <a:stretch/>
        </p:blipFill>
        <p:spPr>
          <a:xfrm>
            <a:off x="684360" y="3489480"/>
            <a:ext cx="3970080" cy="25286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2"/>
          <a:stretch/>
        </p:blipFill>
        <p:spPr>
          <a:xfrm>
            <a:off x="4932360" y="3505320"/>
            <a:ext cx="3386160" cy="21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Объект 1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84004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3576600" y="309600"/>
            <a:ext cx="2598840" cy="225576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3"/>
          <a:stretch/>
        </p:blipFill>
        <p:spPr>
          <a:xfrm>
            <a:off x="6588000" y="314280"/>
            <a:ext cx="2271960" cy="22510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4"/>
          <a:stretch/>
        </p:blipFill>
        <p:spPr>
          <a:xfrm>
            <a:off x="324000" y="3357720"/>
            <a:ext cx="2840040" cy="23079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5"/>
          <a:stretch/>
        </p:blipFill>
        <p:spPr>
          <a:xfrm>
            <a:off x="3576600" y="3357720"/>
            <a:ext cx="2598840" cy="23079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"/>
          <p:cNvPicPr/>
          <p:nvPr/>
        </p:nvPicPr>
        <p:blipFill>
          <a:blip r:embed="rId6"/>
          <a:stretch/>
        </p:blipFill>
        <p:spPr>
          <a:xfrm>
            <a:off x="6588000" y="3357720"/>
            <a:ext cx="242424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97a0"/>
                </a:solidFill>
                <a:latin typeface="Times New Roman"/>
              </a:rPr>
              <a:t>Результаты опрос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052280"/>
            <a:ext cx="80024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ы опроса показали, что  предпочтение отдается таким бытовым предметам, без которых мы просто не представляем современную кухню. В XXI веке человек не может обходиться без бытовой техники  и всегда использует электробытовые приборы. В современной жизни люди отдают предпочтение натуральным материалам, таким как дерево. Для отделки стен люди, в большинстве используют обои. Большинство не имеют  кондиционеры и вытяжные шкафы для очистки воздуха, которые очень важны и  нужны. Многие  не имеют на кухне комнатные растения, что не  благотворно влияет , как  для газообмена, так и для ую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5280" y="476280"/>
            <a:ext cx="5689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Вывод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в экспериментировать,  я и не предполагала, что столько интересных явлений и  законов можно открыть у себя на кухне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водимые мной домашние эксперименты  повысили интерес к изучению предмета.  Я сумела заинтересовать своих одноклассников в открытых мною явлениях на кухн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ю были проведены 8 опытов. В результате наблюдения, сравнения, вычислений, измерений,  экспериментов я пронаблюдала следующие явления и закон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тественная и вынужденная конвекция, испарение, теплопроводность, излучение, мощность, кипение, нагревание, плотность, диффузия, отталкивание, сила Архимеда, конвекция, инерция, закон Паскаля, атмосферное давление, нагревание, кипение, парообразование, влажность воздуха, свойства жидких и твердых тел, определение массы при помощи весов, преобразование электрической энергии в механическую, движение тела по окружности, звуковые колебания, тепловое расширение тел, механическая работа, трение, скольжение, вес те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ая работа пополнила мой багаж знаний, и я довольна результатом своей работ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льман Я.И. Занимательная физика. М.: Наука, 19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ельман Я.И.Физическая смекалка. М.: Омега, 199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сурсы Интерн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www.wikipedia.or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kin52.narod.ru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mclass.ru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voprosy-kak-i-pochemu.ru/pochemu-puzyri-kruglye/#ixzz2Lipx40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явлений, встречающихся на кух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18828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грев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Стрелка вниз 8"/>
          <p:cNvSpPr/>
          <p:nvPr/>
        </p:nvSpPr>
        <p:spPr>
          <a:xfrm>
            <a:off x="1835280" y="1268280"/>
            <a:ext cx="144360" cy="432000"/>
          </a:xfrm>
          <a:prstGeom prst="downArrow">
            <a:avLst>
              <a:gd name="adj1" fmla="val 50000"/>
              <a:gd name="adj2" fmla="val 5005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Стрелка вниз 9"/>
          <p:cNvSpPr/>
          <p:nvPr/>
        </p:nvSpPr>
        <p:spPr>
          <a:xfrm>
            <a:off x="3924360" y="1268280"/>
            <a:ext cx="142920" cy="5050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Стрелка вниз 10"/>
          <p:cNvSpPr/>
          <p:nvPr/>
        </p:nvSpPr>
        <p:spPr>
          <a:xfrm>
            <a:off x="5364000" y="1268280"/>
            <a:ext cx="144720" cy="576360"/>
          </a:xfrm>
          <a:prstGeom prst="downArrow">
            <a:avLst>
              <a:gd name="adj1" fmla="val 50000"/>
              <a:gd name="adj2" fmla="val 499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Стрелка вниз 11"/>
          <p:cNvSpPr/>
          <p:nvPr/>
        </p:nvSpPr>
        <p:spPr>
          <a:xfrm>
            <a:off x="7596360" y="1341360"/>
            <a:ext cx="144360" cy="71928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Объект 2"/>
          <p:cNvSpPr/>
          <p:nvPr/>
        </p:nvSpPr>
        <p:spPr>
          <a:xfrm>
            <a:off x="2916360" y="1752480"/>
            <a:ext cx="180000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век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Объект 2"/>
          <p:cNvSpPr/>
          <p:nvPr/>
        </p:nvSpPr>
        <p:spPr>
          <a:xfrm>
            <a:off x="4643280" y="1773360"/>
            <a:ext cx="20163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мперату́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Объект 2"/>
          <p:cNvSpPr/>
          <p:nvPr/>
        </p:nvSpPr>
        <p:spPr>
          <a:xfrm>
            <a:off x="6948360" y="1989000"/>
            <a:ext cx="17272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́щ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Выгнутая влево стрелка 15"/>
          <p:cNvSpPr/>
          <p:nvPr/>
        </p:nvSpPr>
        <p:spPr>
          <a:xfrm>
            <a:off x="2340000" y="1341360"/>
            <a:ext cx="503280" cy="1216080"/>
          </a:xfrm>
          <a:custGeom>
            <a:avLst/>
            <a:gdLst>
              <a:gd name="textAreaLeft" fmla="*/ 67320 w 503280"/>
              <a:gd name="textAreaRight" fmla="*/ 435960 w 503280"/>
              <a:gd name="textAreaTop" fmla="*/ 256680 h 1216080"/>
              <a:gd name="textAreaBottom" fmla="*/ 8964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4" stAng="-5400000" swAng="-5400000"/>
                <a:lnTo>
                  <a:pt x="0" y="11359"/>
                </a:lnTo>
                <a:arcTo wR="21600" hR="9124" stAng="10800000" swAng="-3513864"/>
                <a:lnTo>
                  <a:pt x="16200" y="21310"/>
                </a:lnTo>
                <a:lnTo>
                  <a:pt x="21600" y="19366"/>
                </a:lnTo>
                <a:lnTo>
                  <a:pt x="16200" y="16841"/>
                </a:lnTo>
                <a:lnTo>
                  <a:pt x="16200" y="17958"/>
                </a:lnTo>
                <a:arcTo wR="21600" hR="9124" stAng="7286136" swAng="3334822"/>
                <a:lnTo>
                  <a:pt x="163" y="10241"/>
                </a:lnTo>
                <a:arcTo wR="21600" hR="9124" stAng="-10620957" swAng="5220957"/>
                <a:close/>
              </a:path>
              <a:path fill="darkenLess" w="21600" h="21600">
                <a:moveTo>
                  <a:pt x="21600" y="0"/>
                </a:moveTo>
                <a:arcTo wR="21600" hR="9124" stAng="-5400000" swAng="-5400000"/>
                <a:lnTo>
                  <a:pt x="0" y="9124"/>
                </a:lnTo>
                <a:arcTo wR="21600" hR="9124" stAng="10800000" swAng="-179043"/>
                <a:lnTo>
                  <a:pt x="163" y="10241"/>
                </a:lnTo>
                <a:arcTo wR="21600" hR="9124" stAng="-10620957" swAng="522095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2700360" y="2492280"/>
            <a:ext cx="194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вое 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5219640" y="263700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о́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18"/>
          <p:cNvSpPr/>
          <p:nvPr/>
        </p:nvSpPr>
        <p:spPr>
          <a:xfrm>
            <a:off x="4108320" y="3429000"/>
            <a:ext cx="15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ъё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Выгнутая вправо стрелка 19"/>
          <p:cNvSpPr/>
          <p:nvPr/>
        </p:nvSpPr>
        <p:spPr>
          <a:xfrm>
            <a:off x="6516720" y="1341360"/>
            <a:ext cx="576360" cy="1366920"/>
          </a:xfrm>
          <a:custGeom>
            <a:avLst/>
            <a:gdLst>
              <a:gd name="textAreaLeft" fmla="*/ 77040 w 576360"/>
              <a:gd name="textAreaRight" fmla="*/ 499320 w 576360"/>
              <a:gd name="textAreaTop" fmla="*/ 287640 h 1366920"/>
              <a:gd name="textAreaBottom" fmla="*/ 1007280 h 136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093" stAng="-5400000" swAng="5400000"/>
                <a:lnTo>
                  <a:pt x="21600" y="11370"/>
                </a:lnTo>
                <a:arcTo wR="21600" hR="9093" stAng="0" swAng="3508570"/>
                <a:lnTo>
                  <a:pt x="5400" y="21311"/>
                </a:lnTo>
                <a:lnTo>
                  <a:pt x="0" y="19324"/>
                </a:lnTo>
                <a:lnTo>
                  <a:pt x="5400" y="16758"/>
                </a:lnTo>
                <a:lnTo>
                  <a:pt x="5400" y="17896"/>
                </a:lnTo>
                <a:arcTo wR="21600" hR="9093" stAng="3508570" swAng="-3326106"/>
                <a:lnTo>
                  <a:pt x="21430" y="10231"/>
                </a:lnTo>
                <a:arcTo wR="21600" hR="9093" stAng="-182464" swAng="-5217536"/>
                <a:close/>
              </a:path>
              <a:path fill="darkenLess" w="21600" h="21600">
                <a:moveTo>
                  <a:pt x="0" y="0"/>
                </a:moveTo>
                <a:arcTo wR="21600" hR="9093" stAng="-5400000" swAng="5400000"/>
                <a:lnTo>
                  <a:pt x="21600" y="11370"/>
                </a:lnTo>
                <a:arcTo wR="21600" hR="9093" stAng="0" swAng="-182464"/>
                <a:lnTo>
                  <a:pt x="21430" y="10231"/>
                </a:lnTo>
                <a:arcTo wR="21600" hR="9093" stAng="-182464" swAng="-5217536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2"/>
          <p:cNvSpPr/>
          <p:nvPr/>
        </p:nvSpPr>
        <p:spPr>
          <a:xfrm>
            <a:off x="539640" y="2565360"/>
            <a:ext cx="10796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́сс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3"/>
          <p:cNvSpPr/>
          <p:nvPr/>
        </p:nvSpPr>
        <p:spPr>
          <a:xfrm>
            <a:off x="5867280" y="32446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плопрово́д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Стрелка вниз 24"/>
          <p:cNvSpPr/>
          <p:nvPr/>
        </p:nvSpPr>
        <p:spPr>
          <a:xfrm>
            <a:off x="7667640" y="2565360"/>
            <a:ext cx="144360" cy="71928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Стрелка вниз 25"/>
          <p:cNvSpPr/>
          <p:nvPr/>
        </p:nvSpPr>
        <p:spPr>
          <a:xfrm>
            <a:off x="4500720" y="1989000"/>
            <a:ext cx="215640" cy="1511280"/>
          </a:xfrm>
          <a:prstGeom prst="downArrow">
            <a:avLst>
              <a:gd name="adj1" fmla="val 50000"/>
              <a:gd name="adj2" fmla="val 50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1476360" y="342900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а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трелка вниз 22"/>
          <p:cNvSpPr/>
          <p:nvPr/>
        </p:nvSpPr>
        <p:spPr>
          <a:xfrm>
            <a:off x="1908000" y="2276640"/>
            <a:ext cx="142920" cy="9792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23"/>
          <p:cNvSpPr/>
          <p:nvPr/>
        </p:nvSpPr>
        <p:spPr>
          <a:xfrm flipH="1">
            <a:off x="970920" y="2060640"/>
            <a:ext cx="144360" cy="504720"/>
          </a:xfrm>
          <a:prstGeom prst="down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26"/>
          <p:cNvSpPr/>
          <p:nvPr/>
        </p:nvSpPr>
        <p:spPr>
          <a:xfrm>
            <a:off x="1332000" y="4076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денс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трелка вниз 27"/>
          <p:cNvSpPr/>
          <p:nvPr/>
        </p:nvSpPr>
        <p:spPr>
          <a:xfrm>
            <a:off x="2195640" y="3860640"/>
            <a:ext cx="144360" cy="289080"/>
          </a:xfrm>
          <a:prstGeom prst="downArrow">
            <a:avLst>
              <a:gd name="adj1" fmla="val 50000"/>
              <a:gd name="adj2" fmla="val 500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28"/>
          <p:cNvSpPr/>
          <p:nvPr/>
        </p:nvSpPr>
        <p:spPr>
          <a:xfrm>
            <a:off x="4932360" y="38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ер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Стрелка вниз 29"/>
          <p:cNvSpPr/>
          <p:nvPr/>
        </p:nvSpPr>
        <p:spPr>
          <a:xfrm>
            <a:off x="5580000" y="3068640"/>
            <a:ext cx="71640" cy="835200"/>
          </a:xfrm>
          <a:prstGeom prst="downArrow">
            <a:avLst>
              <a:gd name="adj1" fmla="val 50000"/>
              <a:gd name="adj2" fmla="val 498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0"/>
          <p:cNvSpPr/>
          <p:nvPr/>
        </p:nvSpPr>
        <p:spPr>
          <a:xfrm>
            <a:off x="3203640" y="443700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кон Паскал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Выгнутая влево стрелка 31"/>
          <p:cNvSpPr/>
          <p:nvPr/>
        </p:nvSpPr>
        <p:spPr>
          <a:xfrm>
            <a:off x="3492360" y="3213000"/>
            <a:ext cx="371520" cy="1216080"/>
          </a:xfrm>
          <a:custGeom>
            <a:avLst/>
            <a:gdLst>
              <a:gd name="textAreaLeft" fmla="*/ 49680 w 371520"/>
              <a:gd name="textAreaRight" fmla="*/ 321840 w 371520"/>
              <a:gd name="textAreaTop" fmla="*/ 268920 h 1216080"/>
              <a:gd name="textAreaBottom" fmla="*/ 90036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63" stAng="-5400000" swAng="-5400000"/>
                <a:lnTo>
                  <a:pt x="0" y="11212"/>
                </a:lnTo>
                <a:arcTo wR="21600" hR="9563" stAng="10800000" swAng="-3584968"/>
                <a:lnTo>
                  <a:pt x="16200" y="21296"/>
                </a:lnTo>
                <a:lnTo>
                  <a:pt x="21600" y="19951"/>
                </a:lnTo>
                <a:lnTo>
                  <a:pt x="16200" y="17997"/>
                </a:lnTo>
                <a:lnTo>
                  <a:pt x="16200" y="18822"/>
                </a:lnTo>
                <a:arcTo wR="21600" hR="9563" stAng="7215032" swAng="3453319"/>
                <a:lnTo>
                  <a:pt x="80" y="10388"/>
                </a:lnTo>
                <a:arcTo wR="21600" hR="9563" stAng="-10668351" swAng="5268351"/>
                <a:close/>
              </a:path>
              <a:path fill="darkenLess" w="21600" h="21600">
                <a:moveTo>
                  <a:pt x="21600" y="0"/>
                </a:moveTo>
                <a:arcTo wR="21600" hR="9563" stAng="-5400000" swAng="-5400000"/>
                <a:lnTo>
                  <a:pt x="0" y="9563"/>
                </a:lnTo>
                <a:arcTo wR="21600" hR="9563" stAng="10800000" swAng="-131649"/>
                <a:lnTo>
                  <a:pt x="80" y="10388"/>
                </a:lnTo>
                <a:arcTo wR="21600" hR="9563" stAng="-10668351" swAng="526835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32"/>
          <p:cNvSpPr/>
          <p:nvPr/>
        </p:nvSpPr>
        <p:spPr>
          <a:xfrm>
            <a:off x="5292720" y="450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лажност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здух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Выгнутая вправо стрелка 33"/>
          <p:cNvSpPr/>
          <p:nvPr/>
        </p:nvSpPr>
        <p:spPr>
          <a:xfrm>
            <a:off x="7451640" y="3573360"/>
            <a:ext cx="216000" cy="1079640"/>
          </a:xfrm>
          <a:custGeom>
            <a:avLst/>
            <a:gdLst>
              <a:gd name="textAreaLeft" fmla="*/ 28800 w 216000"/>
              <a:gd name="textAreaRight" fmla="*/ 187200 w 216000"/>
              <a:gd name="textAreaTop" fmla="*/ 243000 h 1079640"/>
              <a:gd name="textAreaBottom" fmla="*/ 837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20" stAng="-5400000" swAng="5400000"/>
                <a:lnTo>
                  <a:pt x="21600" y="11880"/>
                </a:lnTo>
                <a:arcTo wR="21600" hR="9720" stAng="0" swAng="3609232"/>
                <a:lnTo>
                  <a:pt x="5400" y="21291"/>
                </a:lnTo>
                <a:lnTo>
                  <a:pt x="0" y="20520"/>
                </a:lnTo>
                <a:lnTo>
                  <a:pt x="5400" y="19131"/>
                </a:lnTo>
                <a:lnTo>
                  <a:pt x="5400" y="19131"/>
                </a:lnTo>
                <a:arcTo wR="21600" hR="9720" stAng="3609232" swAng="-3436419"/>
                <a:lnTo>
                  <a:pt x="21466" y="10800"/>
                </a:lnTo>
                <a:arcTo wR="21600" hR="9720" stAng="-172813" swAng="-5227187"/>
                <a:close/>
              </a:path>
              <a:path fill="darkenLess" w="21600" h="21600">
                <a:moveTo>
                  <a:pt x="0" y="0"/>
                </a:moveTo>
                <a:arcTo wR="21600" hR="9720" stAng="-5400000" swAng="5400000"/>
                <a:lnTo>
                  <a:pt x="21600" y="11880"/>
                </a:lnTo>
                <a:arcTo wR="21600" hR="9720" stAng="0" swAng="-172813"/>
                <a:lnTo>
                  <a:pt x="21466" y="10800"/>
                </a:lnTo>
                <a:arcTo wR="21600" hR="9720" stAng="-172813" swAng="-5227187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4211640" y="550188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ыщенный раст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611280" y="562464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мосферное дав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Стрелка вниз 32"/>
          <p:cNvSpPr/>
          <p:nvPr/>
        </p:nvSpPr>
        <p:spPr>
          <a:xfrm>
            <a:off x="1042920" y="3645000"/>
            <a:ext cx="144360" cy="194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Стрелка вниз 34"/>
          <p:cNvSpPr/>
          <p:nvPr/>
        </p:nvSpPr>
        <p:spPr>
          <a:xfrm>
            <a:off x="4932360" y="4365720"/>
            <a:ext cx="144360" cy="107928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ПЛОВЫЕ ЯВЛЕНИЯ</a:t>
            </a:r>
            <a:br>
              <a:rPr sz="3200"/>
            </a:b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Нагревание воды при разных условиях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55640" y="1330200"/>
          <a:ext cx="7488360" cy="3414960"/>
        </p:xfrm>
        <a:graphic>
          <a:graphicData uri="http://schemas.openxmlformats.org/drawingml/2006/table">
            <a:tbl>
              <a:tblPr/>
              <a:tblGrid>
                <a:gridCol w="2495520"/>
                <a:gridCol w="2497320"/>
                <a:gridCol w="2495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Условия нагр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Время нагре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Объем в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закрытой крыш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мин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открытой крышк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кастрюле с открытой крышкой при постоянном помеши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2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емкости с широким дном (сковорода, открыта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5 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0" name="Прямоугольник 4"/>
          <p:cNvSpPr/>
          <p:nvPr/>
        </p:nvSpPr>
        <p:spPr>
          <a:xfrm>
            <a:off x="2268360" y="4724280"/>
            <a:ext cx="5759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При разных условиях время нагревание воды разное. В закрытой кастрюле оно меньше, чем в открытой емкости с широким дном. Наблюдаю процесс естественной и вынужденной конвекции (при помешивании). При вынужденной конвекции время нагревание наибольше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30" descr="C:\Users\Admin\Desktop\фото Настя\опыт 1,6\DSCN3095.JPG"/>
          <p:cNvPicPr/>
          <p:nvPr/>
        </p:nvPicPr>
        <p:blipFill>
          <a:blip r:embed="rId1"/>
          <a:stretch/>
        </p:blipFill>
        <p:spPr>
          <a:xfrm>
            <a:off x="539640" y="4869000"/>
            <a:ext cx="1584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Остывание вод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492280"/>
          <a:ext cx="8229600" cy="196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398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ста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Первоначальная температура,</a:t>
                      </a:r>
                      <a:r>
                        <a:rPr b="1" i="1" lang="ru-RU" sz="1800" spc="-1" strike="noStrike" baseline="30000">
                          <a:solidFill>
                            <a:srgbClr val="4597a0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Температура через 5 минут,</a:t>
                      </a:r>
                      <a:r>
                        <a:rPr b="1" i="1" lang="ru-RU" sz="1800" spc="-1" strike="noStrike" baseline="30000">
                          <a:solidFill>
                            <a:srgbClr val="4597a0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(без внешних воздействи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(с помешивани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755640" y="1023480"/>
            <a:ext cx="7632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b0f0"/>
                </a:solidFill>
                <a:latin typeface="Times New Roman"/>
              </a:rPr>
              <a:t>Налила одинаковое количество горячей воды по 50 см</a:t>
            </a:r>
            <a:r>
              <a:rPr b="1" i="1" lang="ru-RU" sz="1600" spc="-1" strike="noStrike" baseline="30000">
                <a:solidFill>
                  <a:srgbClr val="00b0f0"/>
                </a:solidFill>
                <a:latin typeface="Times New Roman"/>
              </a:rPr>
              <a:t>3</a:t>
            </a:r>
            <a:r>
              <a:rPr b="1" i="1" lang="ru-RU" sz="1600" spc="-1" strike="noStrike">
                <a:solidFill>
                  <a:srgbClr val="00b0f0"/>
                </a:solidFill>
                <a:latin typeface="Times New Roman"/>
              </a:rPr>
              <a:t> в 2 одинаковых стакана. Измерила первоначальную температуру воды. В одном стакане вода остывала без внешних воздействий. В другом стакане остывание воды происходило при постоянном помешивании ложкой. Через 5 минут измерила температуру воды в обоих стакана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11280" y="4412520"/>
            <a:ext cx="61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Анализируя этот опыт я заметила, что чай остынет быстрей при помешивании, так как испарение сопровождается понижением температуры, а при помешивании испарение происходит быстрее. Кроме того, остывающие слои перемешиваются с более горячими (вынужденная конвекция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Объект 4"/>
          <p:cNvSpPr/>
          <p:nvPr/>
        </p:nvSpPr>
        <p:spPr>
          <a:xfrm>
            <a:off x="0" y="457200"/>
            <a:ext cx="28440" cy="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4" descr="C:\Users\Admin\Desktop\фото Настя\опыт 2\опыт2.JPG"/>
          <p:cNvPicPr/>
          <p:nvPr/>
        </p:nvPicPr>
        <p:blipFill>
          <a:blip r:embed="rId1"/>
          <a:stretch/>
        </p:blipFill>
        <p:spPr>
          <a:xfrm>
            <a:off x="539640" y="4653000"/>
            <a:ext cx="1656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597a0"/>
                </a:solidFill>
                <a:latin typeface="Times New Roman"/>
              </a:rPr>
              <a:t>Сохранение теп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19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        </a:t>
            </a:r>
            <a:r>
              <a:rPr b="1" i="1" lang="ru-RU" sz="1600" spc="-1" strike="noStrike">
                <a:solidFill>
                  <a:srgbClr val="0070c0"/>
                </a:solidFill>
                <a:latin typeface="Times New Roman"/>
              </a:rPr>
              <a:t>Как сохранить горячую воду как можно дольше? Для ответа на этот вопрос я провела такое исследование. Я взяла 4 сосуда: два стакана, термокружка и термос. Налила в них одинаковое количество воды одинаковой температуры 70°С, закрыла термос, термокружку один стакан укрыла полотенцем, другой – оставила не закрытым. Через 20 минут измерила температуру во всех сосудах. Получила результаты, указанные в таблице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2852640"/>
          <a:ext cx="7993080" cy="2232000"/>
        </p:xfrm>
        <a:graphic>
          <a:graphicData uri="http://schemas.openxmlformats.org/drawingml/2006/table">
            <a:tbl>
              <a:tblPr/>
              <a:tblGrid>
                <a:gridCol w="2663640"/>
                <a:gridCol w="2665440"/>
                <a:gridCol w="2664000"/>
              </a:tblGrid>
              <a:tr h="668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така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ервоначальная температура,</a:t>
                      </a:r>
                      <a:r>
                        <a:rPr b="1" i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 o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Температура через 20 минут, </a:t>
                      </a:r>
                      <a:r>
                        <a:rPr b="1" lang="ru-RU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o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крыт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рыт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круж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9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м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91" name="Picture 3" descr="C:\Users\Admin\Desktop\фото Настя\опыт 3\DSCN3060.JPG"/>
          <p:cNvPicPr/>
          <p:nvPr/>
        </p:nvPicPr>
        <p:blipFill>
          <a:blip r:embed="rId1"/>
          <a:stretch/>
        </p:blipFill>
        <p:spPr>
          <a:xfrm>
            <a:off x="826920" y="5084640"/>
            <a:ext cx="2089440" cy="1305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203640" y="515952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ывод:  чтобы сохранить горячую воду как можно дольше, надо держать её в термос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Плотность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267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597a0"/>
                </a:solidFill>
                <a:latin typeface="Times New Roman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аблюдение проводила за тремя жидкостями: вода, молоко, подсолнечное масло. Определила время необходимое для закипания жидкостей. Пронаблюдала за температурой нагревания и кипения. Объем жидкостей одинаковый по 0,5 л. Условия проведения эксперимента одинаковые для всех жидк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901960"/>
          <a:ext cx="7993080" cy="2173320"/>
        </p:xfrm>
        <a:graphic>
          <a:graphicData uri="http://schemas.openxmlformats.org/drawingml/2006/table">
            <a:tbl>
              <a:tblPr/>
              <a:tblGrid>
                <a:gridCol w="1332000"/>
                <a:gridCol w="1331640"/>
                <a:gridCol w="1333800"/>
                <a:gridCol w="1331640"/>
                <a:gridCol w="1332000"/>
                <a:gridCol w="13320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мину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597a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ло подсолне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19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Rectangle 1"/>
          <p:cNvSpPr/>
          <p:nvPr/>
        </p:nvSpPr>
        <p:spPr>
          <a:xfrm>
            <a:off x="3059280" y="4960800"/>
            <a:ext cx="5257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88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Вывод: температура нагревания и кипения жидкостей зависит от их плотностей. Чем больше плотность, тем быстрее нагревается жидкость, а температура кипения меньше. Жидкость с меньшей плотностью (подсолнечное масло)  имеет  температуру кипения выше остальных жидкос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3" descr="C:\Users\Admin\Desktop\фото Настя\опыт 1,6\DSCN3098.JPG"/>
          <p:cNvPicPr/>
          <p:nvPr/>
        </p:nvPicPr>
        <p:blipFill>
          <a:blip r:embed="rId1"/>
          <a:stretch/>
        </p:blipFill>
        <p:spPr>
          <a:xfrm>
            <a:off x="539640" y="5157720"/>
            <a:ext cx="21830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 вещества</a:t>
            </a:r>
            <a:br>
              <a:rPr sz="3200"/>
            </a:br>
            <a:r>
              <a:rPr b="1" lang="ru-RU" sz="3200" spc="-1" strike="noStrike">
                <a:solidFill>
                  <a:srgbClr val="4597a0"/>
                </a:solidFill>
                <a:latin typeface="Times New Roman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Взяла три стакана. В первый налила кипяток, во второй теплую и в третий холодную воду. В каждый стакан бросила щепотку гранулированного чая. Наблюдала за диффузией между гранулами чая и водо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C:\Users\Admin\Desktop\фото Настя\опыт 9\DSCN3072.JPG"/>
          <p:cNvPicPr/>
          <p:nvPr/>
        </p:nvPicPr>
        <p:blipFill>
          <a:blip r:embed="rId1"/>
          <a:stretch/>
        </p:blipFill>
        <p:spPr>
          <a:xfrm>
            <a:off x="539640" y="3429000"/>
            <a:ext cx="3353040" cy="25146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4140360" y="3457440"/>
            <a:ext cx="4176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: Диффузия между твердым телом и жидкостью зависит от температуры жидкости. Чем выше температура жидкости, тем быстрее происходит диффузия и скорость хаотического движения молеку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597a0"/>
                </a:solidFill>
                <a:latin typeface="Times New Roman"/>
              </a:rPr>
              <a:t>Притяжение молекул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лила на блюдце две чайные ложки малинового варенья и положила кусочки рафинада (сахар кусковой) наблюдаю за медленным проникновением жидкого варенья  между молекулами твердого саха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3" descr="C:\Users\Admin\Desktop\фото Настя\опыт 10\DSCN3062.JPG"/>
          <p:cNvPicPr/>
          <p:nvPr/>
        </p:nvPicPr>
        <p:blipFill>
          <a:blip r:embed="rId1"/>
          <a:stretch/>
        </p:blipFill>
        <p:spPr>
          <a:xfrm>
            <a:off x="755640" y="3213000"/>
            <a:ext cx="3448080" cy="2586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4932360" y="3204360"/>
            <a:ext cx="302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ывод. Наблюдаю процесс диффузии между жидкостью и твердым телом. Между молекулами разных тел хорошо видно притяжение между молекул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915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597a0"/>
                </a:solidFill>
                <a:latin typeface="Times New Roman"/>
              </a:rPr>
              <a:t>Отталкивание молеку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C:\Users\Admin\Desktop\фото Настя\опыт 11\DSCN3077.JPG"/>
          <p:cNvPicPr/>
          <p:nvPr/>
        </p:nvPicPr>
        <p:blipFill>
          <a:blip r:embed="rId1"/>
          <a:stretch/>
        </p:blipFill>
        <p:spPr>
          <a:xfrm>
            <a:off x="611280" y="1197000"/>
            <a:ext cx="2808360" cy="1800360"/>
          </a:xfrm>
          <a:prstGeom prst="rect">
            <a:avLst/>
          </a:prstGeom>
          <a:ln w="0">
            <a:noFill/>
          </a:ln>
        </p:spPr>
      </p:pic>
      <p:sp>
        <p:nvSpPr>
          <p:cNvPr id="108" name="Содержимое 2"/>
          <p:cNvSpPr/>
          <p:nvPr/>
        </p:nvSpPr>
        <p:spPr>
          <a:xfrm>
            <a:off x="3780000" y="1341360"/>
            <a:ext cx="49068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Часто при приготовлении еды  приходится смешивать различные масла с другими продуктами. При этом масло всегда находится вверху, потому что,  оно легче. Его плотность меньше других продуктов, например воды. Для доказательства я пыталась смешать воду с маслом подсолнечным. Результат виден на фотограф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одержимое 2"/>
          <p:cNvSpPr/>
          <p:nvPr/>
        </p:nvSpPr>
        <p:spPr>
          <a:xfrm>
            <a:off x="539640" y="3357720"/>
            <a:ext cx="35276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Вывод: Между молекулами подсолнечного масла  и молекулами воды происходит отталкивание, поэтому они не могут смешаться. Плотность воды больше масла, поэтому вода находится ниже в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6-02-12T04:47:02Z</dcterms:modified>
  <cp:revision>73</cp:revision>
  <dc:subject/>
  <dc:title>Слайд 1</dc:title>
</cp:coreProperties>
</file>