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905-7430-49F4-B2C5-734C8CF8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047-CD5E-48D9-A479-CE15B432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711-E032-4D96-AE7C-7B5904E4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0FB-28B7-40D9-BA47-7C9F0F6E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0A8A-489D-43E9-ACCC-391E3749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9C74-3DD0-4536-BCC5-B858AFA3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C55D-4F1F-4C7E-8F01-EFCD166F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321F-09C4-41F4-81CC-745AD844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8B06-E3BB-49C9-9BAC-BEF88542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739B-3A2C-4B30-93FD-8EC0A481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BD7-BEEC-457F-87C9-61DA608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086-C1FD-42F3-B3AE-6DBB91A7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FCAF-DB0B-4169-BC33-EF2DA47D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0157-36CF-47FE-8EE4-5F90B316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3015-320D-4C6B-88D6-02109F0F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634D-2A5A-4F69-8654-93624074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3026-8D36-4560-9CA1-3D037A5A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60B-00DE-42ED-8451-6F78C8F3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DA3-141D-4E31-A120-C74D7E9C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700-01A9-4CEA-BB2D-4E0638A8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565-47EC-4AF0-8B3F-5908C57D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4EA-6EBF-4D46-9D14-D1804DE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31A-0934-4E76-B2AB-21D6BCB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C5D-1060-4DC1-9DFD-ECA3F5C6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CD90-BAF8-467D-B8E9-D6EA70FAFEA7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560" y="1603440"/>
                <a:ext cx="75132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2240" y="1542600"/>
                <a:ext cx="5742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920" y="197964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15880"/>
              <a:chOff x="5409720" y="1788480"/>
              <a:chExt cx="518400" cy="5158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2240" y="188244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9000" y="211428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400" y="105336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720" y="192204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1120"/>
              <a:chOff x="6118920" y="1058760"/>
              <a:chExt cx="232200" cy="2311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960" y="111024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9D2A-CFB2-4AA9-87B5-42C8D4DD16E4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91920"/>
            <a:ext cx="71164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Информационный проект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Мой любимый питомец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708360" y="3933360"/>
            <a:ext cx="44179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Дегтярева Елизавета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ученица 4б класса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МБОУ СОШ №57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Перспектив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изучить анатомическое строение волнистых попугайчико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продолжить обучение  своего попугайчика новым действиям и новым словам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изучать интересные факты из жизни волнистых попугайчиков.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30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Благодарю за внимание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Цель  моей  работ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560" y="1628280"/>
            <a:ext cx="71262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на основании собственных наблюдений и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дополнительной литературы расширить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представления о содержании попугаев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Задач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71280" y="1557000"/>
            <a:ext cx="71247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Изучить литературу по следующим вопросам: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          </a:t>
            </a: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-какие цветовые вариации есть у волнистых       попугайчиков;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         </a:t>
            </a: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- каков рацион питания  волнистых попугаев. 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Выяснить, могут ли волнистые попугайчики 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поддаваться дрессировке.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Узнать, смогут ли они научиться говорить.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Сделать выводы.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Природная окраска попугайчиков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439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Мутации волнистых попугайчиков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33440" y="1812600"/>
            <a:ext cx="3146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Желтый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2389320"/>
            <a:ext cx="347184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92840" y="1812600"/>
            <a:ext cx="3141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Голубой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62360" y="2389320"/>
            <a:ext cx="347184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716360" y="2660760"/>
            <a:ext cx="3284640" cy="266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984240" y="2708280"/>
            <a:ext cx="3095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               </a:t>
            </a: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Рацион питания 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    волнистых    попугайчиков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овощи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фрукты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сбалансированная кормовая смесь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вод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Я и Кеш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User Pro\Desktop\sl372265.jpg"/>
          <p:cNvPicPr/>
          <p:nvPr/>
        </p:nvPicPr>
        <p:blipFill>
          <a:blip r:embed="rId2"/>
          <a:stretch/>
        </p:blipFill>
        <p:spPr>
          <a:xfrm>
            <a:off x="2411280" y="162864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Мой Кеш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3" name="Picture 2" descr="C:\Users\User Pro\Desktop\sl372269.jpg"/>
          <p:cNvPicPr/>
          <p:nvPr/>
        </p:nvPicPr>
        <p:blipFill>
          <a:blip r:embed="rId1"/>
          <a:stretch/>
        </p:blipFill>
        <p:spPr>
          <a:xfrm>
            <a:off x="1870200" y="1806480"/>
            <a:ext cx="5403600" cy="405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Вывод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волнистые попугайчики поддаются дрессировке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если правильно обучать волнистого попугайчика, то он может запомнить более 100 сло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питание должно быть разнообразным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за попугаями нужен тщательный уход и забота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20T06:09:31Z</dcterms:modified>
  <cp:revision>8</cp:revision>
  <dc:subject/>
  <dc:title>Мой любимый питомец</dc:title>
</cp:coreProperties>
</file>