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41CE-FB56-4277-B2ED-36101B7F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504-8562-41C4-B055-412A817E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B1D7-FC47-436C-A94E-C5D14328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1C6-C87A-4ACB-8FA7-6CDFF1E1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1B9-463D-464D-A99E-BDC04997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D89-2FBB-455B-A2B4-D4513492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3527-193A-4094-8C49-AF2786FF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A6F9-54DD-437E-9150-FB3FAEC4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3DA4-B372-4F2D-9E2D-066ED478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0D9C-11D7-4D2E-B3FB-0F429F52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977A-A137-43D6-AE37-2BB6F33D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A0C6-5047-480F-8E25-AC977A31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3E8C-0BE4-49A5-9838-2F510E2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C8A1-8918-4FC6-9CC1-1C32C383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A9B8-9D78-45AC-8BF7-2994476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A7DA-5FA3-474C-A274-5FEDFA51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9C39-9EE0-4C17-9571-DF3697394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84BD-D709-4799-9EA4-9539016F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F32-710C-4115-A7F9-E473517A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571-9D2C-47EA-B546-835E9E29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03F-22CB-40B6-8DC8-5CAC544B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42FE-CB94-4FFB-BD56-3ABB05E2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CAD-E4C1-429D-9E1F-D3AB5DA7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71A-853F-4634-B581-1D1427B4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8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6CD9-4ED7-4FBC-BBE5-303CF9E1B06C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480" y="3759120"/>
                <a:ext cx="720" cy="1440"/>
              </a:xfrm>
              <a:custGeom>
                <a:avLst/>
                <a:gdLst>
                  <a:gd name="textAreaLeft" fmla="*/ 0 w 720"/>
                  <a:gd name="textAreaRight" fmla="*/ 1080 w 72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3200"/>
                <a:ext cx="1336680" cy="150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4280" y="973800"/>
                <a:ext cx="83772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560" y="1603440"/>
                <a:ext cx="75132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2240" y="1542600"/>
                <a:ext cx="57420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920" y="197964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15880"/>
              <a:chOff x="5409720" y="1788480"/>
              <a:chExt cx="518400" cy="5158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2240" y="188244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9000" y="211428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400" y="105336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720" y="192204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1120"/>
              <a:chOff x="6118920" y="1058760"/>
              <a:chExt cx="232200" cy="23112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960" y="111024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690E-C86C-4DBE-9DE6-1488AA09B097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91920"/>
            <a:ext cx="711648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      </a:t>
            </a:r>
            <a:r>
              <a:rPr b="1" lang="ru-RU" sz="2800" spc="-1" strike="noStrike">
                <a:solidFill>
                  <a:srgbClr val="404040"/>
                </a:solidFill>
                <a:latin typeface="Verdana"/>
              </a:rPr>
              <a:t>Информационный проект</a:t>
            </a: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404040"/>
                </a:solidFill>
                <a:latin typeface="Verdana"/>
              </a:rPr>
              <a:t>Мой любимый питомец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3708360" y="3933360"/>
            <a:ext cx="44179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Дегтярева Елизавета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ученица 4б класса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            </a:t>
            </a:r>
            <a:r>
              <a:rPr b="0" lang="ru-RU" sz="2000" spc="-1" strike="noStrike">
                <a:solidFill>
                  <a:srgbClr val="404040"/>
                </a:solidFill>
                <a:latin typeface="Verdana"/>
              </a:rPr>
              <a:t>МБОУ СОШ №57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Перспектив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изучить анатомическое строение волнистых попугайчико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продолжить обучение  своего попугайчика новым действиям и новым словам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изучать интересные факты из жизни волнистых попугайчиков. 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303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Verdana"/>
              </a:rPr>
              <a:t>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Благодарю за внимание!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Цель  моей  работ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42560" y="1628280"/>
            <a:ext cx="7126200" cy="37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на основании собственных наблюдений и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дополнительной литературы расширить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представления о содержании попугаев.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Задачи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71280" y="1557000"/>
            <a:ext cx="7124760" cy="48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Изучить литературу по следующим вопросам: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          </a:t>
            </a: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-какие цветовые вариации есть у волнистых       попугайчиков;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         </a:t>
            </a: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- каков рацион питания  волнистых попугаев. 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Выяснить, могут ли волнистые попугайчики 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поддаваться дрессировке.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Узнать, смогут ли они научиться говорить.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Verdana"/>
              </a:rPr>
              <a:t>Сделать выводы.</a:t>
            </a: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Природная окраска попугайчиков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439128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Мутации волнистых попугайчиков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33440" y="1812600"/>
            <a:ext cx="3146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Желтый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2389320"/>
            <a:ext cx="347184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992840" y="1812600"/>
            <a:ext cx="314136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Голубой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62360" y="2389320"/>
            <a:ext cx="3471840" cy="34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4716360" y="2660760"/>
            <a:ext cx="3284640" cy="2663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"/>
          <p:cNvPicPr/>
          <p:nvPr/>
        </p:nvPicPr>
        <p:blipFill>
          <a:blip r:embed="rId2"/>
          <a:stretch/>
        </p:blipFill>
        <p:spPr>
          <a:xfrm>
            <a:off x="984240" y="2708280"/>
            <a:ext cx="3095640" cy="2736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               </a:t>
            </a: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Рацион питания </a:t>
            </a:r>
            <a:br>
              <a:rPr sz="2400"/>
            </a:br>
            <a:r>
              <a:rPr b="1" lang="ru-RU" sz="2400" spc="-1" strike="noStrike">
                <a:solidFill>
                  <a:srgbClr val="404040"/>
                </a:solidFill>
                <a:latin typeface="Verdana"/>
              </a:rPr>
              <a:t>    волнистых    попугайчиков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овощи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фрукты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сбалансированная кормовая смесь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Verdana"/>
              </a:rPr>
              <a:t>вода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Я и Кеш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09800" y="1806480"/>
            <a:ext cx="7124400" cy="4052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User Pro\Desktop\sl372265.jpg"/>
          <p:cNvPicPr/>
          <p:nvPr/>
        </p:nvPicPr>
        <p:blipFill>
          <a:blip r:embed="rId2"/>
          <a:stretch/>
        </p:blipFill>
        <p:spPr>
          <a:xfrm>
            <a:off x="2411280" y="1628640"/>
            <a:ext cx="410544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Мой Кеша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83" name="Picture 2" descr="C:\Users\User Pro\Desktop\sl372269.jpg"/>
          <p:cNvPicPr/>
          <p:nvPr/>
        </p:nvPicPr>
        <p:blipFill>
          <a:blip r:embed="rId1"/>
          <a:stretch/>
        </p:blipFill>
        <p:spPr>
          <a:xfrm>
            <a:off x="1870200" y="1806480"/>
            <a:ext cx="5403600" cy="405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               </a:t>
            </a:r>
            <a:r>
              <a:rPr b="1" lang="ru-RU" sz="3200" spc="-1" strike="noStrike">
                <a:solidFill>
                  <a:srgbClr val="404040"/>
                </a:solidFill>
                <a:latin typeface="Verdana"/>
              </a:rPr>
              <a:t>Выводы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волнистые попугайчики поддаются дрессировке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если правильно обучать волнистого попугайчика, то он может запомнить более 100 слов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питание должно быть разнообразным;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Verdana"/>
              </a:rPr>
              <a:t>за попугаями нужен тщательный уход и забота.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4-20T06:09:31Z</dcterms:modified>
  <cp:revision>8</cp:revision>
  <dc:subject/>
  <dc:title>Мой любимый питомец</dc:title>
</cp:coreProperties>
</file>