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2CB-B0F5-426D-A11F-140B88C9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FF78-ABA1-4AA7-BA1D-AB313A9D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4278-6A21-4193-AC77-00204C26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EF6E-CC52-40C6-8910-9D232CD86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EF86-4FDD-4232-9E36-2B5F1AC7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025F-F3E3-4C92-A95F-C204855D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C64E-22C0-42E9-A5BD-45F89FF0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2AFE-814F-4807-87A1-88AC694E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9DB8-B412-4B7E-9508-B769290A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59D5-09C1-4AAA-94FC-D3210EC1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0E9E-BB0F-4E39-86DA-90D6554E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460C-B060-45E9-8375-FF69514E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10C51-6892-42A2-B61E-6244CD36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1301-3960-465F-BD7C-474477C8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3869-39E4-4F5D-8889-9594DBB8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E8D7-F52A-4C41-AE06-3D43B00D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A694-529B-41ED-A395-1795E7E6D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B3540-B2F7-41A0-9CF1-937FD889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D0E74-1C28-48A4-9211-5C2036509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EA2AC-F4B0-4749-960E-2386848C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4D5C5-E9C3-4644-AC51-DC327DDD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5CB58-D3AE-4CF6-B6B3-CC42043A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BB77-5ECD-40BA-B964-087F62261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4B915-AD5E-4E66-BCC6-5877AFFE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F3866-1166-4464-8AF3-ACF7234F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93B85-02D4-4238-9237-AB7BD20C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2EFFA-2E24-4562-AE29-55F5FA80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3EAAB-297D-4C5E-81C5-759AE491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DF22C-9D8D-4986-B6D1-A13EEBC16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B3019-D672-435D-999E-1D83BC24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36AB-1775-4DA1-B897-D8BEC2B3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54D9-8B7C-43B0-9460-90970DE1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0118-D32D-4A05-A61F-3918C1A2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8BAC-ED61-4A2F-8F09-0A6036A5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3C2C-0F8F-4C9E-98E7-23748A85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D4CA-DBFF-4B10-BA0A-60D9B743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AB50-583B-4FC7-B4FB-2AC9A51231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EC70-A0A0-4DAF-BE4B-45EA1CB829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0F8E-7B26-4B34-B58D-A84256901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friends have you go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[b]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– brainy,  to be boring, to be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with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[s]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– similar interests, supportive,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o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tand by smb.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[t]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– to take time, to talk problems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rough, true, to try understand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ongue – twister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friend in need is a friend inde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Друг познается в беде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friends you choose help you win or loos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</a:rPr>
              <a:t>С друзьями, что сами себе выбираем, мы или находим, или теряем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одолжите предложения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t takes time…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ybe you and I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’s not the same as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there was only one picture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 could rent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swer the questions: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problems do the girls hav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is the biggest problem for all of them? Why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do Stacey and Claudia say about having friend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Write about the character traits which are important in a partner with whom you work at the lesso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)I think that the partner should be ____, ____ and ___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)It’s important for a partner to ___, to ___ and ___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)And I think he/she should _________  as wel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ast Simple Passiv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6204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AS                            WAS –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ед.ч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3               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RE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ERE – 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мн.ч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 was ask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e wasn’t ask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s he asked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o was asked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house (to built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1752480"/>
            <a:ext cx="381240" cy="1524240"/>
          </a:xfrm>
          <a:custGeom>
            <a:avLst/>
            <a:gdLst>
              <a:gd name="textAreaLeft" fmla="*/ 0 w 381240"/>
              <a:gd name="textAreaRight" fmla="*/ 137520 w 3812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3T15:31:37Z</dcterms:created>
  <dc:creator>Моор Виталий</dc:creator>
  <dc:description/>
  <dc:language>en-US</dc:language>
  <cp:lastModifiedBy>Моор Виталий</cp:lastModifiedBy>
  <dcterms:modified xsi:type="dcterms:W3CDTF">2008-01-23T17:14:36Z</dcterms:modified>
  <cp:revision>5</cp:revision>
  <dc:subject/>
  <dc:title>Write about the character traits which are important in a partner with whom you work at the lessons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