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0A07-8B86-4F21-B121-154668D08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79C1-B0FD-4EB4-BDFD-F1ECD60C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E716-FC22-4A85-BD37-FBC600BF2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72AF-C2A2-401D-AE04-06848B948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DBCE-9777-45DE-A2F8-8B4B7D966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63CD-09A1-409E-B8F1-32745BA3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9A63-E8F1-4722-9FE0-3BF82E8A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D95C-A655-4D2E-8E5A-DE29FA48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DBB7-B951-41D7-8A83-1A7CF0DD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EAF3-70CC-46F1-B6C3-55BE7990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68E7-89A3-40C6-BDE4-C8B3A491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306F-BBF4-4C04-A8B5-F67ABB69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B0B9-655A-4A48-A9CC-9119C99B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2645-09E8-4F3E-AE72-6523A641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4360-50DF-430B-B3AF-CA6B0468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5113-A6A5-4E18-8B94-B5F0F1EB5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4637-D564-47C4-9BD0-5DC3D7761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027B5-C210-4EF2-B594-218C2FBBD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CA771-DEB7-463C-AC6D-2F58EE19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40906-903B-4837-87EC-77A5D1DA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844BB-56A8-4F71-87B1-F1DE4592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C0B25-77EC-4A10-9479-10187B91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05FC-F383-4AEE-89C7-413BC02F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1D001-2A16-4BED-B654-4EF1D591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CD97C-B3DB-4DC6-BCE8-5D508779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D2155-7C76-4C15-84E5-B7A356C9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BC90D-D4A6-45B8-BF1B-82CB36AA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9673D-C7C7-4ED7-93AE-526033F0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9341B-1D79-4F53-BDE6-3220C74D9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F45E9-7562-497B-BB5B-99F1C42A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1249-69E5-4CD6-A701-4E28725C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9B6E-E149-4FF6-B0DE-451C7820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DEFF-84B1-40F3-AB7E-39582916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023A-9832-4CE4-A256-5F16A66C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4698-B679-4DB0-A9BC-93776181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4A92-150E-4BB3-9E05-DB563DB9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D74F-BDAA-4304-B2EE-58D340416A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90FC-9BB5-44FF-A41B-A769DD2C50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8F81-C475-4F2E-B12F-43AEF3F6B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friends have you go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[b]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– brainy,  to be boring, to be 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with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[s]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– similar interests, supportive, 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o 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tand by smb.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[t]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– to take time, to talk problems 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hrough, true, to try understand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ongue – twister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friend in need is a friend indee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Друг познается в беде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friends you choose help you win or loos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С друзьями, что сами себе выбираем, мы или находим, или теряем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Продолжите предложения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t takes time…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ybe you and I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at’s not the same as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d there was only one picture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 could rent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nswer the questions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problems do the girls have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is the biggest problem for all of them? Why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do Stacey and Claudia say about having friend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Write about the character traits which are important in a partner with whom you work at the lesson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)I think that the partner should be ____, ____ and ___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)It’s important for a partner to ___, to ___ and ___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)And I think he/she should _________  as wel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ast Simple Passiv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AS                            WAS –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ед.ч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        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3                    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RE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       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RE –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мн.ч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 was aske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 wasn’t aske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as he asked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o was asked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house (to built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1752480"/>
            <a:ext cx="381240" cy="1524240"/>
          </a:xfrm>
          <a:custGeom>
            <a:avLst/>
            <a:gdLst>
              <a:gd name="textAreaLeft" fmla="*/ 0 w 381240"/>
              <a:gd name="textAreaRight" fmla="*/ 137520 w 3812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5:31:37Z</dcterms:created>
  <dc:creator>Моор Виталий</dc:creator>
  <dc:description/>
  <dc:language>en-US</dc:language>
  <cp:lastModifiedBy>Моор Виталий</cp:lastModifiedBy>
  <dcterms:modified xsi:type="dcterms:W3CDTF">2008-01-23T17:14:36Z</dcterms:modified>
  <cp:revision>5</cp:revision>
  <dc:subject/>
  <dc:title>Write about the character traits which are important in a partner with whom you work at the lessons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