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6E2-EDBC-4290-B0A7-837CBDDC2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10C-F10F-4D32-9C1F-398AC1F2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8C0D-6C8E-4F9E-8CF8-D1FD438E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C541-8409-4D44-A769-5E903510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BB15-D99E-4043-8D2A-D4420D94D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276C-92E4-44EF-94D5-B38222D5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E01C-73E1-4319-A9A4-35D35162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EFFC2-19D0-47C2-B420-B3B58F3C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8423-0BD1-40C3-BF26-E54D2567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EC21-52CC-4A18-836C-C6F9ADA9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5470-1E4D-48F0-8538-0A625B46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103-D7B7-4C21-B91C-0C458D2A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3393-289D-4517-B20E-953800FC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3932-AF17-492A-A507-82A7F4A7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16A4-2C13-41A1-8BE1-DAEE69ED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4207-E649-4094-820B-FC26447D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21E1-BCF6-4F9E-A5A0-29039077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445-10FE-4887-9BE8-04EC2C6E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8B96-F84B-44A1-A71C-95E90039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D61A-B973-4FFA-BE0F-A8CFDAF6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F74-C51A-4545-9963-6556201F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442-EF21-4FD3-80F4-747BDE2C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BB72-0438-4F3E-8B4B-9873BD81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4D13-78F1-4C4C-BCD2-50A1CDF0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9196-B64A-45E5-BC34-5C4977937216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95200"/>
            </a:gs>
            <a:gs pos="100000">
              <a:srgbClr val="77915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295200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e3e3e2"/>
                </a:gs>
                <a:gs pos="100000">
                  <a:srgbClr val="f9faf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70705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2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3f2d9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6e6d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996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6e6d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6e6d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6e6d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5F8F-5349-4133-83AA-E0172A8D44DD}" type="slidenum">
              <a:rPr b="0" lang="ru-RU" sz="1200" spc="-1" strike="noStrike">
                <a:solidFill>
                  <a:srgbClr val="e6e6d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172.30.10.55/Incoming/&#1050;&#1086;&#1085;&#1082;&#1091;&#1088;&#1089;%20&#1062;&#1054;&#1056;%20-%20&#1075;&#1086;&#1088;&#1086;&#1076;/&#1087;&#1088;&#1086;&#1074;&#1077;&#1088;&#1077;&#1085;&#1086;/&#1085;&#1072;%20&#1075;&#1086;&#1088;&#1086;&#1076;%20-%20&#1080;&#1090;&#1086;&#1075;/95%20-%20&#1051;&#1072;&#1074;&#1088;&#1080;&#1097;&#1091;&#1082;%20&#1053;&#1072;&#1090;&#1072;&#1083;&#1080;&#1103;%20&#1040;&#1083;&#1077;&#1082;&#1089;&#1072;&#1085;&#1076;&#1088;&#1086;&#1074;&#1085;&#1072;/&#1087;&#1088;&#1077;&#1079;&#1077;&#1085;&#1090;&#1072;&#1094;&#1080;&#1103;.ppt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172.30.10.55/Incoming/&#1050;&#1086;&#1085;&#1082;&#1091;&#1088;&#1089;%20&#1062;&#1054;&#1056;%20-%20&#1075;&#1086;&#1088;&#1086;&#1076;/&#1087;&#1088;&#1086;&#1074;&#1077;&#1088;&#1077;&#1085;&#1086;/&#1085;&#1072;%20&#1075;&#1086;&#1088;&#1086;&#1076;%20-%20&#1080;&#1090;&#1086;&#1075;/95%20-%20&#1051;&#1072;&#1074;&#1088;&#1080;&#1097;&#1091;&#1082;%20&#1053;&#1072;&#1090;&#1072;&#1083;&#1080;&#1103;%20&#1040;&#1083;&#1077;&#1082;&#1089;&#1072;&#1085;&#1076;&#1088;&#1086;&#1074;&#1085;&#1072;/&#1087;&#1088;&#1077;&#1079;&#1077;&#1085;&#1090;&#1072;&#1094;&#1080;&#1103;.ppt" TargetMode="Externa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" Target="slide5.xml"/><Relationship Id="rId4" Type="http://schemas.openxmlformats.org/officeDocument/2006/relationships/image" Target="../media/image3.jpeg"/><Relationship Id="rId5" Type="http://schemas.openxmlformats.org/officeDocument/2006/relationships/slide" Target="slide4.xml"/><Relationship Id="rId6" Type="http://schemas.openxmlformats.org/officeDocument/2006/relationships/image" Target="../media/image4.jpeg"/><Relationship Id="rId7" Type="http://schemas.openxmlformats.org/officeDocument/2006/relationships/slide" Target="slide4.xml"/><Relationship Id="rId8" Type="http://schemas.openxmlformats.org/officeDocument/2006/relationships/image" Target="../media/image5.jpeg"/><Relationship Id="rId9" Type="http://schemas.openxmlformats.org/officeDocument/2006/relationships/slide" Target="slide5.xml"/><Relationship Id="rId10" Type="http://schemas.openxmlformats.org/officeDocument/2006/relationships/image" Target="../media/image6.jpeg"/><Relationship Id="rId11" Type="http://schemas.openxmlformats.org/officeDocument/2006/relationships/slide" Target="slide5.xml"/><Relationship Id="rId12" Type="http://schemas.openxmlformats.org/officeDocument/2006/relationships/image" Target="../media/image7.jpeg"/><Relationship Id="rId13" Type="http://schemas.openxmlformats.org/officeDocument/2006/relationships/slide" Target="slide4.xml"/><Relationship Id="rId14" Type="http://schemas.openxmlformats.org/officeDocument/2006/relationships/image" Target="../media/image8.jpeg"/><Relationship Id="rId15" Type="http://schemas.openxmlformats.org/officeDocument/2006/relationships/slide" Target="slide4.xml"/><Relationship Id="rId16" Type="http://schemas.openxmlformats.org/officeDocument/2006/relationships/image" Target="../media/image9.jpeg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-2043000"/>
            <a:ext cx="7702560" cy="455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 u="sng">
                <a:solidFill>
                  <a:srgbClr val="33cc33"/>
                </a:solidFill>
                <a:uFillTx/>
                <a:latin typeface="Arial"/>
                <a:hlinkClick r:id="rId1"/>
              </a:rPr>
              <a:t>Индивидуальное логопедическое занятие</a:t>
            </a:r>
            <a:br>
              <a:rPr sz="5100"/>
            </a:br>
            <a:endParaRPr b="0" lang="en-US" sz="51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54764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da"/>
                </a:solidFill>
                <a:latin typeface="Verdana"/>
              </a:rPr>
              <a:t>Автоматизация звука «Р» в многосложных словах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  <p:pic>
        <p:nvPicPr>
          <p:cNvPr id="116" name="Picture 7" descr="a2b65e76af0d72fc2dfd48baf7b3ac3d"/>
          <p:cNvPicPr/>
          <p:nvPr/>
        </p:nvPicPr>
        <p:blipFill>
          <a:blip r:embed="rId2"/>
          <a:stretch/>
        </p:blipFill>
        <p:spPr>
          <a:xfrm>
            <a:off x="2700360" y="2997360"/>
            <a:ext cx="38098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cc33"/>
                </a:solidFill>
                <a:uFillTx/>
                <a:latin typeface="Arial"/>
                <a:hlinkClick r:id="rId1"/>
              </a:rPr>
              <a:t>Содержание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33cc33"/>
                </a:solidFill>
                <a:uFillTx/>
                <a:latin typeface="Verdana"/>
                <a:hlinkClick r:id="rId2" action="ppaction://hlinksldjump"/>
              </a:rPr>
              <a:t>Дидактическая игра «Собери урожай».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da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33cc33"/>
                </a:solidFill>
                <a:uFillTx/>
                <a:latin typeface="Verdana"/>
                <a:hlinkClick r:id="rId3" action="ppaction://hlinksldjump"/>
              </a:rPr>
              <a:t>Задание «Расположи слова по количеству слогов».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da"/>
                </a:solidFill>
                <a:latin typeface="Verdana"/>
              </a:rPr>
              <a:t> </a:t>
            </a:r>
            <a:r>
              <a:rPr b="0" lang="ru-RU" sz="3600" spc="-1" strike="noStrike" u="sng">
                <a:solidFill>
                  <a:srgbClr val="33cc33"/>
                </a:solidFill>
                <a:uFillTx/>
                <a:latin typeface="Verdana"/>
                <a:hlinkClick r:id="rId4" action="ppaction://hlinksldjump"/>
              </a:rPr>
              <a:t>Кроссворд «Овощи».</a:t>
            </a:r>
            <a:endParaRPr b="0" lang="en-US" sz="3600" spc="-1" strike="noStrike">
              <a:solidFill>
                <a:srgbClr val="e6e6da"/>
              </a:solidFill>
              <a:latin typeface="Verdana"/>
            </a:endParaRPr>
          </a:p>
        </p:txBody>
      </p:sp>
      <p:sp>
        <p:nvSpPr>
          <p:cNvPr id="119" name="AutoShape 4">
            <a:hlinkClick r:id="" action="ppaction://hlinkshowjump?jump=previousslide"/>
          </p:cNvPr>
          <p:cNvSpPr/>
          <p:nvPr/>
        </p:nvSpPr>
        <p:spPr>
          <a:xfrm>
            <a:off x="468360" y="404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8560" y="277920"/>
            <a:ext cx="7427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Выбери овощи, в названии которых есть звуки «Р, Р</a:t>
            </a:r>
            <a:r>
              <a:rPr b="0" lang="en-US" sz="4000" spc="-1" strike="noStrike">
                <a:solidFill>
                  <a:srgbClr val="f3f2d9"/>
                </a:solidFill>
                <a:latin typeface="Arial"/>
              </a:rPr>
              <a:t>’</a:t>
            </a:r>
            <a:r>
              <a:rPr b="0" lang="ru-RU" sz="4000" spc="-1" strike="noStrike">
                <a:solidFill>
                  <a:srgbClr val="f3f2d9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3f2d9"/>
              </a:solidFill>
              <a:latin typeface="Arial"/>
            </a:endParaRPr>
          </a:p>
        </p:txBody>
      </p:sp>
      <p:pic>
        <p:nvPicPr>
          <p:cNvPr id="121" name="Picture 4" descr="10_01_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10_01_2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55640" y="400536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10_01_30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8436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10_01_3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35600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10_01_28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300720" y="177336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10_01_36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400536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10_01_25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716360" y="400536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10_01_46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659640" y="4005360"/>
            <a:ext cx="1270080" cy="168912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12">
            <a:hlinkClick r:id="rId17" action="ppaction://hlinksldjump"/>
          </p:cNvPr>
          <p:cNvSpPr/>
          <p:nvPr/>
        </p:nvSpPr>
        <p:spPr>
          <a:xfrm>
            <a:off x="179280" y="189000"/>
            <a:ext cx="395280" cy="360360"/>
          </a:xfrm>
          <a:custGeom>
            <a:avLst/>
            <a:gdLst>
              <a:gd name="textAreaLeft" fmla="*/ 23040 w 395280"/>
              <a:gd name="textAreaRight" fmla="*/ 372240 w 3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3691" h="21600">
                <a:moveTo>
                  <a:pt x="0" y="0"/>
                </a:moveTo>
                <a:lnTo>
                  <a:pt x="23691" y="0"/>
                </a:lnTo>
                <a:lnTo>
                  <a:pt x="23691" y="21600"/>
                </a:lnTo>
                <a:lnTo>
                  <a:pt x="0" y="21600"/>
                </a:lnTo>
                <a:close/>
              </a:path>
              <a:path fill="lightenLess" w="23691" h="21600">
                <a:moveTo>
                  <a:pt x="0" y="0"/>
                </a:moveTo>
                <a:lnTo>
                  <a:pt x="23691" y="0"/>
                </a:lnTo>
                <a:lnTo>
                  <a:pt x="22291" y="1400"/>
                </a:lnTo>
                <a:lnTo>
                  <a:pt x="1400" y="1400"/>
                </a:lnTo>
                <a:close/>
              </a:path>
              <a:path fill="darken" w="23691" h="21600">
                <a:moveTo>
                  <a:pt x="23691" y="0"/>
                </a:moveTo>
                <a:lnTo>
                  <a:pt x="23691" y="21600"/>
                </a:lnTo>
                <a:lnTo>
                  <a:pt x="22291" y="20200"/>
                </a:lnTo>
                <a:lnTo>
                  <a:pt x="22291" y="1400"/>
                </a:lnTo>
                <a:close/>
              </a:path>
              <a:path fill="darkenLess" w="23691" h="21600">
                <a:moveTo>
                  <a:pt x="23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1" y="20200"/>
                </a:lnTo>
                <a:close/>
              </a:path>
              <a:path fill="lighten" w="23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1" h="21600">
                <a:moveTo>
                  <a:pt x="11846" y="3837"/>
                </a:moveTo>
                <a:lnTo>
                  <a:pt x="14422" y="6448"/>
                </a:ln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lnTo>
                  <a:pt x="18808" y="10800"/>
                </a:lnTo>
                <a:lnTo>
                  <a:pt x="17155" y="10800"/>
                </a:lnTo>
                <a:lnTo>
                  <a:pt x="17155" y="17989"/>
                </a:lnTo>
                <a:lnTo>
                  <a:pt x="6536" y="17989"/>
                </a:lnTo>
                <a:lnTo>
                  <a:pt x="6536" y="10800"/>
                </a:lnTo>
                <a:lnTo>
                  <a:pt x="4883" y="10800"/>
                </a:lnTo>
                <a:close/>
              </a:path>
              <a:path fill="darkenLess" w="23691" h="21600">
                <a:moveTo>
                  <a:pt x="14422" y="6448"/>
                </a:moveTo>
                <a:lnTo>
                  <a:pt x="14422" y="4707"/>
                </a:lnTo>
                <a:lnTo>
                  <a:pt x="16197" y="4707"/>
                </a:lnTo>
                <a:lnTo>
                  <a:pt x="16197" y="8224"/>
                </a:lnTo>
                <a:close/>
              </a:path>
              <a:path fill="darkenLess" w="23691" h="21600">
                <a:moveTo>
                  <a:pt x="10923" y="14299"/>
                </a:moveTo>
                <a:lnTo>
                  <a:pt x="12768" y="14299"/>
                </a:lnTo>
                <a:lnTo>
                  <a:pt x="12768" y="17989"/>
                </a:lnTo>
                <a:lnTo>
                  <a:pt x="17155" y="17989"/>
                </a:lnTo>
                <a:lnTo>
                  <a:pt x="17155" y="10800"/>
                </a:lnTo>
                <a:lnTo>
                  <a:pt x="6536" y="10800"/>
                </a:lnTo>
                <a:lnTo>
                  <a:pt x="6536" y="17989"/>
                </a:lnTo>
                <a:lnTo>
                  <a:pt x="10923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755640" y="189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Молодец!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2" name="AutoShape 5">
            <a:hlinkClick r:id="" action="ppaction://hlinkshowjump?jump=previousslide"/>
          </p:cNvPr>
          <p:cNvSpPr/>
          <p:nvPr/>
        </p:nvSpPr>
        <p:spPr>
          <a:xfrm>
            <a:off x="250920" y="260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pic>
        <p:nvPicPr>
          <p:cNvPr id="133" name="Picture 6" descr="anim09"/>
          <p:cNvPicPr/>
          <p:nvPr/>
        </p:nvPicPr>
        <p:blipFill>
          <a:blip r:embed="rId1"/>
          <a:stretch/>
        </p:blipFill>
        <p:spPr>
          <a:xfrm>
            <a:off x="3857760" y="2752560"/>
            <a:ext cx="1428480" cy="1352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3f2d9"/>
                </a:solidFill>
                <a:latin typeface="Arial"/>
              </a:rPr>
              <a:t>Подумай ещё!</a:t>
            </a:r>
            <a:endParaRPr b="0" lang="en-US" sz="44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324000" y="33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pic>
        <p:nvPicPr>
          <p:cNvPr id="136" name="Picture 5" descr="79ce09b50a2b620d190479ba67404f31"/>
          <p:cNvPicPr/>
          <p:nvPr/>
        </p:nvPicPr>
        <p:blipFill>
          <a:blip r:embed="rId1"/>
          <a:stretch/>
        </p:blipFill>
        <p:spPr>
          <a:xfrm>
            <a:off x="2666880" y="1695600"/>
            <a:ext cx="3810240" cy="3466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1800" spc="-1" strike="noStrike">
                <a:solidFill>
                  <a:srgbClr val="f3f2d9"/>
                </a:solidFill>
                <a:latin typeface="Arial"/>
              </a:rPr>
              <a:t>А теперь расположи уже выбранные тобой овощи по количеству слогов в их названиях:</a:t>
            </a:r>
            <a:endParaRPr b="0" lang="en-US" sz="1800" spc="-1" strike="noStrike">
              <a:solidFill>
                <a:srgbClr val="f3f2d9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332000" y="3500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26920" y="1557360"/>
          <a:ext cx="7499520" cy="4465440"/>
        </p:xfrm>
        <a:graphic>
          <a:graphicData uri="http://schemas.openxmlformats.org/drawingml/2006/table">
            <a:tbl>
              <a:tblPr/>
              <a:tblGrid>
                <a:gridCol w="3749760"/>
                <a:gridCol w="374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6e6da"/>
                          </a:solidFill>
                          <a:latin typeface="Verdana"/>
                        </a:rPr>
                        <a:t>2 слога</a:t>
                      </a:r>
                      <a:endParaRPr b="0" lang="en-US" sz="20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6e6da"/>
                      </a:solidFill>
                    </a:lnL>
                    <a:lnR w="5760">
                      <a:solidFill>
                        <a:srgbClr val="e6e6da"/>
                      </a:solidFill>
                    </a:lnR>
                    <a:lnT w="13680">
                      <a:solidFill>
                        <a:srgbClr val="e6e6da"/>
                      </a:solidFill>
                    </a:lnT>
                    <a:lnB w="5760">
                      <a:solidFill>
                        <a:srgbClr val="e6e6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6e6da"/>
                          </a:solidFill>
                          <a:latin typeface="Verdana"/>
                        </a:rPr>
                        <a:t>3 слога</a:t>
                      </a:r>
                      <a:endParaRPr b="0" lang="en-US" sz="20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da"/>
                      </a:solidFill>
                    </a:lnL>
                    <a:lnR w="13680">
                      <a:solidFill>
                        <a:srgbClr val="e6e6da"/>
                      </a:solidFill>
                    </a:lnR>
                    <a:lnT w="13680">
                      <a:solidFill>
                        <a:srgbClr val="e6e6da"/>
                      </a:solidFill>
                    </a:lnT>
                    <a:lnB w="5760">
                      <a:solidFill>
                        <a:srgbClr val="e6e6da"/>
                      </a:solidFill>
                    </a:lnB>
                    <a:noFill/>
                  </a:tcPr>
                </a:tc>
              </a:tr>
              <a:tr h="40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6e6da"/>
                      </a:solidFill>
                    </a:lnL>
                    <a:lnR w="5760">
                      <a:solidFill>
                        <a:srgbClr val="e6e6da"/>
                      </a:solidFill>
                    </a:lnR>
                    <a:lnT w="5760">
                      <a:solidFill>
                        <a:srgbClr val="e6e6da"/>
                      </a:solidFill>
                    </a:lnT>
                    <a:lnB w="13680">
                      <a:solidFill>
                        <a:srgbClr val="e6e6d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da"/>
                      </a:solidFill>
                    </a:lnL>
                    <a:lnR w="13680">
                      <a:solidFill>
                        <a:srgbClr val="e6e6da"/>
                      </a:solidFill>
                    </a:lnR>
                    <a:lnT w="5760">
                      <a:solidFill>
                        <a:srgbClr val="e6e6da"/>
                      </a:solidFill>
                    </a:lnT>
                    <a:lnB w="13680">
                      <a:solidFill>
                        <a:srgbClr val="e6e6d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AutoShape 20"/>
          <p:cNvSpPr/>
          <p:nvPr/>
        </p:nvSpPr>
        <p:spPr>
          <a:xfrm>
            <a:off x="179280" y="765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41" name="AutoShape 22">
            <a:hlinkClick r:id="" action="ppaction://hlinkshowjump?jump=nextslide"/>
          </p:cNvPr>
          <p:cNvSpPr/>
          <p:nvPr/>
        </p:nvSpPr>
        <p:spPr>
          <a:xfrm>
            <a:off x="684360" y="33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pic>
        <p:nvPicPr>
          <p:cNvPr id="142" name="Picture 24" descr="10_01_26"/>
          <p:cNvPicPr/>
          <p:nvPr/>
        </p:nvPicPr>
        <p:blipFill>
          <a:blip r:embed="rId1"/>
          <a:stretch/>
        </p:blipFill>
        <p:spPr>
          <a:xfrm>
            <a:off x="1332000" y="2276640"/>
            <a:ext cx="1689120" cy="126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5" descr="10_01_30"/>
          <p:cNvPicPr/>
          <p:nvPr/>
        </p:nvPicPr>
        <p:blipFill>
          <a:blip r:embed="rId2"/>
          <a:stretch/>
        </p:blipFill>
        <p:spPr>
          <a:xfrm>
            <a:off x="1403280" y="429264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6" descr="10_01_25"/>
          <p:cNvPicPr/>
          <p:nvPr/>
        </p:nvPicPr>
        <p:blipFill>
          <a:blip r:embed="rId3"/>
          <a:stretch/>
        </p:blipFill>
        <p:spPr>
          <a:xfrm>
            <a:off x="4859280" y="2060640"/>
            <a:ext cx="1270080" cy="1689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7" descr="10_01_37"/>
          <p:cNvPicPr/>
          <p:nvPr/>
        </p:nvPicPr>
        <p:blipFill>
          <a:blip r:embed="rId4"/>
          <a:stretch/>
        </p:blipFill>
        <p:spPr>
          <a:xfrm>
            <a:off x="5508720" y="4149720"/>
            <a:ext cx="1689120" cy="1270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10_01_46"/>
          <p:cNvPicPr/>
          <p:nvPr/>
        </p:nvPicPr>
        <p:blipFill>
          <a:blip r:embed="rId5"/>
          <a:stretch/>
        </p:blipFill>
        <p:spPr>
          <a:xfrm>
            <a:off x="6732720" y="2133720"/>
            <a:ext cx="1269720" cy="168912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0">
            <a:hlinkClick r:id="" action="ppaction://hlinkshowjump?jump=nextslide"/>
          </p:cNvPr>
          <p:cNvSpPr/>
          <p:nvPr/>
        </p:nvSpPr>
        <p:spPr>
          <a:xfrm>
            <a:off x="179280" y="333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9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a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1908000" y="1125360"/>
            <a:ext cx="201960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оссворд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692360" y="1773360"/>
            <a:ext cx="181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Овощи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936720" y="1757520"/>
            <a:ext cx="21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936720" y="1757520"/>
            <a:ext cx="21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403280" y="692280"/>
          <a:ext cx="7129440" cy="5075280"/>
        </p:xfrm>
        <a:graphic>
          <a:graphicData uri="http://schemas.openxmlformats.org/drawingml/2006/table">
            <a:tbl>
              <a:tblPr/>
              <a:tblGrid>
                <a:gridCol w="712800"/>
                <a:gridCol w="712800"/>
                <a:gridCol w="712800"/>
                <a:gridCol w="714240"/>
                <a:gridCol w="712800"/>
                <a:gridCol w="711360"/>
                <a:gridCol w="714240"/>
                <a:gridCol w="712800"/>
                <a:gridCol w="712800"/>
                <a:gridCol w="712800"/>
              </a:tblGrid>
              <a:tr h="825480"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2   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10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7070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7070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70705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70705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70705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e6e6da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70705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AutoShape 137">
            <a:hlinkClick r:id="" action="ppaction://hlinkshowjump?jump=previousslide"/>
          </p:cNvPr>
          <p:cNvSpPr/>
          <p:nvPr/>
        </p:nvSpPr>
        <p:spPr>
          <a:xfrm>
            <a:off x="684360" y="69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4" name="AutoShape 138"/>
          <p:cNvSpPr/>
          <p:nvPr/>
        </p:nvSpPr>
        <p:spPr>
          <a:xfrm>
            <a:off x="684360" y="119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5" name="Text Box 176"/>
          <p:cNvSpPr/>
          <p:nvPr/>
        </p:nvSpPr>
        <p:spPr>
          <a:xfrm>
            <a:off x="4572000" y="7245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Г   У  Р  Е  Ц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6" name="Text Box 190"/>
          <p:cNvSpPr/>
          <p:nvPr/>
        </p:nvSpPr>
        <p:spPr>
          <a:xfrm>
            <a:off x="4859280" y="796608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Г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 О  Р  О  Х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7" name="Text Box 191"/>
          <p:cNvSpPr/>
          <p:nvPr/>
        </p:nvSpPr>
        <p:spPr>
          <a:xfrm>
            <a:off x="1258920" y="8685360"/>
            <a:ext cx="67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К  А  Р  Т  </a:t>
            </a: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Ф  Е  Л Ь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8" name="Text Box 192"/>
          <p:cNvSpPr/>
          <p:nvPr/>
        </p:nvSpPr>
        <p:spPr>
          <a:xfrm>
            <a:off x="4427640" y="9333000"/>
            <a:ext cx="37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Р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Е  Д  И  С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59" name="Text Box 193"/>
          <p:cNvSpPr/>
          <p:nvPr/>
        </p:nvSpPr>
        <p:spPr>
          <a:xfrm>
            <a:off x="7072200" y="5027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60" name="Text Box 194"/>
          <p:cNvSpPr/>
          <p:nvPr/>
        </p:nvSpPr>
        <p:spPr>
          <a:xfrm>
            <a:off x="4500720" y="9982080"/>
            <a:ext cx="22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Б  </a:t>
            </a: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О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Б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  <p:sp>
        <p:nvSpPr>
          <p:cNvPr id="161" name="Text Box 195"/>
          <p:cNvSpPr/>
          <p:nvPr/>
        </p:nvSpPr>
        <p:spPr>
          <a:xfrm flipV="1" rot="10800000">
            <a:off x="3708000" y="1048464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П О М  И </a:t>
            </a:r>
            <a:r>
              <a:rPr b="1" lang="ru-RU" sz="4000" spc="-1" strike="noStrike">
                <a:solidFill>
                  <a:srgbClr val="33cc33"/>
                </a:solidFill>
                <a:latin typeface="Verdana"/>
              </a:rPr>
              <a:t>Д</a:t>
            </a:r>
            <a:r>
              <a:rPr b="1" lang="ru-RU" sz="4000" spc="-1" strike="noStrike">
                <a:solidFill>
                  <a:srgbClr val="070705"/>
                </a:solidFill>
                <a:latin typeface="Verdana"/>
              </a:rPr>
              <a:t>  О  Р</a:t>
            </a:r>
            <a:endParaRPr b="0" lang="en-US" sz="4000" spc="-1" strike="noStrike">
              <a:solidFill>
                <a:srgbClr val="070705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5503 L -0.02309 -0.94243 E">
                                      <p:cBhvr>
                                        <p:cTn id="6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85 -0.03029 L -0.07482 -0.91121 E">
                                      <p:cBhvr>
                                        <p:cTn id="10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27168E-006 L 0.0158 -0.90196 E">
                                      <p:cBhvr>
                                        <p:cTn id="14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53618 L -0.00782 -0.86913 E">
                                      <p:cBhvr>
                                        <p:cTn id="18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27 0.00902 L -0.10069 -0.82728 E">
                                      <p:cBhvr>
                                        <p:cTn id="2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00139 L -0.23229 -0.80624 E">
                                      <p:cBhvr>
                                        <p:cTn id="26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06:47:30Z</dcterms:created>
  <dc:creator>user</dc:creator>
  <dc:description/>
  <dc:language>en-US</dc:language>
  <cp:lastModifiedBy>Пользователь Windows</cp:lastModifiedBy>
  <dcterms:modified xsi:type="dcterms:W3CDTF">2015-05-18T16:50:33Z</dcterms:modified>
  <cp:revision>39</cp:revision>
  <dc:subject/>
  <dc:title>Слайд 1</dc:title>
</cp:coreProperties>
</file>