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C83-6E81-4A15-9C2D-8A67473B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B0A-E0D3-458C-A471-9918B0F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C6F-AAFF-497E-81A7-2DD1AF68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26E-8426-4E1D-B218-BB13962F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879-C9F8-43BD-A6DA-3EAE68D5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13B8-853B-4B85-8C09-A867562A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D18D-9021-4A61-BB46-1F62F0D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A3FF-C224-4F75-BF54-A211771D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744-3FAC-491D-947D-711B99C1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D063-5B89-465E-BFC1-8B5CBC0C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DB3-91DA-474E-9E95-D36A7B6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8C3-A80D-4392-AC4D-08B2CF2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370-1CCE-4D7B-92A1-9B8C981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697E-44EA-459A-81C9-945D18F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7EA0-1B91-4198-B5A4-17C13F91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606F-D82A-4510-8D2E-71022270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DE8D-851D-4572-8798-1FC040E3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B53-9B95-4629-A197-A8DE1AB2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0EF-3C41-4B9E-815D-65D9DF1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6DC-55A5-4C68-9AAA-92927406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C25-0925-46B6-AF46-66761605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43A-79A6-45EE-A62C-922E161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C20-C073-4CD8-B45F-DC582F1C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D38-7592-4AE5-ABE3-51067D0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8A41-2EE0-4B19-B335-5E06C85457DF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1F2-E2BE-4371-A126-E89CC26EFDB7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172.30.10.55/Incoming/&#1050;&#1086;&#1085;&#1082;&#1091;&#1088;&#1089;%20&#1062;&#1054;&#1056;%20-%20&#1075;&#1086;&#1088;&#1086;&#1076;/&#1087;&#1088;&#1086;&#1074;&#1077;&#1088;&#1077;&#1085;&#1086;/&#1085;&#1072;%20&#1075;&#1086;&#1088;&#1086;&#1076;%20-%20&#1080;&#1090;&#1086;&#1075;/95%20-%20&#1051;&#1072;&#1074;&#1088;&#1080;&#1097;&#1091;&#1082;%20&#1053;&#1072;&#1090;&#1072;&#1083;&#1080;&#1103;%20&#1040;&#1083;&#1077;&#1082;&#1089;&#1072;&#1085;&#1076;&#1088;&#1086;&#1074;&#1085;&#1072;/&#1087;&#1088;&#1077;&#1079;&#1077;&#1085;&#1090;&#1072;&#1094;&#1080;&#1103;.ppt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172.30.10.55/Incoming/&#1050;&#1086;&#1085;&#1082;&#1091;&#1088;&#1089;%20&#1062;&#1054;&#1056;%20-%20&#1075;&#1086;&#1088;&#1086;&#1076;/&#1087;&#1088;&#1086;&#1074;&#1077;&#1088;&#1077;&#1085;&#1086;/&#1085;&#1072;%20&#1075;&#1086;&#1088;&#1086;&#1076;%20-%20&#1080;&#1090;&#1086;&#1075;/95%20-%20&#1051;&#1072;&#1074;&#1088;&#1080;&#1097;&#1091;&#1082;%20&#1053;&#1072;&#1090;&#1072;&#1083;&#1080;&#1103;%20&#1040;&#1083;&#1077;&#1082;&#1089;&#1072;&#1085;&#1076;&#1088;&#1086;&#1074;&#1085;&#1072;/&#1087;&#1088;&#1077;&#1079;&#1077;&#1085;&#1090;&#1072;&#1094;&#1080;&#1103;.ppt" TargetMode="Externa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4.xml"/><Relationship Id="rId6" Type="http://schemas.openxmlformats.org/officeDocument/2006/relationships/image" Target="../media/image4.jpeg"/><Relationship Id="rId7" Type="http://schemas.openxmlformats.org/officeDocument/2006/relationships/slide" Target="slide4.xml"/><Relationship Id="rId8" Type="http://schemas.openxmlformats.org/officeDocument/2006/relationships/image" Target="../media/image5.jpeg"/><Relationship Id="rId9" Type="http://schemas.openxmlformats.org/officeDocument/2006/relationships/slide" Target="slide5.xml"/><Relationship Id="rId10" Type="http://schemas.openxmlformats.org/officeDocument/2006/relationships/image" Target="../media/image6.jpeg"/><Relationship Id="rId11" Type="http://schemas.openxmlformats.org/officeDocument/2006/relationships/slide" Target="slide5.xml"/><Relationship Id="rId12" Type="http://schemas.openxmlformats.org/officeDocument/2006/relationships/image" Target="../media/image7.jpeg"/><Relationship Id="rId13" Type="http://schemas.openxmlformats.org/officeDocument/2006/relationships/slide" Target="slide4.xml"/><Relationship Id="rId14" Type="http://schemas.openxmlformats.org/officeDocument/2006/relationships/image" Target="../media/image8.jpeg"/><Relationship Id="rId15" Type="http://schemas.openxmlformats.org/officeDocument/2006/relationships/slide" Target="slide4.xml"/><Relationship Id="rId16" Type="http://schemas.openxmlformats.org/officeDocument/2006/relationships/image" Target="../media/image9.jpeg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2043000"/>
            <a:ext cx="7702560" cy="455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 u="sng">
                <a:solidFill>
                  <a:srgbClr val="33cc33"/>
                </a:solidFill>
                <a:uFillTx/>
                <a:latin typeface="Arial"/>
                <a:hlinkClick r:id="rId1"/>
              </a:rPr>
              <a:t>Индивидуальное логопедическое занятие</a:t>
            </a:r>
            <a:br>
              <a:rPr sz="5100"/>
            </a:br>
            <a:endParaRPr b="0" lang="en-US" sz="51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Автоматизация звука «Р» в многосложных словах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16" name="Picture 7" descr="a2b65e76af0d72fc2dfd48baf7b3ac3d"/>
          <p:cNvPicPr/>
          <p:nvPr/>
        </p:nvPicPr>
        <p:blipFill>
          <a:blip r:embed="rId2"/>
          <a:stretch/>
        </p:blipFill>
        <p:spPr>
          <a:xfrm>
            <a:off x="2700360" y="2997360"/>
            <a:ext cx="38098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cc33"/>
                </a:solidFill>
                <a:uFillTx/>
                <a:latin typeface="Arial"/>
                <a:hlinkClick r:id="rId1"/>
              </a:rPr>
              <a:t>Содержание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2" action="ppaction://hlinksldjump"/>
              </a:rPr>
              <a:t>Дидактическая игра «Собери урожай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3" action="ppaction://hlinksldjump"/>
              </a:rPr>
              <a:t>Задание «Расположи слова по количеству слогов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4" action="ppaction://hlinksldjump"/>
              </a:rPr>
              <a:t>Кроссворд «Овощи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previousslide"/>
          </p:cNvPr>
          <p:cNvSpPr/>
          <p:nvPr/>
        </p:nvSpPr>
        <p:spPr>
          <a:xfrm>
            <a:off x="468360" y="40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Выбери овощи, в названии которых есть звуки «Р, Р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’</a:t>
            </a: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21" name="Picture 4" descr="10_01_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0_01_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01_30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8436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10_01_3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600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0_01_28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0072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10_01_3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10_01_25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71636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0_01_46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659640" y="4005360"/>
            <a:ext cx="1270080" cy="16891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rId17" action="ppaction://hlinksldjump"/>
          </p:cNvPr>
          <p:cNvSpPr/>
          <p:nvPr/>
        </p:nvSpPr>
        <p:spPr>
          <a:xfrm>
            <a:off x="179280" y="189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755640" y="189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олодец!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2" name="AutoShape 5">
            <a:hlinkClick r:id="" action="ppaction://hlinkshowjump?jump=previousslide"/>
          </p:cNvPr>
          <p:cNvSpPr/>
          <p:nvPr/>
        </p:nvSpPr>
        <p:spPr>
          <a:xfrm>
            <a:off x="250920" y="26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33" name="Picture 6" descr="anim09"/>
          <p:cNvPicPr/>
          <p:nvPr/>
        </p:nvPicPr>
        <p:blipFill>
          <a:blip r:embed="rId1"/>
          <a:stretch/>
        </p:blipFill>
        <p:spPr>
          <a:xfrm>
            <a:off x="3857760" y="2752560"/>
            <a:ext cx="1428480" cy="1352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Подумай ещё!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2400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36" name="Picture 5" descr="79ce09b50a2b620d190479ba67404f31"/>
          <p:cNvPicPr/>
          <p:nvPr/>
        </p:nvPicPr>
        <p:blipFill>
          <a:blip r:embed="rId1"/>
          <a:stretch/>
        </p:blipFill>
        <p:spPr>
          <a:xfrm>
            <a:off x="2666880" y="1695600"/>
            <a:ext cx="3810240" cy="3466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f3f2d9"/>
                </a:solidFill>
                <a:latin typeface="Arial"/>
              </a:rPr>
              <a:t>А теперь расположи уже выбранные тобой овощи по количеству слогов в их названиях:</a:t>
            </a:r>
            <a:endParaRPr b="0" lang="en-US" sz="1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32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1557360"/>
          <a:ext cx="7499520" cy="446544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6e6da"/>
                          </a:solidFill>
                          <a:latin typeface="Verdana"/>
                        </a:rPr>
                        <a:t>2 слога</a:t>
                      </a:r>
                      <a:endParaRPr b="0" lang="en-US" sz="20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6e6da"/>
                      </a:solidFill>
                    </a:lnL>
                    <a:lnR w="5760">
                      <a:solidFill>
                        <a:srgbClr val="e6e6da"/>
                      </a:solidFill>
                    </a:lnR>
                    <a:lnT w="13680">
                      <a:solidFill>
                        <a:srgbClr val="e6e6da"/>
                      </a:solidFill>
                    </a:lnT>
                    <a:lnB w="5760">
                      <a:solidFill>
                        <a:srgbClr val="e6e6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6e6da"/>
                          </a:solidFill>
                          <a:latin typeface="Verdana"/>
                        </a:rPr>
                        <a:t>3 слога</a:t>
                      </a:r>
                      <a:endParaRPr b="0" lang="en-US" sz="20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da"/>
                      </a:solidFill>
                    </a:lnL>
                    <a:lnR w="13680">
                      <a:solidFill>
                        <a:srgbClr val="e6e6da"/>
                      </a:solidFill>
                    </a:lnR>
                    <a:lnT w="13680">
                      <a:solidFill>
                        <a:srgbClr val="e6e6da"/>
                      </a:solidFill>
                    </a:lnT>
                    <a:lnB w="5760">
                      <a:solidFill>
                        <a:srgbClr val="e6e6da"/>
                      </a:solidFill>
                    </a:lnB>
                    <a:noFill/>
                  </a:tcPr>
                </a:tc>
              </a:tr>
              <a:tr h="40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6e6da"/>
                      </a:solidFill>
                    </a:lnL>
                    <a:lnR w="5760">
                      <a:solidFill>
                        <a:srgbClr val="e6e6da"/>
                      </a:solidFill>
                    </a:lnR>
                    <a:lnT w="5760">
                      <a:solidFill>
                        <a:srgbClr val="e6e6da"/>
                      </a:solidFill>
                    </a:lnT>
                    <a:lnB w="13680">
                      <a:solidFill>
                        <a:srgbClr val="e6e6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da"/>
                      </a:solidFill>
                    </a:lnL>
                    <a:lnR w="13680">
                      <a:solidFill>
                        <a:srgbClr val="e6e6da"/>
                      </a:solidFill>
                    </a:lnR>
                    <a:lnT w="5760">
                      <a:solidFill>
                        <a:srgbClr val="e6e6da"/>
                      </a:solidFill>
                    </a:lnT>
                    <a:lnB w="13680">
                      <a:solidFill>
                        <a:srgbClr val="e6e6d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20"/>
          <p:cNvSpPr/>
          <p:nvPr/>
        </p:nvSpPr>
        <p:spPr>
          <a:xfrm>
            <a:off x="179280" y="765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41" name="AutoShape 22">
            <a:hlinkClick r:id="" action="ppaction://hlinkshowjump?jump=nextslide"/>
          </p:cNvPr>
          <p:cNvSpPr/>
          <p:nvPr/>
        </p:nvSpPr>
        <p:spPr>
          <a:xfrm>
            <a:off x="68436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42" name="Picture 24" descr="10_01_26"/>
          <p:cNvPicPr/>
          <p:nvPr/>
        </p:nvPicPr>
        <p:blipFill>
          <a:blip r:embed="rId1"/>
          <a:stretch/>
        </p:blipFill>
        <p:spPr>
          <a:xfrm>
            <a:off x="1332000" y="227664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10_01_30"/>
          <p:cNvPicPr/>
          <p:nvPr/>
        </p:nvPicPr>
        <p:blipFill>
          <a:blip r:embed="rId2"/>
          <a:stretch/>
        </p:blipFill>
        <p:spPr>
          <a:xfrm>
            <a:off x="1403280" y="429264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10_01_25"/>
          <p:cNvPicPr/>
          <p:nvPr/>
        </p:nvPicPr>
        <p:blipFill>
          <a:blip r:embed="rId3"/>
          <a:stretch/>
        </p:blipFill>
        <p:spPr>
          <a:xfrm>
            <a:off x="4859280" y="206064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10_01_37"/>
          <p:cNvPicPr/>
          <p:nvPr/>
        </p:nvPicPr>
        <p:blipFill>
          <a:blip r:embed="rId4"/>
          <a:stretch/>
        </p:blipFill>
        <p:spPr>
          <a:xfrm>
            <a:off x="5508720" y="414972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10_01_46"/>
          <p:cNvPicPr/>
          <p:nvPr/>
        </p:nvPicPr>
        <p:blipFill>
          <a:blip r:embed="rId5"/>
          <a:stretch/>
        </p:blipFill>
        <p:spPr>
          <a:xfrm>
            <a:off x="6732720" y="2133720"/>
            <a:ext cx="1269720" cy="16891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0">
            <a:hlinkClick r:id="" action="ppaction://hlinkshowjump?jump=nextslide"/>
          </p:cNvPr>
          <p:cNvSpPr/>
          <p:nvPr/>
        </p:nvSpPr>
        <p:spPr>
          <a:xfrm>
            <a:off x="17928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20196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692360" y="1773360"/>
            <a:ext cx="181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вощ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36720" y="1757520"/>
            <a:ext cx="21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36720" y="1757520"/>
            <a:ext cx="21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692280"/>
          <a:ext cx="7129440" cy="5075280"/>
        </p:xfrm>
        <a:graphic>
          <a:graphicData uri="http://schemas.openxmlformats.org/drawingml/2006/table">
            <a:tbl>
              <a:tblPr/>
              <a:tblGrid>
                <a:gridCol w="712800"/>
                <a:gridCol w="712800"/>
                <a:gridCol w="712800"/>
                <a:gridCol w="714240"/>
                <a:gridCol w="712800"/>
                <a:gridCol w="711360"/>
                <a:gridCol w="714240"/>
                <a:gridCol w="712800"/>
                <a:gridCol w="712800"/>
                <a:gridCol w="712800"/>
              </a:tblGrid>
              <a:tr h="82548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7070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7070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7070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7070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6e6d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AutoShape 137">
            <a:hlinkClick r:id="" action="ppaction://hlinkshowjump?jump=previousslide"/>
          </p:cNvPr>
          <p:cNvSpPr/>
          <p:nvPr/>
        </p:nvSpPr>
        <p:spPr>
          <a:xfrm>
            <a:off x="684360" y="69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4" name="AutoShape 138"/>
          <p:cNvSpPr/>
          <p:nvPr/>
        </p:nvSpPr>
        <p:spPr>
          <a:xfrm>
            <a:off x="684360" y="119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5" name="Text Box 176"/>
          <p:cNvSpPr/>
          <p:nvPr/>
        </p:nvSpPr>
        <p:spPr>
          <a:xfrm>
            <a:off x="4572000" y="7245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Г   У  Р  Е  Ц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6" name="Text Box 190"/>
          <p:cNvSpPr/>
          <p:nvPr/>
        </p:nvSpPr>
        <p:spPr>
          <a:xfrm>
            <a:off x="4859280" y="79660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Г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 О  Р  О  Х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7" name="Text Box 191"/>
          <p:cNvSpPr/>
          <p:nvPr/>
        </p:nvSpPr>
        <p:spPr>
          <a:xfrm>
            <a:off x="1258920" y="8685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К  А  Р  Т 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Ф  Е  Л Ь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8" name="Text Box 192"/>
          <p:cNvSpPr/>
          <p:nvPr/>
        </p:nvSpPr>
        <p:spPr>
          <a:xfrm>
            <a:off x="4427640" y="9333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Р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Е  Д  И  С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9" name="Text Box 193"/>
          <p:cNvSpPr/>
          <p:nvPr/>
        </p:nvSpPr>
        <p:spPr>
          <a:xfrm>
            <a:off x="7072200" y="502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60" name="Text Box 194"/>
          <p:cNvSpPr/>
          <p:nvPr/>
        </p:nvSpPr>
        <p:spPr>
          <a:xfrm>
            <a:off x="4500720" y="9982080"/>
            <a:ext cx="22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Б 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Б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61" name="Text Box 195"/>
          <p:cNvSpPr/>
          <p:nvPr/>
        </p:nvSpPr>
        <p:spPr>
          <a:xfrm flipV="1" rot="10800000">
            <a:off x="3708000" y="104846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П О М  И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Д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О  Р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5503 L -0.02309 -0.9424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85 -0.03029 L -0.07482 -0.91121 E">
                                      <p:cBhvr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7168E-006 L 0.0158 -0.90196 E">
                                      <p:cBhvr>
                                        <p:cTn id="1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53618 L -0.00782 -0.86913 E">
                                      <p:cBhvr>
                                        <p:cTn id="1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27 0.00902 L -0.10069 -0.82728 E">
                                      <p:cBhvr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0139 L -0.23229 -0.80624 E">
                                      <p:cBhvr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6:47:30Z</dcterms:created>
  <dc:creator>user</dc:creator>
  <dc:description/>
  <dc:language>en-US</dc:language>
  <cp:lastModifiedBy>Пользователь Windows</cp:lastModifiedBy>
  <dcterms:modified xsi:type="dcterms:W3CDTF">2015-05-18T16:50:33Z</dcterms:modified>
  <cp:revision>39</cp:revision>
  <dc:subject/>
  <dc:title>Слайд 1</dc:title>
</cp:coreProperties>
</file>