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38B-E392-478D-9D77-B49F0AAE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E71-958F-475F-A08D-6F77B9D2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E89-97B8-45B8-9998-25C25FE0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0E1-A978-4894-8A6D-A04B2B68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4FB-8353-4436-9829-C42E7ACD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E62-9C61-4A99-98C2-26DB3EC9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6AD-46CF-4234-91CA-1C2FA29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75A-DA00-4AE5-AC98-3DD02EC5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185-EAA4-47EE-BCE1-80158ECB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77D-9E0B-497F-8180-E72D8694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F8C-D6D8-4E26-84E3-9C760347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F34-8754-4A84-BBE1-71B7CE0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B81C-9252-4191-A1FA-1D6534C1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ОУ  «Сладковская  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Формулы объема куба, прямоугольного параллелепип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Кайгородова С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6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² = a² + b² +c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264960"/>
            <a:ext cx="4114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поверхности к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ональ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бъем к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ональ  к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17528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вариум имеет форму прямоуго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ллелепипеда с размерами 80 см 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 см × 40 см. Сколько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ляет объём аквариум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дном литре 1000 кубиче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ти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undefined"/>
          <p:cNvPicPr/>
          <p:nvPr/>
        </p:nvPicPr>
        <p:blipFill>
          <a:blip r:embed="rId2"/>
          <a:stretch/>
        </p:blipFill>
        <p:spPr>
          <a:xfrm>
            <a:off x="5715000" y="4343400"/>
            <a:ext cx="27432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ребра прямоугольного параллелепипеда равны 8 и 5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объём параллелепипеда равен 280. Найдите площадь поверхности этого параллелепипе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undefined"/>
          <p:cNvPicPr/>
          <p:nvPr/>
        </p:nvPicPr>
        <p:blipFill>
          <a:blip r:embed="rId2"/>
          <a:stretch/>
        </p:blipFill>
        <p:spPr>
          <a:xfrm>
            <a:off x="6019920" y="3827520"/>
            <a:ext cx="25905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ямоугольном параллелепипеде ABCD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рёбра CD , CB  и диагональ боковой грани C 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равны соответственно 3, 4 и 5. Найдите объём параллелепипеда ABCD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undefined"/>
          <p:cNvPicPr/>
          <p:nvPr/>
        </p:nvPicPr>
        <p:blipFill>
          <a:blip r:embed="rId2"/>
          <a:stretch/>
        </p:blipFill>
        <p:spPr>
          <a:xfrm>
            <a:off x="4724280" y="3733920"/>
            <a:ext cx="35816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щадь поверхности куба равна 1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те его диагон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3600" y="3726000"/>
            <a:ext cx="25909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 сколько раз увеличится объ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ба, если его ребра увеличить в т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28958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1-20T14:44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