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91B-52A5-4F0C-80A8-BFBC850F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BFE-AA1E-41A6-8965-E06AC116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B7FD-0B71-44CA-B1EC-370B9144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31B-6B94-4C48-AC71-233E7092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E96-0DA3-4344-9513-4A8346F69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E14B-E173-4C4B-9DC6-3F80B8F7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A117-FF0B-43F7-8DE5-3FDE0C46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663-9877-4709-AA54-A4F7844B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5A2-97E7-4986-AB6E-08363F95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28A5-47C5-459F-BE75-23F7E563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2334-5161-4732-9CF7-AF4D0436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48D0-0EB7-4486-8F05-392A4ABE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D6CD-801A-4D12-B55F-0069A6E9D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ОУ  «Сладковская  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3300"/>
                </a:solidFill>
                <a:latin typeface="Arial"/>
              </a:rPr>
              <a:t>Формулы объема куба, прямоугольного параллелепипе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Кайгородова С.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4114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=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6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² = a² + b² +c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264960"/>
            <a:ext cx="4114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ощадь поверхности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ь прямоугольного параллелепипе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Объем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гональ  ку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447920"/>
            <a:ext cx="1752840" cy="6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807732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квариум имеет форму прямоуголь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епипеда с размерами 80 см 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 см × 40 см. Сколько лит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ляет объём аквариум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дном литре 1000 кубичес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тимет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undefined"/>
          <p:cNvPicPr/>
          <p:nvPr/>
        </p:nvPicPr>
        <p:blipFill>
          <a:blip r:embed="rId2"/>
          <a:stretch/>
        </p:blipFill>
        <p:spPr>
          <a:xfrm>
            <a:off x="5715000" y="4343400"/>
            <a:ext cx="27432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ребра прямоугольного параллелепипеда равны 8 и 5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объём параллелепипеда равен 280. Найдите площадь поверхности этого параллелепипе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undefined"/>
          <p:cNvPicPr/>
          <p:nvPr/>
        </p:nvPicPr>
        <p:blipFill>
          <a:blip r:embed="rId2"/>
          <a:stretch/>
        </p:blipFill>
        <p:spPr>
          <a:xfrm>
            <a:off x="6019920" y="3827520"/>
            <a:ext cx="25905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прямоугольном параллелепипеде ABCD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рёбра CD , CB  и диагональ боковой грани C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равны соответственно 3, 4 и 5. Найдите объём параллелепипеда ABCD 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undefined"/>
          <p:cNvPicPr/>
          <p:nvPr/>
        </p:nvPicPr>
        <p:blipFill>
          <a:blip r:embed="rId2"/>
          <a:stretch/>
        </p:blipFill>
        <p:spPr>
          <a:xfrm>
            <a:off x="4724280" y="3733920"/>
            <a:ext cx="358164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фильный уров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лощадь поверхности куба равна 1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айдите его диагона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943600" y="3726000"/>
            <a:ext cx="25909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о сколько раз увеличится объ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уба, если его ребра увеличить в 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аза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28958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01-20T14:44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