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29E-17C3-4FAD-B9D9-873281B7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082-941A-4B0A-AC9A-8AE09F3F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D07-9EE9-45E8-957C-5EDA1A3A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836-96FC-43C1-8A33-A4C547A0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4D54-65FA-40D0-887A-5A24CE9A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717A-7008-4B2C-9873-CF00E788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14F4-1388-4291-AB4A-69FF68C2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69AC-336E-4E60-8FE6-42FF4E8C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D3D2-27C1-49A3-9F19-E6442CE0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999D-393F-4310-90BC-522D8FF7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89F5-9121-49A8-835C-531755A0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9FC-3613-49FD-936E-08362BCE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1B2B-9D2E-487B-B237-D1E77B12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14C2-0890-4FEE-8D5B-E986372E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45F7-5230-49BA-9AA2-3224EE68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4A12-99B0-4A8C-A42D-18AFE4E8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2B31-0CDB-43F4-8693-A9655499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13A-7E67-45EB-B45B-7F4F1CF3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FCE-D120-44E4-8FB4-19AFBA9A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0F2-D61C-4BC8-B48A-AC9ABC6A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39C-FECA-4B64-8587-1686D995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053-CFED-4683-9967-BD4AA5A6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E0B-951C-43C5-9418-D35E666A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C19-D97B-434F-B08A-C970FF56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C854-95EB-40F4-AC5E-E449185E54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0EFB-C01A-4831-AF1F-78E42299ED9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2803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bbd71"/>
                </a:solidFill>
                <a:latin typeface="Arial"/>
              </a:rPr>
              <a:t>Технология развития критического мышле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ием «толстый и тонкий вопросы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лстый вопрос– вопрос на который предполагается долги и развернутый отв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нкий вопрос – вопрос на который предполагается однозначный, фактически отв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bbd71"/>
                </a:solidFill>
                <a:latin typeface="Arial"/>
              </a:rPr>
              <a:t>Прием «пометки на полях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галочка»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 - известная ученику информ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люс» (+) – новая информ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минус» (-) – информация, идущая в разрез с имеющимися представлен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вопрос» (?) – непонятная информация, вызывающая желание узнать подробне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ием «маркировочная таблица ЗУХ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2670120"/>
          <a:ext cx="8229600" cy="2500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нал нов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чу узнать подробне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ием «написание синквейна»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строчка – одно существительное, являющееся темой синквей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строчка – два прилагательных, раскрывающих те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строчка – три глагола, описывающих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строчка – фраза в контексте т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строчка – слово-резюме, дающее новую интерпретацию т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bbd71"/>
                </a:solidFill>
                <a:latin typeface="Arial"/>
              </a:rPr>
              <a:t>Прием «написание эссе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0760" y="2303640"/>
            <a:ext cx="79311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Я пишу для того чтобы понять, что я думаю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Мои дети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нарисуйте картинку на тему: «мои дети». Это могут быть ваши ученики, дети, все кого вам приходилось воспитыв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отсюда – сюда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ьте карту «отсюда - сюда» из 8 – 9 звеньев для осуществления поставленной цели: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как повысит успеваемость своих воспитанников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мозговая атака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л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ведцщ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точнение вопро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точнять иде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бужд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секретар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исывать иде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едить за времен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Участники мозговой ата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хнология: участники высказывают мысли по очереди. Если кто-то не готов предложить идею, он пропускает ход. Этот вариант способствует развитию у участников умение слушать другого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а: «как учитель может избежать появления на уроке неприятных ощущений у своих учеников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по ассоциации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списка слов – ветер, земное притяжение, природа, катастрофа, жара, - выберите 1-2 символа и изобразите их в виде знаков, символов – глоссов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итическое мышление - эт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бый вид мышления, имеющий целью оценк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д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стематическая оценка аргументов, основанная на ясных рациональных критериях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бый вид умственной деятельности, позволяющий человеку вынести здравое суждение о предложенной ему точке зрения или модели по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ятие обдуманных решений о том как следует поступать и во что вери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шление, влекущее самоусовершенство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азмышляйте над этим. Только – критическ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дети выражают свои мысли, обсуждают идеи, порой это выглядит нелепо. Но с другой стороны, а где им и когда еще учиться мыслит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итическое мышление помогает детям чувствовать себя увере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агодаря этому методу ученик сможет научиться читать по-настоящему, а не только озвучивать написанное в книг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и методы не для нас. У нас другая ментальность, культура. При плохом образовании Гагарин не полетел бы в космос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не знала, что все, что я хотела делать и пыталась осуществить, называется технологией развития критического мыш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пределение, предлагаемое Дэвидом Клустером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итическое мышление есть мышление самостоятельно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итическое мышление стремится к убедительной аргумент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итическое мышление есть мышление социальн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ормация является отправным а не конечны пунктом критического мыш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итическое мышление начинается с постановки вопросов и уяснения проблем которые нужно реши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Технология развития критического мышл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КМ – это современная образовательная технология, направленная на развитие критического мышления у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КМ апробирована педагогами из различных стран мира, и с 1997-1998 года успешно развивается в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bbd71"/>
                </a:solidFill>
                <a:latin typeface="Arial"/>
              </a:rPr>
              <a:t>Цель технологи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05848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мыслительных компетенций для эффективного решения социальных, научных и практических проб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bbd71"/>
                </a:solidFill>
                <a:latin typeface="Arial"/>
              </a:rPr>
              <a:t>Задачи технологи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енно повысить интерес учеников как к изучаемому материалу так и самому процессу обу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ть у учеников умение самостоятельно обрабатывать информацию и осуществлять осознанный выбор во всех сферах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енно повысить эффективность восприятия информации ученик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формировать навыки работы в коллектив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bbd71"/>
                </a:solidFill>
                <a:latin typeface="Arial"/>
              </a:rPr>
              <a:t>Структура технологи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ыз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и обобщение имеющихся зн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буждение к активной работе на урок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смыс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новой информ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мысление 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отнесение с уже имеющимися знани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Рефлекс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остное осмысление, обобщение полученной информ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своение нового зн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ирование собственного отношения к изучаемому материал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ием «корзина» идей, понятий, имен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ется прямой вопрос о том, что известно по данной т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ый ученик записывает все, что он знает по данной т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мен информацией в парах или групп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ая группа называет одно сведение или фак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сведения учитель записывает в «корзине» ид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шибки исправляются по мере освоения нов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ием «составление кластера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к записывает в центре листа ключевое понятие, а от него рисует стрелки-лучи в разные стороны, которые соединяют это слово с другими, от которых в свою очередь лучи расходятся дале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n7</dc:creator>
  <dc:description/>
  <dc:language>en-US</dc:language>
  <cp:lastModifiedBy>Win7</cp:lastModifiedBy>
  <dcterms:modified xsi:type="dcterms:W3CDTF">2016-03-19T12:13:2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