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F8C-7EE0-451E-828C-476ADD309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6964-55C4-410F-92E7-E239FF17C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3934-84A9-4E57-9435-E8B07C10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89F-C15E-46A9-8012-20D1493D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1AA4-9913-4E4D-BB09-2157D7E6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699B-B5BF-4500-A116-8E516D0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FBF-A3A9-43C1-BDCE-01C5B42B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B247-A0D3-435E-BC6A-77C525A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5E6F-FC5B-4BF8-BCBB-0CEAE61C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AF6B-8273-4B3A-B9A7-E23A8222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41AA-6EB3-4898-81F0-89F30E9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0DF-F0F4-44E2-94EA-5D5F4C43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628CF-CA14-4310-9DEF-F79DC49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730A-1418-4AC1-938E-A926FFCC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A757-40ED-4BAD-B77D-1F3AEDD2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6EB0B-E997-4302-B5AE-28002E4A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44B2-5571-43A9-83AD-CDFF4F4E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74F6-1427-4B67-A961-388C1FAF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7B8-7588-44C2-8EAD-FCCD6EE4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9EF-FB35-49A6-99EE-C615A2C0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42F-4244-4D9A-94E8-5EBC7808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6D7-7855-41A9-9171-D151F3A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4FE0-2710-4730-88F2-CB99821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575C-4828-4A67-8B51-D8CC11D8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4F07-8054-4F6F-9564-BA3D4031DF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A760-6910-43DA-B77D-4337824061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2803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dbbd71"/>
                </a:solidFill>
                <a:latin typeface="Arial"/>
              </a:rPr>
              <a:t>Технология развития критического мышления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толстый и тонкий вопросы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лстый вопрос– вопрос на который предполагается долги и развернутый от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616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нкий вопрос – вопрос на который предполагается однозначный, фактически отв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Прием «пометки на полях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галочка»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  - известная ученику информ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люс» (+) – новая информ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минус» (-) – информация, идущая в разрез с имеющимися представлени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опрос» (?) – непонятная информация, вызывающая желание узнать подробне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маркировочная таблица ЗУХ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2670120"/>
          <a:ext cx="8229600" cy="2500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знал но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у узнать подробне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написание синквейна»</a:t>
            </a: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 строчка – одно существительное, являющееся темой синквей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 строчка – два прилагательных, раскрывающих те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 строчка – три глагола, описывающих действ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4 строчка – фраза в контексте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5 строчка – слово-резюме, дающее новую интерпретацию т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Прием «написание эссе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0760" y="2303640"/>
            <a:ext cx="79311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Я пишу для того чтобы понять, что я думаю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Мои дет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ние нарисуйте картинку на тему: «мои дети». Это могут быть ваши ученики, дети, все кого вам приходилось воспитыва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отсюда – сюд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ьте карту «отсюда - сюда» из 8 – 9 звеньев для осуществления поставленной цели: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как повысит успеваемость своих воспитанников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мозговая атака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ол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ведцщ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ение вопр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ять ид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бужд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секретар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писывать иде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едить за времен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.Участники мозговой ата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хнология: участники высказывают мысли по очереди. Если кто-то не готов предложить идею, он пропускает ход. Этот вариант способствует развитию у участников умение слушать 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ма: «как учитель может избежать появления на уроке неприятных ощущений у своих учеников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«по ассоциации»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списка слов – ветер, земное притяжение, природа, катастрофа, жара, - выберите 1-2 символа и изобразите их в виде знаков, символов – глоссов.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итическое мышление - эт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й вид мышления, имеющий целью оценку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д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атическая оценка аргументов, основанная на ясных рациональных критериях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обый вид умственной деятельности, позволяющий человеку вынести здравое суждение о предложенной ему точке зрения или модели повед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ятие обдуманных решений о том как следует поступать и во что вер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шление, влекущее самоусовершенств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Размышляйте над этим. Только – критически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дети выражают свои мысли, обсуждают идеи, порой это выглядит нелепо. Но с другой стороны, а где им и когда еще учиться мыслит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итическое мышление помогает детям чувствовать себя увер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агодаря этому методу ученик сможет научиться читать по-настоящему, а не только озвучивать написанное в книг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Эти методы не для нас. У нас другая ментальность, культура. При плохом образовании Гагарин не полетел бы в космос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не знала, что все, что я хотела делать и пыталась осуществить, называется технологией развития критического мыш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Определение, предлагаемое Дэвидом Клустером: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есть мышление самостоятельно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стремится к убедительной аргумент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есть мышление социальн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нформация является отправным а не конечны пунктом критического мыш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тическое мышление начинается с постановки вопросов и уяснения проблем которые нужно реши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Технология развития критического мышления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КМ – это современная образовательная технология, направленная на развитие критического мышления у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КМ апробирована педагогами из различных стран мира, и с 1997-1998 года успешно развивается в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Цель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мыслительных компетенций для эффективного решения социальных, научных и практических пробле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Задачи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 повысить интерес учеников как к изучаемому материалу так и самому процессу обуч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ть у учеников умение самостоятельно обрабатывать информацию и осуществлять осознанный выбор во всех сферах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ущественно повысить эффективность восприятия информации ученикам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формировать навыки работы в коллективе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dbbd71"/>
                </a:solidFill>
                <a:latin typeface="Arial"/>
              </a:rPr>
              <a:t>Структура технологии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ыз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и обобщение имеющихся зна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буждение к активной работе на уро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Осмыс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ение нов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мысление 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отнесение с уже имеющимися знани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Рефлекс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остное осмысление, обобщение полученной информ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своение нового зн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ормирование собственного отношения к изучаемому материал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корзина» идей, понятий, имен…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дается прямой вопрос о том, что известно по данной 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ый ученик записывает все, что он знает по данной т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мен информацией в парах или групп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ая группа называет одно сведение или фа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сведения учитель записывает в «корзине» и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шибки исправляются по мере освоения новой информа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ием «составление кластера»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 записывает в центре листа ключевое понятие, а от него рисует стрелки-лучи в разные стороны, которые соединяют это слово с другими, от которых в свою очередь лучи расходятся дале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7</dc:creator>
  <dc:description/>
  <dc:language>en-US</dc:language>
  <cp:lastModifiedBy>Win7</cp:lastModifiedBy>
  <dcterms:modified xsi:type="dcterms:W3CDTF">2016-03-19T12:13:2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