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DFC1-B498-4546-9E69-10315891DC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6358-A1CD-45AD-BED0-21927233AC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363-A4E6-4651-833C-E28609D8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B58-A65C-4C7C-85E0-FCDE90AB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D008-9FDD-4510-9014-55EB6DDD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D00A-FBEF-46A1-B311-5F352E5C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D15E-E375-404C-A3FA-9652E0BF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921-9286-4E28-A5A1-A8D66BA3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887D-C36F-42B4-8E31-157E5802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41CD-B147-4561-BA5A-680FCEFC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FEB4-A05F-46CB-821D-5A9C15E6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7CD8-54EF-4E16-A648-D537D8CC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65D0-5389-4597-93CC-C6A064A4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E15-FAE8-41A2-9F58-6E8CE504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3F69-6B54-494E-A054-CF9F1DE7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0024-25A1-43DC-9AA4-B9C6C6B0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8AE1-3BC1-4D87-BCED-6AB80F0B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C30A-603F-42D6-935B-629CA90BE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1B66-043F-47C1-A318-052A9C37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BE3-DCBA-4A0F-8979-33731C5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881-E07F-4CBC-A5FA-507DAD96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640-1F64-4FC3-BAB2-C8C76D4B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52FD-EB96-4597-8E6F-E2B9BCC3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ABF-43A4-44A5-9159-708D23BF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C4A-E402-442C-A7E5-ACD3945F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57C-5795-4968-9CB4-346F8285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9CC5-1916-4E85-BB8D-EC8B4B1CDF4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5726-A72E-4F54-BAA9-D30A1CEFE60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900000" y="692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«Дети – цветы жизни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3" name="Picture 4" descr="kid6"/>
          <p:cNvPicPr/>
          <p:nvPr/>
        </p:nvPicPr>
        <p:blipFill>
          <a:blip r:embed="rId1"/>
          <a:stretch/>
        </p:blipFill>
        <p:spPr>
          <a:xfrm>
            <a:off x="250920" y="1413000"/>
            <a:ext cx="4573440" cy="460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hands"/>
          <p:cNvPicPr/>
          <p:nvPr/>
        </p:nvPicPr>
        <p:blipFill>
          <a:blip r:embed="rId2"/>
          <a:stretch/>
        </p:blipFill>
        <p:spPr>
          <a:xfrm>
            <a:off x="3851280" y="1413000"/>
            <a:ext cx="50576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79280" y="189000"/>
            <a:ext cx="4572000" cy="68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Georgia"/>
              </a:rPr>
              <a:t>Научными исследованиями установлено, ч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силие в той или иной форме совершается в каждой четвертой российской семь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жегодно около 2 млн. детей в возрасте до 14 лет избиваются родителям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10% этих детей исходом становится смерть, а для 2 тыс.- самоубийство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более 50 тыс. детей в течение года уходят из дома, спасаясь от собственных родителей, а 25 тыс. несовершеннолетних находятся в розыск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4" descr="41934889_bit"/>
          <p:cNvPicPr/>
          <p:nvPr/>
        </p:nvPicPr>
        <p:blipFill>
          <a:blip r:embed="rId1"/>
          <a:stretch/>
        </p:blipFill>
        <p:spPr>
          <a:xfrm>
            <a:off x="4788000" y="907920"/>
            <a:ext cx="41083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324000" y="47628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Georgia"/>
              </a:rPr>
              <a:t>Основная причина жестокого обращения с детьми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утренняя агрессивность – эмоциональное состояние, возникающее как реакция на переживание непреодолимости каких-то барьеров или недоступность чего-то желанного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7" name="Picture 4" descr="ep2008_10_23_571"/>
          <p:cNvPicPr/>
          <p:nvPr/>
        </p:nvPicPr>
        <p:blipFill>
          <a:blip r:embed="rId1"/>
          <a:stretch/>
        </p:blipFill>
        <p:spPr>
          <a:xfrm>
            <a:off x="2340000" y="3284640"/>
            <a:ext cx="468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144800" y="333360"/>
            <a:ext cx="67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nstantia"/>
              </a:rPr>
              <a:t>Жестокое обращение с детьми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395280" y="1052640"/>
            <a:ext cx="79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f6fc6"/>
                </a:solidFill>
                <a:uFillTx/>
                <a:latin typeface="Constantia"/>
              </a:rPr>
              <a:t>основные формы жестокого обращения с детьм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изическое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– преднамеренное нанесение физических повреждени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ексуальное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ли развращение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) - вовлечение ребёнка с его согласия и без такого в сексуальные действия со взрослыми с целью получения последними удовлетворения или выгод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сихическое (эмоциональное) насили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периодическое, длительное или постоянное психическое воздействие на ребёнка, тормозящее развитие личности и приводящее к формированию патологических черт характе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324000" y="404640"/>
            <a:ext cx="799308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Constantia"/>
              </a:rPr>
              <a:t>Защита прав и достоинств ребёнка в законодательных акт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00000"/>
                </a:solidFill>
                <a:uFillTx/>
                <a:latin typeface="Constantia"/>
              </a:rPr>
              <a:t>Конвенция ООН о правах ребёнка</a:t>
            </a:r>
            <a:r>
              <a:rPr b="0" lang="ru-RU" sz="1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даёт определение понятия «жестокое обращение» и определяет меры защиты (ст.19), а также устанавливает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еспечение в максимально возможной степени здорового развития личности (ст.6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от произвольного или незаконного вмешательства в личную жизнь ребёнка, от посягательств на его честь и репутацию (ст.16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беспечение мер по борьбе с болезнями и недоеданием (ст.24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ризнание права каждого ребёнка на уровень жизни, необходимый для физического, умственного, духовного, нравственного и социального развития (ст.2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ребёнка от сексуального посягательства (ст.34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защиту ребёнка от других форм жестокого обращения (ст.37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ры помощи ребёнку, явившемуся жертвой жестокого обращения (ст.39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250920" y="692280"/>
            <a:ext cx="8066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Уголовный кодекс РФ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едусматривает ответственност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совершение физического и сексуального насилия, в том числе и в отношении несовершеннолетних (ст.106-13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 преступления против семьи и несовершеннолетних (ст.150-157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324000" y="260280"/>
            <a:ext cx="8280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Семейный кодекс РФ</a:t>
            </a:r>
            <a:r>
              <a:rPr b="0" lang="ru-RU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рантирует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аво ребёнка на уважение его человеческого достоинства (ст.5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аво ребёнка на защиту и обязанности органа опеки и попечительства принять меры по защите ребёнка (ст.56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шение родительских прав как меру защиты детей от жестокого обращения с ними в семье (ст.69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медленное отбирание ребёнка при непосредственной угрозе жизни и здоровью (ст.77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1407960" y="333360"/>
            <a:ext cx="72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Четыре заповеди мудрого родител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611280" y="105264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пытайтесь сделать из ребёнка самого-самог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684360" y="2133720"/>
            <a:ext cx="777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Не сравнивайте вслух ребёнка с другими деть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353520" y="3357720"/>
            <a:ext cx="63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Перестаньте шантажироват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604440" y="4508640"/>
            <a:ext cx="47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Избегайте свидетел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87267"/>
          <p:cNvPicPr/>
          <p:nvPr/>
        </p:nvPicPr>
        <p:blipFill>
          <a:blip r:embed="rId1"/>
          <a:stretch/>
        </p:blipFill>
        <p:spPr>
          <a:xfrm>
            <a:off x="179280" y="404640"/>
            <a:ext cx="4032360" cy="5904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2"/>
          <p:cNvSpPr/>
          <p:nvPr/>
        </p:nvSpPr>
        <p:spPr>
          <a:xfrm>
            <a:off x="4356000" y="112680"/>
            <a:ext cx="4572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ети – главный подарок для мир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 ними чудесней земная картин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сё понимают, берутся за вс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учшее с ними людское житьё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енько слабы, неумелы их ру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о некогда думать ребятам о скуке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виженьях, заботах их время проход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дача к усердным с годами приходи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детские годы мечты расцветаю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зрослые часто об этом не знают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адо детишкам права объясни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гому надо их обучить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ир станет лучше на нашей планет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Если счастливыми будут все дети!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иктор Павло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684360" y="112536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Поощрение и наказание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в процессе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nstantia"/>
              </a:rPr>
              <a:t>воспитания ребенка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50920" y="4762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ощрение и наказание могут осуществляться в двух формах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материальной    и  психологической (духовной)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50920" y="27115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"Куплю конфету – не куплю конфету"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3708360" y="256536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ощрение (внимание к ребенку, сопереживание ему, поддержка, вера и т.д.) и наказание (огорчение, обида, показное равнодушие, сердитость, в крайних вариантах гне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468360" y="719280"/>
            <a:ext cx="8028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граничители похвал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ребенка за то, что достигнуто ребенком не своим трудом (красота, ум, сила, здоровье и т.д.)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больше двух раз за одно и то ж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из жалости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хвалить из желания понравить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еловеку в день нужно не менее 8 "поглаживаний", желательно, разных по способу и степени проявле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1908000" y="33480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Типы       похвалы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250920" y="1128240"/>
            <a:ext cx="4176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1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Компенсация"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.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Используется для тех детей, у которых чего-то серьезно не хватает (физический недостаток, плохой характер, неудачи в жизни). </a:t>
            </a:r>
            <a:br>
              <a:rPr sz="1200"/>
            </a:br>
            <a:br>
              <a:rPr sz="12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572000" y="1125720"/>
            <a:ext cx="428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2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. "Аванс"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–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это похвала за то, что будет, опережающий тип. Он внушает человеку веру в себя. Наша вера превращает возможность в действительность</a:t>
            </a:r>
            <a:r>
              <a:rPr b="0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0920" y="300456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3.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Подъемная" похвала.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Если мы собираемся повышать требования к ребенку, то начинать их надо с похвалы, как вдохновения на новые подвиги.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00720" y="3079080"/>
            <a:ext cx="399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4.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Косвенное одобрение.</a:t>
            </a:r>
            <a:r>
              <a:rPr b="0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Похвала, при которой вроде бы не хвалят, т.е. попросить помощи, совета и т.п. В разговоре с другим человеком как бы между прочим сказать добрые слова о ребенке, но так, чтобы он слышал и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24000" y="5255640"/>
            <a:ext cx="507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5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"Взрыв любви</a:t>
            </a:r>
            <a:r>
              <a:rPr b="1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" (скорая психологическая помощь)</a:t>
            </a:r>
            <a:r>
              <a:rPr b="0" lang="ru-RU" sz="2000" spc="-1" strike="noStrike" u="sng">
                <a:solidFill>
                  <a:srgbClr val="0f6fc6"/>
                </a:solidFill>
                <a:uFillTx/>
                <a:latin typeface="Arial"/>
                <a:ea typeface="Times New Roman"/>
              </a:rPr>
              <a:t>. Используется в крайних случаях, когда у ребенка кризисное состояние.</a:t>
            </a:r>
            <a:r>
              <a:rPr b="0" lang="ru-RU" sz="2000" spc="-1" strike="noStrike">
                <a:solidFill>
                  <a:srgbClr val="0f6fc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"/>
          <p:cNvSpPr/>
          <p:nvPr/>
        </p:nvSpPr>
        <p:spPr>
          <a:xfrm>
            <a:off x="395280" y="36072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Рекомендуемые формы наказ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вынужденное безделье – сидит в специальном кресле, в углу и т.п.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лишение поощрений и привилеги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осуждение поведен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f6fc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народное средство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В. Леви рекомендует за чрезвычайные проступки наказывать в народном стиле, цель – отучить раз и навсегда.</a:t>
            </a:r>
            <a:br>
              <a:rPr sz="2800"/>
            </a:br>
            <a:r>
              <a:rPr b="0" lang="ru-RU" sz="2800" spc="-1" strike="noStrike" u="sng">
                <a:solidFill>
                  <a:srgbClr val="0f6fc6"/>
                </a:solidFill>
                <a:uFillTx/>
                <a:latin typeface="Calibri"/>
                <a:ea typeface="Times New Roman"/>
              </a:rPr>
              <a:t>Никогда нельзя использовать как наказание физическую или умственную работ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79280" y="293760"/>
            <a:ext cx="87138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  <a:ea typeface="Times New Roman"/>
              </a:rPr>
              <a:t>Правила наказания дет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любом наказании ребенок должен быть уверен, что наказание справедливо, что его по-прежнему любят, и даже будучи наказанным, он не остается без родительской любви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любом наказании детей они не должны быть лишены удовлетворения их биологических и физиологических потребностей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 должен быть информирован о том, за какие проступки последует наказание и в какой форм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азание детей должно носить временный характер. («Ты лишаешься возможности играть в компьютер ровно на три дня.»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наказании детей следует избегать оскорблений и приклеивания «ярлыков». Осуждается  только поведение или конкретный поступок ребенка, а не его личность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наказании детей исключено припоминание прежних проступков, Вы говорите с ними только о том, за что он наказывается именно сейча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казание детей должно быть последовательным, а не от случая к случа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Если есть сомнения, наказывать или нет - не наказывать! Никаких наказаний не должно быть "на всякий случай"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779760" y="6093000"/>
            <a:ext cx="52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80"/>
                </a:solidFill>
                <a:uFillTx/>
                <a:latin typeface="Calibri"/>
                <a:ea typeface="Times New Roman"/>
              </a:rPr>
              <a:t>Нельзя наказывать лишением любви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2050920" y="21528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Физическое наказание дет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719640" y="876960"/>
            <a:ext cx="77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гда необходимо физическое наказание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176120"/>
            <a:ext cx="8497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изическое наказание детей правомерно, если поведение ребенка представляет угрозу для его жизни и здоровья. Например, ребенок, зная правила поведения на дороге, назло родителям перебегает улицу перед машинам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поведение ребенка угрожает жизни и здоровью окружающих (игра с огнем, драки с более слабыми детьми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ребенок сознательно и целенаправленно доводит родителей или других членов семьи, не способных постоять за себя (например, младших детей). Психологической подоплекой такого рода действий является проверка силы и границ родителей. Если родители не могут отстоять сами себя, то ребенок не может быть уверен, что в более опасной ситуации они смогут защитить и его самог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nasilnik-2"/>
          <p:cNvPicPr/>
          <p:nvPr/>
        </p:nvPicPr>
        <p:blipFill>
          <a:blip r:embed="rId1"/>
          <a:stretch/>
        </p:blipFill>
        <p:spPr>
          <a:xfrm>
            <a:off x="1476360" y="476280"/>
            <a:ext cx="5040360" cy="37796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2"/>
          <p:cNvSpPr/>
          <p:nvPr/>
        </p:nvSpPr>
        <p:spPr>
          <a:xfrm>
            <a:off x="684360" y="4941720"/>
            <a:ext cx="755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Georgia"/>
              </a:rPr>
              <a:t>Жестокое обращение с ребенком в семь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5:32:48Z</dcterms:created>
  <dc:creator>FuckYouBill</dc:creator>
  <dc:description/>
  <dc:language>en-US</dc:language>
  <cp:lastModifiedBy>FuckYouBill</cp:lastModifiedBy>
  <dcterms:modified xsi:type="dcterms:W3CDTF">2011-04-25T16:49:15Z</dcterms:modified>
  <cp:revision>8</cp:revision>
  <dc:subject/>
  <dc:title>Слайд 1</dc:title>
</cp:coreProperties>
</file>