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5618-ADB0-48DB-8D6E-EE096797CE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7225-F4A0-4898-AF8B-A1ABFC93A0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8D0-0A32-4F64-9FB7-7A39C200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3AB-515D-4BE2-9C28-BAF28D72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139-4994-422B-B295-81C9D16E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A54-6F8F-42FE-B2B3-3F99D362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D4AC-F7DC-45B4-B80F-2FFE1E42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F7E8-E310-4DAE-BEFE-B76CBCFB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3208-35A2-4BDC-B191-F0970D23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8A36-4027-4C35-AE1E-5C1DE9FB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0054-6002-4C6D-8801-A64A9916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8F6A-A0AB-4F5A-AA99-021631CB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B266-9B2A-4957-87EE-0D366865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EBE-F444-4B47-8864-3B25AEBA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11B1-CC40-4B0A-BFBF-D2AEFE72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853C-4462-4536-859E-D0240715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7840-18B1-44EC-AC12-065D9E70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9CA2-84BD-43DB-8D36-8EBC3903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5217-FCBC-402C-80C0-9743172D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3066-AC19-4388-A6B5-E4288CCC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9F2A-2259-465F-AAA3-E72B8667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8350-7405-4530-82E3-AA70ED4A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FC5-E454-4FF8-A339-4DDEE6F2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FC1-7C2A-4162-ADBD-13870CC7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5D0-21C1-4BE6-8DBB-B56B7F1A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B0F-09F7-4866-9782-490DBFF1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E2F7-F942-4844-BEF3-91AD34DC5D7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D0B0-B585-4905-9613-1C97E0EC1A5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900000" y="692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«Дети – цветы жизни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3" name="Picture 4" descr="kid6"/>
          <p:cNvPicPr/>
          <p:nvPr/>
        </p:nvPicPr>
        <p:blipFill>
          <a:blip r:embed="rId1"/>
          <a:stretch/>
        </p:blipFill>
        <p:spPr>
          <a:xfrm>
            <a:off x="250920" y="1413000"/>
            <a:ext cx="4573440" cy="460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ands"/>
          <p:cNvPicPr/>
          <p:nvPr/>
        </p:nvPicPr>
        <p:blipFill>
          <a:blip r:embed="rId2"/>
          <a:stretch/>
        </p:blipFill>
        <p:spPr>
          <a:xfrm>
            <a:off x="3851280" y="1413000"/>
            <a:ext cx="50576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179280" y="189000"/>
            <a:ext cx="4572000" cy="68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Georgia"/>
              </a:rPr>
              <a:t>Научными исследованиями установлено, что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силие в той или иной форме совершается в каждой четвертой российской семь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жегодно около 2 млн. детей в возрасте до 14 лет избиваются родителя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10% этих детей исходом становится смерть, а для 2 тыс.- самоубийство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олее 50 тыс. детей в течение года уходят из дома, спасаясь от собственных родителей, а 25 тыс. несовершеннолетних находятся в розыск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4" descr="41934889_bit"/>
          <p:cNvPicPr/>
          <p:nvPr/>
        </p:nvPicPr>
        <p:blipFill>
          <a:blip r:embed="rId1"/>
          <a:stretch/>
        </p:blipFill>
        <p:spPr>
          <a:xfrm>
            <a:off x="4788000" y="907920"/>
            <a:ext cx="410832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324000" y="476280"/>
            <a:ext cx="84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Основная причина жестокого обращения с детьми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нутренняя агрессивность – эмоциональное состояние, возникающее как реакция на переживание непреодолимости каких-то барьеров или недоступность чего-то желанного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7" name="Picture 4" descr="ep2008_10_23_571"/>
          <p:cNvPicPr/>
          <p:nvPr/>
        </p:nvPicPr>
        <p:blipFill>
          <a:blip r:embed="rId1"/>
          <a:stretch/>
        </p:blipFill>
        <p:spPr>
          <a:xfrm>
            <a:off x="2340000" y="3284640"/>
            <a:ext cx="4680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1144800" y="333360"/>
            <a:ext cx="67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Жестокое обращение с детьми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395280" y="1052640"/>
            <a:ext cx="79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f6fc6"/>
                </a:solidFill>
                <a:uFillTx/>
                <a:latin typeface="Constantia"/>
              </a:rPr>
              <a:t>основные формы жестокого обращения с детьм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изическое насили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преднамеренное нанесение физических поврежде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ексуальное насили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ли развращени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) - вовлечение ребёнка с его согласия и без такого в сексуальные действия со взрослыми с целью получения последними удовлетворения или выгод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сихическое (эмоциональное) насили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ериодическое, длительное или постоянное психическое воздействие на ребёнка, тормозящее развитие личности и приводящее к формированию патологических черт характер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324000" y="404640"/>
            <a:ext cx="799308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onstantia"/>
              </a:rPr>
              <a:t>Защита прав и достоинств ребёнка в законодательных акта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00000"/>
                </a:solidFill>
                <a:uFillTx/>
                <a:latin typeface="Constantia"/>
              </a:rPr>
              <a:t>Конвенция ООН о правах ребёнка</a:t>
            </a: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аёт определение понятия «жестокое обращение» и определяет меры защиты (ст.19), а также устанавливает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еспечение в максимально возможной степени здорового развития личности (ст.6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щиту от произвольного или незаконного вмешательства в личную жизнь ребёнка, от посягательств на его честь и репутацию (ст.16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еспечение мер по борьбе с болезнями и недоеданием (ст.24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знание права каждого ребёнка на уровень жизни, необходимый для физического, умственного, духовного, нравственного и социального развития (ст.27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щиту ребёнка от сексуального посягательства (ст.34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щиту ребёнка от других форм жестокого обращения (ст.37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еры помощи ребёнку, явившемуся жертвой жестокого обращения (ст.39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250920" y="692280"/>
            <a:ext cx="8066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0000"/>
                </a:solidFill>
                <a:uFillTx/>
                <a:latin typeface="Constantia"/>
              </a:rPr>
              <a:t>Уголовный кодекс РФ</a:t>
            </a: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едусматривает ответственность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 совершение физического и сексуального насилия, в том числе и в отношении несовершеннолетних (ст.106-136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 преступления против семьи и несовершеннолетних (ст.150-157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324000" y="260280"/>
            <a:ext cx="8280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0000"/>
                </a:solidFill>
                <a:uFillTx/>
                <a:latin typeface="Constantia"/>
              </a:rPr>
              <a:t>Семейный кодекс РФ</a:t>
            </a: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арантирует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аво ребёнка на уважение его человеческого достоинства (ст.54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аво ребёнка на защиту и обязанности органа опеки и попечительства принять меры по защите ребёнка (ст.56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шение родительских прав как меру защиты детей от жестокого обращения с ними в семье (ст.69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медленное отбирание ребёнка при непосредственной угрозе жизни и здоровью (ст.77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1407960" y="333360"/>
            <a:ext cx="72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Constantia"/>
              </a:rPr>
              <a:t>Четыре заповеди мудрого родител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611280" y="105264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Не пытайтесь сделать из ребёнка самого-самог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684360" y="2133720"/>
            <a:ext cx="77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Не сравнивайте вслух ребёнка с другими деть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353520" y="3357720"/>
            <a:ext cx="63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Перестаньте шантажироват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604440" y="4508640"/>
            <a:ext cx="47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Избегайте свидетеле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87267"/>
          <p:cNvPicPr/>
          <p:nvPr/>
        </p:nvPicPr>
        <p:blipFill>
          <a:blip r:embed="rId1"/>
          <a:stretch/>
        </p:blipFill>
        <p:spPr>
          <a:xfrm>
            <a:off x="179280" y="404640"/>
            <a:ext cx="4032360" cy="59040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2"/>
          <p:cNvSpPr/>
          <p:nvPr/>
        </p:nvSpPr>
        <p:spPr>
          <a:xfrm>
            <a:off x="4356000" y="112680"/>
            <a:ext cx="4572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ети – главный подарок для мир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 ними чудесней земная картин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сё понимают, берутся за всё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Лучшее с ними людское житьё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Частенько слабы, неумелы их рук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о некогда думать ребятам о скук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движеньях, заботах их время проходи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Удача к усердным с годами приходи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детские годы мечты расцветаю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зрослые часто об этом не знаю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адо детишкам права объясни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ногому надо их обучит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ир станет лучше на нашей планет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Если счастливыми будут все дети!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иктор Павл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684360" y="1125360"/>
            <a:ext cx="792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nstantia"/>
              </a:rPr>
              <a:t>Поощрение и наказание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i="1" lang="ru-RU" sz="5400" spc="-1" strike="noStrike">
                <a:solidFill>
                  <a:srgbClr val="000000"/>
                </a:solidFill>
                <a:latin typeface="Constantia"/>
              </a:rPr>
              <a:t>в процессе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nstantia"/>
              </a:rPr>
              <a:t>воспитания ребенка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250920" y="476280"/>
            <a:ext cx="871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ощрение и наказание могут осуществляться в двух формах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атериальной    и  психологической (духовной)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250920" y="271152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"Куплю конфету – не куплю конфету"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3708360" y="256536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ощрение (внимание к ребенку, сопереживание ему, поддержка, вера и т.д.) и наказание (огорчение, обида, показное равнодушие, сердитость, в крайних вариантах гне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468360" y="719280"/>
            <a:ext cx="802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граничители похвалы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хвалить ребенка за то, что достигнуто ребенком не своим трудом (красота, ум, сила, здоровье и т.д.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хвалить больше двух раз за одно и то ж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хвалить из жалост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хвалить из желания понравить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ловеку в день нужно не менее 8 "поглаживаний", желательно, разных по способу и степени проявле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1908000" y="33480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8080"/>
                </a:solidFill>
                <a:uFillTx/>
                <a:latin typeface="Calibri"/>
                <a:ea typeface="Times New Roman"/>
              </a:rPr>
              <a:t>Типы       похвалы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250920" y="1128240"/>
            <a:ext cx="4176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1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"Компенсация"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. </a:t>
            </a:r>
            <a:r>
              <a:rPr b="0" lang="ru-RU" sz="2000" spc="-1" strike="noStrike" u="sng">
                <a:solidFill>
                  <a:srgbClr val="0f6fc6"/>
                </a:solidFill>
                <a:uFillTx/>
                <a:latin typeface="Arial"/>
                <a:ea typeface="Times New Roman"/>
              </a:rPr>
              <a:t>Используется для тех детей, у которых чего-то серьезно не хватает (физический недостаток, плохой характер, неудачи в жизни). </a:t>
            </a:r>
            <a:br>
              <a:rPr sz="1200"/>
            </a:b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572000" y="1125720"/>
            <a:ext cx="428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2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. "Аванс"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– </a:t>
            </a:r>
            <a:r>
              <a:rPr b="0" lang="ru-RU" sz="2000" spc="-1" strike="noStrike" u="sng">
                <a:solidFill>
                  <a:srgbClr val="0f6fc6"/>
                </a:solidFill>
                <a:uFillTx/>
                <a:latin typeface="Arial"/>
                <a:ea typeface="Times New Roman"/>
              </a:rPr>
              <a:t>это похвала за то, что будет, опережающий тип. Он внушает человеку веру в себя. Наша вера превращает возможность в действительность</a:t>
            </a:r>
            <a:r>
              <a:rPr b="0" lang="ru-RU" sz="2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50920" y="3004560"/>
            <a:ext cx="39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3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"Подъемная" похвала. </a:t>
            </a:r>
            <a:r>
              <a:rPr b="0" lang="ru-RU" sz="2000" spc="-1" strike="noStrike" u="sng">
                <a:solidFill>
                  <a:srgbClr val="0f6fc6"/>
                </a:solidFill>
                <a:uFillTx/>
                <a:latin typeface="Arial"/>
                <a:ea typeface="Times New Roman"/>
              </a:rPr>
              <a:t>Если мы собираемся повышать требования к ребенку, то начинать их надо с похвалы, как вдохновения на новые подвиги.</a:t>
            </a:r>
            <a:r>
              <a:rPr b="0" lang="ru-RU" sz="2000" spc="-1" strike="noStrike">
                <a:solidFill>
                  <a:srgbClr val="0f6fc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500720" y="3079080"/>
            <a:ext cx="3995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4.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 Косвенное одобрение.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0f6fc6"/>
                </a:solidFill>
                <a:uFillTx/>
                <a:latin typeface="Arial"/>
                <a:ea typeface="Times New Roman"/>
              </a:rPr>
              <a:t>Похвала, при которой вроде бы не хвалят, т.е. попросить помощи, совета и т.п. В разговоре с другим человеком как бы между прочим сказать добрые слова о ребенке, но так, чтобы он слышал их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24000" y="5255640"/>
            <a:ext cx="507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5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"Взрыв любви</a:t>
            </a:r>
            <a:r>
              <a:rPr b="1" lang="ru-RU" sz="2000" spc="-1" strike="noStrike" u="sng">
                <a:solidFill>
                  <a:srgbClr val="0f6fc6"/>
                </a:solidFill>
                <a:uFillTx/>
                <a:latin typeface="Arial"/>
                <a:ea typeface="Times New Roman"/>
              </a:rPr>
              <a:t>" (скорая психологическая помощь)</a:t>
            </a:r>
            <a:r>
              <a:rPr b="0" lang="ru-RU" sz="2000" spc="-1" strike="noStrike" u="sng">
                <a:solidFill>
                  <a:srgbClr val="0f6fc6"/>
                </a:solidFill>
                <a:uFillTx/>
                <a:latin typeface="Arial"/>
                <a:ea typeface="Times New Roman"/>
              </a:rPr>
              <a:t>. Используется в крайних случаях, когда у ребенка кризисное состояние.</a:t>
            </a:r>
            <a:r>
              <a:rPr b="0" lang="ru-RU" sz="2000" spc="-1" strike="noStrike">
                <a:solidFill>
                  <a:srgbClr val="0f6fc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95280" y="360720"/>
            <a:ext cx="8280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80"/>
                </a:solidFill>
                <a:uFillTx/>
                <a:latin typeface="Calibri"/>
                <a:ea typeface="Times New Roman"/>
              </a:rPr>
              <a:t>Рекомендуемые формы наказа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f6fc6"/>
                </a:solidFill>
                <a:uFillTx/>
                <a:latin typeface="Calibri"/>
                <a:ea typeface="Times New Roman"/>
              </a:rPr>
              <a:t>вынужденное безделье – сидит в специальном кресле, в углу и т.п.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f6fc6"/>
                </a:solidFill>
                <a:uFillTx/>
                <a:latin typeface="Calibri"/>
                <a:ea typeface="Times New Roman"/>
              </a:rPr>
              <a:t>лишение поощрений и привилеги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f6fc6"/>
                </a:solidFill>
                <a:uFillTx/>
                <a:latin typeface="Calibri"/>
                <a:ea typeface="Times New Roman"/>
              </a:rPr>
              <a:t>осуждение поведения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f6fc6"/>
                </a:solidFill>
                <a:uFillTx/>
                <a:latin typeface="Calibri"/>
                <a:ea typeface="Times New Roman"/>
              </a:rPr>
              <a:t>народное средств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f6fc6"/>
                </a:solidFill>
                <a:uFillTx/>
                <a:latin typeface="Calibri"/>
                <a:ea typeface="Times New Roman"/>
              </a:rPr>
              <a:t>В. Леви рекомендует за чрезвычайные проступки наказывать в народном стиле, цель – отучить раз и навсегда.</a:t>
            </a:r>
            <a:br>
              <a:rPr sz="2800"/>
            </a:br>
            <a:r>
              <a:rPr b="0" lang="ru-RU" sz="2800" spc="-1" strike="noStrike" u="sng">
                <a:solidFill>
                  <a:srgbClr val="0f6fc6"/>
                </a:solidFill>
                <a:uFillTx/>
                <a:latin typeface="Calibri"/>
                <a:ea typeface="Times New Roman"/>
              </a:rPr>
              <a:t>Никогда нельзя использовать как наказание физическую или умственную рабо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179280" y="293760"/>
            <a:ext cx="87138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  <a:ea typeface="Times New Roman"/>
              </a:rPr>
              <a:t>Правила наказания дете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 любом наказании ребенок должен быть уверен, что наказание справедливо, что его по-прежнему любят, и даже будучи наказанным, он не остается без родительской любв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 любом наказании детей они не должны быть лишены удовлетворения их биологических и физиологических потребностей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бенок должен быть информирован о том, за какие проступки последует наказание и в какой форм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казание детей должно носить временный характер. («Ты лишаешься возможности играть в компьютер ровно на три дня.»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 наказании детей следует избегать оскорблений и приклеивания «ярлыков». Осуждается  только поведение или конкретный поступок ребенка, а не его личность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 наказании детей исключено припоминание прежних проступков, Вы говорите с ними только о том, за что он наказывается именно сейча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казание детей должно быть последовательным, а не от случая к случа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Если есть сомнения, наказывать или нет - не наказывать! Никаких наказаний не должно быть "на всякий случай"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779760" y="6093000"/>
            <a:ext cx="52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80"/>
                </a:solidFill>
                <a:uFillTx/>
                <a:latin typeface="Calibri"/>
                <a:ea typeface="Times New Roman"/>
              </a:rPr>
              <a:t>Нельзя наказывать лишением любви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2050920" y="21528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Физическое наказание дете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719640" y="876960"/>
            <a:ext cx="77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гда необходимо физическое наказание дет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1176120"/>
            <a:ext cx="84978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изическое наказание детей правомерно, если поведение ребенка представляет угрозу для его жизни и здоровья. Например, ребенок, зная правила поведения на дороге, назло родителям перебегает улицу перед машинам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поведение ребенка угрожает жизни и здоровью окружающих (игра с огнем, драки с более слабыми детьми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ребенок сознательно и целенаправленно доводит родителей или других членов семьи, не способных постоять за себя (например, младших детей). Психологической подоплекой такого рода действий является проверка силы и границ родителей. Если родители не могут отстоять сами себя, то ребенок не может быть уверен, что в более опасной ситуации они смогут защитить и его самог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nasilnik-2"/>
          <p:cNvPicPr/>
          <p:nvPr/>
        </p:nvPicPr>
        <p:blipFill>
          <a:blip r:embed="rId1"/>
          <a:stretch/>
        </p:blipFill>
        <p:spPr>
          <a:xfrm>
            <a:off x="1476360" y="476280"/>
            <a:ext cx="5040360" cy="37796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2"/>
          <p:cNvSpPr/>
          <p:nvPr/>
        </p:nvSpPr>
        <p:spPr>
          <a:xfrm>
            <a:off x="684360" y="4941720"/>
            <a:ext cx="75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Жестокое обращение с ребенком в семь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5:32:48Z</dcterms:created>
  <dc:creator>FuckYouBill</dc:creator>
  <dc:description/>
  <dc:language>en-US</dc:language>
  <cp:lastModifiedBy>FuckYouBill</cp:lastModifiedBy>
  <dcterms:modified xsi:type="dcterms:W3CDTF">2011-04-25T16:49:15Z</dcterms:modified>
  <cp:revision>8</cp:revision>
  <dc:subject/>
  <dc:title>Слайд 1</dc:title>
</cp:coreProperties>
</file>