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0A1C-8B1B-4A37-959A-F9793BD5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6E1B-D9B1-4EDC-9829-7EB47BAD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4E7-0C68-4381-8FB7-679049FD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983-926B-48D4-A878-6F0895D8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151B-9F3B-4AD9-B027-839A8E9D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9DF-36BB-48E6-98CC-F6FBFFF8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2AA-199B-46F3-97D6-2741E0D2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15D-29CD-4284-8D50-C5D40A6E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E6E0-D263-4D88-B536-AA671B04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C535-6183-4665-AD94-98D6770A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1541-18D7-4DF1-8FC5-345DC667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40DF-D133-4D6A-89A3-7CE58112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819D-20FA-4CE1-A752-4ACCD2844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1484280"/>
            <a:ext cx="80629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ворческая мастер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00000" y="476280"/>
            <a:ext cx="6840720" cy="366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оза из ткани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9933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 диске 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9933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я подготовлена к проведению Творческой мастерской  учителем технологии Куликовой Н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кабрь 2013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дея создания таких роз заимствована из сети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того, чтобы сделать розу из ткани на диске, понадобя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к, вышедший из употреб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ожниц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иней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ка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епкая н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0" y="3284640"/>
            <a:ext cx="42829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11280" y="260280"/>
            <a:ext cx="3959280" cy="2970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484360" y="350028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716360" y="476280"/>
            <a:ext cx="4566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ачала готовим полоску ткан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ирина 1 см, длина от 70-9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изнанке диска оставля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большой кончик, чтобы придержи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осу и в конце работы связ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цы полосы. Выполняем обор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круг диска, их может быть 5,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другое количество, но обяза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четн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1116000" y="1988640"/>
            <a:ext cx="71280" cy="302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6920" y="503244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ирина поло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28600" y="3716280"/>
            <a:ext cx="261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роты во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ска не дол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ыть слишком туги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и не долж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т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907920"/>
            <a:ext cx="431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товим полосу ткани шириной 10-12 см (зависит от плотности ткани) и закрепляем её с изнаночной стороны диска: либо выполнив уз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ибо фиксируем кле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427640" cy="332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4317840" cy="3238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 flipV="1">
            <a:off x="3348000" y="1628640"/>
            <a:ext cx="360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555640" y="2781360"/>
            <a:ext cx="64764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88000" y="11970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ботаем с лице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ороной диска. Начинаем пропускать длинную лен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 ткани, образуя лепестки будущей розы. Протаскиваем ленту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любой ближайшей тонкой полоской, делаем что-то вроде выпуклого лепестка. Далее широкая лента проходит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на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нкой полоской, а под следующую снова «подныривае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0"/>
            <a:ext cx="4032360" cy="302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0920" y="3141720"/>
            <a:ext cx="460512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11280" y="177336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натягивать при работе ткань сильнее, розочка получится более плоской, если оставлять в промежутках больше ткани и формировать из них большие лепестки, то роза будет объёмн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3668400" cy="2751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39640" y="3860640"/>
            <a:ext cx="331308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нкие полоски останутся практически невидимыми в итоге работы. Ткань можно закрепить или спрятать на лицевой стороне под лепесток предыдущего ряда (заправить под тонкую ленточку из ткани), либо завернуть на изнанку диска и там прикле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накрахмаленной ткани (можно использовать и картон) вырезаем листочки и приклеиваем их с изнаночной стороны д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00720" y="314172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авляем лепесточки розы из ткани, приклеиваем пайетки, и вот она, наша розочк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11280" y="305100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012000" y="2781360"/>
            <a:ext cx="2881080" cy="2160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635280" y="4941720"/>
            <a:ext cx="23018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9:00:19Z</dcterms:created>
  <dc:creator>Admin</dc:creator>
  <dc:description/>
  <dc:language>en-US</dc:language>
  <cp:lastModifiedBy>Admin</cp:lastModifiedBy>
  <dcterms:modified xsi:type="dcterms:W3CDTF">2016-04-03T17:49:07Z</dcterms:modified>
  <cp:revision>8</cp:revision>
  <dc:subject/>
  <dc:title>Объёмная снежинка</dc:title>
</cp:coreProperties>
</file>