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A9D-E4EB-4AFC-A8DE-1F13CC17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384-89AB-46CB-80A8-E33E3FDF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410-5918-491F-9993-3E413FAF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265-9AB6-4EB6-A4A0-08184E40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67A-A6A4-43CC-AAF5-B0DBBC02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251-E37C-4DBE-9277-21F915CF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04B-4963-44CD-8205-14083CB5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017-DD8E-4BFE-B07B-8C1E5749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5FF-C756-4D81-84B3-80AF71FC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4FA-E1D7-404A-982B-BB212245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01D-528E-4AAC-8E11-2D0E4F81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CEB-B0C3-4E14-8695-C1F189DC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ECB0-4979-45F2-9915-CD92FB86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0629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рческая масте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476280"/>
            <a:ext cx="6840720" cy="366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за из ткан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диске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 подготовлена к проведению Творческой мастерской  учителем технологии Куликовой Н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кабрь 201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дея создания таких роз заимствована из сети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ого, чтобы сделать розу из ткани на диске, понадоб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, вышедший из у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ж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пкая 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282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484360" y="3500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16360" y="476280"/>
            <a:ext cx="456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готовим полоску ткан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ина 1 см, длина от 70-9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изнанке диска оставля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большой кончик, чтобы придержи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су и в конце работы связ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ы полосы. Выполняем обор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круг диска, их может быть 5,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другое количество, но обяз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чет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116000" y="1988640"/>
            <a:ext cx="71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6920" y="50324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ина поло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28600" y="3716280"/>
            <a:ext cx="26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ы в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ка не дол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слишком туг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и не долж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т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им полосу ткани шириной 10-12 см (зависит от плотности ткани) и закрепляем её с изнаночной стороны диска: либо выполнив уз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бо фиксируем кле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4317840" cy="32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3348000" y="1628640"/>
            <a:ext cx="360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55640" y="2781360"/>
            <a:ext cx="647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88000" y="11970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ем с лиц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роной диска. Начинаем пропускать длинную лен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ткани, образуя лепестки будущей розы. Протаскиваем ленту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юбой ближайшей тонкой полоской, делаем что-то вроде выпуклого лепестка. Далее широкая лента проходит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а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нкой полоской, а под следующую снова «поднырива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4605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11280" y="177336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натягивать при работе ткань сильнее, розочка получится более плоской, если оставлять в промежутках больше ткани и формировать из них большие лепестки, то роза будет объём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668400" cy="2751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33130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нкие полоски останутся практически невидимыми в итоге работы. Ткань можно закрепить или спрятать на лицевой стороне под лепесток предыдущего ряда (заправить под тонкую ленточку из ткани), либо завернуть на изнанку диска и там прикле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накрахмаленной ткани (можно использовать и картон) вырезаем листочки и приклеиваем их с изнаночной стороны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авляем лепесточки розы из ткани, приклеиваем пайетки, и вот она, наша розоч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1280" y="3051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12000" y="278136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635280" y="4941720"/>
            <a:ext cx="23018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9:00:19Z</dcterms:created>
  <dc:creator>Admin</dc:creator>
  <dc:description/>
  <dc:language>en-US</dc:language>
  <cp:lastModifiedBy>Admin</cp:lastModifiedBy>
  <dcterms:modified xsi:type="dcterms:W3CDTF">2016-04-03T17:49:07Z</dcterms:modified>
  <cp:revision>8</cp:revision>
  <dc:subject/>
  <dc:title>Объёмная снежинка</dc:title>
</cp:coreProperties>
</file>