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4EC7-6370-403B-B7C9-F1CA787B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BC92-F9DE-418C-ABC1-BFD85C3B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908-C115-44D0-99B4-E3E54D3C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F7C-F1E2-4A59-95F9-261EFB411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956F-2A6F-4763-930D-F3E3E4C2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7DAA-3B93-4B20-90E4-DDAC67A5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CD2A-E213-400B-9017-2750F255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9B8-7F29-40EC-A3DF-8FE60C73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F7B-49CD-40A2-8039-F37BFC6E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D789-1559-4513-893E-9C5E5B5A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CA75-0991-4A3A-B77E-4DD7691E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E09A-7643-4E30-AFC7-A92EA6DE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8127-1C20-4936-99F4-00C77EA590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s16.radikal.ru/i190/1101/96/9657f1204695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s40.radikal.ru/i087/1101/96/b8fa96b25959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i039.radikal.ru/1101/83/8b421ed4a87a.jpg"/>
          <p:cNvPicPr/>
          <p:nvPr/>
        </p:nvPicPr>
        <p:blipFill>
          <a:blip r:embed="rId1"/>
          <a:stretch/>
        </p:blipFill>
        <p:spPr>
          <a:xfrm>
            <a:off x="-57240" y="0"/>
            <a:ext cx="691524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s009.radikal.ru/i308/1101/e6/61c229ccbfc4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i012.radikal.ru/1101/40/a04e8fa3f8fd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img0.liveinternet.ru/images/attach/c/1/61/810/61810941_1279761551_91.gif"/>
          <p:cNvPicPr/>
          <p:nvPr/>
        </p:nvPicPr>
        <p:blipFill>
          <a:blip r:embed="rId1"/>
          <a:stretch/>
        </p:blipFill>
        <p:spPr>
          <a:xfrm>
            <a:off x="1357200" y="8001000"/>
            <a:ext cx="3845160" cy="58896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2" descr=""/>
          <p:cNvPicPr/>
          <p:nvPr/>
        </p:nvPicPr>
        <p:blipFill>
          <a:blip r:embed="rId2"/>
          <a:stretch/>
        </p:blipFill>
        <p:spPr>
          <a:xfrm>
            <a:off x="1828800" y="158760"/>
            <a:ext cx="276228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3"/>
          <p:cNvSpPr/>
          <p:nvPr/>
        </p:nvSpPr>
        <p:spPr>
          <a:xfrm>
            <a:off x="428760" y="5929200"/>
            <a:ext cx="5643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нформация сайта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ttp://www.liveinternet.ru/users/tanya_4e4e/post23142704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йт: «Школа АБВ»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ww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kola-abv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s59.radikal.ru/i165/1101/fb/c189440c836d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i080.radikal.ru/1101/1c/eb703dece914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i004.radikal.ru/1101/a3/097a8d37279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9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i046.radikal.ru/1101/6e/7185722eb0cd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://s46.radikal.ru/i113/1101/66/b8752dd9737c.jpg"/>
          <p:cNvPicPr/>
          <p:nvPr/>
        </p:nvPicPr>
        <p:blipFill>
          <a:blip r:embed="rId1"/>
          <a:stretch/>
        </p:blipFill>
        <p:spPr>
          <a:xfrm>
            <a:off x="-14400" y="0"/>
            <a:ext cx="68724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s004.radikal.ru/i206/1101/f4/c717a1ab7a9d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221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s59.radikal.ru/i166/1101/8a/5891c6b2202c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9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://s013.radikal.ru/i323/1101/fe/63ad0409bf47.jpg"/>
          <p:cNvPicPr/>
          <p:nvPr/>
        </p:nvPicPr>
        <p:blipFill>
          <a:blip r:embed="rId1"/>
          <a:stretch/>
        </p:blipFill>
        <p:spPr>
          <a:xfrm>
            <a:off x="-14400" y="0"/>
            <a:ext cx="6872400" cy="914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6:49:00Z</dcterms:created>
  <dc:creator>Helen</dc:creator>
  <dc:description/>
  <dc:language>en-US</dc:language>
  <cp:lastModifiedBy>User</cp:lastModifiedBy>
  <dcterms:modified xsi:type="dcterms:W3CDTF">2013-10-30T18:17:39Z</dcterms:modified>
  <cp:revision>4</cp:revision>
  <dc:subject/>
  <dc:title>Слайд 1</dc:title>
</cp:coreProperties>
</file>