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B24-60EF-447D-AF51-FE9314E9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6E6-7EDE-47C8-8835-3965AE5F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E58-BF00-405B-9A6D-DE1815AF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CBA-EF9B-46F7-B325-3F28679A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06F-2632-4D69-81EE-23B70583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D1C-AF71-4363-8FC1-562CA985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67D-2847-4E1F-A28D-4B695322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0E4-6850-42CB-92B0-D0905A45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341-8E14-4655-81E3-2A8832F3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568-D423-4CF5-9BB1-2B11B4C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B24-015A-4A76-9430-FEB2167C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6AA-EA8F-4ECA-9A7B-1F5F9F4B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C9F0-2049-4B24-8EAF-56E3CE254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16.radikal.ru/i190/1101/96/9657f1204695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s40.radikal.ru/i087/1101/96/b8fa96b25959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039.radikal.ru/1101/83/8b421ed4a87a.jpg"/>
          <p:cNvPicPr/>
          <p:nvPr/>
        </p:nvPicPr>
        <p:blipFill>
          <a:blip r:embed="rId1"/>
          <a:stretch/>
        </p:blipFill>
        <p:spPr>
          <a:xfrm>
            <a:off x="-57240" y="0"/>
            <a:ext cx="691524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009.radikal.ru/i308/1101/e6/61c229ccbfc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012.radikal.ru/1101/40/a04e8fa3f8f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0.liveinternet.ru/images/attach/c/1/61/810/61810941_1279761551_91.gif"/>
          <p:cNvPicPr/>
          <p:nvPr/>
        </p:nvPicPr>
        <p:blipFill>
          <a:blip r:embed="rId1"/>
          <a:stretch/>
        </p:blipFill>
        <p:spPr>
          <a:xfrm>
            <a:off x="1357200" y="8001000"/>
            <a:ext cx="3845160" cy="588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828800" y="158760"/>
            <a:ext cx="276228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428760" y="5929200"/>
            <a:ext cx="564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я сайта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www.liveinternet.ru/users/tanya_4e4e/post23142704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йт: «Школа АБВ»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s59.radikal.ru/i165/1101/fb/c189440c836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080.radikal.ru/1101/1c/eb703dece91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004.radikal.ru/1101/a3/097a8d37279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9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046.radikal.ru/1101/6e/7185722eb0c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s46.radikal.ru/i113/1101/66/b8752dd9737c.jpg"/>
          <p:cNvPicPr/>
          <p:nvPr/>
        </p:nvPicPr>
        <p:blipFill>
          <a:blip r:embed="rId1"/>
          <a:stretch/>
        </p:blipFill>
        <p:spPr>
          <a:xfrm>
            <a:off x="-14400" y="0"/>
            <a:ext cx="68724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004.radikal.ru/i206/1101/f4/c717a1ab7a9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22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s59.radikal.ru/i166/1101/8a/5891c6b2202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9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013.radikal.ru/i323/1101/fe/63ad0409bf47.jpg"/>
          <p:cNvPicPr/>
          <p:nvPr/>
        </p:nvPicPr>
        <p:blipFill>
          <a:blip r:embed="rId1"/>
          <a:stretch/>
        </p:blipFill>
        <p:spPr>
          <a:xfrm>
            <a:off x="-14400" y="0"/>
            <a:ext cx="68724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6:49:00Z</dcterms:created>
  <dc:creator>Helen</dc:creator>
  <dc:description/>
  <dc:language>en-US</dc:language>
  <cp:lastModifiedBy>User</cp:lastModifiedBy>
  <dcterms:modified xsi:type="dcterms:W3CDTF">2013-10-30T18:17:39Z</dcterms:modified>
  <cp:revision>4</cp:revision>
  <dc:subject/>
  <dc:title>Слайд 1</dc:title>
</cp:coreProperties>
</file>