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4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8BE-5000-435F-A561-6D6D7B70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67E-487A-4750-BF7F-3754ECF4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84-E5D3-4E94-AEF8-8A59A6D3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552-E21A-4418-AF41-C61930E0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24E-0C1D-43EC-B8E2-90B0A273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B97-0EF6-401D-8573-DF4E36E1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11D-819A-4C3A-A8B8-5C8C6CF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B4B-E818-4A3A-A3E8-1C0D9F54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926-5D79-468C-BF21-CF0EA8D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596-62B4-4334-A0B4-81D402D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F31-F4E3-45C2-A668-188E398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24E-BA61-4628-BC22-A2A3D86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0FAD-5C7C-4BA7-A1CA-A9D714ACA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Безимени-2.gif"/>
          <p:cNvPicPr/>
          <p:nvPr/>
        </p:nvPicPr>
        <p:blipFill>
          <a:blip r:embed="rId2"/>
          <a:stretch/>
        </p:blipFill>
        <p:spPr>
          <a:xfrm>
            <a:off x="6500880" y="0"/>
            <a:ext cx="278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Безимени-2.gif"/>
          <p:cNvPicPr/>
          <p:nvPr/>
        </p:nvPicPr>
        <p:blipFill>
          <a:blip r:embed="rId3"/>
          <a:stretch/>
        </p:blipFill>
        <p:spPr>
          <a:xfrm>
            <a:off x="-142920" y="0"/>
            <a:ext cx="2786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929720" y="6429240"/>
            <a:ext cx="1071360" cy="257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0" y="0"/>
            <a:ext cx="2066760" cy="242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Admin\Рабочий стол\Безимени-1.gif"/>
          <p:cNvPicPr/>
          <p:nvPr/>
        </p:nvPicPr>
        <p:blipFill>
          <a:blip r:embed="rId3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Admin\Рабочий стол\Безимени-1.gif"/>
          <p:cNvPicPr/>
          <p:nvPr/>
        </p:nvPicPr>
        <p:blipFill>
          <a:blip r:embed="rId3"/>
          <a:stretch/>
        </p:blipFill>
        <p:spPr>
          <a:xfrm>
            <a:off x="0" y="0"/>
            <a:ext cx="1763640" cy="207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Admin\Рабочий стол\Безимени-1.gif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7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Admin\Рабочий стол\Безимени-1.gif"/>
          <p:cNvPicPr/>
          <p:nvPr/>
        </p:nvPicPr>
        <p:blipFill>
          <a:blip r:embed="rId5"/>
          <a:stretch/>
        </p:blipFill>
        <p:spPr>
          <a:xfrm>
            <a:off x="0" y="5094360"/>
            <a:ext cx="2071800" cy="1763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Кульдурский термальный лечебный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инеральный источник»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340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Облучье, 2014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нцелевский минеральный источник Октябрьский райо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лодный минеральный источ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рский холодный минеральный источни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иболее близкими аналогами воды являются воды типа «Арашан» в Киргизии, «Саирма» в Грузии и «Гонжа» в Амурск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льдурский термальный лечебный минеральный источни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258920" y="180972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19280" y="-214920"/>
            <a:ext cx="7067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дурский, Стариковский, Нижнетуловчихинский, Верхнетуловчихинск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енцелевский и Бир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источники являются не только лечебными ресурсами, но и объектами познавательного и экологическог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из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тариковский,  Нижнетуловчихинский и Верхнетуловчихинский источники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никами прир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ульдур — небольшой поселок, расположенный у отрогов Малого Хингана, в долине реки Кульдур, известен своими минеральными водами. Кульдур окружают сопки, покрытые густым лесом, где растут кедр, пихта, липа, на склонах много ягод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468360" y="1547640"/>
            <a:ext cx="403236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4932360" y="4062240"/>
            <a:ext cx="3963960" cy="2462400"/>
          </a:xfrm>
          <a:prstGeom prst="rect">
            <a:avLst/>
          </a:prstGeom>
          <a:ln w="0">
            <a:noFill/>
          </a:ln>
        </p:spPr>
      </p:pic>
      <p:pic>
        <p:nvPicPr>
          <p:cNvPr id="282" name="WordArt 12" descr=""/>
          <p:cNvPicPr/>
          <p:nvPr/>
        </p:nvPicPr>
        <p:blipFill>
          <a:blip r:embed="rId3"/>
          <a:stretch/>
        </p:blipFill>
        <p:spPr>
          <a:xfrm>
            <a:off x="1463760" y="-12600"/>
            <a:ext cx="6168960" cy="573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селок Кульдур расположен в Облученском районе, Еврейской автономной области  в отрогах Малого Хингана, в долине р. Кульдур. Основан в 1897 году.  С 1958 года – курортный посёл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898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мвол «Кульдура» - скульптурная группа дальневосточных оленей-изюбрей. Группа олицетворяет собой силу и нежность, доверие и беззащитность — вечную тему и нашей человеческой жизни. Изюбр - это не только типичный обитатель здешней тайги, он герой легенды о том, как были открыты целебные источники Кульду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одное предание гласит, что к источникам привели человека следы раненого изюбра, пришедшего туда леч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1916-1918 гг. была проложена дорога до кур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032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Calibri"/>
              </a:rPr>
              <a:t>Кульдурский термальный лечебный минеральный источ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тория всегда волнует. Такова ее особенность. Но как часто мы проходим мимо большого, красивого и значительного только потому, что это рядом, вокруг нас, и мы к этому привыкли и не всегда можем должным образом оценить. Исторические памятники Дальнего Востока, в том числе и Еврейской автономной области по своей научной ценности не уступают сокровищам скифских курганов, а здешняя природа, богатства ее недр поистине многообразны и уник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-119880"/>
            <a:ext cx="670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3938400"/>
            <a:ext cx="8147160" cy="29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рестах километрах от Хабаровска — уникальная долина, по которой протекает река Кульдур, не замерзающая даже зимой. Здесь — удивительно красивая природа: долину окружают гордые сопки, поднимающиеся в небо на высоту в километр, склоны которых скрывают своими размашистыми лапами вековые кед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— Кульдурская курортная зона, на территории которой находятся популярные Кульдурские минеральные источ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ые печатные сведения о Кульдурских минеральных источниках появились в 1897 г. в журнале «Природа и охот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ебные свойства этой воды известны местному населению издавна, однако местонахождение источников хранилось в тайне, долина считалась «вотчиной бога»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вание источника происходит от древнегольдского слова - «Хульжиур», что в переводе на русский язык означает «горячая вода»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ухая тайга долго хранила тайну об этом источнике. Слухи которые ходили о целебной силе воды быстро разнеслись по всей России. Их популярность возросла в период строительства Амурской железной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755640" y="2338560"/>
            <a:ext cx="7488360" cy="391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селке Кульдур расположены следующие санатории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анаторий «Кульдур», санаторий «Санус», санаторий «Горняк», санаторий «Жемчужный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торых отдыхающие восстанавливают свое здоровье, отдыхая душой и тело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9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2305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16360" cy="2300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8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ссказать и показать, какое удивительное место есть  у нас в район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2349360"/>
            <a:ext cx="8209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ть историю посёлка Кульду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Сравнить увиденное с тем, что мне  рассказыва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знать, а многие ли люди слышали и вид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мальный источник Кульду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бедиться  в правдивости рассказов об источ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С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WordArt 7" descr=""/>
          <p:cNvPicPr/>
          <p:nvPr/>
        </p:nvPicPr>
        <p:blipFill>
          <a:blip r:embed="rId1"/>
          <a:stretch/>
        </p:blipFill>
        <p:spPr>
          <a:xfrm>
            <a:off x="2620800" y="255600"/>
            <a:ext cx="4151520" cy="88416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10" descr=""/>
          <p:cNvPicPr/>
          <p:nvPr/>
        </p:nvPicPr>
        <p:blipFill>
          <a:blip r:embed="rId2"/>
          <a:stretch/>
        </p:blipFill>
        <p:spPr>
          <a:xfrm>
            <a:off x="3413160" y="2200320"/>
            <a:ext cx="1897200" cy="73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04_zst"/>
          <p:cNvPicPr/>
          <p:nvPr/>
        </p:nvPicPr>
        <p:blipFill>
          <a:blip r:embed="rId3"/>
          <a:stretch/>
        </p:blipFill>
        <p:spPr>
          <a:xfrm>
            <a:off x="7236000" y="1557360"/>
            <a:ext cx="1712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119880"/>
            <a:ext cx="670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88640"/>
            <a:ext cx="4176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ебную воду используют для лечебных ванн. Именно поэтому здесь множество санаториев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рритория, где из под земли бьет большая часть термальных вод - является закрытой санитарной зоной. Но за зданиями старинной здравницы есть один открытый термальный источник, куда мы всей семьей с удовольствием съезд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9" descr="Изображение 046"/>
          <p:cNvPicPr/>
          <p:nvPr/>
        </p:nvPicPr>
        <p:blipFill>
          <a:blip r:embed="rId1"/>
          <a:stretch/>
        </p:blipFill>
        <p:spPr>
          <a:xfrm>
            <a:off x="4572000" y="260280"/>
            <a:ext cx="2916360" cy="3889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IMG_3968"/>
          <p:cNvPicPr/>
          <p:nvPr/>
        </p:nvPicPr>
        <p:blipFill>
          <a:blip r:embed="rId2"/>
          <a:stretch/>
        </p:blipFill>
        <p:spPr>
          <a:xfrm>
            <a:off x="4067280" y="4437000"/>
            <a:ext cx="40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Изображение 057"/>
          <p:cNvPicPr/>
          <p:nvPr/>
        </p:nvPicPr>
        <p:blipFill>
          <a:blip r:embed="rId3"/>
          <a:stretch/>
        </p:blipFill>
        <p:spPr>
          <a:xfrm>
            <a:off x="971640" y="4221000"/>
            <a:ext cx="1979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туристы, приезжающие сюда впервые, обычно задаются вопросом:  можно ли быть уверенными, что вода в течение всего года горячая? Это одна из причин возвращения туристов в это место, только в другое время г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их привлекает природа этого сказочно – таинственного ме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884760" cy="2186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160720" cy="2663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3"/>
          <a:stretch/>
        </p:blipFill>
        <p:spPr>
          <a:xfrm>
            <a:off x="3348000" y="4005360"/>
            <a:ext cx="4175280" cy="2735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IMG_3969"/>
          <p:cNvPicPr/>
          <p:nvPr/>
        </p:nvPicPr>
        <p:blipFill>
          <a:blip r:embed="rId4"/>
          <a:stretch/>
        </p:blipFill>
        <p:spPr>
          <a:xfrm>
            <a:off x="5940360" y="1628640"/>
            <a:ext cx="2894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533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бедилась в том, что многие люди не знают о кульдурском термальном источнике (из 20 опрошенных только 13 человек слышали и 7 побывали на термальном источник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ая историю Кульдура, я узнала много нового и интересн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сравнивании термального источника с рассказами очевидцев и тем, что увидела я, есть много схожего. Однако увиденное меня поразило больше, чем услышанное. Ведь не зря говорят: - «Лучше один раз увидеть, чем сто раз услышать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ъездив на кульдурский лечебный термальный источник, я убедилась, что вода в нём даже зимой остаётся горяч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же убедилась в красоте и незабываемости этих ме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ставленная мною  гипотеза в начале исследования, полностью подтвердила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WordArt 4" descr="Белый мрамор"/>
          <p:cNvPicPr/>
          <p:nvPr/>
        </p:nvPicPr>
        <p:blipFill>
          <a:blip r:embed="rId1"/>
          <a:stretch/>
        </p:blipFill>
        <p:spPr>
          <a:xfrm>
            <a:off x="3114720" y="-19080"/>
            <a:ext cx="41814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Интернет ресурсы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Справочники, энциклопедии, книг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Посещение термального источник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Рассматривание фотографи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Беседа с людьми, посетившими термальный,       или минеральные источ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WordArt 4" descr=""/>
          <p:cNvPicPr/>
          <p:nvPr/>
        </p:nvPicPr>
        <p:blipFill>
          <a:blip r:embed="rId1"/>
          <a:stretch/>
        </p:blipFill>
        <p:spPr>
          <a:xfrm>
            <a:off x="1249200" y="152280"/>
            <a:ext cx="7510680" cy="1238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18124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-214920"/>
            <a:ext cx="7427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457200" y="287280"/>
            <a:ext cx="78598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7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ногие люди, проживающие у нас в Еврейской Автономной Области, ни разу не бывали в таких местах, как минеральные  источ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ин из них уникален. Потому что он не только минеральный, но и термальный, т.е. горяч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 правда ли говорят, что это замечательное, красивое место с лечебным источником и горячей водой или это не т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ня заинтересовало это место, и я решила побывать там и рассказать о нём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WordArt 7" descr=""/>
          <p:cNvPicPr/>
          <p:nvPr/>
        </p:nvPicPr>
        <p:blipFill>
          <a:blip r:embed="rId1"/>
          <a:stretch/>
        </p:blipFill>
        <p:spPr>
          <a:xfrm>
            <a:off x="2189160" y="396720"/>
            <a:ext cx="43275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2060640"/>
            <a:ext cx="8002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находится это место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так ли оно красиво как о нём говорят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действительно ли зимой в кульдурском источнике горячая вода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осещают ли его жители и гости этого посёлк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72835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word2"/>
          <p:cNvPicPr/>
          <p:nvPr/>
        </p:nvPicPr>
        <p:blipFill>
          <a:blip r:embed="rId1"/>
          <a:stretch/>
        </p:blipFill>
        <p:spPr>
          <a:xfrm>
            <a:off x="8277120" y="115920"/>
            <a:ext cx="866880" cy="7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word2"/>
          <p:cNvPicPr/>
          <p:nvPr/>
        </p:nvPicPr>
        <p:blipFill>
          <a:blip r:embed="rId2"/>
          <a:stretch/>
        </p:blipFill>
        <p:spPr>
          <a:xfrm>
            <a:off x="7308720" y="4508640"/>
            <a:ext cx="866880" cy="71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word2"/>
          <p:cNvPicPr/>
          <p:nvPr/>
        </p:nvPicPr>
        <p:blipFill>
          <a:blip r:embed="rId3"/>
          <a:stretch/>
        </p:blipFill>
        <p:spPr>
          <a:xfrm>
            <a:off x="468360" y="5805360"/>
            <a:ext cx="8668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000044"/>
          <p:cNvPicPr/>
          <p:nvPr/>
        </p:nvPicPr>
        <p:blipFill>
          <a:blip r:embed="rId4"/>
          <a:stretch/>
        </p:blipFill>
        <p:spPr>
          <a:xfrm>
            <a:off x="179280" y="1844640"/>
            <a:ext cx="478080" cy="501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000044"/>
          <p:cNvPicPr/>
          <p:nvPr/>
        </p:nvPicPr>
        <p:blipFill>
          <a:blip r:embed="rId5"/>
          <a:stretch/>
        </p:blipFill>
        <p:spPr>
          <a:xfrm>
            <a:off x="7164360" y="2133720"/>
            <a:ext cx="477720" cy="50148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11" descr=""/>
          <p:cNvPicPr/>
          <p:nvPr/>
        </p:nvPicPr>
        <p:blipFill>
          <a:blip r:embed="rId6"/>
          <a:stretch/>
        </p:blipFill>
        <p:spPr>
          <a:xfrm>
            <a:off x="523800" y="676440"/>
            <a:ext cx="8047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61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532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Термальная вода</a:t>
            </a: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 – источник молодости</a:t>
            </a: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ы, человек, любя природу,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иногда её жалей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увеселительных пох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растопчи её п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вокзальной сутолоке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ы оценить её спеши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твой давний,  добрый лекар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союзница д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жги её напропал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исчерпывай до 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омни истину простую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с много, а она о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-227160"/>
            <a:ext cx="5745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а территории Еврейской Автономной Области известно 6 минеральны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ульдур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иков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ижнетуловчихин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рхнетуловчихин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нцелевск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ирск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WordArt 1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87296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хнетуловчихинский минеральный источник в Октябрьском районе. Холодный минеральный источник. Вода, с запахом сероводор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воды - 7,5 градус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жнетуловчихинский минеральный источник Октябрьский район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лодный минеральный источ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ковский минеральный источник Октябрьский район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раняется как памятник природы местного значения. Минеральный холодный источник с водой с запахом сероводор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воды - 12 граду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5:57Z</dcterms:created>
  <dc:creator>Федотова Виктория Александровна</dc:creator>
  <dc:description/>
  <dc:language>en-US</dc:language>
  <cp:lastModifiedBy>Юра</cp:lastModifiedBy>
  <dcterms:modified xsi:type="dcterms:W3CDTF">2016-04-04T04:33:36Z</dcterms:modified>
  <cp:revision>81</cp:revision>
  <dc:subject/>
  <dc:title>Слайд 1</dc:title>
</cp:coreProperties>
</file>