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4.png" ContentType="image/png"/>
  <Override PartName="/ppt/media/image11.gif" ContentType="image/gif"/>
  <Override PartName="/ppt/media/image9.png" ContentType="image/png"/>
  <Override PartName="/ppt/media/image39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34.png" ContentType="image/png"/>
  <Override PartName="/ppt/media/image4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280F-AD65-4244-8282-1D9E86F7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77CE-116E-47D2-8220-DBEB2382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32D-43D3-41ED-835C-2D1848E6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069-CBAE-4FEB-8DE5-D82E08B0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146-18A2-463E-BDFC-D178E816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FC4-F8AE-4D98-BF55-2061BBD5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6D5-5EE4-4407-8E05-8BB068C5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D8C-0F5F-4A94-8D24-66F5DCF2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406-9114-4414-8557-119B2DB8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9B0-82CB-437E-9C80-50E358C5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235-4A53-4DA4-85CA-6A6C471B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071F-DCA2-474B-B235-7B36D6F5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AD0D-0FB1-438B-919F-A89A1ECB0C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\Рабочий стол\Безимени-2.gif"/>
          <p:cNvPicPr/>
          <p:nvPr/>
        </p:nvPicPr>
        <p:blipFill>
          <a:blip r:embed="rId2"/>
          <a:stretch/>
        </p:blipFill>
        <p:spPr>
          <a:xfrm>
            <a:off x="6500880" y="0"/>
            <a:ext cx="278604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Documents and Settings\Admin\Рабочий стол\Безимени-2.gif"/>
          <p:cNvPicPr/>
          <p:nvPr/>
        </p:nvPicPr>
        <p:blipFill>
          <a:blip r:embed="rId3"/>
          <a:stretch/>
        </p:blipFill>
        <p:spPr>
          <a:xfrm>
            <a:off x="-142920" y="0"/>
            <a:ext cx="27860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Admin\Мои документы\Мои рисунки\bv-b.gif"/>
          <p:cNvPicPr/>
          <p:nvPr/>
        </p:nvPicPr>
        <p:blipFill>
          <a:blip r:embed="rId3"/>
          <a:stretch/>
        </p:blipFill>
        <p:spPr>
          <a:xfrm>
            <a:off x="7929720" y="6429240"/>
            <a:ext cx="1071360" cy="2574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dmin\Рабочий стол\Безимени-1.gif"/>
          <p:cNvPicPr/>
          <p:nvPr/>
        </p:nvPicPr>
        <p:blipFill>
          <a:blip r:embed="rId2"/>
          <a:stretch/>
        </p:blipFill>
        <p:spPr>
          <a:xfrm>
            <a:off x="0" y="0"/>
            <a:ext cx="2066760" cy="242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C:\Documents and Settings\Admin\Рабочий стол\Безимени-1.gif"/>
          <p:cNvPicPr/>
          <p:nvPr/>
        </p:nvPicPr>
        <p:blipFill>
          <a:blip r:embed="rId3"/>
          <a:stretch/>
        </p:blipFill>
        <p:spPr>
          <a:xfrm>
            <a:off x="7380360" y="4786200"/>
            <a:ext cx="1763640" cy="20718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C:\Documents and Settings\Admin\Рабочий стол\Безимени-1.gif"/>
          <p:cNvPicPr/>
          <p:nvPr/>
        </p:nvPicPr>
        <p:blipFill>
          <a:blip r:embed="rId2"/>
          <a:stretch/>
        </p:blipFill>
        <p:spPr>
          <a:xfrm>
            <a:off x="7380360" y="4786200"/>
            <a:ext cx="1763640" cy="20718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Admin\Рабочий стол\Безимени-1.gif"/>
          <p:cNvPicPr/>
          <p:nvPr/>
        </p:nvPicPr>
        <p:blipFill>
          <a:blip r:embed="rId2"/>
          <a:stretch/>
        </p:blipFill>
        <p:spPr>
          <a:xfrm>
            <a:off x="7380360" y="4786200"/>
            <a:ext cx="1763640" cy="2071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C:\Documents and Settings\Admin\Рабочий стол\Безимени-1.gif"/>
          <p:cNvPicPr/>
          <p:nvPr/>
        </p:nvPicPr>
        <p:blipFill>
          <a:blip r:embed="rId3"/>
          <a:stretch/>
        </p:blipFill>
        <p:spPr>
          <a:xfrm>
            <a:off x="0" y="0"/>
            <a:ext cx="1763640" cy="2071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Documents and Settings\Admin\Рабочий стол\Безимени-1.gif"/>
          <p:cNvPicPr/>
          <p:nvPr/>
        </p:nvPicPr>
        <p:blipFill>
          <a:blip r:embed="rId4"/>
          <a:stretch/>
        </p:blipFill>
        <p:spPr>
          <a:xfrm>
            <a:off x="7072200" y="0"/>
            <a:ext cx="2071800" cy="1763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C:\Documents and Settings\Admin\Рабочий стол\Безимени-1.gif"/>
          <p:cNvPicPr/>
          <p:nvPr/>
        </p:nvPicPr>
        <p:blipFill>
          <a:blip r:embed="rId5"/>
          <a:stretch/>
        </p:blipFill>
        <p:spPr>
          <a:xfrm>
            <a:off x="0" y="5094360"/>
            <a:ext cx="2071800" cy="17636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следовательская работа на тему: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Кульдурский термальный лечебный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инеральный источник»</a:t>
            </a:r>
            <a:br>
              <a:rPr sz="3200"/>
            </a:b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340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. Облучье, 2014 год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нцелевский минеральный источник Октябрьский район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олодный минеральный источн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ирский холодный минеральный источник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аиболее близкими аналогами воды являются воды типа «Арашан» в Киргизии, «Саирма» в Грузии и «Гонжа» в Амурской обла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ульдурский термальный лечебный минеральный источни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258920" y="1809720"/>
            <a:ext cx="655308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19280" y="-214920"/>
            <a:ext cx="7067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ульдурский, Стариковский, Нижнетуловчихинский, Верхнетуловчихинск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енцелевский и Бирски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неральные источники являются не только лечебными ресурсами, но и объектами познавательного и экологическог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изм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Стариковский,  Нижнетуловчихинский и Верхнетуловчихинский источники являются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мятниками природ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ульдур — небольшой поселок, расположенный у отрогов Малого Хингана, в долине реки Кульдур, известен своими минеральными водами. Кульдур окружают сопки, покрытые густым лесом, где растут кедр, пихта, липа, на склонах много ягод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468360" y="1547640"/>
            <a:ext cx="4032360" cy="2421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1" descr=""/>
          <p:cNvPicPr/>
          <p:nvPr/>
        </p:nvPicPr>
        <p:blipFill>
          <a:blip r:embed="rId2"/>
          <a:stretch/>
        </p:blipFill>
        <p:spPr>
          <a:xfrm>
            <a:off x="4932360" y="4062240"/>
            <a:ext cx="3963960" cy="2462400"/>
          </a:xfrm>
          <a:prstGeom prst="rect">
            <a:avLst/>
          </a:prstGeom>
          <a:ln w="0">
            <a:noFill/>
          </a:ln>
        </p:spPr>
      </p:pic>
      <p:pic>
        <p:nvPicPr>
          <p:cNvPr id="282" name="WordArt 12" descr=""/>
          <p:cNvPicPr/>
          <p:nvPr/>
        </p:nvPicPr>
        <p:blipFill>
          <a:blip r:embed="rId3"/>
          <a:stretch/>
        </p:blipFill>
        <p:spPr>
          <a:xfrm>
            <a:off x="1463760" y="-12600"/>
            <a:ext cx="6168960" cy="573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8002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Поселок Кульдур расположен в Облученском районе, Еврейской автономной области  в отрогах Малого Хингана, в долине р. Кульдур. Основан в 1897 году.  С 1958 года – курортный посёл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3898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мвол «Кульдура» - скульптурная группа дальневосточных оленей-изюбрей. Группа олицетворяет собой силу и нежность, доверие и беззащитность — вечную тему и нашей человеческой жизни. Изюбр - это не только типичный обитатель здешней тайги, он герой легенды о том, как были открыты целебные источники Кульду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родное предание гласит, что к источникам привели человека следы раненого изюбра, пришедшего туда лечи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1916-1918 гг. была проложена дорога до курор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6" descr=""/>
          <p:cNvPicPr/>
          <p:nvPr/>
        </p:nvPicPr>
        <p:blipFill>
          <a:blip r:embed="rId1"/>
          <a:stretch/>
        </p:blipFill>
        <p:spPr>
          <a:xfrm>
            <a:off x="4284720" y="1916280"/>
            <a:ext cx="403236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Calibri"/>
              </a:rPr>
              <a:t>Кульдурский термальный лечебный минеральный источник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стория всегда волнует. Такова ее особенность. Но как часто мы проходим мимо большого, красивого и значительного только потому, что это рядом, вокруг нас, и мы к этому привыкли и не всегда можем должным образом оценить. Исторические памятники Дальнего Востока, в том числе и Еврейской автономной области по своей научной ценности не уступают сокровищам скифских курганов, а здешняя природа, богатства ее недр поистине многообразны и уникальн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-119880"/>
            <a:ext cx="670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3938400"/>
            <a:ext cx="8147160" cy="29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трестах километрах от Хабаровска — уникальная долина, по которой протекает река Кульдур, не замерзающая даже зимой. Здесь — удивительно красивая природа: долину окружают гордые сопки, поднимающиеся в небо на высоту в километр, склоны которых скрывают своими размашистыми лапами вековые кед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то — Кульдурская курортная зона, на территории которой находятся популярные Кульдурские минеральные источни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вые печатные сведения о Кульдурских минеральных источниках появились в 1897 г. в журнале «Природа и охота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ебные свойства этой воды известны местному населению издавна, однако местонахождение источников хранилось в тайне, долина считалась «вотчиной бога»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звание источника происходит от древнегольдского слова - «Хульжиур», что в переводе на русский язык означает «горячая вода».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лухая тайга долго хранила тайну об этом источнике. Слухи которые ходили о целебной силе воды быстро разнеслись по всей России. Их популярность возросла в период строительства Амурской железной дорог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Picture 6" descr=""/>
          <p:cNvPicPr/>
          <p:nvPr/>
        </p:nvPicPr>
        <p:blipFill>
          <a:blip r:embed="rId1"/>
          <a:stretch/>
        </p:blipFill>
        <p:spPr>
          <a:xfrm>
            <a:off x="755640" y="2338560"/>
            <a:ext cx="7488360" cy="3916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оселке Кульдур расположены следующие санатории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анаторий «Кульдур», санаторий «Санус», санаторий «Горняк», санаторий «Жемчужный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которых отдыхающие восстанавливают свое здоровье, отдыхая душой и телом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9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959280" cy="2305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816360" cy="2300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"/>
          <p:cNvPicPr/>
          <p:nvPr/>
        </p:nvPicPr>
        <p:blipFill>
          <a:blip r:embed="rId3"/>
          <a:stretch/>
        </p:blipFill>
        <p:spPr>
          <a:xfrm>
            <a:off x="539640" y="414972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"/>
          <p:cNvPicPr/>
          <p:nvPr/>
        </p:nvPicPr>
        <p:blipFill>
          <a:blip r:embed="rId4"/>
          <a:stretch/>
        </p:blipFill>
        <p:spPr>
          <a:xfrm>
            <a:off x="4788000" y="4149720"/>
            <a:ext cx="3887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ссказать и показать, какое удивительное место есть  у нас в район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4920" y="2349360"/>
            <a:ext cx="820908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учить историю посёлка Кульдур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 Сравнить увиденное с тем, что мне  рассказывал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Узнать, а многие ли люди слышали и виде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мальный источник Кульдур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Убедиться  в правдивости рассказов об источник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Сделать выв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WordArt 7" descr=""/>
          <p:cNvPicPr/>
          <p:nvPr/>
        </p:nvPicPr>
        <p:blipFill>
          <a:blip r:embed="rId1"/>
          <a:stretch/>
        </p:blipFill>
        <p:spPr>
          <a:xfrm>
            <a:off x="2620800" y="255600"/>
            <a:ext cx="4151520" cy="884160"/>
          </a:xfrm>
          <a:prstGeom prst="rect">
            <a:avLst/>
          </a:prstGeom>
          <a:ln w="0">
            <a:noFill/>
          </a:ln>
        </p:spPr>
      </p:pic>
      <p:pic>
        <p:nvPicPr>
          <p:cNvPr id="246" name="WordArt 10" descr=""/>
          <p:cNvPicPr/>
          <p:nvPr/>
        </p:nvPicPr>
        <p:blipFill>
          <a:blip r:embed="rId2"/>
          <a:stretch/>
        </p:blipFill>
        <p:spPr>
          <a:xfrm>
            <a:off x="3413160" y="2200320"/>
            <a:ext cx="1897200" cy="731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2" descr="04_zst"/>
          <p:cNvPicPr/>
          <p:nvPr/>
        </p:nvPicPr>
        <p:blipFill>
          <a:blip r:embed="rId3"/>
          <a:stretch/>
        </p:blipFill>
        <p:spPr>
          <a:xfrm>
            <a:off x="7236000" y="1557360"/>
            <a:ext cx="17128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-119880"/>
            <a:ext cx="670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50920" y="188640"/>
            <a:ext cx="41767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ебную воду используют для лечебных ванн. Именно поэтому здесь множество санаториев.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рритория, где из под земли бьет большая часть термальных вод - является закрытой санитарной зоной. Но за зданиями старинной здравницы есть один открытый термальный источник, куда мы всей семьей с удовольствием съезди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9" descr="Изображение 046"/>
          <p:cNvPicPr/>
          <p:nvPr/>
        </p:nvPicPr>
        <p:blipFill>
          <a:blip r:embed="rId1"/>
          <a:stretch/>
        </p:blipFill>
        <p:spPr>
          <a:xfrm>
            <a:off x="4572000" y="260280"/>
            <a:ext cx="2916360" cy="38894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0" descr="IMG_3968"/>
          <p:cNvPicPr/>
          <p:nvPr/>
        </p:nvPicPr>
        <p:blipFill>
          <a:blip r:embed="rId2"/>
          <a:stretch/>
        </p:blipFill>
        <p:spPr>
          <a:xfrm>
            <a:off x="4067280" y="4437000"/>
            <a:ext cx="4032000" cy="2187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1" descr="Изображение 057"/>
          <p:cNvPicPr/>
          <p:nvPr/>
        </p:nvPicPr>
        <p:blipFill>
          <a:blip r:embed="rId3"/>
          <a:stretch/>
        </p:blipFill>
        <p:spPr>
          <a:xfrm>
            <a:off x="971640" y="4221000"/>
            <a:ext cx="1979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ие туристы, приезжающие сюда впервые, обычно задаются вопросом:  можно ли быть уверенными, что вода в течение всего года горячая? Это одна из причин возвращения туристов в это место, только в другое время год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 ещё их привлекает природа этого сказочно – таинственного ме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9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3884760" cy="21862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2160720" cy="26636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"/>
          <p:cNvPicPr/>
          <p:nvPr/>
        </p:nvPicPr>
        <p:blipFill>
          <a:blip r:embed="rId3"/>
          <a:stretch/>
        </p:blipFill>
        <p:spPr>
          <a:xfrm>
            <a:off x="3348000" y="4005360"/>
            <a:ext cx="4175280" cy="2735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2" descr="IMG_3969"/>
          <p:cNvPicPr/>
          <p:nvPr/>
        </p:nvPicPr>
        <p:blipFill>
          <a:blip r:embed="rId4"/>
          <a:stretch/>
        </p:blipFill>
        <p:spPr>
          <a:xfrm>
            <a:off x="5940360" y="1628640"/>
            <a:ext cx="289404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5338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убедилась в том, что многие люди не знают о кульдурском термальном источнике (из 20 опрошенных только 13 человек слышали и 7 побывали на термальном источник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зучая историю Кульдура, я узнала много нового и интересног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 сравнивании термального источника с рассказами очевидцев и тем, что увидела я, есть много схожего. Однако увиденное меня поразило больше, чем услышанное. Ведь не зря говорят: - «Лучше один раз увидеть, чем сто раз услышать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ъездив на кульдурский лечебный термальный источник, я убедилась, что вода в нём даже зимой остаётся горяч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к же убедилась в красоте и незабываемости этих ме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оставленная мною  гипотеза в начале исследования, полностью подтвердилас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WordArt 4" descr="Белый мрамор"/>
          <p:cNvPicPr/>
          <p:nvPr/>
        </p:nvPicPr>
        <p:blipFill>
          <a:blip r:embed="rId1"/>
          <a:stretch/>
        </p:blipFill>
        <p:spPr>
          <a:xfrm>
            <a:off x="3114720" y="-19080"/>
            <a:ext cx="4181400" cy="6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Интернет ресурсы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. Справочники, энциклопедии, книги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Посещение термального источника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Рассматривание фотографий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Беседа с людьми, посетившими термальный,       или минеральные источни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WordArt 4" descr=""/>
          <p:cNvPicPr/>
          <p:nvPr/>
        </p:nvPicPr>
        <p:blipFill>
          <a:blip r:embed="rId1"/>
          <a:stretch/>
        </p:blipFill>
        <p:spPr>
          <a:xfrm>
            <a:off x="1249200" y="152280"/>
            <a:ext cx="7510680" cy="1238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2181240" cy="16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-214920"/>
            <a:ext cx="7427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5" descr=""/>
          <p:cNvPicPr/>
          <p:nvPr/>
        </p:nvPicPr>
        <p:blipFill>
          <a:blip r:embed="rId1"/>
          <a:stretch/>
        </p:blipFill>
        <p:spPr>
          <a:xfrm>
            <a:off x="457200" y="287280"/>
            <a:ext cx="785988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8373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ногие люди, проживающие у нас в Еврейской Автономной Области, ни разу не бывали в таких местах, как минеральные  источник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дин из них уникален. Потому что он не только минеральный, но и термальный, т.е. горяч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А правда ли говорят, что это замечательное, красивое место с лечебным источником и горячей водой или это не так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еня заинтересовало это место, и я решила побывать там и рассказать о нём.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WordArt 7" descr=""/>
          <p:cNvPicPr/>
          <p:nvPr/>
        </p:nvPicPr>
        <p:blipFill>
          <a:blip r:embed="rId1"/>
          <a:stretch/>
        </p:blipFill>
        <p:spPr>
          <a:xfrm>
            <a:off x="2189160" y="396720"/>
            <a:ext cx="43275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000" y="2060640"/>
            <a:ext cx="8002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де находится это место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так ли оно красиво как о нём говорят?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действительно ли зимой в кульдурском источнике горячая вода?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 посещают ли его жители и гости этого посёлка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3573000"/>
            <a:ext cx="728352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4" descr="word2"/>
          <p:cNvPicPr/>
          <p:nvPr/>
        </p:nvPicPr>
        <p:blipFill>
          <a:blip r:embed="rId1"/>
          <a:stretch/>
        </p:blipFill>
        <p:spPr>
          <a:xfrm>
            <a:off x="8277120" y="115920"/>
            <a:ext cx="866880" cy="7192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word2"/>
          <p:cNvPicPr/>
          <p:nvPr/>
        </p:nvPicPr>
        <p:blipFill>
          <a:blip r:embed="rId2"/>
          <a:stretch/>
        </p:blipFill>
        <p:spPr>
          <a:xfrm>
            <a:off x="7308720" y="4508640"/>
            <a:ext cx="866880" cy="718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word2"/>
          <p:cNvPicPr/>
          <p:nvPr/>
        </p:nvPicPr>
        <p:blipFill>
          <a:blip r:embed="rId3"/>
          <a:stretch/>
        </p:blipFill>
        <p:spPr>
          <a:xfrm>
            <a:off x="468360" y="5805360"/>
            <a:ext cx="866880" cy="7192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000044"/>
          <p:cNvPicPr/>
          <p:nvPr/>
        </p:nvPicPr>
        <p:blipFill>
          <a:blip r:embed="rId4"/>
          <a:stretch/>
        </p:blipFill>
        <p:spPr>
          <a:xfrm>
            <a:off x="179280" y="1844640"/>
            <a:ext cx="478080" cy="501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000044"/>
          <p:cNvPicPr/>
          <p:nvPr/>
        </p:nvPicPr>
        <p:blipFill>
          <a:blip r:embed="rId5"/>
          <a:stretch/>
        </p:blipFill>
        <p:spPr>
          <a:xfrm>
            <a:off x="7164360" y="2133720"/>
            <a:ext cx="477720" cy="501480"/>
          </a:xfrm>
          <a:prstGeom prst="rect">
            <a:avLst/>
          </a:prstGeom>
          <a:ln w="0">
            <a:noFill/>
          </a:ln>
        </p:spPr>
      </p:pic>
      <p:pic>
        <p:nvPicPr>
          <p:cNvPr id="258" name="WordArt 11" descr=""/>
          <p:cNvPicPr/>
          <p:nvPr/>
        </p:nvPicPr>
        <p:blipFill>
          <a:blip r:embed="rId6"/>
          <a:stretch/>
        </p:blipFill>
        <p:spPr>
          <a:xfrm>
            <a:off x="523800" y="676440"/>
            <a:ext cx="8047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6130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8532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ff"/>
                </a:solidFill>
                <a:latin typeface="Calibri"/>
              </a:rPr>
              <a:t>Термальная вода</a:t>
            </a:r>
            <a:r>
              <a:rPr b="0" lang="ru-RU" sz="2800" spc="-1" strike="noStrike">
                <a:solidFill>
                  <a:srgbClr val="0066ff"/>
                </a:solidFill>
                <a:latin typeface="Calibri"/>
              </a:rPr>
              <a:t> – источник молодости</a:t>
            </a:r>
            <a:r>
              <a:rPr b="0" lang="ru-RU" sz="2400" spc="-1" strike="noStrike">
                <a:solidFill>
                  <a:srgbClr val="0066ff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ы, человек, любя природу,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ть иногда её жалей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увеселительных поход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растопчи её пол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вокзальной сутолоке 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ы оценить её спеши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а твой давний,  добрый лекарь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а союзница душ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жги её напропалу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не исчерпывай до дн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помни истину простую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с много, а она од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-227160"/>
            <a:ext cx="5745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сего на территории Еврейской Автономной Области известно 6 минеральных источ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ульдурски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тариковски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ижнетуловчихински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рхнетуловчихински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нцелевский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Бирск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WordArt 11" descr=""/>
          <p:cNvPicPr/>
          <p:nvPr/>
        </p:nvPicPr>
        <p:blipFill>
          <a:blip r:embed="rId1"/>
          <a:stretch/>
        </p:blipFill>
        <p:spPr>
          <a:xfrm>
            <a:off x="-6480" y="328680"/>
            <a:ext cx="872964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ерхнетуловчихинский минеральный источник в Октябрьском районе. Холодный минеральный источник. Вода, с запахом сероводород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пература воды - 7,5 градус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ижнетуловчихинский минеральный источник Октябрьский район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олодный минеральный источни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риковский минеральный источник Октябрьский район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храняется как памятник природы местного значения. Минеральный холодный источник с водой с запахом сероводорода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пература воды - 12 градус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04:15:57Z</dcterms:created>
  <dc:creator>Федотова Виктория Александровна</dc:creator>
  <dc:description/>
  <dc:language>en-US</dc:language>
  <cp:lastModifiedBy>Юра</cp:lastModifiedBy>
  <dcterms:modified xsi:type="dcterms:W3CDTF">2016-04-04T04:33:36Z</dcterms:modified>
  <cp:revision>81</cp:revision>
  <dc:subject/>
  <dc:title>Слайд 1</dc:title>
</cp:coreProperties>
</file>