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22C-1BAD-4B58-B057-5F262302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44E-D0C4-47E6-9B8B-9AED90C2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BCA7-18C0-4936-A981-6675BD67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1FD2-75FD-430A-8985-576359E1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7E5-FBB7-40C8-8410-D2CAFA97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7F87-5AAA-493C-8045-FE414A47B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9E2-DBDD-44C9-A3CC-DE07E34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EE9E-6F21-4C47-AE84-643B81B5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2742-3ECB-4358-997D-7E151935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C7FD-0299-4BCC-8F61-F276FECE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DD8-F75A-437C-9456-6D9E33CD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5C8-E2EB-4A71-8E5F-82C2C4CE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6653-D1F4-4A7A-9CE3-96B55BB8B8F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856800"/>
            <a:ext cx="871560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f1fba"/>
                </a:solidFill>
                <a:latin typeface="Arial"/>
              </a:rPr>
              <a:t>Дидактические сказочки от А до Я</a:t>
            </a:r>
            <a:br>
              <a:rPr sz="3600"/>
            </a:br>
            <a:r>
              <a:rPr b="1" i="1" lang="ru-RU" sz="2000" spc="-1" strike="noStrike">
                <a:solidFill>
                  <a:srgbClr val="df1fba"/>
                </a:solidFill>
                <a:latin typeface="Arial"/>
              </a:rPr>
              <a:t>© Лазукина Надежда Юр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Педагогическая идея сказ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Схема 4" descr=""/>
          <p:cNvPicPr/>
          <p:nvPr/>
        </p:nvPicPr>
        <p:blipFill>
          <a:blip r:embed="rId1"/>
          <a:stretch/>
        </p:blipFill>
        <p:spPr>
          <a:xfrm>
            <a:off x="268200" y="1079640"/>
            <a:ext cx="875340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Дидактический на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Задание: </a:t>
            </a:r>
            <a:r>
              <a:rPr b="0" i="1" lang="ru-RU" sz="3200" spc="-1" strike="noStrike">
                <a:solidFill>
                  <a:srgbClr val="663300"/>
                </a:solidFill>
                <a:latin typeface="Arial"/>
              </a:rPr>
              <a:t>отметь квадратик напротив слова, в котором есть букв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642960" y="27860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642960" y="39290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642960" y="507204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Дидактический на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адание: </a:t>
            </a:r>
            <a:r>
              <a:rPr b="0" i="1" lang="ru-RU" sz="2800" spc="-1" strike="noStrike">
                <a:solidFill>
                  <a:srgbClr val="663300"/>
                </a:solidFill>
                <a:latin typeface="Arial"/>
              </a:rPr>
              <a:t>отметь квадратик напротив слова, в котором буква А стоит пер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АРБУ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М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Р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642960" y="2643120"/>
            <a:ext cx="500040" cy="42876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642960" y="385776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571680" y="5000760"/>
            <a:ext cx="500040" cy="4284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Дидактический на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Новая папка\Методическая работа\Семинар по игровым технологиям\А куски.bmp"/>
          <p:cNvPicPr/>
          <p:nvPr/>
        </p:nvPicPr>
        <p:blipFill>
          <a:blip r:embed="rId1"/>
          <a:stretch/>
        </p:blipFill>
        <p:spPr>
          <a:xfrm>
            <a:off x="785880" y="1357200"/>
            <a:ext cx="7686720" cy="37148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785880" y="5572080"/>
            <a:ext cx="521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Задание: собери пазл  </a:t>
            </a: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Дидактический на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Новая папка\Методическая работа\Семинар по игровым технологиям\Апельсин.jpg"/>
          <p:cNvPicPr/>
          <p:nvPr/>
        </p:nvPicPr>
        <p:blipFill>
          <a:blip r:embed="rId1"/>
          <a:stretch/>
        </p:blipFill>
        <p:spPr>
          <a:xfrm>
            <a:off x="500040" y="1571760"/>
            <a:ext cx="45259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214960" y="171468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Задание: раскрась апель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1fba"/>
                </a:solidFill>
                <a:latin typeface="Arial"/>
              </a:rPr>
              <a:t>А. Апельсин, или Почему апельсин оранже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В одной далекой-предалекой стране, в Китае,  жил-был Сеньор Апельсин. И был этот Сеньор Апельсин всегда грустный-прегрустны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Однажды Сеньор Апельсин прогуливался по своему Апельсиновому Саду. Он любил свой сад, потому что сад у Сеньора Апельсина был большой и красивый и жила в этом саду Райская Птица, которая славилась своим райским пением. Она пела о том, что есть Солнце, Апельсиновый Сад,  Синее Море и Голубое Небо с пушистыми Белыми Облаками. Сеньор Апельсин остановился послушать пение Райской Птицы. Птица пела хорошо, но Сеньору Апельсину все равно было очень грустно.  Увидела Райская Птица это и спрашив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Отчего Вы всегда такой грустный, Сеньор Апельсин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А Сеньор Апельсин ей отве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Я все время один. У меня нет  друзей, оттого я и грустны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Сжалилась Райская Птица над одиноким Сеньором Апельсином, взмахнула своим райским крылом, и… О чудо! Рядом с Сеньором Апельсином очутились Маленькая Мандаринка и Мандаринчик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Здравствуйте, Сеньор Апельсин! – поздоровалась Маленькая Мандаринка и улыбнулась Сеньору Апельсину. – Вы такой забавный, оранжевый, как и мы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И Маленькая Мандаринка весело засмеялась, она была очень веселой и озорной мандаринко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Да-да-да, нужно перестать грустить. Давайте дружить! Мы вместе будем гулять по Апельсиновому Саду и слушать пение Райской Птицы, - предложил Мандаринчи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- Давайте! – с радостью согласился Сеньор Апельсин, и вдруг от такой радости стал совсем оранжевы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663300"/>
                </a:solidFill>
                <a:latin typeface="Arial"/>
              </a:rPr>
              <a:t>И дружная оранжевая компания отправилась гулять по Апельсиновому Саду, а Сеньор Апельсин с этих пор перестал грустить и был всегда только веселый, ведь у него появились замечательные друзь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1fba"/>
                </a:solidFill>
                <a:latin typeface="Arial"/>
              </a:rPr>
              <a:t>В качестве заклю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Дидактические сказочки адресованы мамам и папам, бабушкам и дедушкам, воспитателям и учителям начальных клас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Данная методика позволяет в игровой форме знакомить  малыша и первоклассника с алфавитом, формировать его устойчивый интерес к книге, познанию нов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957320" y="1928880"/>
            <a:ext cx="56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820bd"/>
                </a:solidFill>
                <a:latin typeface="Arial"/>
              </a:rPr>
              <a:t>Спасибо за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azukina</cp:lastModifiedBy>
  <dcterms:modified xsi:type="dcterms:W3CDTF">2016-04-04T11:30:51Z</dcterms:modified>
  <cp:revision>727</cp:revision>
  <dc:subject/>
  <dc:title>Diapositiva 1</dc:title>
</cp:coreProperties>
</file>