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384D-0575-48AE-8474-EDA0AC8A8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E53D-B4BF-40F5-ACE7-AED579010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0B91-720F-4C7B-A6D3-60349A101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4E3E-D5BA-4BCB-83E9-F33A008DB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96AA-BA59-4737-BF19-6AF7BBD28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BCEE-B886-4F5B-B7F7-740B4C947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AC51-9E07-4977-93D2-0715E904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7434-4396-4E81-AEDA-19F985742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B683-4A15-43D3-8EC5-FF2A875B3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2208-D4AB-4D0C-A090-AEC67671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E52E-B6D1-4C9E-A647-AF86577A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6951-F78E-4BD2-8D79-50204F18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8FB71-2CDC-4E24-90B8-CCB2CD63C38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4200" y="856800"/>
            <a:ext cx="871560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df1fba"/>
                </a:solidFill>
                <a:latin typeface="Arial"/>
              </a:rPr>
              <a:t>Дидактические сказочки от А до Я</a:t>
            </a:r>
            <a:br>
              <a:rPr sz="3600"/>
            </a:br>
            <a:r>
              <a:rPr b="1" i="1" lang="ru-RU" sz="2000" spc="-1" strike="noStrike">
                <a:solidFill>
                  <a:srgbClr val="df1fba"/>
                </a:solidFill>
                <a:latin typeface="Arial"/>
              </a:rPr>
              <a:t>© Лазукина Надежда Юрь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f1fba"/>
                </a:solidFill>
                <a:latin typeface="Arial"/>
              </a:rPr>
              <a:t>Педагогическая идея сказ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Схема 4" descr=""/>
          <p:cNvPicPr/>
          <p:nvPr/>
        </p:nvPicPr>
        <p:blipFill>
          <a:blip r:embed="rId1"/>
          <a:stretch/>
        </p:blipFill>
        <p:spPr>
          <a:xfrm>
            <a:off x="268200" y="1079640"/>
            <a:ext cx="8753400" cy="40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f1fba"/>
                </a:solidFill>
                <a:latin typeface="Arial"/>
              </a:rPr>
              <a:t>Дидактический наб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663300"/>
                </a:solidFill>
                <a:latin typeface="Arial"/>
              </a:rPr>
              <a:t>Задание: </a:t>
            </a:r>
            <a:r>
              <a:rPr b="0" i="1" lang="ru-RU" sz="3200" spc="-1" strike="noStrike">
                <a:solidFill>
                  <a:srgbClr val="663300"/>
                </a:solidFill>
                <a:latin typeface="Arial"/>
              </a:rPr>
              <a:t>отметь квадратик напротив слова, в котором есть буква 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МА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Д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3"/>
          <p:cNvSpPr/>
          <p:nvPr/>
        </p:nvSpPr>
        <p:spPr>
          <a:xfrm>
            <a:off x="642960" y="2786040"/>
            <a:ext cx="500040" cy="42876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4"/>
          <p:cNvSpPr/>
          <p:nvPr/>
        </p:nvSpPr>
        <p:spPr>
          <a:xfrm>
            <a:off x="642960" y="3929040"/>
            <a:ext cx="500040" cy="42876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5"/>
          <p:cNvSpPr/>
          <p:nvPr/>
        </p:nvSpPr>
        <p:spPr>
          <a:xfrm>
            <a:off x="642960" y="5072040"/>
            <a:ext cx="500040" cy="42876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f1fba"/>
                </a:solidFill>
                <a:latin typeface="Arial"/>
              </a:rPr>
              <a:t>Дидактический наб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Задание: </a:t>
            </a: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отметь квадратик напротив слова, в котором буква А стоит перв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АРБУ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М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РО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3"/>
          <p:cNvSpPr/>
          <p:nvPr/>
        </p:nvSpPr>
        <p:spPr>
          <a:xfrm>
            <a:off x="642960" y="2643120"/>
            <a:ext cx="500040" cy="42876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4"/>
          <p:cNvSpPr/>
          <p:nvPr/>
        </p:nvSpPr>
        <p:spPr>
          <a:xfrm>
            <a:off x="642960" y="3857760"/>
            <a:ext cx="500040" cy="42840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5"/>
          <p:cNvSpPr/>
          <p:nvPr/>
        </p:nvSpPr>
        <p:spPr>
          <a:xfrm>
            <a:off x="571680" y="5000760"/>
            <a:ext cx="500040" cy="42840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f1fba"/>
                </a:solidFill>
                <a:latin typeface="Arial"/>
              </a:rPr>
              <a:t>Дидактический наб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Новая папка\Методическая работа\Семинар по игровым технологиям\А куски.bmp"/>
          <p:cNvPicPr/>
          <p:nvPr/>
        </p:nvPicPr>
        <p:blipFill>
          <a:blip r:embed="rId1"/>
          <a:stretch/>
        </p:blipFill>
        <p:spPr>
          <a:xfrm>
            <a:off x="785880" y="1357200"/>
            <a:ext cx="7686720" cy="3714840"/>
          </a:xfrm>
          <a:prstGeom prst="rect">
            <a:avLst/>
          </a:prstGeom>
          <a:ln w="0">
            <a:noFill/>
          </a:ln>
        </p:spPr>
      </p:pic>
      <p:sp>
        <p:nvSpPr>
          <p:cNvPr id="56" name="TextBox 5"/>
          <p:cNvSpPr/>
          <p:nvPr/>
        </p:nvSpPr>
        <p:spPr>
          <a:xfrm>
            <a:off x="785880" y="5572080"/>
            <a:ext cx="521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Arial"/>
              </a:rPr>
              <a:t>Задание: собери пазл  </a:t>
            </a:r>
            <a:r>
              <a:rPr b="1" lang="ru-RU" sz="4800" spc="-1" strike="noStrike">
                <a:solidFill>
                  <a:srgbClr val="663300"/>
                </a:solidFill>
                <a:latin typeface="Arial"/>
              </a:rPr>
              <a:t>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f1fba"/>
                </a:solidFill>
                <a:latin typeface="Arial"/>
              </a:rPr>
              <a:t>Дидактический наб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C:\Новая папка\Методическая работа\Семинар по игровым технологиям\Апельсин.jpg"/>
          <p:cNvPicPr/>
          <p:nvPr/>
        </p:nvPicPr>
        <p:blipFill>
          <a:blip r:embed="rId1"/>
          <a:stretch/>
        </p:blipFill>
        <p:spPr>
          <a:xfrm>
            <a:off x="500040" y="1571760"/>
            <a:ext cx="4525920" cy="4525920"/>
          </a:xfrm>
          <a:prstGeom prst="rect">
            <a:avLst/>
          </a:prstGeom>
          <a:ln w="0">
            <a:noFill/>
          </a:ln>
        </p:spPr>
      </p:pic>
      <p:sp>
        <p:nvSpPr>
          <p:cNvPr id="59" name="TextBox 4"/>
          <p:cNvSpPr/>
          <p:nvPr/>
        </p:nvSpPr>
        <p:spPr>
          <a:xfrm>
            <a:off x="5214960" y="1714680"/>
            <a:ext cx="3714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Задание: раскрась апельс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f1fba"/>
                </a:solidFill>
                <a:latin typeface="Arial"/>
              </a:rPr>
              <a:t>А. Апельсин, или Почему апельсин оранже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63300"/>
                </a:solidFill>
                <a:latin typeface="Arial"/>
              </a:rPr>
              <a:t>В одной далекой-предалекой стране, в Китае,  жил-был Сеньор Апельсин. И был этот Сеньор Апельсин всегда грустный-прегрустный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63300"/>
                </a:solidFill>
                <a:latin typeface="Arial"/>
              </a:rPr>
              <a:t>Однажды Сеньор Апельсин прогуливался по своему Апельсиновому Саду. Он любил свой сад, потому что сад у Сеньора Апельсина был большой и красивый и жила в этом саду Райская Птица, которая славилась своим райским пением. Она пела о том, что есть Солнце, Апельсиновый Сад,  Синее Море и Голубое Небо с пушистыми Белыми Облаками. Сеньор Апельсин остановился послушать пение Райской Птицы. Птица пела хорошо, но Сеньору Апельсину все равно было очень грустно.  Увидела Райская Птица это и спрашивает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63300"/>
                </a:solidFill>
                <a:latin typeface="Arial"/>
              </a:rPr>
              <a:t>- Отчего Вы всегда такой грустный, Сеньор Апельсин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63300"/>
                </a:solidFill>
                <a:latin typeface="Arial"/>
              </a:rPr>
              <a:t>А Сеньор Апельсин ей отвечает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63300"/>
                </a:solidFill>
                <a:latin typeface="Arial"/>
              </a:rPr>
              <a:t>- Я все время один. У меня нет  друзей, оттого я и грустный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63300"/>
                </a:solidFill>
                <a:latin typeface="Arial"/>
              </a:rPr>
              <a:t>Сжалилась Райская Птица над одиноким Сеньором Апельсином, взмахнула своим райским крылом, и… О чудо! Рядом с Сеньором Апельсином очутились Маленькая Мандаринка и Мандаринчик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63300"/>
                </a:solidFill>
                <a:latin typeface="Arial"/>
              </a:rPr>
              <a:t>- Здравствуйте, Сеньор Апельсин! – поздоровалась Маленькая Мандаринка и улыбнулась Сеньору Апельсину. – Вы такой забавный, оранжевый, как и мы!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63300"/>
                </a:solidFill>
                <a:latin typeface="Arial"/>
              </a:rPr>
              <a:t>И Маленькая Мандаринка весело засмеялась, она была очень веселой и озорной мандаринкой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63300"/>
                </a:solidFill>
                <a:latin typeface="Arial"/>
              </a:rPr>
              <a:t>- Да-да-да, нужно перестать грустить. Давайте дружить! Мы вместе будем гулять по Апельсиновому Саду и слушать пение Райской Птицы, - предложил Мандаринчик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63300"/>
                </a:solidFill>
                <a:latin typeface="Arial"/>
              </a:rPr>
              <a:t>- Давайте! – с радостью согласился Сеньор Апельсин, и вдруг от такой радости стал совсем оранжевым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63300"/>
                </a:solidFill>
                <a:latin typeface="Arial"/>
              </a:rPr>
              <a:t>И дружная оранжевая компания отправилась гулять по Апельсиновому Саду, а Сеньор Апельсин с этих пор перестал грустить и был всегда только веселый, ведь у него появились замечательные друзья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f1fba"/>
                </a:solidFill>
                <a:latin typeface="Arial"/>
              </a:rPr>
              <a:t>В качестве заключ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Дидактические сказочки адресованы мамам и папам, бабушкам и дедушкам, воспитателям и учителям начальных класс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Данная методика позволяет в игровой форме знакомить  малыша и первоклассника с алфавитом, формировать его устойчивый интерес к книге, познанию нов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1957320" y="1928880"/>
            <a:ext cx="56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820bd"/>
                </a:solidFill>
                <a:latin typeface="Arial"/>
              </a:rPr>
              <a:t>Спасибо за вним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Lazukina</cp:lastModifiedBy>
  <dcterms:modified xsi:type="dcterms:W3CDTF">2016-04-04T11:30:51Z</dcterms:modified>
  <cp:revision>727</cp:revision>
  <dc:subject/>
  <dc:title>Diapositiva 1</dc:title>
</cp:coreProperties>
</file>