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A3A-FD25-4757-9801-EE46A00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D47-9F4F-451B-88FB-1D9CBE34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D52-860B-47F4-A1FA-E60E86F2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28B-B312-46FC-93EE-2C187DA8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87F9-5FF2-4CFF-83DC-B4EEEFE0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3D715-DF48-4980-9DB2-979EF28D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1F42-D7E3-4798-A1BB-18A08671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00A2-B0D9-437A-BFF9-998106CF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20A2-B9BB-4D30-836D-9BA2088A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885B-FEAA-486B-AFE9-6C705BC6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3185-88C0-4F75-9DDB-7BDB7AA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6E3-AE97-4715-B18A-8E310237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BE62-E68C-4DC3-B202-9B76387A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CC77-176F-4B49-888A-94EEDB80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D82F-F04D-4AF0-B6E9-51DF5FF4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6AFC-CABD-4036-A7C9-2BE777A7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C6DB-79B9-4142-962A-5DA127C5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0F285-568D-484F-A4FE-00CBE0C0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E27E-F074-48BE-BE3D-6AB9B02D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1D86E-A8E4-4862-9BA6-60707558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850DE-978C-401D-90EC-EBCFA3BF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3A72-F2A4-4EA4-899F-28815C3D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7FD-04F3-46E8-92DB-413F8FAB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9834E-B28C-4FC6-824C-6FCF3982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F7073-9B68-4151-8483-E84AE6FC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02346-4614-498C-BD82-C54CC5B0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252A-0B01-4891-92BD-FE651C3F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25DFE-CB6C-4D50-A398-E6D31134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AE7A1-923A-4C57-9482-8B8DA93E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82D2-D27A-4130-8CD6-FF5B41FC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CEE0-FCEC-4701-B7D7-81485912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BB57-E4B5-4821-943F-8FEF347E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AA1B8-71FB-41AD-B440-EB143D04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65B-1E04-41AD-9440-4867C252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A7D27-57DF-4A5B-A2B0-0D457492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D1FE-9FFB-4176-B974-904ED2A4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3F1DE-C769-4FA1-A3DE-41F9FFE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7177A-1FB0-45EB-B2B1-290B50C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F0582-B9C0-403F-B199-917F100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A3BB-3A3B-4BE4-BFB5-C86B9759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D2B54-22A6-4795-BB9F-5F9563AB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BB4C-DA1F-4194-AD51-D5C4C4C8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BF9E-5A94-4D5B-856A-871B0C02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F485-BE9C-4BE5-9647-8FFDCE54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DE3B-23D5-49B7-BF9B-98C9CE56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6A190-E692-4AE4-A3B8-76C94B97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5BCB8-C47D-4087-90E0-189F44C8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92D43-C852-4DB1-A7F1-DD83EB23F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4E470-5EE3-4D22-B91C-22C84352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6B79-B412-443D-A299-AE4B11C4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AB517-4234-4687-B01C-F468D185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182BC-BB97-47EB-B81D-1D23C587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53AA9-2CF8-4C3B-B911-9542F17D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5F54-811E-42DB-B399-28184C1B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027BC-05AF-4031-AF9A-A00DD5FC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0E76-B03A-42BC-B98B-391205E4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4D6B-7F0D-42D4-81D6-812418BB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78871-931B-48E2-AEAB-41E54902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FC9C-6850-4405-9000-A04F0FF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1CCA3-FEE3-4350-A125-C8BC9CD5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B9076-99DC-4FDA-A01E-E3990E6A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6BAD-0046-4B62-9363-E6B51873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E27A8-ADB4-4CE1-8D56-D1D3C7139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ED0B4-6261-4080-AF8C-67BA2CC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B9C3D-603B-418F-AB45-624F73AE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FC8C-F447-4708-8B37-B65A3089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A9E-F4FB-4FA5-8D79-60FB9BD5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29B73-A8EE-424C-A4B0-397C1DB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84491-8DFB-428A-8E69-7EE45E91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07904-DF19-4919-948E-2ED3D93EF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E5995-936F-4664-A754-7F37F04D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EE2E1-CE85-4080-A42A-064A42E5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2A636-61E1-4FFA-8A61-A38E6F43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018BB-5057-4073-AE4F-44670646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31929-9335-45EB-93C8-4C309DC9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0D7AD-6D44-4630-B86C-21F93182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866B3-F350-459C-B269-9270E74C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DAA-9863-4B7B-B937-C168B72B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28DE0-4D35-4111-ACEF-572E28F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F9ACC-98CB-44FF-A298-25EE7AAD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0960F-7C1C-4A7C-B932-1C4DDF6C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92423-C1E0-41D1-99C7-2C985C19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BC6DA-A603-40F3-8E30-000245C4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148-7112-483B-9E5A-AC196426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0C9-5847-4534-AEA3-F242D4822B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35b8c"/>
              </a:gs>
              <a:gs pos="100000">
                <a:srgbClr val="8abff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207-668E-46FF-8FAD-5D642757FDD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63B7-98AB-4390-9FD7-02FE5D3B699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accbf9">
                  <a:alpha val="1176"/>
                </a:srgbClr>
              </a:gs>
              <a:gs pos="100000">
                <a:srgbClr val="accbf9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35b8c"/>
              </a:gs>
              <a:gs pos="100000">
                <a:srgbClr val="8abff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abbc5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1b2b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EF4C-B80C-4AC1-A0D4-6061A00D5F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CCAE-3042-49A8-B00E-A6C6E8EBD4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84f"/>
            </a:gs>
            <a:gs pos="100000">
              <a:srgbClr val="585c9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D1AD-303C-4346-AE4E-945989619277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bb2ed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7bb2e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629dd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2240" indent="-285840">
              <a:spcBef>
                <a:spcPts val="751"/>
              </a:spcBef>
              <a:buClr>
                <a:srgbClr val="629dd1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4840" indent="-22860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209520">
              <a:spcBef>
                <a:spcPts val="751"/>
              </a:spcBef>
              <a:buClr>
                <a:srgbClr val="629dd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0200" indent="-209520">
              <a:spcBef>
                <a:spcPts val="751"/>
              </a:spcBef>
              <a:buClr>
                <a:srgbClr val="9ebcd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0C0D-EFB5-4443-A70E-6D1FBC9CC13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334800" y="195120"/>
            <a:ext cx="8461440" cy="16336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311640" cy="238932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2"/>
          <p:cNvSpPr/>
          <p:nvPr/>
        </p:nvSpPr>
        <p:spPr>
          <a:xfrm>
            <a:off x="539640" y="3284640"/>
            <a:ext cx="32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6 марта 2016 года в рамках Недели Николая Шилова  состоялись поэтические уроки в 1-8 класса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542880" y="189000"/>
            <a:ext cx="8229600" cy="1627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189240" cy="17701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5013360" y="3933720"/>
            <a:ext cx="2882880" cy="17971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"/>
          <p:cNvPicPr/>
          <p:nvPr/>
        </p:nvPicPr>
        <p:blipFill>
          <a:blip r:embed="rId4"/>
          <a:stretch/>
        </p:blipFill>
        <p:spPr>
          <a:xfrm>
            <a:off x="1187280" y="4338720"/>
            <a:ext cx="2737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6-04-04T08:59:17Z</dcterms:modified>
  <cp:revision>37</cp:revision>
  <dc:subject/>
  <dc:title>PowerPoint Presentation</dc:title>
</cp:coreProperties>
</file>