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9BF-FC02-4526-9C9E-38F90925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6B6-83AE-4CBA-81CB-B17F48A1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29B-BFF0-465B-8D93-3C05BB0D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092-E484-48E8-B584-7C1E5A93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04CB-17F0-4D63-8739-A641271D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B6FC-2854-4656-B3A7-A7E93B2C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4FF4-4FAE-48B4-B3E3-E743DE1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AB3-D931-4DEA-8BCB-2FCA7D2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5C44-C9D6-44E6-88AA-3A662539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740D-516A-4E4E-B038-B1089614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14CB-31D6-47A8-9992-D0922964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2E5-159C-43EA-8209-2BCB9936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01E6-45C9-4DF9-888B-D8A2A830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EE21-8462-4F87-8BDA-2EC6194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C39B-FAD8-4051-A01A-9C76D6F6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F1DC-8D58-487C-AD83-811E2483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F46B-37F2-4E18-9D0A-BEBF8552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1FBA-4E6C-44DF-A44B-9B7489E4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89E1-F321-4AE6-8EF7-580395A7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EF7D-C279-4928-A615-3CD3533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84A1-7457-422F-BD14-34868156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2F87F-D6F1-47EA-9F3C-5CA77D1C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FA3-984D-4D05-980A-F75EC8D2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E1F83-9930-4835-8DC4-5E6A0AC2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6CC5-EE38-4806-932C-8140F08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3807-6DAD-45FB-A991-C18EAE6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E7CA-E6BB-422B-AFF3-5603E47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1EF0-3FB2-48DE-B2FB-BBA86173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DE63-DA18-4AA1-948C-619342DF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8E42-5A38-4F52-ACE6-7C6B9822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701CB-E476-4131-89F5-A7CF55AB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A482-7867-4E7A-8429-2A4E300B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F68B0-3B81-4C64-B4A9-25D00F33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619-6202-4549-9F7A-84E7070D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7853-4C6E-4A0A-B113-7BD21180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09CE-9E89-4B3A-B838-D063825A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472E-8F4B-4526-84D0-6242ACD1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7CD57-E8D2-4B61-BCD7-ED9D0316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3E0B5-CC34-475D-8D74-F9325CC1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5D91-DE62-43B6-9712-9F2AEAC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54F8-9E40-4B9D-97A3-C167C4FB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6A87-3889-4A34-BAA7-088E16DE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048C-3424-4ACF-96C0-0FD5C710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C8934-F261-434E-B35E-04445879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AFC-CE60-4549-BCBA-CB6082F5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E376B-6ABB-41C3-AF54-258B20E0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37A08-A306-4577-A9E8-BD9CDB88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14B89-1097-4504-8DAF-A3408010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9FCFC-04E4-4F38-A275-0F3229DC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900C0-A135-429C-B07C-469D7EEB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77FC-5A64-4B91-9764-FF916D49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8BF6A-90C5-45D3-9135-6F87D816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275A1-4435-468F-8710-49BB4A09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5320E-3BEC-45E8-98A8-0FC65AFA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CAF66-C548-4295-8A3C-B66E0919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3F2-851A-4489-9EE5-CC1D5320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2216-C58D-4DCF-B7CF-59EB944E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34758-22E7-4582-BD6C-380FF770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C221A-EC24-4526-9451-B9929504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9CDA-426B-41FA-ABCD-1A811E71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483B-0885-4F99-B1C6-31FDC32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6F96-F43E-44E2-826F-86FD2AE2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CD510-CE42-4DA6-8798-A6D96BBC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66D39-5D5B-45B6-8952-A3CE3F43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1778A-3A25-4983-95E5-F51E177F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001AC-1AB6-4F60-86F6-5AC21DD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DF3-45D2-4BC4-8E48-748A9B1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E2A19-562E-436A-9073-A9DBF0C7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138B7-812E-4164-A161-5EC2D459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CEA6E-80D4-4A42-B3AA-8472759F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6211E-D557-45E7-8722-15DE422C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BAB2B-19D4-4B6D-9883-58960057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3F951-AED7-44C4-BD89-8EDEF04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EC281-C6A6-415F-B05E-DF81750B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0138-550E-4C65-8287-7EFC5E62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65916-03AA-47E8-A7E0-74A40F32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0BA16-4C14-4494-859D-D873823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48C-C1D1-4F8B-8303-3D6580A4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9E336-524E-4BCF-9582-C1F13E3D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ED0F5-B848-41C5-9829-7B7544C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E32FB-A811-4A9B-A20C-50E7F80B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A7EA7-49AA-4434-8EEA-6626FC35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D97B6-23AA-46FB-B6A3-73BE207D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07C-CAD0-47AD-8865-4032921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ccbf9">
                  <a:alpha val="1176"/>
                </a:srgbClr>
              </a:gs>
              <a:gs pos="100000">
                <a:srgbClr val="accb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1b2b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abbc5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5B2C-C59E-4BBC-8E80-C8B3F2302E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ccbf9">
                  <a:alpha val="1176"/>
                </a:srgbClr>
              </a:gs>
              <a:gs pos="100000">
                <a:srgbClr val="accb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1b2b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abbc5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35b8c"/>
              </a:gs>
              <a:gs pos="100000">
                <a:srgbClr val="8abff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60EC-A070-4FB5-A6BD-578328D96F07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ccbf9">
                  <a:alpha val="1176"/>
                </a:srgbClr>
              </a:gs>
              <a:gs pos="100000">
                <a:srgbClr val="accb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1b2b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abbc5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D40-257E-4596-9877-A8B39C6B97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ccbf9">
                  <a:alpha val="1176"/>
                </a:srgbClr>
              </a:gs>
              <a:gs pos="100000">
                <a:srgbClr val="accb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35b8c"/>
              </a:gs>
              <a:gs pos="100000">
                <a:srgbClr val="8abff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abbc5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1b2b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EA2-3C36-4265-9CD8-83F6FEF7D9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8D5C-B13C-4E57-806B-A2A6C0B4E2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6B2A-5038-43EE-A1B7-4B4F0B6BFDE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D05A-B0AA-4FD5-948B-C5B7C7C8B33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334800" y="195120"/>
            <a:ext cx="8461440" cy="1633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311640" cy="238932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2"/>
          <p:cNvSpPr/>
          <p:nvPr/>
        </p:nvSpPr>
        <p:spPr>
          <a:xfrm>
            <a:off x="539640" y="3284640"/>
            <a:ext cx="32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 марта 2016 года в рамках Недели Николая Шилова  состоялись поэтические уроки в 1-8 класс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542880" y="189000"/>
            <a:ext cx="8229600" cy="162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189240" cy="1770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5013360" y="3933720"/>
            <a:ext cx="2882880" cy="1797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4"/>
          <a:stretch/>
        </p:blipFill>
        <p:spPr>
          <a:xfrm>
            <a:off x="1187280" y="4338720"/>
            <a:ext cx="2737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ued Acer Customer</cp:lastModifiedBy>
  <dcterms:modified xsi:type="dcterms:W3CDTF">2016-04-04T08:59:17Z</dcterms:modified>
  <cp:revision>37</cp:revision>
  <dc:subject/>
  <dc:title>PowerPoint Presentation</dc:title>
</cp:coreProperties>
</file>