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46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0200" y="222372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90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46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20200" y="4710600"/>
            <a:ext cx="2728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117360"/>
            <a:ext cx="860580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32400" y="471060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90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32400" y="2223720"/>
            <a:ext cx="41360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9000" y="4710600"/>
            <a:ext cx="84758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360"/>
            <a:ext cx="860580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9000" y="2223720"/>
            <a:ext cx="84758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60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6600" spc="-1" strike="noStrike">
                <a:solidFill>
                  <a:srgbClr val="e6e6e6"/>
                </a:solidFill>
                <a:latin typeface="Arial"/>
              </a:rPr>
              <a:t>Суицид – геройство или слабость?.....</a:t>
            </a:r>
            <a:endParaRPr b="1" i="1" lang="en-US" sz="6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"/>
          <p:cNvSpPr/>
          <p:nvPr/>
        </p:nvSpPr>
        <p:spPr>
          <a:xfrm>
            <a:off x="900000" y="-54000"/>
            <a:ext cx="8477280" cy="10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6. Предложите конструктивные подходы (найти, что позитивно значимо для человека, и способы решения проблемы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7. Установите заботливые отношения как на вербальном , так и не вербальном уровне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8. Не спорьте с собеседни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9. Вселяйте надежду (смысл жизни не исчезает, даже если твое состояние приносит нетерпимую бол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10. Оцените степень риска самоубий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11. Не оставляйте человека одно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12. Обратитесь за помощью к специалистам (психологам. Священникам. Психиатрам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539640" y="539640"/>
            <a:ext cx="8999640" cy="63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Arial"/>
              </a:rPr>
              <a:t>Суицид – геройство или слабость, или в нервном потрясенье сры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Arial"/>
              </a:rPr>
              <a:t>Есть, скажите у кого-то храбрость вскрыть его причинности нары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Arial"/>
              </a:rPr>
              <a:t>Можно долго рассуждать о многом, осуждать, оправдывать кори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400" spc="-1" strike="noStrike">
                <a:solidFill>
                  <a:srgbClr val="e6e6ff"/>
                </a:solidFill>
                <a:latin typeface="Arial"/>
              </a:rPr>
              <a:t>Но не высказать высоким слогом, что порвало тоненькую нить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Печальная статистика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9640" y="900000"/>
            <a:ext cx="9360000" cy="69026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/>
          </a:bodyPr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По количеству самоубийств   Россия занимает в мире -   2 место.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По количеству самоубийств  среди детей и подростков – 1 место.  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Ежегодно  более  1,5 тыс. самоубийств совершаются несовершеннолетними.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На 100 тыс. детского населения - 19,8 случаев суицидов.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В последние годы частота самоубийств среди 10-14-летних детей - от 3 до 4 случаев на 100 тысяч.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Среди подростков 15-19 лет - 19-20 случаев.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600" spc="-1" strike="noStrike">
                <a:solidFill>
                  <a:srgbClr val="e6e6e6"/>
                </a:solidFill>
                <a:latin typeface="Times New Roman"/>
              </a:rPr>
              <a:t>Это превышает  средний мировой показатель по этой возрастной категории населения в 2,7 раза.     </a:t>
            </a:r>
            <a:endParaRPr b="0" lang="en-US" sz="2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Мотивы суицидального поведения детей и подростков: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9280" y="1260000"/>
            <a:ext cx="9539280" cy="972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1.Переживание обиды,одиночества, отчужденности и непонимания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2. Действительная или мнимая утрата любви родителей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3. Переживания, связанные со смертью, разводом или уходом родителей из семьи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4. Чувство вины, стыда, оскорбленного самолюбия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5. Боязнь позора, насмешек или унижения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6. Страх наказания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7. Любовные неудачи, беременность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8. Чувство мести, злобы, протеста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9. Желание привлечь к себе внимание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10. Чувство безнадежности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11. Множественные проблемы, все глобальные и неразрешимые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12. Желание наказать обидчика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Arial"/>
              </a:rPr>
              <a:t>13. Депрессивные состояния.</a:t>
            </a: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Причины суицидального поведения детей и подростков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graphicFrame>
        <p:nvGraphicFramePr>
          <p:cNvPr id="45" name="Object 2"/>
          <p:cNvGraphicFramePr/>
          <p:nvPr/>
        </p:nvGraphicFramePr>
        <p:xfrm>
          <a:off x="5432400" y="2224080"/>
          <a:ext cx="413712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2400" y="2224080"/>
                    <a:ext cx="413712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0360" y="1440000"/>
            <a:ext cx="9360000" cy="5734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1. Нарушение детско-родительских отношений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2. Конфликты с друзьями или педагогами.(как последняя капля, толкнувшая к суициду, но основная причина №1)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3. Прессинг успеха.( страх не оправдать надежды взрослых, собственные слишком высокие притязания на успех)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4. Отсутствие негативного отношения к суициду в сознании подростков.( самоубийца вызывает сочувствие, а не презрение)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5.Самоубийство фанатов после смерти кумира. (имеют часто массовый характер)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Признаки суицида: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640" y="1260000"/>
            <a:ext cx="9360000" cy="9983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Словесные признаки: 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прямо говорить о смерти( я не могу так дальше жить);                               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косвенно намекать о свих намерениях (я больше не буду для вас проблемой)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много шутить на тему самоубийства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проявлять нездоровую заинтересованность вопросами о смерти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Признаки суицида: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466640"/>
            <a:ext cx="89996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2. Поведенческие признаки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раздавать другим вещи, имеющие большую личностную значимость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Окончательно приводить в порядок дела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мириться с давними врагами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демонстрировать радикальные перемены в поведении (еда,сон, внешний вид, привычки)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замкнуться от семьи и друзей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264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быть чрезмерно деятельным или наоборот безразличным к окружающему миру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Признаки суицида: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899964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3. Ситуационные признаки: Человек может решиться на самоубийство, если: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 социально изолирован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живет в нестабильном окружении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ощущает себя жертвой насилия – физического.сексуального или эмоционального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предпринимал раньше попытки суицида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перенес тяжелую потерю – смерть кого-то из близких, развод родителей;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- слишком критически настроен по отношению к себе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800" spc="-1" strike="noStrike">
                <a:solidFill>
                  <a:srgbClr val="e6e6e6"/>
                </a:solidFill>
                <a:latin typeface="Arial"/>
              </a:rPr>
              <a:t>Виды суицида:</a:t>
            </a:r>
            <a:endParaRPr b="1" i="1" lang="en-US" sz="48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82720" y="1800000"/>
            <a:ext cx="847728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1. Истинный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2. Демонстративный суицид (попугать)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e6e6e6"/>
                </a:solidFill>
                <a:latin typeface="Arial"/>
              </a:rPr>
              <a:t>3. Скрытый суицид (суицидально обусловленное поведение – занятия экстремальным спортом, рисковая езда на автомобиле, алкогольная или наркотическая зависимость).</a:t>
            </a:r>
            <a:endParaRPr b="0" lang="en-US" sz="36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117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Рекомендации для взрослых: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260360"/>
            <a:ext cx="9180360" cy="10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1. Будьте внимательны к симптомам депрессии и стресса у подростка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2. Не считайте. Что человек не  способен  решиться на самоубийство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3. Установите заботливые отношения. (не морализируйте, предложите подростку поговорить)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4. Будьте внимательным слушателем (больше должен говорить подросток)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5. Не предлагайте неоправданных утешений (у многих такие проблемы).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6T19:08:04Z</dcterms:created>
  <dc:creator>светлана 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Admin</cp:lastModifiedBy>
  <dcterms:modified xsi:type="dcterms:W3CDTF">2013-08-28T17:44:31Z</dcterms:modified>
  <cp:revision>2</cp:revision>
  <dc:subject/>
  <dc:title>Предложение стратегии</dc:title>
</cp:coreProperties>
</file>