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5F1-0BB1-4302-94EB-A2476125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2B9F-7D53-4557-AC71-7C56960F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88DE-ECB9-4EB6-94FA-04662BC8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BD8C-FF5F-4127-AA0D-D182DED6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E1CC-B897-4EC6-96A3-2188C612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295B-D096-422D-A864-E31CE99D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15E-F449-4127-910E-58FD43B9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719-806A-4455-AC27-94670668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91C-640F-4DDA-8410-8A5CAD00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9BF-5F88-407D-8B53-CF85AD46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B1E-69C6-4307-983B-762C940B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B55D-EC76-4957-BB9A-1C7F97BD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B2BB-341A-4C91-9B45-3872EA38B6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160720" y="1287360"/>
            <a:ext cx="514008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Пути формир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449360" y="2062080"/>
            <a:ext cx="67024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орфографической зорк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2131920" y="3052800"/>
            <a:ext cx="49816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у младших школь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524400" y="4124160"/>
            <a:ext cx="53467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у выполнила учитель – лого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КОУ « Средняя школа № 1 г. Олон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ролайнен Е.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a6906"/>
                </a:solidFill>
                <a:latin typeface="Calibri Light"/>
              </a:rPr>
              <a:t>Приёмы, развивающие орфографическую зоркость в</a:t>
            </a:r>
            <a:r>
              <a:rPr b="0" lang="ru-RU" sz="3200" spc="-1" strike="noStrike">
                <a:solidFill>
                  <a:srgbClr val="ba6906"/>
                </a:solidFill>
                <a:latin typeface="Calibri Light"/>
              </a:rPr>
              <a:t> </a:t>
            </a:r>
            <a:r>
              <a:rPr b="1" lang="ru-RU" sz="3200" spc="-1" strike="noStrike">
                <a:solidFill>
                  <a:srgbClr val="ba6906"/>
                </a:solidFill>
                <a:latin typeface="Calibri Light"/>
              </a:rPr>
              <a:t>детском саду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оваривание, заучивание стихотворений, потеш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бор родственных с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имологический анализ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ить слова на сл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а с непроверяемыми слов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a6906"/>
                </a:solidFill>
                <a:latin typeface="Calibri Light"/>
              </a:rPr>
              <a:t>Приёмы, развивающие орфографическую зоркость в школе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5458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писыв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- Выборочное списыва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мментированное письм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исьмо с проговариван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Письмо с пропуском орфограм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акографические упражнени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коростное письмо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исьмо по памя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Дикта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9.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рфографические минут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a6906"/>
                </a:solidFill>
                <a:latin typeface="Calibri Light"/>
              </a:rPr>
              <a:t>Упражне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1126800"/>
            <a:ext cx="7886520" cy="46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Подчеркнуть в словах буквосочетания с твердым шипящим согласным зву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жи, чижи, этажи, камыши, мыши, уши, жи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. Выпиши только те слова, где есть орфограммы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са, холод, стул, парта, сова, сов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Вставь пропущенную букв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…леть, б…лезнь, б…льной, б… 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Выбери ответ, напиши сл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(о, а) ва,   цв(е, и) ты,      привл( е, и)кае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Найди  лишнее слово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м…я, друз..я, лист..я, б..ю, в..езд, п..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40760" cy="115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Documents and Settings\Марина\Мои документы\Мои рисунки\Картинки\спорт\SL01040_.WMF"/>
          <p:cNvPicPr/>
          <p:nvPr/>
        </p:nvPicPr>
        <p:blipFill>
          <a:blip r:embed="rId2"/>
          <a:stretch/>
        </p:blipFill>
        <p:spPr>
          <a:xfrm>
            <a:off x="3544920" y="3978360"/>
            <a:ext cx="857160" cy="831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Марина\Мои документы\Мои рисунки\Картинки\спорт\SL01040_.WMF"/>
          <p:cNvPicPr/>
          <p:nvPr/>
        </p:nvPicPr>
        <p:blipFill>
          <a:blip r:embed="rId3"/>
          <a:stretch/>
        </p:blipFill>
        <p:spPr>
          <a:xfrm>
            <a:off x="5286240" y="3714840"/>
            <a:ext cx="893880" cy="90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Марина\Мои документы\Мои рисунки\Картинки\спорт\SL01040_.WMF"/>
          <p:cNvPicPr/>
          <p:nvPr/>
        </p:nvPicPr>
        <p:blipFill>
          <a:blip r:embed="rId4"/>
          <a:stretch/>
        </p:blipFill>
        <p:spPr>
          <a:xfrm>
            <a:off x="5143680" y="2286000"/>
            <a:ext cx="893520" cy="90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Documents and Settings\Марина\Мои документы\Мои рисунки\Картинки\спорт\SL01040_.WMF"/>
          <p:cNvPicPr/>
          <p:nvPr/>
        </p:nvPicPr>
        <p:blipFill>
          <a:blip r:embed="rId5"/>
          <a:stretch/>
        </p:blipFill>
        <p:spPr>
          <a:xfrm>
            <a:off x="3203640" y="2205000"/>
            <a:ext cx="893520" cy="900000"/>
          </a:xfrm>
          <a:prstGeom prst="rect">
            <a:avLst/>
          </a:prstGeom>
          <a:ln w="0">
            <a:noFill/>
          </a:ln>
        </p:spPr>
      </p:pic>
      <p:sp>
        <p:nvSpPr>
          <p:cNvPr id="71" name="Скругленная прямоугольная выноска 7"/>
          <p:cNvSpPr/>
          <p:nvPr/>
        </p:nvSpPr>
        <p:spPr>
          <a:xfrm>
            <a:off x="428760" y="2143080"/>
            <a:ext cx="2643120" cy="26431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94a027"/>
          </a:solidFill>
          <a:ln w="12600">
            <a:solidFill>
              <a:srgbClr val="3b7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зударный гл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ая прямоугольная выноска 8"/>
          <p:cNvSpPr/>
          <p:nvPr/>
        </p:nvSpPr>
        <p:spPr>
          <a:xfrm>
            <a:off x="6300720" y="1773360"/>
            <a:ext cx="2643120" cy="26431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94a027"/>
          </a:solidFill>
          <a:ln w="12600">
            <a:solidFill>
              <a:srgbClr val="3b7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ный согл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Прямоугольник 10" descr=""/>
          <p:cNvPicPr/>
          <p:nvPr/>
        </p:nvPicPr>
        <p:blipFill>
          <a:blip r:embed="rId6"/>
          <a:stretch/>
        </p:blipFill>
        <p:spPr>
          <a:xfrm>
            <a:off x="3060720" y="2206800"/>
            <a:ext cx="1365120" cy="62208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1" descr=""/>
          <p:cNvPicPr/>
          <p:nvPr/>
        </p:nvPicPr>
        <p:blipFill>
          <a:blip r:embed="rId7"/>
          <a:stretch/>
        </p:blipFill>
        <p:spPr>
          <a:xfrm>
            <a:off x="3876840" y="3938760"/>
            <a:ext cx="1493640" cy="6206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12" descr=""/>
          <p:cNvPicPr/>
          <p:nvPr/>
        </p:nvPicPr>
        <p:blipFill>
          <a:blip r:embed="rId8"/>
          <a:stretch/>
        </p:blipFill>
        <p:spPr>
          <a:xfrm>
            <a:off x="5138640" y="3840120"/>
            <a:ext cx="1365480" cy="61596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3" descr=""/>
          <p:cNvPicPr/>
          <p:nvPr/>
        </p:nvPicPr>
        <p:blipFill>
          <a:blip r:embed="rId9"/>
          <a:stretch/>
        </p:blipFill>
        <p:spPr>
          <a:xfrm>
            <a:off x="4853160" y="2341440"/>
            <a:ext cx="13651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-0.28629 0.01713 E">
                                      <p:cBhvr>
                                        <p:cTn id="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-0.28802 0.00278 E">
                                      <p:cBhvr>
                                        <p:cTn id="8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6 -0.00186 L 0.35972 -0.10695 E">
                                      <p:cBhvr>
                                        <p:cTn id="1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14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59259E-006 L -0.42621 0.20625 E">
                                      <p:cBhvr>
                                        <p:cTn id="1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L -0.42014 0.21273 E">
                                      <p:cBhvr>
                                        <p:cTn id="2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07407E-006 L 0.19601 -0.28565 E">
                                      <p:cBhvr>
                                        <p:cTn id="2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-0.0037 L 0.1915 -0.30365 E">
                                      <p:cBhvr>
                                        <p:cTn id="26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28560" y="1254240"/>
            <a:ext cx="788688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ba69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a6906"/>
                </a:solidFill>
                <a:latin typeface="Calibri"/>
              </a:rPr>
              <a:t>Спасибо за внимание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96d4da5b1056efe444d8bc8eec5a5de6"/>
          <p:cNvPicPr/>
          <p:nvPr/>
        </p:nvPicPr>
        <p:blipFill>
          <a:blip r:embed="rId1"/>
          <a:stretch/>
        </p:blipFill>
        <p:spPr>
          <a:xfrm>
            <a:off x="3236760" y="2039760"/>
            <a:ext cx="33642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68720" y="1825560"/>
            <a:ext cx="534672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у выполнила учитель – логопе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КОУ « Средняя школа № 1 г. Олонц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ролайнен Е.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28560" y="1393920"/>
            <a:ext cx="788688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9900"/>
                </a:solidFill>
                <a:uFillTx/>
                <a:latin typeface="Arial"/>
              </a:rPr>
              <a:t>Орфограф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система правил, регулирующих написание отдельных слов и их значимых частей, а также правил о слитных, полуслитных и раздельных написаниях, об употреблении прописных букв и правилах перенос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911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9900"/>
                </a:solidFill>
                <a:latin typeface="Arial"/>
              </a:rPr>
              <a:t>Пять разделов орфографии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3760" y="214272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Передача буквами фонемного состава с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Слитные, раздельные и дефисные написания слов и их ча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Употребление прописных и строчных бук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Перенос части слова с одной строки на другу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Графические сокр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3760" y="86040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9900"/>
                </a:solidFill>
                <a:latin typeface="Calibri Light"/>
              </a:rPr>
              <a:t>Орфографическая зоркос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4840" y="250632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пособность (или умение) быстро обнаруживать в тексте орфограммы и определять их тип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едполагает также умение обнаруживать ошибки, допущенные пишущим (собственные или чуж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</a:t>
            </a:r>
            <a:r>
              <a:rPr b="0" lang="ru-RU" sz="4400" spc="-1" strike="noStrike">
                <a:solidFill>
                  <a:srgbClr val="ba6906"/>
                </a:solidFill>
                <a:latin typeface="Calibri Light"/>
              </a:rPr>
              <a:t>Условия успешной работы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Степень подготовленности учащихс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ояние их знаний и навыков в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фограф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Уровень речевой культу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Условия языковой среды окружающей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5600" y="1012320"/>
            <a:ext cx="788652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</a:t>
            </a:r>
            <a:r>
              <a:rPr b="0" lang="ru-RU" sz="4400" spc="-1" strike="noStrike">
                <a:solidFill>
                  <a:srgbClr val="ba6906"/>
                </a:solidFill>
                <a:latin typeface="Calibri Light"/>
              </a:rPr>
              <a:t>Успешному обучению </a:t>
            </a:r>
            <a:br>
              <a:rPr sz="4400"/>
            </a:br>
            <a:r>
              <a:rPr b="0" lang="ru-RU" sz="4400" spc="-1" strike="noStrike">
                <a:solidFill>
                  <a:srgbClr val="ba6906"/>
                </a:solidFill>
                <a:latin typeface="Calibri Light"/>
              </a:rPr>
              <a:t>   правописания способствует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21808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тщательный отбор дидактического материал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разнообразие упражнений, опирающихся на правила и различные виды памя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постепенное усложнение орфографических зна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) усиление роли самостоятельности учащихся в выполнении орфографических задан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a6906"/>
                </a:solidFill>
                <a:latin typeface="Calibri Light"/>
              </a:rPr>
              <a:t>Последовательность упражнений</a:t>
            </a:r>
            <a:br>
              <a:rPr sz="3600"/>
            </a:br>
            <a:r>
              <a:rPr b="0" lang="ru-RU" sz="3600" spc="-1" strike="noStrike">
                <a:solidFill>
                  <a:srgbClr val="ba6906"/>
                </a:solidFill>
                <a:latin typeface="Calibri Light"/>
              </a:rPr>
              <a:t>в процессе усвоения учащимися навыков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28560" y="1825560"/>
          <a:ext cx="7886880" cy="4357800"/>
        </p:xfrm>
        <a:graphic>
          <a:graphicData uri="http://schemas.openxmlformats.org/drawingml/2006/table">
            <a:tbl>
              <a:tblPr/>
              <a:tblGrid>
                <a:gridCol w="3943440"/>
                <a:gridCol w="3943440"/>
              </a:tblGrid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дактическая цель (задача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уализация опорных знаний и навы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ительные упражн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воение знаний (правил, понятий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одные упражнения (познава -тельные, мотивационные)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ичное применение зна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бные упражн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владение навыками в стандартных условия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нировочные упражнения (по образцу, инструкции, заданию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ческий перенос знаний и навыков в нестандартных условия (усвоение умений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ческие упражнени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, коррекция навыков и уме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ные упражнени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4840" y="72072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6906"/>
                </a:solidFill>
                <a:latin typeface="Calibri Light"/>
              </a:rPr>
              <a:t>Для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4400" spc="-1" strike="noStrike">
                <a:solidFill>
                  <a:srgbClr val="ba6906"/>
                </a:solidFill>
                <a:latin typeface="Calibri Light"/>
              </a:rPr>
              <a:t>решения орфографической задачи школьник должен</a:t>
            </a:r>
            <a:r>
              <a:rPr b="0" lang="ru-RU" sz="4400" spc="-1" strike="noStrike">
                <a:solidFill>
                  <a:srgbClr val="ba6906"/>
                </a:solidFill>
                <a:latin typeface="Calibri Light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22824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найти орфограмм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определить её тип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наметить способ её реш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определить последовательность реш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 выполнить эту последователь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) написать сло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1T09:40:59Z</dcterms:created>
  <dc:creator>Dmytro</dc:creator>
  <dc:description/>
  <dc:language>en-US</dc:language>
  <cp:lastModifiedBy>1</cp:lastModifiedBy>
  <dcterms:modified xsi:type="dcterms:W3CDTF">2015-10-22T06:10:42Z</dcterms:modified>
  <cp:revision>5</cp:revision>
  <dc:subject/>
  <dc:title>Презентация PowerPoint</dc:title>
</cp:coreProperties>
</file>