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E1C-706F-4E20-AFAC-94285B134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029B-A1A9-41F9-A4F1-3010C53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4612-6FBC-43AB-B2EF-397DB7E6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0744-4633-45E6-9E17-03AF4771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DAF2-E938-4725-B5CB-8C80B4A8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DF45-ED16-4B2B-844F-13FFDDE3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71E-CF2F-4225-ADAF-7A6C71C3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49C-3595-41F1-8281-B3263EB1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6081-F5EC-4AD5-B5FF-F108078A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BEC-A9D2-412A-BAD4-E2FBA464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3D2-0231-4937-B76A-D4AF322A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BDA-0837-44C1-9134-E71AFD77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B269-84F5-4F00-A25F-C78AB8CA5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2160720" y="1287360"/>
            <a:ext cx="514008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ути формирова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449360" y="2062080"/>
            <a:ext cx="67024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орфографической зорко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2131920" y="3052800"/>
            <a:ext cx="498168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у младших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524400" y="4124160"/>
            <a:ext cx="53467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 учитель – логоп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КОУ « Средняя школа № 1 г. Олон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ролайнен Е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a6906"/>
                </a:solidFill>
                <a:latin typeface="Calibri Light"/>
              </a:rPr>
              <a:t>Приёмы, развивающие орфографическую зоркость в</a:t>
            </a:r>
            <a:r>
              <a:rPr b="0" lang="ru-RU" sz="3200" spc="-1" strike="noStrike">
                <a:solidFill>
                  <a:srgbClr val="ba6906"/>
                </a:solidFill>
                <a:latin typeface="Calibri Light"/>
              </a:rPr>
              <a:t> </a:t>
            </a:r>
            <a:r>
              <a:rPr b="1" lang="ru-RU" sz="3200" spc="-1" strike="noStrike">
                <a:solidFill>
                  <a:srgbClr val="ba6906"/>
                </a:solidFill>
                <a:latin typeface="Calibri Light"/>
              </a:rPr>
              <a:t>детском саду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говаривание, заучивание стихотворений, потеш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бор родственных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имологический анализ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лить слова на сл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а с непроверяемыми словам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a6906"/>
                </a:solidFill>
                <a:latin typeface="Calibri Light"/>
              </a:rPr>
              <a:t>Приёмы, развивающие орфографическую зоркость в школе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5458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писыв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- Выборочное списыва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омментированное письм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исьмо с проговарива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Письмо с пропуском орфограм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Какографические упражн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коростное письмо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Письмо по памя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   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Дикта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 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Орфографические минут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Упражне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1126800"/>
            <a:ext cx="7886520" cy="46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одчеркнуть в словах буквосочетания с твердым шипящим согласным зву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жи, чижи, этажи, камыши, мыши, уши, жи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2. Выпиши только те слова, где есть орфограммы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са, холод, стул, парта, сова, сов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Вставь пропущенную букв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…леть, б…лезнь, б…льной, б… 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Выбери ответ, напиши слов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(о, а) ва,   цв(е, и) ты,      привл( е, и)ка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Найди  лишнее слово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м…я, друз..я, лист..я, б..ю, в..езд, п..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152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Documents and Settings\Марина\Мои документы\Мои рисунки\Картинки\спорт\SL01040_.WMF"/>
          <p:cNvPicPr/>
          <p:nvPr/>
        </p:nvPicPr>
        <p:blipFill>
          <a:blip r:embed="rId2"/>
          <a:stretch/>
        </p:blipFill>
        <p:spPr>
          <a:xfrm>
            <a:off x="3544920" y="3978360"/>
            <a:ext cx="857160" cy="831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Марина\Мои документы\Мои рисунки\Картинки\спорт\SL01040_.WMF"/>
          <p:cNvPicPr/>
          <p:nvPr/>
        </p:nvPicPr>
        <p:blipFill>
          <a:blip r:embed="rId3"/>
          <a:stretch/>
        </p:blipFill>
        <p:spPr>
          <a:xfrm>
            <a:off x="5286240" y="3714840"/>
            <a:ext cx="893880" cy="900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Марина\Мои документы\Мои рисунки\Картинки\спорт\SL01040_.WMF"/>
          <p:cNvPicPr/>
          <p:nvPr/>
        </p:nvPicPr>
        <p:blipFill>
          <a:blip r:embed="rId4"/>
          <a:stretch/>
        </p:blipFill>
        <p:spPr>
          <a:xfrm>
            <a:off x="5143680" y="2286000"/>
            <a:ext cx="893520" cy="900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Марина\Мои документы\Мои рисунки\Картинки\спорт\SL01040_.WMF"/>
          <p:cNvPicPr/>
          <p:nvPr/>
        </p:nvPicPr>
        <p:blipFill>
          <a:blip r:embed="rId5"/>
          <a:stretch/>
        </p:blipFill>
        <p:spPr>
          <a:xfrm>
            <a:off x="3203640" y="2205000"/>
            <a:ext cx="893520" cy="900000"/>
          </a:xfrm>
          <a:prstGeom prst="rect">
            <a:avLst/>
          </a:prstGeom>
          <a:ln w="0">
            <a:noFill/>
          </a:ln>
        </p:spPr>
      </p:pic>
      <p:sp>
        <p:nvSpPr>
          <p:cNvPr id="71" name="Скругленная прямоугольная выноска 7"/>
          <p:cNvSpPr/>
          <p:nvPr/>
        </p:nvSpPr>
        <p:spPr>
          <a:xfrm>
            <a:off x="428760" y="2143080"/>
            <a:ext cx="2643120" cy="2643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4a027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зударный гл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ая прямоугольная выноска 8"/>
          <p:cNvSpPr/>
          <p:nvPr/>
        </p:nvSpPr>
        <p:spPr>
          <a:xfrm>
            <a:off x="6300720" y="1773360"/>
            <a:ext cx="2643120" cy="26431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94a027"/>
          </a:solidFill>
          <a:ln w="12600">
            <a:solidFill>
              <a:srgbClr val="3b73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ный согл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Прямоугольник 10" descr=""/>
          <p:cNvPicPr/>
          <p:nvPr/>
        </p:nvPicPr>
        <p:blipFill>
          <a:blip r:embed="rId6"/>
          <a:stretch/>
        </p:blipFill>
        <p:spPr>
          <a:xfrm>
            <a:off x="3060720" y="2206800"/>
            <a:ext cx="136512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1" descr=""/>
          <p:cNvPicPr/>
          <p:nvPr/>
        </p:nvPicPr>
        <p:blipFill>
          <a:blip r:embed="rId7"/>
          <a:stretch/>
        </p:blipFill>
        <p:spPr>
          <a:xfrm>
            <a:off x="3876840" y="3938760"/>
            <a:ext cx="1493640" cy="620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2" descr=""/>
          <p:cNvPicPr/>
          <p:nvPr/>
        </p:nvPicPr>
        <p:blipFill>
          <a:blip r:embed="rId8"/>
          <a:stretch/>
        </p:blipFill>
        <p:spPr>
          <a:xfrm>
            <a:off x="5138640" y="3840120"/>
            <a:ext cx="1365480" cy="6159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3" descr=""/>
          <p:cNvPicPr/>
          <p:nvPr/>
        </p:nvPicPr>
        <p:blipFill>
          <a:blip r:embed="rId9"/>
          <a:stretch/>
        </p:blipFill>
        <p:spPr>
          <a:xfrm>
            <a:off x="4853160" y="2341440"/>
            <a:ext cx="136512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07407E-006 L -0.28629 0.01713 E">
                                      <p:cBhvr>
                                        <p:cTn id="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28802 0.00278 E">
                                      <p:cBhvr>
                                        <p:cTn id="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26 -0.00186 L 0.35972 -0.10695 E"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295 E">
                                      <p:cBhvr>
                                        <p:cTn id="1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59259E-006 L -0.42621 0.20625 E">
                                      <p:cBhvr>
                                        <p:cTn id="1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-0.42014 0.21273 E">
                                      <p:cBhvr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L 0.19601 -0.28565 E">
                                      <p:cBhvr>
                                        <p:cTn id="2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-0.0037 L 0.1915 -0.30365 E">
                                      <p:cBhvr>
                                        <p:cTn id="26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28560" y="1254240"/>
            <a:ext cx="7886880" cy="49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ba690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a6906"/>
                </a:solidFill>
                <a:latin typeface="Calibri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96d4da5b1056efe444d8bc8eec5a5de6"/>
          <p:cNvPicPr/>
          <p:nvPr/>
        </p:nvPicPr>
        <p:blipFill>
          <a:blip r:embed="rId1"/>
          <a:stretch/>
        </p:blipFill>
        <p:spPr>
          <a:xfrm>
            <a:off x="3236760" y="2039760"/>
            <a:ext cx="33642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68720" y="1825560"/>
            <a:ext cx="534672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 учитель – логопе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КОУ « Средняя школа № 1 г. Олонц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ролайнен Е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28560" y="1393920"/>
            <a:ext cx="78868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9900"/>
                </a:solidFill>
                <a:uFillTx/>
                <a:latin typeface="Arial"/>
              </a:rPr>
              <a:t>Орфограф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истема правил, регулирующих написание отдельных слов и их значимых частей, а также правил о слитных, полуслитных и раздельных написаниях, об употреблении прописных букв и правилах перенос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66720" y="91116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00"/>
                </a:solidFill>
                <a:latin typeface="Arial"/>
              </a:rPr>
              <a:t>Пять разделов орфографии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53760" y="21427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ередача буквами фонемного состава с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литные, раздельные и дефисные написания слов и их ча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Употребление прописных и строчных бук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Перенос части слова с одной строки на другу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Графические сокр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3760" y="8604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9900"/>
                </a:solidFill>
                <a:latin typeface="Calibri Light"/>
              </a:rPr>
              <a:t>Орфографическая зорк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4840" y="25063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пособность (или умение) быстро обнаруживать в тексте орфограммы и определять их тип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дполагает также умение обнаруживать ошибки, допущенные пишущим (собственные или чуж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</a:t>
            </a: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Условия успешной работы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Степень подготовленности учащихс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ояние их знаний и навыков в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фограф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Уровень речевой культур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Условия языковой среды окружающей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5600" y="101232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     </a:t>
            </a: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Успешному обучению </a:t>
            </a:r>
            <a:br>
              <a:rPr sz="4400"/>
            </a:b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   правописания способствует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21808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тщательный отбор дидактического материал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разнообразие упражнений, опирающихся на правила и различные виды памят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постепенное усложнение орфографических зна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усиление роли самостоятельности учащихся в выполнении орфографических задани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a6906"/>
                </a:solidFill>
                <a:latin typeface="Calibri Light"/>
              </a:rPr>
              <a:t>Последовательность упражнений</a:t>
            </a:r>
            <a:br>
              <a:rPr sz="3600"/>
            </a:br>
            <a:r>
              <a:rPr b="0" lang="ru-RU" sz="3600" spc="-1" strike="noStrike">
                <a:solidFill>
                  <a:srgbClr val="ba6906"/>
                </a:solidFill>
                <a:latin typeface="Calibri Light"/>
              </a:rPr>
              <a:t>в процессе усвоения учащимися навыков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28560" y="1825560"/>
          <a:ext cx="7886880" cy="4357800"/>
        </p:xfrm>
        <a:graphic>
          <a:graphicData uri="http://schemas.openxmlformats.org/drawingml/2006/table">
            <a:tbl>
              <a:tblPr/>
              <a:tblGrid>
                <a:gridCol w="3943440"/>
                <a:gridCol w="3943440"/>
              </a:tblGrid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дактическая цель (задача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туализация опорных знаний и навы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ительные упражн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воение знаний (правил, понят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водные упражнения (познава -тельные, мотивационные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вичное применение зна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бные упражн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ладение навыками в стандартных условия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нировочные упражнения (по образцу, инструкции, заданию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й перенос знаний и навыков в нестандартных условия (усвоение умений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е упражне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, коррекция навыков и ум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ные упражнени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64840" y="72072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a6906"/>
                </a:solidFill>
                <a:latin typeface="Calibri Light"/>
              </a:rPr>
              <a:t>Для</a:t>
            </a: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4400" spc="-1" strike="noStrike">
                <a:solidFill>
                  <a:srgbClr val="ba6906"/>
                </a:solidFill>
                <a:latin typeface="Calibri Light"/>
              </a:rPr>
              <a:t>решения орфографической задачи школьник должен</a:t>
            </a:r>
            <a:r>
              <a:rPr b="0" lang="ru-RU" sz="4400" spc="-1" strike="noStrike">
                <a:solidFill>
                  <a:srgbClr val="ba6906"/>
                </a:solidFill>
                <a:latin typeface="Calibri Light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22824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найти орфограм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определить её тип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 наметить способ её ре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) определить последовательность реш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) выполнить эту последовательность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) написать сло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21T09:40:59Z</dcterms:created>
  <dc:creator>Dmytro</dc:creator>
  <dc:description/>
  <dc:language>en-US</dc:language>
  <cp:lastModifiedBy>1</cp:lastModifiedBy>
  <dcterms:modified xsi:type="dcterms:W3CDTF">2015-10-22T06:10:42Z</dcterms:modified>
  <cp:revision>5</cp:revision>
  <dc:subject/>
  <dc:title>Презентация PowerPoint</dc:title>
</cp:coreProperties>
</file>