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462-847C-4D89-9737-079A0C64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055-09D6-4679-B6AB-652B7991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AE9-0F7C-4421-868F-44A25FA9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B35-40A1-48F9-990C-CE672359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B9B9-3220-44E6-8D7D-2C4D5145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3FC-C3E6-4D31-B11A-97D0DE9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149F-39ED-4393-94B6-7D874617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9999-B3FC-4071-B9EA-ACC19773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1E46-D8FF-4E14-95AE-47329826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E1CE-9F75-47EC-AF7C-F80DD139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FFB7-971E-41DD-88EB-6648A125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CBF-ADFD-4B4A-B2B5-FCD09546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C4BE-0094-456E-AE4B-2DA29DBF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D473-AE60-4F12-A3B9-A2627A0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2CAA-C44B-4012-802B-5892BE92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2A7A-9E2A-4C64-9C8F-A7A7AAC0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B205-2F57-47F8-90BC-630F48B8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3E4-00CB-4C3D-82B2-BD6D14C8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4A5-FEBC-4FA4-8392-AFF4E266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279-4772-4C16-BC8E-F09E37EC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B3E-05E1-4941-97C5-8EF2B6DA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A01-9007-49C2-B75E-E8DCEC99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D94-967C-4356-BF8B-A6D197C1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3AE-F030-4C36-ABF7-306CBCC1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39ED-81F6-4853-89FF-39821E12C2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166E-4901-4A7E-9A33-4A7E68275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32523"/>
                </a:solidFill>
                <a:latin typeface="Book Antiqua"/>
              </a:rPr>
              <a:t>Открытый городской конкурс </a:t>
            </a:r>
            <a:br>
              <a:rPr sz="4800"/>
            </a:br>
            <a:r>
              <a:rPr b="1" i="1" lang="ru-RU" sz="4800" spc="-1" strike="noStrike">
                <a:solidFill>
                  <a:srgbClr val="632523"/>
                </a:solidFill>
                <a:latin typeface="Book Antiqua"/>
              </a:rPr>
              <a:t>детского музыкального творчества </a:t>
            </a:r>
            <a:br>
              <a:rPr sz="4800"/>
            </a:br>
            <a:r>
              <a:rPr b="1" i="1" lang="ru-RU" sz="4800" spc="-1" strike="noStrike">
                <a:solidFill>
                  <a:srgbClr val="632523"/>
                </a:solidFill>
                <a:latin typeface="Book Antiqua"/>
              </a:rPr>
              <a:t>«Святки в Смольном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8436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42100"/>
                </a:solidFill>
                <a:latin typeface="Book Antiqua"/>
              </a:rPr>
              <a:t>Номинац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42100"/>
                </a:solidFill>
                <a:latin typeface="Book Antiqua"/>
              </a:rPr>
              <a:t> </a:t>
            </a:r>
            <a:r>
              <a:rPr b="1" i="1" lang="ru-RU" sz="3200" spc="-1" strike="noStrike">
                <a:solidFill>
                  <a:srgbClr val="642100"/>
                </a:solidFill>
                <a:latin typeface="Book Antiqua"/>
              </a:rPr>
              <a:t>мультимедийный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3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Изображение"/>
          <p:cNvPicPr/>
          <p:nvPr/>
        </p:nvPicPr>
        <p:blipFill>
          <a:blip r:embed="rId2"/>
          <a:srcRect l="4887" t="2896" r="5539" b="18969"/>
          <a:stretch/>
        </p:blipFill>
        <p:spPr>
          <a:xfrm>
            <a:off x="324000" y="4295880"/>
            <a:ext cx="4390920" cy="215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Объект 2"/>
          <p:cNvSpPr/>
          <p:nvPr/>
        </p:nvSpPr>
        <p:spPr>
          <a:xfrm>
            <a:off x="468360" y="476280"/>
            <a:ext cx="829152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 шотландской пещере обнаружен древнейший в Западной Европе струнный инструмен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От инструмента остался небольшой обуглившийся деревянный фрагмент, который, вероятно, служил в качестве перекладины древней лир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озраст находки - примерно 2,3 тыс.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ероятно, инструмент был изготовлен кельтами в IV в. до н.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076720" y="4581360"/>
            <a:ext cx="3511800" cy="1619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внейшей в мире лирой в настоящее время считается инструмент, обнаруженный на территории современного Ира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е возраст — около 5 тыс.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Текст 3"/>
          <p:cNvSpPr/>
          <p:nvPr/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Самая древняя мелод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man Old Style"/>
              </a:rPr>
              <a:t>В 1950-х годах на территории современной Сирии, в древнем городище Угарит были найдены глиняные таблички с древними текст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man Old Style"/>
              </a:rPr>
              <a:t>Всего найдено 36 клинописных табличек с записями, отличными от обычных текс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4" descr="Древние ноты"/>
          <p:cNvPicPr/>
          <p:nvPr/>
        </p:nvPicPr>
        <p:blipFill>
          <a:blip r:embed="rId2"/>
          <a:stretch/>
        </p:blipFill>
        <p:spPr>
          <a:xfrm>
            <a:off x="4716360" y="3532320"/>
            <a:ext cx="4103640" cy="3065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5"/>
          <p:cNvSpPr/>
          <p:nvPr/>
        </p:nvSpPr>
        <p:spPr>
          <a:xfrm>
            <a:off x="395280" y="3573360"/>
            <a:ext cx="41036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man Old Style"/>
              </a:rPr>
              <a:t>Этим табличкам примерно 3400 ле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man Old Style"/>
              </a:rPr>
              <a:t>Ученые предполагают, что таблички были сделаны представителями народа Хурри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Текст 3"/>
          <p:cNvSpPr/>
          <p:nvPr/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Book Antiqua"/>
              </a:rPr>
              <a:t>Самая древняя мело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535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Лучше всего сохранилась табличка №6, на которой записан гимн Никкал, богине садоводства - жене Бога Лу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На табличке – текст гимна и инструкция для аккомпаниатора, который должен был играть на девятиструнном саммуме (разновидности лиры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А на другой табличке есть даже руководство по настройке саммума.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0" descr="Леви"/>
          <p:cNvPicPr/>
          <p:nvPr/>
        </p:nvPicPr>
        <p:blipFill>
          <a:blip r:embed="rId2"/>
          <a:srcRect l="3341" t="0" r="0" b="0"/>
          <a:stretch/>
        </p:blipFill>
        <p:spPr>
          <a:xfrm>
            <a:off x="4859280" y="1490760"/>
            <a:ext cx="4105440" cy="28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Book Antiqua"/>
              </a:rPr>
              <a:t>Версии происхождения музы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79280" y="1557360"/>
            <a:ext cx="273708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ражание голосам зверей и птиц во время ох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2700360" y="3141720"/>
            <a:ext cx="2736720" cy="146556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лаженных действий –ритм стал задавать вождь или специальный «запева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755640" y="4941720"/>
            <a:ext cx="17114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ментарные песноп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3203640" y="5734080"/>
            <a:ext cx="170964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вой тане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8"/>
          <p:cNvSpPr/>
          <p:nvPr/>
        </p:nvSpPr>
        <p:spPr>
          <a:xfrm>
            <a:off x="5364000" y="4941720"/>
            <a:ext cx="2880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тмичные постукивания по предме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5796000" y="1700280"/>
            <a:ext cx="30240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я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ревнем Китае говорили: «Обряд обретает силу от музы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7"/>
          <p:cNvSpPr/>
          <p:nvPr/>
        </p:nvSpPr>
        <p:spPr>
          <a:xfrm>
            <a:off x="6012000" y="3573360"/>
            <a:ext cx="846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7236000" y="3500280"/>
            <a:ext cx="1719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льные инструме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20"/>
          <p:cNvSpPr/>
          <p:nvPr/>
        </p:nvSpPr>
        <p:spPr>
          <a:xfrm flipH="1">
            <a:off x="3924000" y="1052640"/>
            <a:ext cx="431640" cy="194472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22"/>
          <p:cNvSpPr/>
          <p:nvPr/>
        </p:nvSpPr>
        <p:spPr>
          <a:xfrm flipH="1">
            <a:off x="1908000" y="981000"/>
            <a:ext cx="1656000" cy="503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23"/>
          <p:cNvSpPr/>
          <p:nvPr/>
        </p:nvSpPr>
        <p:spPr>
          <a:xfrm>
            <a:off x="5291280" y="1052640"/>
            <a:ext cx="2017440" cy="576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24"/>
          <p:cNvSpPr/>
          <p:nvPr/>
        </p:nvSpPr>
        <p:spPr>
          <a:xfrm flipH="1">
            <a:off x="2484000" y="4653000"/>
            <a:ext cx="1079640" cy="57636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3994200" y="4653000"/>
            <a:ext cx="1440" cy="10810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4572000" y="4653000"/>
            <a:ext cx="72072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27"/>
          <p:cNvSpPr/>
          <p:nvPr/>
        </p:nvSpPr>
        <p:spPr>
          <a:xfrm flipH="1">
            <a:off x="6372000" y="2924280"/>
            <a:ext cx="647640" cy="6490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7524720" y="2924280"/>
            <a:ext cx="576360" cy="576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29"/>
          <p:cNvSpPr/>
          <p:nvPr/>
        </p:nvSpPr>
        <p:spPr>
          <a:xfrm flipH="1">
            <a:off x="1258920" y="2565360"/>
            <a:ext cx="216000" cy="719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7"/>
          <p:cNvSpPr/>
          <p:nvPr/>
        </p:nvSpPr>
        <p:spPr>
          <a:xfrm>
            <a:off x="755640" y="3284640"/>
            <a:ext cx="846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42100"/>
                </a:solidFill>
                <a:latin typeface="Book Antiqua"/>
              </a:rPr>
              <a:t>Древний Егип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8560" y="3860280"/>
            <a:ext cx="6513480" cy="17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3000-2000 г. – Древнее ца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2000-1700 г. – Среднее ца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1570-1100 г. – Новое ца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Восстановленная музыка ДЕ.MP3" descr=""/>
          <p:cNvPicPr/>
          <p:nvPr/>
        </p:nvPicPr>
        <p:blipFill>
          <a:blip r:embed="rId2"/>
          <a:stretch/>
        </p:blipFill>
        <p:spPr>
          <a:xfrm>
            <a:off x="1979640" y="560556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932000" y="272520"/>
            <a:ext cx="40323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Музыкальная культура Египта – одна из самых древних в ми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Исследуя архитектурные памятники Древнего Египта можно узнать как развивалось искусство и, в частности, музыка.</a:t>
            </a:r>
            <a:r>
              <a:rPr b="0" lang="ru-RU" sz="3600" spc="-1" strike="noStrike">
                <a:solidFill>
                  <a:srgbClr val="6421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http://fan-blizzard.ucoz.ru/_fr/0/2068793.jpg"/>
          <p:cNvPicPr/>
          <p:nvPr/>
        </p:nvPicPr>
        <p:blipFill>
          <a:blip r:embed="rId2"/>
          <a:stretch/>
        </p:blipFill>
        <p:spPr>
          <a:xfrm>
            <a:off x="250920" y="260280"/>
            <a:ext cx="4297320" cy="63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Зарождение музы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бъект 2"/>
          <p:cNvSpPr/>
          <p:nvPr/>
        </p:nvSpPr>
        <p:spPr>
          <a:xfrm>
            <a:off x="250920" y="1268280"/>
            <a:ext cx="87138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Звуки инструментов отождествлялись древними египтянами co звучанием предметов и явлений (железа, дерева, ветра), и рассматривались как средство общения человека c природ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Звуку приписывалась священная, магическая сила (так тростниковую флейту - отождествляли c плодородием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Значение музы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Объект 2"/>
          <p:cNvSpPr/>
          <p:nvPr/>
        </p:nvSpPr>
        <p:spPr>
          <a:xfrm>
            <a:off x="250920" y="1052640"/>
            <a:ext cx="87138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Музыку в Древнем Египте называли «хи» - удовольствие, насла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Инструменты для ансамбля подбирались не по тембру их звучания, а по их мистическим свойствам. Только в этом случае, полагали египтяне, музыка сможет вылечить больного, вызвать дождь, победить враг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Музыканты пользовались большим почетом в обществе, их считали родственниками фара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Book Antiqua"/>
              </a:rPr>
              <a:t>Эпоха Древнего царства </a:t>
            </a:r>
            <a:br>
              <a:rPr sz="4400"/>
            </a:br>
            <a:r>
              <a:rPr b="1" i="1" lang="ru-RU" sz="3600" spc="-1" strike="noStrike">
                <a:solidFill>
                  <a:srgbClr val="642100"/>
                </a:solidFill>
                <a:latin typeface="Book Antiqua"/>
              </a:rPr>
              <a:t>(ок. 2800 - ок. 2250 до н.э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8920" y="1484280"/>
            <a:ext cx="475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Зарождается примитивное многоголос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оявляются различные ансамблевые формы, а также сольное пение c инструментальным сопровожден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озникает хейрономия - способ управления певцами (хором) при помощи системы условных движений рук, пальцев, мимики и движений голов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Древнеегипетские хордофоны"/>
          <p:cNvPicPr/>
          <p:nvPr/>
        </p:nvPicPr>
        <p:blipFill>
          <a:blip r:embed="rId2"/>
          <a:srcRect l="0" t="0" r="6803" b="0"/>
          <a:stretch/>
        </p:blipFill>
        <p:spPr>
          <a:xfrm>
            <a:off x="4859280" y="1413000"/>
            <a:ext cx="4105440" cy="3214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48360" y="5084640"/>
            <a:ext cx="3421080" cy="1339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гмент рельефа из мастабы Ахтетеп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. 2400 до н. э. (5 династия). Сакк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zvuchanie_vossozdannogo_drevneegipetskogo_muz.mp3" descr=""/>
          <p:cNvPicPr/>
          <p:nvPr/>
        </p:nvPicPr>
        <p:blipFill>
          <a:blip r:embed="rId3"/>
          <a:stretch/>
        </p:blipFill>
        <p:spPr>
          <a:xfrm>
            <a:off x="8675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28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Book Antiqua"/>
              </a:rPr>
              <a:t>Эпоха Cреднего царства </a:t>
            </a:r>
            <a:br>
              <a:rPr sz="4400"/>
            </a:br>
            <a:r>
              <a:rPr b="1" i="1" lang="ru-RU" sz="3600" spc="-1" strike="noStrike">
                <a:solidFill>
                  <a:srgbClr val="642100"/>
                </a:solidFill>
                <a:latin typeface="Book Antiqua"/>
              </a:rPr>
              <a:t>(ок. 2050 - ок. 1700 до н.э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8920" y="159552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оявляются песни разнообразного характера - философские размышления, воспевающие житейские радости, песни-танцы, гимнические песни в сопровождении арф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оявляются новые музыкальные инструменты: прямые и изогнутые трещотки из дерева, слоновой кости и драгоценных металлов тонкой работы, новые разновидности барабанов, духовые инструменты из рогов животных, кастанье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оявляются теоретические труды, в которых говорится о космологической теории происхождения музыки и тан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80880"/>
            <a:ext cx="791856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42100"/>
                </a:solidFill>
                <a:latin typeface="Book Antiqua"/>
              </a:rPr>
              <a:t>Музыка </a:t>
            </a:r>
            <a:br>
              <a:rPr sz="6000"/>
            </a:br>
            <a:r>
              <a:rPr b="1" i="1" lang="ru-RU" sz="6000" spc="-1" strike="noStrike">
                <a:solidFill>
                  <a:srgbClr val="642100"/>
                </a:solidFill>
                <a:latin typeface="Book Antiqua"/>
              </a:rPr>
              <a:t>Древнего Мира</a:t>
            </a:r>
            <a:br>
              <a:rPr sz="6000"/>
            </a:br>
            <a:r>
              <a:rPr b="1" i="1" lang="ru-RU" sz="6000" spc="-1" strike="noStrike">
                <a:solidFill>
                  <a:srgbClr val="642100"/>
                </a:solidFill>
                <a:latin typeface="Book Antiqua"/>
              </a:rPr>
              <a:t>                          </a:t>
            </a: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Авторы проекта</a:t>
            </a:r>
            <a:r>
              <a:rPr b="1" i="1" lang="en-US" sz="2400" spc="-1" strike="noStrike">
                <a:solidFill>
                  <a:srgbClr val="632523"/>
                </a:solidFill>
                <a:latin typeface="Times New Roman"/>
              </a:rPr>
              <a:t>: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                                                        руководитель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           учитель музыки ГБОУ гимназии №271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Красносельского района имени П.И.Федулова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                                              Санкт-Петербурга 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                       Коледова Светлана Николаевна,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         учащийся 8-2 класса Кононов Дмитрий</a:t>
            </a:r>
            <a:br>
              <a:rPr sz="6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58760"/>
            <a:ext cx="835200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Book Antiqua"/>
              </a:rPr>
              <a:t>Эпоха Hового царства</a:t>
            </a:r>
            <a:br>
              <a:rPr sz="4400"/>
            </a:br>
            <a:r>
              <a:rPr b="1" i="1" lang="ru-RU" sz="3600" spc="-1" strike="noStrike">
                <a:solidFill>
                  <a:srgbClr val="642100"/>
                </a:solidFill>
                <a:latin typeface="Book Antiqua"/>
              </a:rPr>
              <a:t>(ок. 1580 - ок. 1070 до н.э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269720"/>
            <a:ext cx="87854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ойны приводят к проникновению в Eгипет элементов культуры соседних наро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ри дворе фараона в это время наряду c местной капеллой функционировала и сирийская капел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римерно со 2 тыс до н.э  стала развиваться светская профессиональная                                                                   музы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 богатых домах                                                                   существовали                                                                   музыкальные ансамбли                                                           певцов и                                                                 инструменталис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 (699x511, 172Kb)"/>
          <p:cNvPicPr/>
          <p:nvPr/>
        </p:nvPicPr>
        <p:blipFill>
          <a:blip r:embed="rId2"/>
          <a:stretch/>
        </p:blipFill>
        <p:spPr>
          <a:xfrm>
            <a:off x="4211640" y="3281400"/>
            <a:ext cx="4734000" cy="3460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5"/>
          <p:cNvSpPr/>
          <p:nvPr/>
        </p:nvSpPr>
        <p:spPr>
          <a:xfrm>
            <a:off x="755640" y="5661000"/>
            <a:ext cx="2303640" cy="7038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реска гробницы в эль-Ма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272880"/>
            <a:ext cx="8964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2100"/>
                </a:solidFill>
                <a:latin typeface="Arial"/>
              </a:rPr>
              <a:t>Развитие музыкальных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140000" y="1483920"/>
            <a:ext cx="482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тростниковые свирели, продольные флейты, трубы, дуговые арфы, барабаны, трещотк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гобои, угловые арфы, лиры, лютни, кифар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авлос, поперечная флейта, букцина, различные лиры, губная гармоника, барабаны, трещотки, бубенчик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0920" y="1700280"/>
            <a:ext cx="381636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Доклассовое общество:</a:t>
            </a:r>
            <a:r>
              <a:rPr b="0" lang="ru-RU" sz="2500" spc="-1" strike="noStrike">
                <a:solidFill>
                  <a:srgbClr val="6421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Ранее, Древнее и Среднее цар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Новое царство (ок. 1580 - ок. 1070 до н. э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4408560" y="187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2100"/>
                </a:solidFill>
                <a:latin typeface="Arial"/>
              </a:rPr>
              <a:t>Музыкальные инструменты</a:t>
            </a:r>
            <a:br>
              <a:rPr sz="4000"/>
            </a:br>
            <a:r>
              <a:rPr b="1" i="1" lang="ru-RU" sz="4000" spc="-1" strike="noStrike">
                <a:solidFill>
                  <a:srgbClr val="642100"/>
                </a:solidFill>
                <a:latin typeface="Arial"/>
              </a:rPr>
              <a:t>(доклассовое обществ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5329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Древнейшими ударными инструментами были деревянные колотушки, которыми отбивали так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Первоначально эти колотушки представляли собой просто грубо вырезанные деревяшки, впоследствии они приобрели красивую форму и резные украш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Pic106"/>
          <p:cNvPicPr/>
          <p:nvPr/>
        </p:nvPicPr>
        <p:blipFill>
          <a:blip r:embed="rId2"/>
          <a:srcRect l="6255" t="0" r="68594" b="60866"/>
          <a:stretch/>
        </p:blipFill>
        <p:spPr>
          <a:xfrm>
            <a:off x="5435640" y="1628640"/>
            <a:ext cx="145584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3.bp.blogspot.com/-7mK2F8o0GqQ/URaawDni9bI/AAAAAAAAB-o/waE-GWvdj5Y/s320/01837811_183.jpg"/>
          <p:cNvPicPr/>
          <p:nvPr/>
        </p:nvPicPr>
        <p:blipFill>
          <a:blip r:embed="rId3"/>
          <a:stretch/>
        </p:blipFill>
        <p:spPr>
          <a:xfrm>
            <a:off x="7308720" y="3284640"/>
            <a:ext cx="134316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1.bp.blogspot.com/-m_B0OwD1loY/URYvA9fOKRI/AAAAAAAAByA/iAAQNRdWkAg/s200/image004.jpg"/>
          <p:cNvPicPr/>
          <p:nvPr/>
        </p:nvPicPr>
        <p:blipFill>
          <a:blip r:embed="rId2"/>
          <a:stretch/>
        </p:blipFill>
        <p:spPr>
          <a:xfrm>
            <a:off x="284040" y="1773360"/>
            <a:ext cx="2551320" cy="2001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1.bp.blogspot.com/-uGRKvGYNh0Y/URaYoiA4uGI/AAAAAAAAB9s/G8L9aD0_pcM/s200/759-7-EM-3-1074-_310x310.jpg"/>
          <p:cNvPicPr/>
          <p:nvPr/>
        </p:nvPicPr>
        <p:blipFill>
          <a:blip r:embed="rId3"/>
          <a:stretch/>
        </p:blipFill>
        <p:spPr>
          <a:xfrm>
            <a:off x="3336840" y="1440000"/>
            <a:ext cx="2060640" cy="2060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http://1.bp.blogspot.com/-5xfs5jTLUQE/URYyKoHOyLI/AAAAAAAABzk/forlmo3yL8Y/s1600/220px-Tomb_of_Nakht_(3).jpg"/>
          <p:cNvPicPr/>
          <p:nvPr/>
        </p:nvPicPr>
        <p:blipFill>
          <a:blip r:embed="rId4"/>
          <a:stretch/>
        </p:blipFill>
        <p:spPr>
          <a:xfrm>
            <a:off x="6016680" y="1270080"/>
            <a:ext cx="2811240" cy="3166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ttp://2.bp.blogspot.com/-iRwUThe_hCU/URYwqdfRT6I/AAAAAAAAByk/1kp5X2bT3u4/s320/180px-Cymbales-E_12567-img_2793.jpg"/>
          <p:cNvPicPr/>
          <p:nvPr/>
        </p:nvPicPr>
        <p:blipFill>
          <a:blip r:embed="rId5"/>
          <a:stretch/>
        </p:blipFill>
        <p:spPr>
          <a:xfrm>
            <a:off x="3924360" y="4441680"/>
            <a:ext cx="1714320" cy="128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Ударн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6012000" y="4757760"/>
            <a:ext cx="2952720" cy="19234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станьеты и тарелки появляются в более поздние времена, возможно, из Греции, используется в погребальных обряд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179280" y="4797360"/>
            <a:ext cx="3600720" cy="19234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гремушки  керамических или яйцевидной формы плодов с семенами внутри, как символ плодородия и маракасы из растительных волокон.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540072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 Древнем Египте барабаны возникли за 4 тыс. лет до н. э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Были распространены барабаны разной величины и форм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Табла - похожие на нынешние дарбуки</a:t>
            </a:r>
            <a:r>
              <a:rPr b="0" lang="ru-RU" sz="2400" spc="-1" strike="noStrike">
                <a:solidFill>
                  <a:srgbClr val="6421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 в которые били рукой или кривыми палка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круглые и продолговатые, на которые с обеих сторон натягивалась кожа при помощи шнурков, обвивавших барабан наподобие сети</a:t>
            </a:r>
            <a:r>
              <a:rPr b="0" lang="ru-RU" sz="2400" spc="-1" strike="noStrike">
                <a:solidFill>
                  <a:srgbClr val="6421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Pic106"/>
          <p:cNvPicPr/>
          <p:nvPr/>
        </p:nvPicPr>
        <p:blipFill>
          <a:blip r:embed="rId2"/>
          <a:srcRect l="29649" t="0" r="30839" b="62313"/>
          <a:stretch/>
        </p:blipFill>
        <p:spPr>
          <a:xfrm>
            <a:off x="6388200" y="1484280"/>
            <a:ext cx="2071440" cy="244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ttp://ic.pics.livejournal.com/kalist0/9348064/11143/11143_original.jpg"/>
          <p:cNvPicPr/>
          <p:nvPr/>
        </p:nvPicPr>
        <p:blipFill>
          <a:blip r:embed="rId3"/>
          <a:stretch/>
        </p:blipFill>
        <p:spPr>
          <a:xfrm>
            <a:off x="5364000" y="4216320"/>
            <a:ext cx="3654720" cy="24274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Ударн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713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642100"/>
                </a:solidFill>
                <a:latin typeface="Book Antiqua"/>
              </a:rPr>
              <a:t>Барабан, металлические тарелки и круглый или четырехугольный тамбурин были обычными инструментами, которыми египетские танцовщицы сопровождали свою пляску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www.drumssets.info/wp-content/uploads/Egyptian%20Tambourine.jpg"/>
          <p:cNvPicPr/>
          <p:nvPr/>
        </p:nvPicPr>
        <p:blipFill>
          <a:blip r:embed="rId2"/>
          <a:stretch/>
        </p:blipFill>
        <p:spPr>
          <a:xfrm>
            <a:off x="324000" y="33796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 (333x300, 51Kb)"/>
          <p:cNvPicPr/>
          <p:nvPr/>
        </p:nvPicPr>
        <p:blipFill>
          <a:blip r:embed="rId3"/>
          <a:stretch/>
        </p:blipFill>
        <p:spPr>
          <a:xfrm>
            <a:off x="5076720" y="3284640"/>
            <a:ext cx="3530880" cy="3182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Ударн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Систр (систр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532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Систр использовался преимущественно при богослуже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Он изготавливался из бронзы и украшался изображениями бога Тифона или богини Гафо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 окончательном своем варианте, с богатыми украшениями он появился не раньше эпохи Нового цар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6" descr="1"/>
          <p:cNvPicPr/>
          <p:nvPr/>
        </p:nvPicPr>
        <p:blipFill>
          <a:blip r:embed="rId2"/>
          <a:srcRect l="0" t="0" r="0" b="7891"/>
          <a:stretch/>
        </p:blipFill>
        <p:spPr>
          <a:xfrm>
            <a:off x="5702400" y="1125360"/>
            <a:ext cx="3111480" cy="5472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8"/>
          <p:cNvSpPr/>
          <p:nvPr/>
        </p:nvSpPr>
        <p:spPr>
          <a:xfrm>
            <a:off x="395280" y="5300640"/>
            <a:ext cx="5113440" cy="1008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фертити жена Рамзеса II с сист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ображение в храме Абу-Симб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1298—1213 до н. э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Систр (систр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http://4.bp.blogspot.com/-dJVCu5Dh9Nk/URYyRnPSziI/AAAAAAAAB0Y/_EtIBKn0PH8/s320/737px--1400_Frau_mit_Sistrum_und_Menit_anagoria.JPG"/>
          <p:cNvPicPr/>
          <p:nvPr/>
        </p:nvPicPr>
        <p:blipFill>
          <a:blip r:embed="rId2"/>
          <a:stretch/>
        </p:blipFill>
        <p:spPr>
          <a:xfrm>
            <a:off x="144360" y="1197000"/>
            <a:ext cx="4427640" cy="361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1187280" y="5203800"/>
            <a:ext cx="6624720" cy="13136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р является инструментом, который производит звук, похожий на шорох камыш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бывают разных типов: Открытые и с верхом в виде  подковы, ручки, как правило, показаны с головой Хатх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http://1.bp.blogspot.com/-WO0W554ntUA/URYwBDt3lrI/AAAAAAAAByU/f9aZoUEaEks/s320/m14.jpg"/>
          <p:cNvPicPr/>
          <p:nvPr/>
        </p:nvPicPr>
        <p:blipFill>
          <a:blip r:embed="rId3"/>
          <a:stretch/>
        </p:blipFill>
        <p:spPr>
          <a:xfrm>
            <a:off x="4716360" y="1052640"/>
            <a:ext cx="4199040" cy="39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79280" y="1125360"/>
            <a:ext cx="6624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Из духовых инструментов египтяне                                                                                                                                                                                                                  знали только флейты разной величины, простые и двойные, и труб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7200" y="189000"/>
            <a:ext cx="8218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Духов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http://3.bp.blogspot.com/-YbSxYIZCXYI/URYyorD08wI/AAAAAAAAB0w/Ywz5fwM2IPg/s1600/m20.jpg"/>
          <p:cNvPicPr/>
          <p:nvPr/>
        </p:nvPicPr>
        <p:blipFill>
          <a:blip r:embed="rId2"/>
          <a:stretch/>
        </p:blipFill>
        <p:spPr>
          <a:xfrm>
            <a:off x="6516720" y="1125360"/>
            <a:ext cx="2422440" cy="367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http://2.bp.blogspot.com/-mPvGDNDIenI/URYyzNxjAHI/AAAAAAAAB04/2ri9ijW4Paw/s1600/singers_and_flutists.jpg"/>
          <p:cNvPicPr/>
          <p:nvPr/>
        </p:nvPicPr>
        <p:blipFill>
          <a:blip r:embed="rId3"/>
          <a:stretch/>
        </p:blipFill>
        <p:spPr>
          <a:xfrm>
            <a:off x="324000" y="2349360"/>
            <a:ext cx="4176720" cy="28292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4"/>
          <p:cNvSpPr/>
          <p:nvPr/>
        </p:nvSpPr>
        <p:spPr>
          <a:xfrm>
            <a:off x="4716360" y="4971960"/>
            <a:ext cx="4176720" cy="1618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лейта фараонов длиной около 45 см и три или четыре отверстия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а производила звук, похожий на человеческий голос, чистые высокие частоты и бас тускл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755640" y="5276880"/>
            <a:ext cx="3529080" cy="13136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бой  двойной , состоящий из двух параллельных труб с вкладкой тростника, равные по длине, звучащие унисон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http://dnex.ru/_bl/3/30149437.jpg"/>
          <p:cNvPicPr/>
          <p:nvPr/>
        </p:nvPicPr>
        <p:blipFill>
          <a:blip r:embed="rId2"/>
          <a:stretch/>
        </p:blipFill>
        <p:spPr>
          <a:xfrm>
            <a:off x="179280" y="3963960"/>
            <a:ext cx="3529080" cy="26319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457200" y="189000"/>
            <a:ext cx="82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Арф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8000" y="1125000"/>
            <a:ext cx="8928000" cy="28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Древнейшим и, пожалуй, любимым струнным инструментом египтян была арф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первые иероглиф, обозначающий слово «арфист», встречается в захоронении, относящемся к 4-й династии Древнего цар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О том почете, каким была окружена арфа говорит знаменитая «Песнь арфиста» - одно из высочайших достижений древнеегипетской поэз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8" descr="http://i029.radikal.ru/0710/f5/7bc938518f61.jpg"/>
          <p:cNvPicPr/>
          <p:nvPr/>
        </p:nvPicPr>
        <p:blipFill>
          <a:blip r:embed="rId3"/>
          <a:stretch/>
        </p:blipFill>
        <p:spPr>
          <a:xfrm>
            <a:off x="4643280" y="3917880"/>
            <a:ext cx="4284720" cy="2862360"/>
          </a:xfrm>
          <a:prstGeom prst="rect">
            <a:avLst/>
          </a:prstGeom>
          <a:ln w="0">
            <a:noFill/>
          </a:ln>
        </p:spPr>
      </p:pic>
      <p:pic>
        <p:nvPicPr>
          <p:cNvPr id="197" name="Drevneegipetskaya_arfa_-_zvuki_drevneegipetskoj_arfy_(iPlayer.fm).mp3" descr=""/>
          <p:cNvPicPr/>
          <p:nvPr/>
        </p:nvPicPr>
        <p:blipFill>
          <a:blip r:embed="rId4"/>
          <a:stretch/>
        </p:blipFill>
        <p:spPr>
          <a:xfrm>
            <a:off x="3924360" y="4959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1856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42100"/>
                </a:solidFill>
                <a:latin typeface="Book Antiqua"/>
              </a:rPr>
              <a:t>Источники информации: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1. Гвидо Боффи. Большая энциклопедия музыки.Астрель, 2006 г.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2. Энциклопедия для детей Аванта. Т. 7 Искусство ч. 3 Музыка. Аванта, 2004 г.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3. Г. Вейс. Зарождение мировой цивилизации. Древний Египет.(сайт:  www.geige2007.narod.ru )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4. Музыкальная энциклопедия. — М.: Советская энциклопедия, Советский композитор. Под ред. Ю. В. Келдыша. 1973—1982. (http://dic.academic.ru/dic.nsf/enc_music/2736/Древнеегипетская)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5. Сайт: http://valdemusica.blogspot.ru/2013/02/la-musica-en-el-antiguo-egipto.html 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6. Сайт: http://kolizej.at.ua/forum/14-167-1 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7. Сайт: http://www.youtube.com/watch?v=DFCvu0oKlvU 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8. Сайт: http://school.xvatit.com/index.php?title=Музыка Древнего мира и Средневековья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9. Сайт «Частный корреспондент»: http://www.chaskor.ru /article/samaya_ drevnyaya_melodiya_v _mire_27948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457200" y="274680"/>
            <a:ext cx="82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Арф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00" y="1037880"/>
            <a:ext cx="54007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42100"/>
                </a:solidFill>
                <a:latin typeface="Book Antiqua"/>
              </a:rPr>
              <a:t>В гробницах Мемфиса она изображена в виде лука, на который натянуто несколько стру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42100"/>
                </a:solidFill>
                <a:latin typeface="Book Antiqua"/>
              </a:rPr>
              <a:t>В дальнейшем  к луку добавилась подножка, увеличилось число струн, а снизу к инструменту стали приделывать ящик для резонанса.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42100"/>
                </a:solidFill>
                <a:latin typeface="Book Antiqua"/>
              </a:rPr>
              <a:t>Во время правления Рамзеса III (1185 — 1153 г до н. э) арфу отделывают тонкой резьбой, золотом, черепаховой к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42100"/>
                </a:solidFill>
                <a:latin typeface="Book Antiqua"/>
              </a:rPr>
              <a:t>Подножие инструмента украшается символическими фигурами сфинксов, зверей, головами богов и богинь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8" descr="Арфист (деталь росписи гробницы) Фивы. 14 в. до н.э."/>
          <p:cNvPicPr/>
          <p:nvPr/>
        </p:nvPicPr>
        <p:blipFill>
          <a:blip r:embed="rId2"/>
          <a:stretch/>
        </p:blipFill>
        <p:spPr>
          <a:xfrm>
            <a:off x="5475240" y="960480"/>
            <a:ext cx="3489480" cy="49896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5"/>
          <p:cNvSpPr/>
          <p:nvPr/>
        </p:nvSpPr>
        <p:spPr>
          <a:xfrm>
            <a:off x="5508720" y="6021360"/>
            <a:ext cx="3456000" cy="7038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рфист (деталь росписи гробницы) Фивы. 14 в. до н.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108000" y="274680"/>
            <a:ext cx="8928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2100"/>
                </a:solidFill>
                <a:latin typeface="Arial"/>
              </a:rPr>
              <a:t>Другие струнные инстр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Объект 2"/>
          <p:cNvSpPr/>
          <p:nvPr/>
        </p:nvSpPr>
        <p:spPr>
          <a:xfrm>
            <a:off x="324000" y="1413000"/>
            <a:ext cx="4176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Лира вошла в употребление со времен 12-й династии (</a:t>
            </a:r>
            <a:r>
              <a:rPr b="0" lang="en-US" sz="2800" spc="-1" strike="noStrike">
                <a:solidFill>
                  <a:srgbClr val="642100"/>
                </a:solidFill>
                <a:latin typeface="Book Antiqua"/>
              </a:rPr>
              <a:t>XX </a:t>
            </a: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ек до н.э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 гробницах Бени-Гассана изображены играющие на лире музыканты, видимо, выходцы из Аз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Древнеегипетская лютнисточка"/>
          <p:cNvPicPr/>
          <p:nvPr/>
        </p:nvPicPr>
        <p:blipFill>
          <a:blip r:embed="rId2"/>
          <a:stretch/>
        </p:blipFill>
        <p:spPr>
          <a:xfrm rot="20175600">
            <a:off x="5292720" y="1125000"/>
            <a:ext cx="1601640" cy="5472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5"/>
          <p:cNvSpPr/>
          <p:nvPr/>
        </p:nvSpPr>
        <p:spPr>
          <a:xfrm>
            <a:off x="6877080" y="1268280"/>
            <a:ext cx="1871640" cy="19234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ображение лютнист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туалетной ложеч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ое царств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XIV век до н.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468360" y="189000"/>
            <a:ext cx="8218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42100"/>
                </a:solidFill>
                <a:latin typeface="Arial"/>
              </a:rPr>
              <a:t>Струнные инструменты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http://img-fotki.yandex.ru/get/6004/lilo-lu.2/0_548e0_fe9130d6_XL"/>
          <p:cNvPicPr/>
          <p:nvPr/>
        </p:nvPicPr>
        <p:blipFill>
          <a:blip r:embed="rId2"/>
          <a:stretch/>
        </p:blipFill>
        <p:spPr>
          <a:xfrm>
            <a:off x="108000" y="1160640"/>
            <a:ext cx="5000400" cy="327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http://1.bp.blogspot.com/-Lmiq8oNp2D0/URd8aOgllJI/AAAAAAAACAw/hEyNZfySfwI/s320/1_206.jpg"/>
          <p:cNvPicPr/>
          <p:nvPr/>
        </p:nvPicPr>
        <p:blipFill>
          <a:blip r:embed="rId3"/>
          <a:stretch/>
        </p:blipFill>
        <p:spPr>
          <a:xfrm>
            <a:off x="4540320" y="3645000"/>
            <a:ext cx="4462560" cy="30826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5"/>
          <p:cNvSpPr/>
          <p:nvPr/>
        </p:nvSpPr>
        <p:spPr>
          <a:xfrm>
            <a:off x="309600" y="5187960"/>
            <a:ext cx="2305080" cy="398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реск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о н.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435640" y="1117440"/>
            <a:ext cx="3084480" cy="2228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рфа, лира и гитара составляли вместе с флейтой египетский оркестр, в котором такт отбивали женщины, хлопая в ладоши или стуча в колотуш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5"/>
          <p:cNvSpPr/>
          <p:nvPr/>
        </p:nvSpPr>
        <p:spPr>
          <a:xfrm>
            <a:off x="395280" y="5292720"/>
            <a:ext cx="2592360" cy="1008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ина на гробнице Нархот из Тиба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вы. XV век до н.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http://upload.wikimedia.org/wikipedia/commons/thumb/6/68/Egyptian_lute_players_001.jpg/230px-Egyptian_lute_players_001.jpg"/>
          <p:cNvPicPr/>
          <p:nvPr/>
        </p:nvPicPr>
        <p:blipFill>
          <a:blip r:embed="rId2"/>
          <a:stretch/>
        </p:blipFill>
        <p:spPr>
          <a:xfrm>
            <a:off x="4932360" y="2637000"/>
            <a:ext cx="3990960" cy="30700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5"/>
          <p:cNvSpPr/>
          <p:nvPr/>
        </p:nvSpPr>
        <p:spPr>
          <a:xfrm>
            <a:off x="5435640" y="5886360"/>
            <a:ext cx="3024000" cy="7038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а на лютне. Гробница Небамун. 1350 г. до н.э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" descr="http://3.bp.blogspot.com/-vGI2NKaaupE/URZMOnynlcI/AAAAAAAAB44/ZyReFtMUGX8/s320/31551py1.jpg"/>
          <p:cNvPicPr/>
          <p:nvPr/>
        </p:nvPicPr>
        <p:blipFill>
          <a:blip r:embed="rId3"/>
          <a:stretch/>
        </p:blipFill>
        <p:spPr>
          <a:xfrm>
            <a:off x="108000" y="189000"/>
            <a:ext cx="3627360" cy="4680000"/>
          </a:xfrm>
          <a:prstGeom prst="rect">
            <a:avLst/>
          </a:prstGeom>
          <a:ln w="0">
            <a:noFill/>
          </a:ln>
        </p:spPr>
      </p:pic>
      <p:sp>
        <p:nvSpPr>
          <p:cNvPr id="215" name="Объект 2"/>
          <p:cNvSpPr/>
          <p:nvPr/>
        </p:nvSpPr>
        <p:spPr>
          <a:xfrm>
            <a:off x="3780000" y="260280"/>
            <a:ext cx="5113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У египтян были струнные инструменты, похожие на гитару и лютн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На всех этих инструментах играли костяной палочкой или плек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50920" y="764640"/>
            <a:ext cx="864216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Отношение египтян к музыке можно узнать из  описания восстания крестьян и рабов периода Нового царства (примерно 1570 год до н. э.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«Тот, кто не знал даже тростниковой флейты,— пишет очевидец,— теперь стал владельцем арфы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идимо до восстания занятие музыкальным искусством было доступно, помимо профессионалов, лишь вельможам и жрецам. После восстания, игра на арфе становится доступна для все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82440" y="115920"/>
            <a:ext cx="89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2100"/>
                </a:solidFill>
                <a:latin typeface="Book Antiqua"/>
              </a:rPr>
              <a:t>Направления в древнеегипетской музы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4"/>
          <p:cNvSpPr/>
          <p:nvPr/>
        </p:nvSpPr>
        <p:spPr>
          <a:xfrm>
            <a:off x="34920" y="5300640"/>
            <a:ext cx="89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42100"/>
                </a:solidFill>
                <a:latin typeface="Book Antiqua"/>
              </a:rPr>
              <a:t>Сохранились изображения солистов-музыкантов, играющих на различных инструментах и сопровождающих музыкой сельскохозяйственные работы, певцов, развлекающих гребцов на Hиле, трубачей и барабанщиков, поддерживавших бойцов воинственными звуками во время битвы, танцевальных сцен c участием музыкантов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179280" y="1735200"/>
            <a:ext cx="2448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амовая му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3956040" y="2854440"/>
            <a:ext cx="220032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тская профессиональная му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6084720" y="1878120"/>
            <a:ext cx="273528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му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овое царств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4356000" y="1341360"/>
            <a:ext cx="700200" cy="14828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22"/>
          <p:cNvSpPr/>
          <p:nvPr/>
        </p:nvSpPr>
        <p:spPr>
          <a:xfrm flipH="1">
            <a:off x="1907640" y="1301760"/>
            <a:ext cx="1511640" cy="36036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23"/>
          <p:cNvSpPr/>
          <p:nvPr/>
        </p:nvSpPr>
        <p:spPr>
          <a:xfrm>
            <a:off x="5452920" y="1301760"/>
            <a:ext cx="1855800" cy="503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7"/>
          <p:cNvSpPr/>
          <p:nvPr/>
        </p:nvSpPr>
        <p:spPr>
          <a:xfrm>
            <a:off x="82440" y="2824200"/>
            <a:ext cx="14605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ронные пес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28"/>
          <p:cNvSpPr/>
          <p:nvPr/>
        </p:nvSpPr>
        <p:spPr>
          <a:xfrm>
            <a:off x="1628640" y="2854440"/>
            <a:ext cx="1575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и-гимны в честь б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442440" y="2174760"/>
            <a:ext cx="647640" cy="6494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1595520" y="2174760"/>
            <a:ext cx="672840" cy="6494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7"/>
          <p:cNvSpPr/>
          <p:nvPr/>
        </p:nvSpPr>
        <p:spPr>
          <a:xfrm>
            <a:off x="1908000" y="4292640"/>
            <a:ext cx="19656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льные предста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8"/>
          <p:cNvSpPr/>
          <p:nvPr/>
        </p:nvSpPr>
        <p:spPr>
          <a:xfrm>
            <a:off x="4572000" y="4437000"/>
            <a:ext cx="15746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и-гимны в честь цар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3708000" y="3797280"/>
            <a:ext cx="934920" cy="49536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5148360" y="3797280"/>
            <a:ext cx="210960" cy="63972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5688000" y="3813120"/>
            <a:ext cx="1260360" cy="47952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7"/>
          <p:cNvSpPr/>
          <p:nvPr/>
        </p:nvSpPr>
        <p:spPr>
          <a:xfrm>
            <a:off x="6351480" y="4292640"/>
            <a:ext cx="23972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самбли певцов и инструменталис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50920" y="33336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42100"/>
                </a:solidFill>
                <a:latin typeface="Book Antiqua"/>
              </a:rPr>
              <a:t>Долгое время считали, что в Древнем Египте не существовало "нотной" запис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42100"/>
                </a:solidFill>
                <a:latin typeface="Book Antiqua"/>
              </a:rPr>
              <a:t>Итальянские учёные Анна Габриэлла Кальдарало и Недим Влера доказали, что в Египте уже в середине 4 тысячелетия до н. э. существовала система отображения зву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42100"/>
                </a:solidFill>
                <a:latin typeface="Book Antiqua"/>
              </a:rPr>
              <a:t>Для записи нот египтяне использовали иероглифы, обозначающие небесные светила: солнце, луну, звезды – Сириус и Венер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42100"/>
                </a:solidFill>
                <a:latin typeface="Book Antiqua"/>
              </a:rPr>
              <a:t>Ноты обычно включались в тексты погребальных надписе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42100"/>
                </a:solidFill>
                <a:latin typeface="Book Antiqua"/>
              </a:rPr>
              <a:t>Расшифровано 12 религиозных гимнов и подобраны для исполнения инструменты, наиболее близкие к древнеегипетским, - арфу, барабаны и арабскую гитару, которая имеет египетское происхождени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0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Нача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42100"/>
                </a:solidFill>
                <a:latin typeface="Book Antiqua"/>
              </a:rPr>
              <a:t>Доисторический пери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Gimn+Nikale+-+Hurritskiy+gimn+6_(mp3top100.net).mp3" descr=""/>
          <p:cNvPicPr/>
          <p:nvPr/>
        </p:nvPicPr>
        <p:blipFill>
          <a:blip r:embed="rId2"/>
          <a:stretch/>
        </p:blipFill>
        <p:spPr>
          <a:xfrm>
            <a:off x="611280" y="553392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3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Доисторическая музы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Музыка родилась примерно 40 000 лет назад, когда человек научился имитировать природные звуки и отличать их от своей ре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kolizej.at.ua/_fr/1/6984251.jpg"/>
          <p:cNvPicPr/>
          <p:nvPr/>
        </p:nvPicPr>
        <p:blipFill>
          <a:blip r:embed="rId2"/>
          <a:stretch/>
        </p:blipFill>
        <p:spPr>
          <a:xfrm>
            <a:off x="4856040" y="2997360"/>
            <a:ext cx="4108680" cy="3751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363600" y="1557360"/>
            <a:ext cx="8569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272520"/>
            <a:ext cx="8291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В эпоху палеолита человек научился изготавливать музыкальные инструменты из подручных материалов: трубы-раковины, флейты из рогов животных, бараба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Позже звуки извлекали с помощью граненого ребра из кости </a:t>
            </a:r>
            <a:r>
              <a:rPr b="0" lang="ru-RU" sz="3000" spc="-1" strike="noStrike">
                <a:solidFill>
                  <a:srgbClr val="6421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этот издаваемый звук напоминал скрежет зуб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Существовали погремушки из черепов, которые заполнялись семенами или сушеными ягодами. Этот звук нередко сопровождал погребальную процесси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Самыми древними инструментами были ударны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2100"/>
                </a:solidFill>
                <a:latin typeface="Book Antiqua"/>
              </a:rPr>
              <a:t>Попытки исследовать древнюю музыкальную культуру начались примерно с середины </a:t>
            </a:r>
            <a:r>
              <a:rPr b="0" lang="en-US" sz="3200" spc="-1" strike="noStrike">
                <a:solidFill>
                  <a:srgbClr val="642100"/>
                </a:solidFill>
                <a:latin typeface="Book Antiqua"/>
              </a:rPr>
              <a:t>XIX</a:t>
            </a:r>
            <a:r>
              <a:rPr b="0" lang="ru-RU" sz="3200" spc="-1" strike="noStrike">
                <a:solidFill>
                  <a:srgbClr val="642100"/>
                </a:solidFill>
                <a:latin typeface="Book Antiqua"/>
              </a:rPr>
              <a:t> 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2100"/>
                </a:solidFill>
                <a:latin typeface="Book Antiqua"/>
              </a:rPr>
              <a:t>Самые древние и необычные музыкальные инструменты, найденные археологами показаны на следующих слайдах</a:t>
            </a:r>
            <a:r>
              <a:rPr b="0" lang="ru-RU" sz="3200" spc="-1" strike="noStrike">
                <a:solidFill>
                  <a:srgbClr val="642100"/>
                </a:solidFill>
                <a:latin typeface="com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Исследование древней музы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96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 2008 году был обнаружен наидревнейший музыкальный инструм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олностью сохранившаяся флейта возрастом 35 тысяч лет  сделанная из кости хищной птицы обнаружена в пещере Холе-Фельс в Швабских Альбах в юго-западной Германии.</a:t>
            </a:r>
            <a:r>
              <a:rPr b="0" i="1" lang="ru-RU" sz="2400" spc="-1" strike="noStrike">
                <a:solidFill>
                  <a:srgbClr val="6421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http://kolizej.at.ua/_fr/1/7465338.jpg"/>
          <p:cNvPicPr/>
          <p:nvPr/>
        </p:nvPicPr>
        <p:blipFill>
          <a:blip r:embed="rId2"/>
          <a:srcRect l="6687" t="9250" r="0" b="14919"/>
          <a:stretch/>
        </p:blipFill>
        <p:spPr>
          <a:xfrm>
            <a:off x="322200" y="4292640"/>
            <a:ext cx="4537080" cy="226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Изображение"/>
          <p:cNvPicPr/>
          <p:nvPr/>
        </p:nvPicPr>
        <p:blipFill>
          <a:blip r:embed="rId3"/>
          <a:srcRect l="6333" t="0" r="24509" b="0"/>
          <a:stretch/>
        </p:blipFill>
        <p:spPr>
          <a:xfrm>
            <a:off x="5508720" y="333360"/>
            <a:ext cx="3313080" cy="3726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4643280" y="4221000"/>
            <a:ext cx="165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219640" y="4292640"/>
            <a:ext cx="3673440" cy="2228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длину предмет достигает 21,8 см, а его диаметр равняется 8 мм. Флейта имеет 5 отверстий, которые закрывались пальцами, и два глубоких V-пропила на конц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Объект 2"/>
          <p:cNvSpPr/>
          <p:nvPr/>
        </p:nvSpPr>
        <p:spPr>
          <a:xfrm>
            <a:off x="395280" y="404640"/>
            <a:ext cx="8497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Необычный музыкальный инструмент наподобие погремушки археологи обнаружили в Китае на стоянке древнего человека в провинции Ганьс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Это был овальный полый сосуд с полированной поверхностью, покрытый с одной стороны резьбой в виде пересекающихся крест-накрест лини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Наполненный внутри твердыми шариками, он издавал шуршащий звук при встряхиван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Возраст этой находки составляет 6000 - 7000 лет.</a:t>
            </a: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1"/>
          <p:cNvPicPr/>
          <p:nvPr/>
        </p:nvPicPr>
        <p:blipFill>
          <a:blip r:embed="rId2"/>
          <a:srcRect l="3203" t="14337" r="4292" b="12037"/>
          <a:stretch/>
        </p:blipFill>
        <p:spPr>
          <a:xfrm>
            <a:off x="250920" y="393372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4643280" y="4292640"/>
            <a:ext cx="4176720" cy="19234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агают, что эти погремушки служили украшением древних людей во время танца, подобно декоративным колокольчик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 они могли служить детям игруш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0:08:21Z</dcterms:created>
  <dc:creator>OlgaKononova</dc:creator>
  <dc:description/>
  <dc:language>en-US</dc:language>
  <cp:lastModifiedBy>иван</cp:lastModifiedBy>
  <dcterms:modified xsi:type="dcterms:W3CDTF">2014-01-16T19:11:58Z</dcterms:modified>
  <cp:revision>74</cp:revision>
  <dc:subject/>
  <dc:title>Презентация PowerPoint</dc:title>
</cp:coreProperties>
</file>