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2BF-CCC8-412D-9135-8E6B9C9F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A77-0E1B-4FD7-8032-E81570C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33A-B8F3-4785-8895-075B311A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AA3-B645-47E8-BE3B-05BE2828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0CE-B7AE-478F-B584-FCD05E8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F7E-15AB-43E3-80D4-8846942C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D1D-D1D3-433E-BDE7-2B8DAA7B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D36-1CDD-4F8D-AD09-B6BDD305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CE8-2714-4D50-AC4B-D678CC1F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D60-D2D7-4876-9E1C-F2F0C827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0E2-D082-435D-B168-A1C36CF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D66-56B2-465A-AAA4-7EEA2DB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3FD-AAC9-4C9B-A75C-CA0B7E989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843280" y="1197000"/>
            <a:ext cx="5229000" cy="936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Портфоли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357800" y="2060640"/>
            <a:ext cx="439092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педаго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148360" y="5229360"/>
            <a:ext cx="39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Безимени-1"/>
          <p:cNvPicPr/>
          <p:nvPr/>
        </p:nvPicPr>
        <p:blipFill>
          <a:blip r:embed="rId2"/>
          <a:stretch/>
        </p:blipFill>
        <p:spPr>
          <a:xfrm>
            <a:off x="6516720" y="4724280"/>
            <a:ext cx="2160720" cy="170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26920" y="1413000"/>
            <a:ext cx="495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Педагог должен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2349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 моделировать и проектировать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ою профессиональну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87280" y="3716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ывать требования к разработ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программно – методических комплек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2"/>
          <p:cNvSpPr/>
          <p:nvPr/>
        </p:nvSpPr>
        <p:spPr>
          <a:xfrm>
            <a:off x="900000" y="476280"/>
            <a:ext cx="273528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844640"/>
            <a:ext cx="84596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798"/>
                </a:solidFill>
                <a:latin typeface="Arial"/>
              </a:rPr>
              <a:t>ПОРТФОЛИО –</a:t>
            </a:r>
            <a:r>
              <a:rPr b="1" lang="en-US" sz="4000" spc="-1" strike="noStrike">
                <a:solidFill>
                  <a:srgbClr val="00079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еводе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льянского означает "папка с документами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папка специалиста"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900000" y="476280"/>
            <a:ext cx="273528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11280" y="1544760"/>
            <a:ext cx="783252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ПОРТФОЛИО</a:t>
            </a:r>
            <a:r>
              <a:rPr b="1" lang="ru-RU" sz="3200" spc="-1" strike="noStrike">
                <a:solidFill>
                  <a:srgbClr val="00079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упорядоч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но оформленный на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й деловой лич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ой в любой 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0000" y="476280"/>
            <a:ext cx="482436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11280" y="155736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информацию об ав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1280" y="2421000"/>
            <a:ext cx="8337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ет результаты его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11280" y="3213000"/>
            <a:ext cx="8208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бражает особенности личности авт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ает основные направления и вид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ет ориентированность 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ыбранную педагогическую концеп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33680" y="1209600"/>
            <a:ext cx="4824360" cy="647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Электр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59320" y="2492280"/>
            <a:ext cx="3533760" cy="64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педаго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25800" y="1844640"/>
            <a:ext cx="4175280" cy="647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портфоли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2411280" y="3654360"/>
            <a:ext cx="4167360" cy="3203640"/>
            <a:chOff x="2411280" y="3654360"/>
            <a:chExt cx="4167360" cy="3203640"/>
          </a:xfrm>
        </p:grpSpPr>
        <p:pic>
          <p:nvPicPr>
            <p:cNvPr id="57" name="Picture 10" descr="Dvd-Rom"/>
            <p:cNvPicPr/>
            <p:nvPr/>
          </p:nvPicPr>
          <p:blipFill>
            <a:blip r:embed="rId2"/>
            <a:stretch/>
          </p:blipFill>
          <p:spPr>
            <a:xfrm>
              <a:off x="2411280" y="3654360"/>
              <a:ext cx="2654280" cy="26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Cd-Rom"/>
            <p:cNvPicPr/>
            <p:nvPr/>
          </p:nvPicPr>
          <p:blipFill>
            <a:blip r:embed="rId3"/>
            <a:stretch/>
          </p:blipFill>
          <p:spPr>
            <a:xfrm>
              <a:off x="4344840" y="4552920"/>
              <a:ext cx="2233800" cy="22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1" descr="компьютерный фон"/>
            <p:cNvPicPr/>
            <p:nvPr/>
          </p:nvPicPr>
          <p:blipFill>
            <a:blip r:embed="rId4"/>
            <a:stretch/>
          </p:blipFill>
          <p:spPr>
            <a:xfrm>
              <a:off x="2905200" y="4803840"/>
              <a:ext cx="2879640" cy="2054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11280" y="1989000"/>
            <a:ext cx="7832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сведения о педаго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11280" y="278136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педагог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1280" y="363384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 – методиче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449748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пл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11280" y="530064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 – материальная б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258920" y="838080"/>
            <a:ext cx="3313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Разделы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357200" y="227664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192320" y="981000"/>
            <a:ext cx="716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Инструменты для создания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1862280" y="306864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2365200" y="3933720"/>
            <a:ext cx="3313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941560" y="4797360"/>
            <a:ext cx="6365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900000" y="476280"/>
            <a:ext cx="561672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ненты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11280" y="1628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педагогической философ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611280" y="28386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используемых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11280" y="377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ние разрабатываем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11280" y="4714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ие образовательных целе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476280"/>
            <a:ext cx="561672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ненты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11280" y="191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ы коллег, учащихся, родителей 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программе, стиле проведения заняти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культурно – досуговой деятельно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11280" y="3860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учебных мероприятий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достижения учащихся, результат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исследовательской работы, пример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работ учащихс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9:55:50Z</dcterms:created>
  <dc:creator>Rinkana</dc:creator>
  <dc:description/>
  <dc:language>en-US</dc:language>
  <cp:lastModifiedBy>мах</cp:lastModifiedBy>
  <dcterms:modified xsi:type="dcterms:W3CDTF">2013-04-06T17:04:34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