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3B50-D91C-480F-B4D1-D81344A75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C8F2-366D-41F1-B53F-B649C9F4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2230-CA33-4372-9C68-B93B9A408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421D-4ADB-43A8-9D6F-6035FAD7E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E250-02CA-40EF-92F1-45251417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6526-B18D-4348-A37F-54C6D39B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6831-545E-4EC5-BA3F-0369510D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DF92-84BF-4F63-8841-02BEC968E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9E82-47EA-45EC-A7D9-61379AA7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60E4-9BA6-44BF-93E8-6B2ED455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1D9F-448C-48F2-9695-767969AD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0243-9B0B-4C9F-B26A-9787F66D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25D9-B671-4DDB-9308-5AAF5F26E9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2843280" y="1197000"/>
            <a:ext cx="5229000" cy="93672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Verdana"/>
              </a:rPr>
              <a:t>Портфоли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4357800" y="2060640"/>
            <a:ext cx="4390920" cy="936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Verdana"/>
              </a:rPr>
              <a:t>педагог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5148360" y="5229360"/>
            <a:ext cx="39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1" descr="Безимени-1"/>
          <p:cNvPicPr/>
          <p:nvPr/>
        </p:nvPicPr>
        <p:blipFill>
          <a:blip r:embed="rId2"/>
          <a:stretch/>
        </p:blipFill>
        <p:spPr>
          <a:xfrm>
            <a:off x="6516720" y="4724280"/>
            <a:ext cx="2160720" cy="1703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900000" y="476280"/>
            <a:ext cx="7344000" cy="43344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лектронное портфолио педаг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826920" y="1413000"/>
            <a:ext cx="4959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798"/>
                </a:solidFill>
                <a:latin typeface="Verdana"/>
              </a:rPr>
              <a:t>Педагог должен</a:t>
            </a:r>
            <a:r>
              <a:rPr b="1" lang="ru-RU" sz="2400" spc="-1" strike="noStrike">
                <a:solidFill>
                  <a:srgbClr val="000798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611280" y="234936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99ccff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ть моделировать и проектировать     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свою профессиональную деятель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187280" y="371628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99ccff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ывать требования к разработк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программно – методических комплек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2"/>
          <p:cNvSpPr/>
          <p:nvPr/>
        </p:nvSpPr>
        <p:spPr>
          <a:xfrm>
            <a:off x="900000" y="476280"/>
            <a:ext cx="2735280" cy="43344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ртфоли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1844640"/>
            <a:ext cx="84596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798"/>
                </a:solidFill>
                <a:latin typeface="Arial"/>
              </a:rPr>
              <a:t>ПОРТФОЛИО –</a:t>
            </a:r>
            <a:r>
              <a:rPr b="1" lang="en-US" sz="4000" spc="-1" strike="noStrike">
                <a:solidFill>
                  <a:srgbClr val="000798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переводе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тальянского означает "папка с документами"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папка специалиста".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5"/>
          <p:cNvSpPr/>
          <p:nvPr/>
        </p:nvSpPr>
        <p:spPr>
          <a:xfrm>
            <a:off x="900000" y="476280"/>
            <a:ext cx="2735280" cy="43344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ртфоли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611280" y="1544760"/>
            <a:ext cx="7832520" cy="40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798"/>
                </a:solidFill>
                <a:latin typeface="Verdana"/>
              </a:rPr>
              <a:t>   </a:t>
            </a:r>
            <a:r>
              <a:rPr b="1" lang="ru-RU" sz="3200" spc="-1" strike="noStrike">
                <a:solidFill>
                  <a:srgbClr val="000798"/>
                </a:solidFill>
                <a:latin typeface="Verdana"/>
              </a:rPr>
              <a:t>ПОРТФОЛИО</a:t>
            </a:r>
            <a:r>
              <a:rPr b="1" lang="ru-RU" sz="3200" spc="-1" strike="noStrike">
                <a:solidFill>
                  <a:srgbClr val="000798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упорядоченны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мотно оформленный наб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стижений деловой личност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нятой в любой  сфере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00000" y="476280"/>
            <a:ext cx="4824360" cy="43344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ртфолио педаг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611280" y="1557360"/>
            <a:ext cx="7832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ет информацию об автор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611280" y="2421000"/>
            <a:ext cx="83376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ставляет результаты его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611280" y="3213000"/>
            <a:ext cx="8208720" cy="28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ображает особенности личности автор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ражает основные направления и виды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деятельност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монстрирует ориентированность н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выбранную педагогическую концеп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2533680" y="1209600"/>
            <a:ext cx="4824360" cy="64764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Электронно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5359320" y="2492280"/>
            <a:ext cx="3533760" cy="649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педагог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25800" y="1844640"/>
            <a:ext cx="4175280" cy="64764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портфоли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23"/>
          <p:cNvGrpSpPr/>
          <p:nvPr/>
        </p:nvGrpSpPr>
        <p:grpSpPr>
          <a:xfrm>
            <a:off x="2411280" y="3654360"/>
            <a:ext cx="4167360" cy="3203640"/>
            <a:chOff x="2411280" y="3654360"/>
            <a:chExt cx="4167360" cy="3203640"/>
          </a:xfrm>
        </p:grpSpPr>
        <p:pic>
          <p:nvPicPr>
            <p:cNvPr id="57" name="Picture 10" descr="Dvd-Rom"/>
            <p:cNvPicPr/>
            <p:nvPr/>
          </p:nvPicPr>
          <p:blipFill>
            <a:blip r:embed="rId2"/>
            <a:stretch/>
          </p:blipFill>
          <p:spPr>
            <a:xfrm>
              <a:off x="2411280" y="3654360"/>
              <a:ext cx="2654280" cy="265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8" descr="Cd-Rom"/>
            <p:cNvPicPr/>
            <p:nvPr/>
          </p:nvPicPr>
          <p:blipFill>
            <a:blip r:embed="rId3"/>
            <a:stretch/>
          </p:blipFill>
          <p:spPr>
            <a:xfrm>
              <a:off x="4344840" y="4552920"/>
              <a:ext cx="2233800" cy="223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11" descr="компьютерный фон"/>
            <p:cNvPicPr/>
            <p:nvPr/>
          </p:nvPicPr>
          <p:blipFill>
            <a:blip r:embed="rId4"/>
            <a:stretch/>
          </p:blipFill>
          <p:spPr>
            <a:xfrm>
              <a:off x="2905200" y="4803840"/>
              <a:ext cx="2879640" cy="2054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900000" y="476280"/>
            <a:ext cx="7344000" cy="43344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лектронное портфолио педаг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611280" y="1989000"/>
            <a:ext cx="78325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щие сведения о педагог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611280" y="2781360"/>
            <a:ext cx="7832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ы педагогической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611280" y="3633840"/>
            <a:ext cx="7832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учно – методическая деятель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611280" y="4497480"/>
            <a:ext cx="7832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орческие пла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611280" y="5300640"/>
            <a:ext cx="7832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бно – материальная б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1258920" y="838080"/>
            <a:ext cx="33130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798"/>
                </a:solidFill>
                <a:latin typeface="Verdana"/>
              </a:rPr>
              <a:t>Разделы</a:t>
            </a:r>
            <a:r>
              <a:rPr b="1" lang="ru-RU" sz="2400" spc="-1" strike="noStrike">
                <a:solidFill>
                  <a:srgbClr val="000798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900000" y="476280"/>
            <a:ext cx="7344000" cy="43344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лектронное портфолио педаг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1357200" y="2276640"/>
            <a:ext cx="33130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1192320" y="981000"/>
            <a:ext cx="71658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798"/>
                </a:solidFill>
                <a:latin typeface="Verdana"/>
              </a:rPr>
              <a:t>Инструменты для создания</a:t>
            </a:r>
            <a:r>
              <a:rPr b="1" lang="ru-RU" sz="2400" spc="-1" strike="noStrike">
                <a:solidFill>
                  <a:srgbClr val="000798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1862280" y="3068640"/>
            <a:ext cx="33130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2365200" y="3933720"/>
            <a:ext cx="33134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2941560" y="4797360"/>
            <a:ext cx="63658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структор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стран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900000" y="476280"/>
            <a:ext cx="5616720" cy="43344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мпоненты портфоли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611280" y="162864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99ccff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улировка педагогической философи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педаг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611280" y="28386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99ccff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исание используемых метод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611280" y="37735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99ccff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азание разрабатываемых дисципл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611280" y="471492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99ccff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ставление образовательных целей 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за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900000" y="476280"/>
            <a:ext cx="5616720" cy="43344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мпоненты портфоли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611280" y="1916280"/>
            <a:ext cx="80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99ccff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зывы коллег, учащихся, родителей о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программе, стиле проведения занятий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культурно – досуговой деятельности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611280" y="3860640"/>
            <a:ext cx="80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99ccff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ы учебных мероприятий –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достижения учащихся, результаты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исследовательской работы, примеры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работ учащихся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0T19:55:50Z</dcterms:created>
  <dc:creator>Rinkana</dc:creator>
  <dc:description/>
  <dc:language>en-US</dc:language>
  <cp:lastModifiedBy>мах</cp:lastModifiedBy>
  <dcterms:modified xsi:type="dcterms:W3CDTF">2013-04-06T17:04:34Z</dcterms:modified>
  <cp:revision>3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