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2BC9-DB12-4133-8474-51CAA67C9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B7C1-57C8-4741-BB84-97D547AC1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0429-A6B3-4EA1-9455-09CB5B6479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нормативов и выбор объектов норимрования определяются новым пониманием стандарта общего образования, в котором основной акцент переносится с содержания на результаты образования. Поэтому при разработке как Требований стандарта, так и документов, обеспечивающих его  реализацию, должны быть заданы рамки не только для изучаемого учебного материала, но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сновные способы учебных дей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средством которых дети осваивают данный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ми словами, наряду с традиционным вопросом «Чему учить?», по мнению разработчиков, важнейшим становится вопрос «Как учить?» или, точнее, «Как учить так, чтобы инициировать у детей собственные вопросы: 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у мне нужно научиться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“Как мне этому научиться?”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8167-FC4E-49FC-81CC-7800A5EFE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90EB-B89E-4E45-AEA0-77FEC9F2A31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821-DA47-4E61-989B-40560150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7D1-C94E-47CC-8501-4D045163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0BA-EA22-4BB7-903D-A218F191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267-8903-4E7D-9734-5D5755D6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E70-8998-4A08-8F8E-22668AB6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418-4918-468B-84EF-CDC7580C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A0B-849C-4434-8A90-A190288A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139-E1F5-4462-83FF-056B449B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319-FBF2-4D0C-8C19-4D53D88B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727-E0FB-4504-B0D2-A89ABAA0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BFD-BBE3-45A9-856A-E187D69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120-0BBB-4AC8-AEF5-72A84723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88CC-9E6C-4D33-A644-99F17160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«Переход начальной школы на обучение по новым стандартам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одительское собрание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езультаты освоения основных образовательных программ как «приращения» в личностных ресурсах обучающихся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0" y="2565360"/>
            <a:ext cx="3527280" cy="19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ff"/>
                </a:solidFill>
                <a:latin typeface="Arial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тиваци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личностных 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616720" y="2492280"/>
            <a:ext cx="3527280" cy="201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ff"/>
                </a:solidFill>
                <a:latin typeface="Arial"/>
              </a:rPr>
              <a:t>метапредметн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ff"/>
                </a:solidFill>
                <a:latin typeface="Arial"/>
              </a:rPr>
              <a:t>результ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звитие инструмент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987640" y="4437000"/>
            <a:ext cx="352764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ff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ff"/>
                </a:solidFill>
                <a:latin typeface="Arial"/>
              </a:rPr>
              <a:t>результ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огнитивных 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 rot="10800000">
            <a:off x="3635280" y="2204640"/>
            <a:ext cx="1873440" cy="151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2"/>
          <p:cNvSpPr/>
          <p:nvPr/>
        </p:nvSpPr>
        <p:spPr>
          <a:xfrm>
            <a:off x="900000" y="2708280"/>
            <a:ext cx="4032360" cy="2232000"/>
          </a:xfrm>
          <a:prstGeom prst="ellipse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"/>
          <p:cNvSpPr/>
          <p:nvPr/>
        </p:nvSpPr>
        <p:spPr>
          <a:xfrm rot="5400000">
            <a:off x="2412000" y="1987920"/>
            <a:ext cx="3671640" cy="2521080"/>
          </a:xfrm>
          <a:prstGeom prst="ellipse">
            <a:avLst/>
          </a:prstGeom>
          <a:noFill/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3564000" y="2708280"/>
            <a:ext cx="3959280" cy="2232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780000" y="2421000"/>
            <a:ext cx="93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276720" y="184464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ff"/>
                </a:solidFill>
                <a:latin typeface="Times New Roman"/>
                <a:ea typeface="Arial"/>
              </a:rPr>
              <a:t>Информационно-методическ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58920" y="3573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Arial"/>
              </a:rPr>
              <a:t>Кадровое 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292720" y="3500280"/>
            <a:ext cx="19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Arial"/>
              </a:rPr>
              <a:t>Материально-техническ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ФГОС НОО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Требования к условиям реализации основных образовательных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"/>
          <p:cNvSpPr/>
          <p:nvPr/>
        </p:nvSpPr>
        <p:spPr>
          <a:xfrm rot="5400000">
            <a:off x="2771280" y="4076640"/>
            <a:ext cx="2952720" cy="2232000"/>
          </a:xfrm>
          <a:prstGeom prst="ellipse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276720" y="522936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  <a:ea typeface="Arial"/>
              </a:rPr>
              <a:t>Финансово-экономическ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J0343355"/>
          <p:cNvPicPr/>
          <p:nvPr/>
        </p:nvPicPr>
        <p:blipFill>
          <a:blip r:embed="rId1"/>
          <a:stretch/>
        </p:blipFill>
        <p:spPr>
          <a:xfrm>
            <a:off x="3348000" y="2924280"/>
            <a:ext cx="19447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собенности системы оценки достижения планируемых результатов в начальной школе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Уровневый подход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 к разработке планируемых результатов, инструментария и представлению данны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Оценка динамики образовательных достижений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Использование накопительной системы оценивания (портфолио),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характеризующей индивидуальный прогре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Использование наряду со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стандартизированными письменными или устными работами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 других методов оценивания (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проекты, практические работы, творческие работы, самоанализ и самооценка, наблюдение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 и д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28400" y="713880"/>
            <a:ext cx="84582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Основное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содержание оценки личностных результатов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сформированность внутренней позиции обучающего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сформированность самооцен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знание моральных норм; сформированность морально-этических суждений, способность к решению моральных проблем на основе децентр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440" y="533160"/>
            <a:ext cx="807732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ценка личностных результатов осуществляется в х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нешних неперсонифицированных мониторинговых исследований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едмет оценки  - не прогресс личностного развития обучающегос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ффективность воспитательно-образовательной деятельности образовательного учреждения, муниципальной, региональной или федеральной системы образовани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НЕУРОЧ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нятие, объединяющее все виды деятельности школьников (кроме учебной), в которых возможно и целесообразно решение задач их воспитания и социализ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95280" y="981000"/>
          <a:ext cx="8435880" cy="5211720"/>
        </p:xfrm>
        <a:graphic>
          <a:graphicData uri="http://schemas.openxmlformats.org/drawingml/2006/table">
            <a:tbl>
              <a:tblPr/>
              <a:tblGrid>
                <a:gridCol w="4330800"/>
                <a:gridCol w="725400"/>
                <a:gridCol w="741240"/>
                <a:gridCol w="674640"/>
                <a:gridCol w="679680"/>
                <a:gridCol w="1284120"/>
              </a:tblGrid>
              <a:tr h="57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неурочная 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портивно-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удожественно-эсте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учно-позна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енно-патрио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щественно-полез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оект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Line 69"/>
          <p:cNvSpPr/>
          <p:nvPr/>
        </p:nvSpPr>
        <p:spPr>
          <a:xfrm flipV="1">
            <a:off x="407880" y="1604520"/>
            <a:ext cx="432432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395280" y="477720"/>
          <a:ext cx="8424720" cy="5975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7720"/>
                    <a:ext cx="842472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Group 35"/>
          <p:cNvGrpSpPr/>
          <p:nvPr/>
        </p:nvGrpSpPr>
        <p:grpSpPr>
          <a:xfrm>
            <a:off x="1760040" y="3286080"/>
            <a:ext cx="2087640" cy="226800"/>
            <a:chOff x="1760040" y="3286080"/>
            <a:chExt cx="2087640" cy="226800"/>
          </a:xfrm>
        </p:grpSpPr>
        <p:sp>
          <p:nvSpPr>
            <p:cNvPr id="160" name="Line 32"/>
            <p:cNvSpPr/>
            <p:nvPr/>
          </p:nvSpPr>
          <p:spPr>
            <a:xfrm flipH="1">
              <a:off x="1760040" y="351288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3"/>
            <p:cNvSpPr/>
            <p:nvPr/>
          </p:nvSpPr>
          <p:spPr>
            <a:xfrm flipV="1">
              <a:off x="1763640" y="3286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ртрет выпускника начальной школ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любящий свой народ, свой край и свою Род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уважающий и принимающий ценности семьи и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любознательный, активно и заинтересованно познающий ми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владеющий основами умения учиться, способный к организации собствен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готовый самостоятельно действовать и отвечать за свои поступки перед семьей и общест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доброжелательный, умеющий слушать и слышать собеседника, обосновывать свою позицию, высказывать свое м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выполняющий правила здорового и безопасного для себя и окружающих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9185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Федеральный государственный образовательный     стандарт общего образования как система обязательных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0176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андарт </a:t>
            </a: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- это уровень подготовки выпускника, относительно которого в обществе достигается конвенция, о котором договариваются как об уровне, необходимом и достаточном для перехода на следующую ступень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143000" y="714240"/>
            <a:ext cx="707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ЧТО ФОРМИРУЕТ НОВУЮ ЦЕЛЬ ОБРАЗОВА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5"/>
          <p:cNvSpPr/>
          <p:nvPr/>
        </p:nvSpPr>
        <p:spPr>
          <a:xfrm>
            <a:off x="142920" y="2928960"/>
            <a:ext cx="4000320" cy="1143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17520" y="3103560"/>
            <a:ext cx="372276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ОБРАЗОВАТЕЛЬНЫЕ ЗАПРОСЫ ОБЩЕСТВА, СЕМЬИ И ГОСУД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4788000" y="2924280"/>
            <a:ext cx="4000320" cy="1143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72040" y="314316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ШИРОКОЕ ВНЕДР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ИКТ-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ВО ВСЕ СФЕРЫ ЖИЗНИ</a:t>
            </a:r>
            <a:r>
              <a:rPr b="1" lang="en-US" sz="1600" spc="-1" strike="noStrike">
                <a:solidFill>
                  <a:srgbClr val="17375e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57120" y="207180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ОБЩЕСТВЕННЫЙ 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000760" y="207792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2"/>
          <p:cNvSpPr/>
          <p:nvPr/>
        </p:nvSpPr>
        <p:spPr>
          <a:xfrm>
            <a:off x="2268360" y="4508640"/>
            <a:ext cx="4535640" cy="1233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00360" y="49417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АЯ ЦЕЛЬ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16"/>
          <p:cNvSpPr/>
          <p:nvPr/>
        </p:nvSpPr>
        <p:spPr>
          <a:xfrm rot="5400000">
            <a:off x="3637440" y="4190040"/>
            <a:ext cx="474840" cy="247680"/>
          </a:xfrm>
          <a:prstGeom prst="rightArrow">
            <a:avLst>
              <a:gd name="adj1" fmla="val 50000"/>
              <a:gd name="adj2" fmla="val 368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16"/>
          <p:cNvSpPr/>
          <p:nvPr/>
        </p:nvSpPr>
        <p:spPr>
          <a:xfrm rot="5400000">
            <a:off x="4889880" y="4190040"/>
            <a:ext cx="474840" cy="247680"/>
          </a:xfrm>
          <a:prstGeom prst="rightArrow">
            <a:avLst>
              <a:gd name="adj1" fmla="val 50000"/>
              <a:gd name="adj2" fmla="val 368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20"/>
          <p:cNvSpPr/>
          <p:nvPr/>
        </p:nvSpPr>
        <p:spPr>
          <a:xfrm>
            <a:off x="3500280" y="521496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1"/>
          <p:cNvSpPr/>
          <p:nvPr/>
        </p:nvSpPr>
        <p:spPr>
          <a:xfrm>
            <a:off x="6858000" y="128592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2"/>
          <p:cNvSpPr/>
          <p:nvPr/>
        </p:nvSpPr>
        <p:spPr>
          <a:xfrm>
            <a:off x="71280" y="414324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3"/>
          <p:cNvSpPr/>
          <p:nvPr/>
        </p:nvSpPr>
        <p:spPr>
          <a:xfrm>
            <a:off x="71280" y="128592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4"/>
          <p:cNvSpPr/>
          <p:nvPr/>
        </p:nvSpPr>
        <p:spPr>
          <a:xfrm>
            <a:off x="6858000" y="414324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5"/>
          <p:cNvSpPr/>
          <p:nvPr/>
        </p:nvSpPr>
        <p:spPr>
          <a:xfrm>
            <a:off x="3357720" y="285840"/>
            <a:ext cx="221436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365640" y="57168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АЯ ЦЕЛЬ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2"/>
          <p:cNvSpPr/>
          <p:nvPr/>
        </p:nvSpPr>
        <p:spPr>
          <a:xfrm>
            <a:off x="3713040" y="2786040"/>
            <a:ext cx="1714680" cy="114300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927600" y="30891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ФГ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929280" y="1428840"/>
            <a:ext cx="22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ОЕ СОДЕРЖАНИЕ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571920" y="5286240"/>
            <a:ext cx="21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ТРЕБОВАНИЯ К ПОДГОТОВК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732720" y="414324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ОЕ ЦЕЛЕПОЛАГАНИЕ ДЛ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И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4286160"/>
            <a:ext cx="22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ТЕХНОЛОГИ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1280" y="1428840"/>
            <a:ext cx="22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верх 19"/>
          <p:cNvSpPr/>
          <p:nvPr/>
        </p:nvSpPr>
        <p:spPr>
          <a:xfrm>
            <a:off x="4356000" y="1571760"/>
            <a:ext cx="357120" cy="11206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верх 26"/>
          <p:cNvSpPr/>
          <p:nvPr/>
        </p:nvSpPr>
        <p:spPr>
          <a:xfrm rot="10800000">
            <a:off x="4356000" y="4000320"/>
            <a:ext cx="357120" cy="11206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верх 27"/>
          <p:cNvSpPr/>
          <p:nvPr/>
        </p:nvSpPr>
        <p:spPr>
          <a:xfrm rot="3600000">
            <a:off x="5893200" y="1710360"/>
            <a:ext cx="357480" cy="17748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верх 28"/>
          <p:cNvSpPr/>
          <p:nvPr/>
        </p:nvSpPr>
        <p:spPr>
          <a:xfrm rot="7200000">
            <a:off x="5893560" y="3210840"/>
            <a:ext cx="357120" cy="17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верх 29"/>
          <p:cNvSpPr/>
          <p:nvPr/>
        </p:nvSpPr>
        <p:spPr>
          <a:xfrm rot="18000000">
            <a:off x="2892960" y="1710000"/>
            <a:ext cx="357480" cy="17748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верх 30"/>
          <p:cNvSpPr/>
          <p:nvPr/>
        </p:nvSpPr>
        <p:spPr>
          <a:xfrm rot="14400000">
            <a:off x="2821320" y="3138840"/>
            <a:ext cx="357120" cy="17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AA1D-DB84-4F5D-A43B-F5A73CD8A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89308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Основная педагогическая 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организация условий, инициирующих детское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4000" y="189000"/>
            <a:ext cx="8604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3716280"/>
            <a:ext cx="2879640" cy="2879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867280" y="3573360"/>
            <a:ext cx="2880000" cy="288000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916360" y="2924280"/>
            <a:ext cx="2879640" cy="28796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Ради чего учить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андарты - конвенциональная норма, общественный договор между семьей, обществом и государство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_s1030"/>
          <p:cNvSpPr/>
          <p:nvPr/>
        </p:nvSpPr>
        <p:spPr>
          <a:xfrm>
            <a:off x="2556000" y="4149720"/>
            <a:ext cx="4317840" cy="2016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_s1032"/>
          <p:cNvSpPr/>
          <p:nvPr/>
        </p:nvSpPr>
        <p:spPr>
          <a:xfrm>
            <a:off x="4933800" y="1916280"/>
            <a:ext cx="4210200" cy="1908000"/>
          </a:xfrm>
          <a:prstGeom prst="ellipse">
            <a:avLst/>
          </a:prstGeom>
          <a:solidFill>
            <a:srgbClr val="ccffff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_s1028"/>
          <p:cNvSpPr/>
          <p:nvPr/>
        </p:nvSpPr>
        <p:spPr>
          <a:xfrm>
            <a:off x="0" y="1916280"/>
            <a:ext cx="4284720" cy="1942920"/>
          </a:xfrm>
          <a:prstGeom prst="ellipse">
            <a:avLst/>
          </a:prstGeom>
          <a:solidFill>
            <a:srgbClr val="cc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2060640"/>
            <a:ext cx="3960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стная 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циальная 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фессион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003640" y="2060640"/>
            <a:ext cx="414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700360" y="3933720"/>
            <a:ext cx="4284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циональное еди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зопас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витие человеческого потенц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нкурен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Мальчикбезфона"/>
          <p:cNvPicPr/>
          <p:nvPr/>
        </p:nvPicPr>
        <p:blipFill>
          <a:blip r:embed="rId1"/>
          <a:stretch/>
        </p:blipFill>
        <p:spPr>
          <a:xfrm>
            <a:off x="3635280" y="1052640"/>
            <a:ext cx="1774800" cy="331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0" y="614700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азработка и реализация ФГОС  рассматриваются в качестве предмета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солидарной ответственност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лавных действующих сил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AB8-F4D9-42C1-9045-7503ED83E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ГОС НОО – СОВОКУПНОСТЬ ТРЕХ СИСТЕМ ТРЕБОВАНИЙ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результатам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40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ff"/>
                </a:solidFill>
                <a:latin typeface="Arial"/>
              </a:rPr>
              <a:t>Структура требований к результа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10"/>
          <p:cNvGrpSpPr/>
          <p:nvPr/>
        </p:nvGrpSpPr>
        <p:grpSpPr>
          <a:xfrm>
            <a:off x="3677040" y="1844280"/>
            <a:ext cx="5245560" cy="3539520"/>
            <a:chOff x="3677040" y="1844280"/>
            <a:chExt cx="5245560" cy="3539520"/>
          </a:xfrm>
        </p:grpSpPr>
        <p:sp>
          <p:nvSpPr>
            <p:cNvPr id="103" name="_s10247"/>
            <p:cNvSpPr/>
            <p:nvPr/>
          </p:nvSpPr>
          <p:spPr>
            <a:xfrm>
              <a:off x="5246640" y="2472840"/>
              <a:ext cx="2106360" cy="17964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248"/>
            <p:cNvSpPr/>
            <p:nvPr/>
          </p:nvSpPr>
          <p:spPr>
            <a:xfrm>
              <a:off x="5883120" y="1844280"/>
              <a:ext cx="8348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249"/>
            <p:cNvSpPr/>
            <p:nvPr/>
          </p:nvSpPr>
          <p:spPr>
            <a:xfrm>
              <a:off x="5940360" y="3498480"/>
              <a:ext cx="2105640" cy="1796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50"/>
            <p:cNvSpPr/>
            <p:nvPr/>
          </p:nvSpPr>
          <p:spPr>
            <a:xfrm>
              <a:off x="8087760" y="4934880"/>
              <a:ext cx="8348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51"/>
            <p:cNvSpPr/>
            <p:nvPr/>
          </p:nvSpPr>
          <p:spPr>
            <a:xfrm>
              <a:off x="4551120" y="3496680"/>
              <a:ext cx="2106360" cy="179676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252"/>
            <p:cNvSpPr/>
            <p:nvPr/>
          </p:nvSpPr>
          <p:spPr>
            <a:xfrm>
              <a:off x="3677040" y="4934880"/>
              <a:ext cx="8348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7"/>
          <p:cNvSpPr/>
          <p:nvPr/>
        </p:nvSpPr>
        <p:spPr>
          <a:xfrm>
            <a:off x="5580000" y="2637000"/>
            <a:ext cx="208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к личност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результа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6587280" y="436572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к предмет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результа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644360" y="4149720"/>
            <a:ext cx="167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 метапредме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80" y="3214800"/>
            <a:ext cx="38592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ff"/>
                </a:solidFill>
                <a:latin typeface="Arial"/>
              </a:rPr>
              <a:t>Требования к результатам освоения основных образовательных программ -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кретизированные и операционализированные цели образования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26880" y="1125360"/>
            <a:ext cx="310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ри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истемы образован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новые образо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результаты, связ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 понимание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ичности как цели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мысла образования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071880" y="1341360"/>
            <a:ext cx="278604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227640" y="1341360"/>
            <a:ext cx="269892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амоопреде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вн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утренняя п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мотивация (учебная, социа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границы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енностн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морально-э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ориент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Регуляти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3000240" y="4724280"/>
            <a:ext cx="314352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озна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тановление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Основы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аучных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6572160" y="568656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6"/>
          <p:cNvSpPr/>
          <p:nvPr/>
        </p:nvSpPr>
        <p:spPr>
          <a:xfrm>
            <a:off x="6572160" y="5643720"/>
            <a:ext cx="2071800" cy="1071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7"/>
          <p:cNvSpPr/>
          <p:nvPr/>
        </p:nvSpPr>
        <p:spPr>
          <a:xfrm rot="5400000">
            <a:off x="7200000" y="3104280"/>
            <a:ext cx="647640" cy="5760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7"/>
          <p:cNvSpPr/>
          <p:nvPr/>
        </p:nvSpPr>
        <p:spPr>
          <a:xfrm rot="5400000">
            <a:off x="7251480" y="5106960"/>
            <a:ext cx="646200" cy="5760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0" y="214200"/>
            <a:ext cx="8642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ookman Old Style"/>
              </a:rPr>
              <a:t>Требования к результатам осво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ookman Old Style"/>
              </a:rPr>
              <a:t>основной образовательной 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34:27Z</dcterms:created>
  <dc:creator>ПК</dc:creator>
  <dc:description/>
  <dc:language>en-US</dc:language>
  <cp:lastModifiedBy>ПК</cp:lastModifiedBy>
  <dcterms:modified xsi:type="dcterms:W3CDTF">2011-03-30T14:45:47Z</dcterms:modified>
  <cp:revision>2</cp:revision>
  <dc:subject/>
  <dc:title>Слайд 1</dc:title>
</cp:coreProperties>
</file>