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3D50-EC11-464F-896A-C9FD56C1F7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EC6-728C-407D-8CFD-C3640CECA0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5F8B-78B3-470D-A2B8-4E716B5994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системы нормативов и выбор объектов норимрования определяются новым пониманием стандарта общего образования, в котором основной акцент переносится с содержания на результаты образования. Поэтому при разработке как Требований стандарта, так и документов, обеспечивающих его  реализацию, должны быть заданы рамки не только для изучаемого учебного материала, но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сновные способы учебных действ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средством которых дети осваивают данный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ыми словами, наряду с традиционным вопросом «Чему учить?», по мнению разработчиков, важнейшим становится вопрос «Как учить?» или, точнее, «Как учить так, чтобы инициировать у детей собственные вопросы: 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му мне нужно научиться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”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“Как мне этому научиться?”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лайд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51C7-B569-4F97-B92B-DB128F165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073C-9C54-40DD-95F0-03684B66681D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3873-4FFD-47E4-AC74-1FA5BE18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CFE-3EBD-4899-9B27-13CFCE85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053-B74D-46CE-99F7-C0DBDEF4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824E-EC7E-40AD-A51A-66A07960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5CB-4261-4049-8E81-123E8DF1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8FE-29A2-456C-A6F7-E7CCB46A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578-D25D-49BA-B17D-C84758AB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DCA-174A-4AEF-BC53-61F78E86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F79-1A2C-4CC7-8BA5-A0B92F7F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EC17-A5E4-42C1-A1EC-C370978B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8CB-5DB5-4831-BEE7-46F773A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592F-3E7F-4354-8C52-E8963BD0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838D-6E75-42EA-88E9-42240251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«Переход начальной школы на обучение по новым стандартам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Родительское собрание в начальной шк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езультаты освоения основных образовательных программ как «приращения» в личностных ресурсах обучающихся: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0" y="2565360"/>
            <a:ext cx="3527280" cy="194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ff"/>
                </a:solidFill>
                <a:latin typeface="Arial"/>
              </a:rPr>
              <a:t>личностные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азвит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мотивацио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личностных 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616720" y="2492280"/>
            <a:ext cx="3527280" cy="2016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ff"/>
                </a:solidFill>
                <a:latin typeface="Arial"/>
              </a:rPr>
              <a:t>метапредметн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ff"/>
                </a:solidFill>
                <a:latin typeface="Arial"/>
              </a:rPr>
              <a:t>результ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азвитие инструмент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987640" y="4437000"/>
            <a:ext cx="352764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18900000"/>
          </a:gradFill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ff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0dff"/>
                </a:solidFill>
                <a:latin typeface="Arial"/>
              </a:rPr>
              <a:t>результа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азвит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когнитивных 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 rot="10800000">
            <a:off x="3635280" y="2204640"/>
            <a:ext cx="1873440" cy="151308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Oval 2"/>
          <p:cNvSpPr/>
          <p:nvPr/>
        </p:nvSpPr>
        <p:spPr>
          <a:xfrm>
            <a:off x="900000" y="2708280"/>
            <a:ext cx="4032360" cy="2232000"/>
          </a:xfrm>
          <a:prstGeom prst="ellipse">
            <a:avLst/>
          </a:prstGeom>
          <a:noFill/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"/>
          <p:cNvSpPr/>
          <p:nvPr/>
        </p:nvSpPr>
        <p:spPr>
          <a:xfrm rot="5400000">
            <a:off x="2412000" y="1987920"/>
            <a:ext cx="3671640" cy="2521080"/>
          </a:xfrm>
          <a:prstGeom prst="ellipse">
            <a:avLst/>
          </a:prstGeom>
          <a:noFill/>
          <a:ln w="9360">
            <a:solidFill>
              <a:srgbClr val="0d0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4"/>
          <p:cNvSpPr/>
          <p:nvPr/>
        </p:nvSpPr>
        <p:spPr>
          <a:xfrm>
            <a:off x="3564000" y="2708280"/>
            <a:ext cx="3959280" cy="2232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3780000" y="2421000"/>
            <a:ext cx="93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276720" y="184464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ff"/>
                </a:solidFill>
                <a:latin typeface="Times New Roman"/>
                <a:ea typeface="Arial"/>
              </a:rPr>
              <a:t>Информационно-методическ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58920" y="3573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  <a:ea typeface="Arial"/>
              </a:rPr>
              <a:t>Кадровое 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292720" y="3500280"/>
            <a:ext cx="1943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  <a:ea typeface="Arial"/>
              </a:rPr>
              <a:t>Материально-техническ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0" y="404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ФГОС НОО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Требования к условиям реализации основных образовательных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0"/>
          <p:cNvSpPr/>
          <p:nvPr/>
        </p:nvSpPr>
        <p:spPr>
          <a:xfrm rot="5400000">
            <a:off x="2771280" y="4076640"/>
            <a:ext cx="2952720" cy="2232000"/>
          </a:xfrm>
          <a:prstGeom prst="ellipse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276720" y="5229360"/>
            <a:ext cx="1942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Times New Roman"/>
                <a:ea typeface="Arial"/>
              </a:rPr>
              <a:t>Финансово-экономическое обеспеч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5" descr="J0343355"/>
          <p:cNvPicPr/>
          <p:nvPr/>
        </p:nvPicPr>
        <p:blipFill>
          <a:blip r:embed="rId1"/>
          <a:stretch/>
        </p:blipFill>
        <p:spPr>
          <a:xfrm>
            <a:off x="3348000" y="2924280"/>
            <a:ext cx="19447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собенности системы оценки достижения планируемых результатов в начальной школе</a:t>
            </a:r>
            <a:br>
              <a:rPr sz="4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Уровневый подход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 к разработке планируемых результатов, инструментария и представлению данны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Оценка динамики образовательных достижений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Использование накопительной системы оценивания (портфолио), 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характеризующей индивидуальный прогрес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5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Использование наряду со 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стандартизированными письменными или устными работами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 других методов оценивания (</a:t>
            </a:r>
            <a:r>
              <a:rPr b="1" i="1" lang="en-US" sz="2100" spc="-1" strike="noStrike">
                <a:solidFill>
                  <a:srgbClr val="0000ff"/>
                </a:solidFill>
                <a:latin typeface="Arial"/>
              </a:rPr>
              <a:t>проекты, практические работы, творческие работы, самоанализ и самооценка, наблюдение</a:t>
            </a: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 и д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28400" y="713880"/>
            <a:ext cx="8458200" cy="576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Основное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содержание оценки личностных результатов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сформированность внутренней позиции обучающегос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сформированность самооцен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знание моральных норм; сформированность морально-этических суждений, способность к решению моральных проблем на основе децентр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440" y="533160"/>
            <a:ext cx="807732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ценка личностных результатов осуществляется в хо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нешних неперсонифицированных мониторинговых исследований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едмет оценки  - не прогресс личностного развития обучающегося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а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эффективность воспитательно-образовательной деятельности образовательного учреждения, муниципальной, региональной или федеральной системы образования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ВНЕУРОЧ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нятие, объединяющее все виды деятельности школьников (кроме учебной), в которых возможно и целесообразно решение задач их воспитания и социализ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95280" y="981000"/>
          <a:ext cx="8435880" cy="5211720"/>
        </p:xfrm>
        <a:graphic>
          <a:graphicData uri="http://schemas.openxmlformats.org/drawingml/2006/table">
            <a:tbl>
              <a:tblPr/>
              <a:tblGrid>
                <a:gridCol w="4330800"/>
                <a:gridCol w="725400"/>
                <a:gridCol w="741240"/>
                <a:gridCol w="674640"/>
                <a:gridCol w="679680"/>
                <a:gridCol w="1284120"/>
              </a:tblGrid>
              <a:tr h="5770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неурочная деятель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прав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се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портивно-оздорови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Художественно-эсте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учно-познаватель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енно-патриот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щественно-полез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оектная дея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Line 69"/>
          <p:cNvSpPr/>
          <p:nvPr/>
        </p:nvSpPr>
        <p:spPr>
          <a:xfrm flipV="1">
            <a:off x="407880" y="1604520"/>
            <a:ext cx="432432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0" y="17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2"/>
          <p:cNvGraphicFramePr/>
          <p:nvPr/>
        </p:nvGraphicFramePr>
        <p:xfrm>
          <a:off x="395280" y="477720"/>
          <a:ext cx="8424720" cy="5975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77720"/>
                    <a:ext cx="842472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9" name="Group 35"/>
          <p:cNvGrpSpPr/>
          <p:nvPr/>
        </p:nvGrpSpPr>
        <p:grpSpPr>
          <a:xfrm>
            <a:off x="1760040" y="3286080"/>
            <a:ext cx="2087640" cy="226800"/>
            <a:chOff x="1760040" y="3286080"/>
            <a:chExt cx="2087640" cy="226800"/>
          </a:xfrm>
        </p:grpSpPr>
        <p:sp>
          <p:nvSpPr>
            <p:cNvPr id="160" name="Line 32"/>
            <p:cNvSpPr/>
            <p:nvPr/>
          </p:nvSpPr>
          <p:spPr>
            <a:xfrm flipH="1">
              <a:off x="1760040" y="3512880"/>
              <a:ext cx="20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3"/>
            <p:cNvSpPr/>
            <p:nvPr/>
          </p:nvSpPr>
          <p:spPr>
            <a:xfrm flipV="1">
              <a:off x="1763640" y="328608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ртрет выпускника начальной школ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любящий свой народ, свой край и свою Родин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уважающий и принимающий ценности семьи и общ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любознательный, активно и заинтересованно познающий ми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владеющий основами умения учиться, способный к организации собствен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готовый самостоятельно действовать и отвечать за свои поступки перед семьей и обществ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доброжелательный, умеющий слушать и слышать собеседника, обосновывать свою позицию, высказывать свое мн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ff"/>
                </a:solidFill>
                <a:latin typeface="Arial"/>
              </a:rPr>
              <a:t>выполняющий правила здорового и безопасного для себя и окружающих образа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91856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Федеральный государственный образовательный     стандарт общего образования как система обязательных треб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0176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тандарт </a:t>
            </a:r>
            <a:r>
              <a:rPr b="0" lang="en-US" sz="3200" spc="-1" strike="noStrike">
                <a:solidFill>
                  <a:srgbClr val="0d0dff"/>
                </a:solidFill>
                <a:latin typeface="Arial"/>
              </a:rPr>
              <a:t>- это уровень подготовки выпускника, относительно которого в обществе достигается конвенция, о котором договариваются как об уровне, необходимом и достаточном для перехода на следующую ступень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143000" y="714240"/>
            <a:ext cx="7072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ЧТО ФОРМИРУЕТ НОВУЮ ЦЕЛЬ ОБРАЗОВА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5"/>
          <p:cNvSpPr/>
          <p:nvPr/>
        </p:nvSpPr>
        <p:spPr>
          <a:xfrm>
            <a:off x="142920" y="2928960"/>
            <a:ext cx="4000320" cy="1143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17520" y="3103560"/>
            <a:ext cx="3722760" cy="912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ОБРАЗОВАТЕЛЬНЫЕ ЗАПРОСЫ ОБЩЕСТВА, СЕМЬИ И ГОСУДА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7"/>
          <p:cNvSpPr/>
          <p:nvPr/>
        </p:nvSpPr>
        <p:spPr>
          <a:xfrm>
            <a:off x="4788000" y="2924280"/>
            <a:ext cx="4000320" cy="114300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072040" y="3143160"/>
            <a:ext cx="36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ШИРОКОЕ ВНЕДР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ИКТ-ТЕХНОЛОГ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ВО ВСЕ СФЕРЫ ЖИЗНИ</a:t>
            </a:r>
            <a:r>
              <a:rPr b="1" lang="en-US" sz="1600" spc="-1" strike="noStrike">
                <a:solidFill>
                  <a:srgbClr val="17375e"/>
                </a:solidFill>
                <a:latin typeface="Times New Roman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57120" y="2071800"/>
            <a:ext cx="36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ОБЩЕСТВЕННЫЙ 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000760" y="207792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2"/>
          <p:cNvSpPr/>
          <p:nvPr/>
        </p:nvSpPr>
        <p:spPr>
          <a:xfrm>
            <a:off x="2268360" y="4508640"/>
            <a:ext cx="4535640" cy="12333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00360" y="49417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АЯ ЦЕЛЬ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право 16"/>
          <p:cNvSpPr/>
          <p:nvPr/>
        </p:nvSpPr>
        <p:spPr>
          <a:xfrm rot="5400000">
            <a:off x="3637440" y="4190040"/>
            <a:ext cx="474840" cy="247680"/>
          </a:xfrm>
          <a:prstGeom prst="rightArrow">
            <a:avLst>
              <a:gd name="adj1" fmla="val 50000"/>
              <a:gd name="adj2" fmla="val 368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право 16"/>
          <p:cNvSpPr/>
          <p:nvPr/>
        </p:nvSpPr>
        <p:spPr>
          <a:xfrm rot="5400000">
            <a:off x="4889880" y="4190040"/>
            <a:ext cx="474840" cy="247680"/>
          </a:xfrm>
          <a:prstGeom prst="rightArrow">
            <a:avLst>
              <a:gd name="adj1" fmla="val 50000"/>
              <a:gd name="adj2" fmla="val 368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20"/>
          <p:cNvSpPr/>
          <p:nvPr/>
        </p:nvSpPr>
        <p:spPr>
          <a:xfrm>
            <a:off x="3500280" y="521496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21"/>
          <p:cNvSpPr/>
          <p:nvPr/>
        </p:nvSpPr>
        <p:spPr>
          <a:xfrm>
            <a:off x="6858000" y="128592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2"/>
          <p:cNvSpPr/>
          <p:nvPr/>
        </p:nvSpPr>
        <p:spPr>
          <a:xfrm>
            <a:off x="71280" y="414324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23"/>
          <p:cNvSpPr/>
          <p:nvPr/>
        </p:nvSpPr>
        <p:spPr>
          <a:xfrm>
            <a:off x="71280" y="1285920"/>
            <a:ext cx="221472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24"/>
          <p:cNvSpPr/>
          <p:nvPr/>
        </p:nvSpPr>
        <p:spPr>
          <a:xfrm>
            <a:off x="6858000" y="4143240"/>
            <a:ext cx="2214720" cy="121464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25"/>
          <p:cNvSpPr/>
          <p:nvPr/>
        </p:nvSpPr>
        <p:spPr>
          <a:xfrm>
            <a:off x="3357720" y="285840"/>
            <a:ext cx="2214360" cy="12142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365640" y="571680"/>
            <a:ext cx="221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АЯ ЦЕЛЬ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2"/>
          <p:cNvSpPr/>
          <p:nvPr/>
        </p:nvSpPr>
        <p:spPr>
          <a:xfrm>
            <a:off x="3713040" y="2786040"/>
            <a:ext cx="1714680" cy="1143000"/>
          </a:xfrm>
          <a:prstGeom prst="ellipse">
            <a:avLst/>
          </a:prstGeom>
          <a:solidFill>
            <a:srgbClr val="cccccc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927600" y="3089160"/>
            <a:ext cx="13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Arial"/>
              </a:rPr>
              <a:t>ФГО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6929280" y="1428840"/>
            <a:ext cx="22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ОЕ СОДЕРЖАНИЕ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571920" y="5286240"/>
            <a:ext cx="215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ТРЕБОВАНИЯ К ПОДГОТОВК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732720" y="4143240"/>
            <a:ext cx="24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ОЕ ЦЕЛЕПОЛАГАНИЕ ДЛЯ УЧАЩИХ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Arial"/>
              </a:rPr>
              <a:t>И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0" y="4286160"/>
            <a:ext cx="22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ТЕХНОЛОГИИ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1280" y="1428840"/>
            <a:ext cx="221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НО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верх 19"/>
          <p:cNvSpPr/>
          <p:nvPr/>
        </p:nvSpPr>
        <p:spPr>
          <a:xfrm>
            <a:off x="4356000" y="1571760"/>
            <a:ext cx="357120" cy="11206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верх 26"/>
          <p:cNvSpPr/>
          <p:nvPr/>
        </p:nvSpPr>
        <p:spPr>
          <a:xfrm rot="10800000">
            <a:off x="4356000" y="4000320"/>
            <a:ext cx="357120" cy="11206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верх 27"/>
          <p:cNvSpPr/>
          <p:nvPr/>
        </p:nvSpPr>
        <p:spPr>
          <a:xfrm rot="3600000">
            <a:off x="5893200" y="1710360"/>
            <a:ext cx="357480" cy="17748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верх 28"/>
          <p:cNvSpPr/>
          <p:nvPr/>
        </p:nvSpPr>
        <p:spPr>
          <a:xfrm rot="7200000">
            <a:off x="5893560" y="3210840"/>
            <a:ext cx="357120" cy="17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верх 29"/>
          <p:cNvSpPr/>
          <p:nvPr/>
        </p:nvSpPr>
        <p:spPr>
          <a:xfrm rot="18000000">
            <a:off x="2892960" y="1710000"/>
            <a:ext cx="357480" cy="1774800"/>
          </a:xfrm>
          <a:prstGeom prst="upArrow">
            <a:avLst>
              <a:gd name="adj1" fmla="val 50000"/>
              <a:gd name="adj2" fmla="val 49969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верх 30"/>
          <p:cNvSpPr/>
          <p:nvPr/>
        </p:nvSpPr>
        <p:spPr>
          <a:xfrm rot="14400000">
            <a:off x="2821320" y="3138840"/>
            <a:ext cx="357120" cy="1774800"/>
          </a:xfrm>
          <a:prstGeom prst="upArrow">
            <a:avLst>
              <a:gd name="adj1" fmla="val 50000"/>
              <a:gd name="adj2" fmla="val 50020"/>
            </a:avLst>
          </a:prstGeom>
          <a:solidFill>
            <a:srgbClr val="bbe0e3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3D1-42EB-444A-9D18-F93BDD5147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-360" y="1125000"/>
            <a:ext cx="8893080" cy="55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Основная педагогическая задач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Arial"/>
              </a:rPr>
              <a:t>организация условий, инициирующих детское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4000" y="189000"/>
            <a:ext cx="86040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истемно-деятельностный под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3716280"/>
            <a:ext cx="2879640" cy="287964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Чему уч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одерж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бра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5867280" y="3573360"/>
            <a:ext cx="2880000" cy="288000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00"/>
                </a:solidFill>
                <a:latin typeface="Tahoma"/>
              </a:rPr>
              <a:t>Как 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н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2916360" y="2924280"/>
            <a:ext cx="2879640" cy="287964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ahoma"/>
              </a:rPr>
              <a:t>Ради чего учить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Ц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ahoma"/>
              </a:rPr>
              <a:t>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тандарты - конвенциональная норма, общественный договор между семьей, обществом и государством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_s1030"/>
          <p:cNvSpPr/>
          <p:nvPr/>
        </p:nvSpPr>
        <p:spPr>
          <a:xfrm>
            <a:off x="2556000" y="4149720"/>
            <a:ext cx="4317840" cy="20160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_s1032"/>
          <p:cNvSpPr/>
          <p:nvPr/>
        </p:nvSpPr>
        <p:spPr>
          <a:xfrm>
            <a:off x="4933800" y="1916280"/>
            <a:ext cx="4210200" cy="1908000"/>
          </a:xfrm>
          <a:prstGeom prst="ellipse">
            <a:avLst/>
          </a:prstGeom>
          <a:solidFill>
            <a:srgbClr val="ccffff">
              <a:alpha val="50000"/>
            </a:srgbClr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_s1028"/>
          <p:cNvSpPr/>
          <p:nvPr/>
        </p:nvSpPr>
        <p:spPr>
          <a:xfrm>
            <a:off x="0" y="1916280"/>
            <a:ext cx="4284720" cy="1942920"/>
          </a:xfrm>
          <a:prstGeom prst="ellipse">
            <a:avLst/>
          </a:prstGeom>
          <a:solidFill>
            <a:srgbClr val="cc99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0" y="2060640"/>
            <a:ext cx="3960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СЕМ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ичностная 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циальная 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фессион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спеш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5003640" y="2060640"/>
            <a:ext cx="414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ОБЩ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Безопасность и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вобода и 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оциальная справедл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Благо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700360" y="3933720"/>
            <a:ext cx="4284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ациональное еди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Безопас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звитие человеческого потенц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нкурен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Мальчикбезфона"/>
          <p:cNvPicPr/>
          <p:nvPr/>
        </p:nvPicPr>
        <p:blipFill>
          <a:blip r:embed="rId1"/>
          <a:stretch/>
        </p:blipFill>
        <p:spPr>
          <a:xfrm>
            <a:off x="3635280" y="1052640"/>
            <a:ext cx="1774800" cy="33130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1"/>
          <p:cNvSpPr/>
          <p:nvPr/>
        </p:nvSpPr>
        <p:spPr>
          <a:xfrm>
            <a:off x="0" y="614700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азработка и реализация ФГОС  рассматриваются в качестве предмета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солидарной ответственности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главных действующих сил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9C62-F46C-4DDB-B373-899536281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ФГОС НОО – СОВОКУПНОСТЬ ТРЕХ СИСТЕМ ТРЕБОВАНИЙ     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Требования к результатам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19280" y="1413000"/>
            <a:ext cx="540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ff"/>
                </a:solidFill>
                <a:latin typeface="Arial"/>
              </a:rPr>
              <a:t>Структура требований к результа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Diagram 10"/>
          <p:cNvGrpSpPr/>
          <p:nvPr/>
        </p:nvGrpSpPr>
        <p:grpSpPr>
          <a:xfrm>
            <a:off x="3677040" y="1844280"/>
            <a:ext cx="5245560" cy="3539520"/>
            <a:chOff x="3677040" y="1844280"/>
            <a:chExt cx="5245560" cy="3539520"/>
          </a:xfrm>
        </p:grpSpPr>
        <p:sp>
          <p:nvSpPr>
            <p:cNvPr id="103" name="_s10247"/>
            <p:cNvSpPr/>
            <p:nvPr/>
          </p:nvSpPr>
          <p:spPr>
            <a:xfrm>
              <a:off x="5246640" y="2472840"/>
              <a:ext cx="2106360" cy="17964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248"/>
            <p:cNvSpPr/>
            <p:nvPr/>
          </p:nvSpPr>
          <p:spPr>
            <a:xfrm>
              <a:off x="5883120" y="1844280"/>
              <a:ext cx="8348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249"/>
            <p:cNvSpPr/>
            <p:nvPr/>
          </p:nvSpPr>
          <p:spPr>
            <a:xfrm>
              <a:off x="5940360" y="3498480"/>
              <a:ext cx="2105640" cy="179640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250"/>
            <p:cNvSpPr/>
            <p:nvPr/>
          </p:nvSpPr>
          <p:spPr>
            <a:xfrm>
              <a:off x="8087760" y="4934880"/>
              <a:ext cx="8348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251"/>
            <p:cNvSpPr/>
            <p:nvPr/>
          </p:nvSpPr>
          <p:spPr>
            <a:xfrm>
              <a:off x="4551120" y="3496680"/>
              <a:ext cx="2106360" cy="1796760"/>
            </a:xfrm>
            <a:prstGeom prst="ellipse">
              <a:avLst/>
            </a:prstGeom>
            <a:solidFill>
              <a:srgbClr val="ffff66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252"/>
            <p:cNvSpPr/>
            <p:nvPr/>
          </p:nvSpPr>
          <p:spPr>
            <a:xfrm>
              <a:off x="3677040" y="4934880"/>
              <a:ext cx="83484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 Box 17"/>
          <p:cNvSpPr/>
          <p:nvPr/>
        </p:nvSpPr>
        <p:spPr>
          <a:xfrm>
            <a:off x="5580000" y="2637000"/>
            <a:ext cx="208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к личност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результа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6351480" y="5464080"/>
            <a:ext cx="52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9"/>
          <p:cNvSpPr/>
          <p:nvPr/>
        </p:nvSpPr>
        <p:spPr>
          <a:xfrm>
            <a:off x="6587280" y="4365720"/>
            <a:ext cx="146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Треб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к предметны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результа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644360" y="4149720"/>
            <a:ext cx="167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 метапредметн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результа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79280" y="3214800"/>
            <a:ext cx="3859200" cy="33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0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ff"/>
                </a:solidFill>
                <a:latin typeface="Arial"/>
              </a:rPr>
              <a:t>Требования к результатам освоения основных образовательных программ -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онкретизированные и операционализированные цели образования.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4"/>
          <p:cNvSpPr/>
          <p:nvPr/>
        </p:nvSpPr>
        <p:spPr>
          <a:xfrm>
            <a:off x="326880" y="1125360"/>
            <a:ext cx="3102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Ориент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истемы образован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новые образоват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результаты, связ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с пониманием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личности как цели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мысла образования.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3071880" y="1341360"/>
            <a:ext cx="278604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6227640" y="1341360"/>
            <a:ext cx="2698920" cy="684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Bookman Old Style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Самоопредел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вн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утренняя п</a:t>
            </a: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мотивация (учебная, социальна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границы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Ценностная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морально-этиче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ориентац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Регулятив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3000240" y="4724280"/>
            <a:ext cx="314352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Bookman Old Style"/>
              </a:rPr>
              <a:t>Позна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установление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man Old Style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Основы систе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научных зн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7"/>
          <p:cNvSpPr/>
          <p:nvPr/>
        </p:nvSpPr>
        <p:spPr>
          <a:xfrm>
            <a:off x="6572160" y="568656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6"/>
          <p:cNvSpPr/>
          <p:nvPr/>
        </p:nvSpPr>
        <p:spPr>
          <a:xfrm>
            <a:off x="6572160" y="5643720"/>
            <a:ext cx="2071800" cy="1071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7"/>
          <p:cNvSpPr/>
          <p:nvPr/>
        </p:nvSpPr>
        <p:spPr>
          <a:xfrm rot="5400000">
            <a:off x="7200000" y="3104280"/>
            <a:ext cx="647640" cy="5760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7"/>
          <p:cNvSpPr/>
          <p:nvPr/>
        </p:nvSpPr>
        <p:spPr>
          <a:xfrm rot="5400000">
            <a:off x="7251480" y="5106960"/>
            <a:ext cx="646200" cy="576000"/>
          </a:xfrm>
          <a:prstGeom prst="pie">
            <a:avLst/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0" y="214200"/>
            <a:ext cx="86425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c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ookman Old Style"/>
              </a:rPr>
              <a:t>Требования к результатам осво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Bookman Old Style"/>
              </a:rPr>
              <a:t>основной образовательной 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4:34:27Z</dcterms:created>
  <dc:creator>ПК</dc:creator>
  <dc:description/>
  <dc:language>en-US</dc:language>
  <cp:lastModifiedBy>ПК</cp:lastModifiedBy>
  <dcterms:modified xsi:type="dcterms:W3CDTF">2011-03-30T14:45:47Z</dcterms:modified>
  <cp:revision>2</cp:revision>
  <dc:subject/>
  <dc:title>Слайд 1</dc:title>
</cp:coreProperties>
</file>