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29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DE5-1F0C-4C0E-89F5-189FA683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778-81BB-49EF-BD12-9FD69C8C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8BA-F352-4C7C-88D4-757FEC91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066-DBF1-4669-95D2-E5677293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5619-01AB-4820-9866-B6CFBBAF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B71D-FE4B-4891-A034-56799150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7E34-8F5C-46E2-8C64-5F298BE7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D38A-5DFF-449D-AAF0-4FBB14FE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44FC-6375-4766-AC39-D1BF7901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9D0A-629A-4681-832D-3411C7B5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96A-3840-4799-A193-3AF02D53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42B-7EA6-402B-BF92-CEB11367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814D-A6F8-43D9-BF45-3000F8F6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75B9-4C15-40E6-B77B-EAE37393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568D-9493-4BFA-B279-F127E2DA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DEC6-7EC5-4029-967F-8DF13B29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2673-1BEF-4675-9D61-F7E88F400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6E28A-76A4-4F60-BDF9-6AEE4ED69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0749-4729-43EB-B2AF-1219D4BE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59833-0A1C-4F5F-A1F8-BA85A5F6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57B5-47C9-48E2-ADAB-1D245832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B1F06-EFC6-40A0-AA5E-F77FAC59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73D-9489-4FA5-A192-1123617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ECF6-36FD-4CE6-A265-E7FF685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5A460-4F11-443C-93BE-B99DC1D4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AA41-EC54-4E7E-AD67-E8E2179F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F746-9459-487E-8F95-AE2DA17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A1A7C-36DC-4050-BC6F-9B81369B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5DE4-AA7A-487C-AD98-7CC86E700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23597-9403-47CB-AE47-CE358897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712B-0043-4E20-B178-46FD8282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114D1-503D-421F-841A-AF27D1DC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2B8E-CC79-4442-A16B-2803EC6B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A083-E7AC-4186-B1AD-11C01FFF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C116F-30C2-4203-9EDE-BB306F4F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A156B-856A-41D5-AC07-9E6E2B80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A038-4A1B-4DAD-8D47-45F7C89A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C37F2-262A-45A1-A05E-CD7AC8C5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88BA4-2BAF-4412-8A63-63A52256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BEAA-F834-46EA-B0F4-9529B56B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52D58-8A13-483E-851D-9DF35ABF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420F-0A6D-4D28-9328-14837222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1D20D-EC32-42CF-B5B6-94B5610B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2277F-BFE5-437F-AC53-06A0A0CA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B57-B13C-4F84-B7F2-FB9C8506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D63F1-8A89-40C8-AC68-EA77B70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66E6-AE2D-41DE-A7DC-AC4918EA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1FB0E-C1FB-4847-905F-ABD7FE9C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553FC-87E3-4A8C-BBC3-68832FD1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99936-7E4A-4658-8D5E-42B8921E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B821F-9785-408A-9DD8-B3FB8161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6F8B6-C820-42A3-BB82-80474B85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02203-E81C-472A-B3FA-88F33099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4406F-A3F9-44B1-800A-BD141FB6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69C2E-3379-4AE6-AE4D-3FF0BDA6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A73-6EAE-48A8-B7A6-ABA5A997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53C88-387C-405A-8280-C495253D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367-CCF0-47E4-BF80-718A640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766-BA23-45DB-85A7-B8B3510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32E-632C-4007-B29F-B0E8FD9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660D-EC16-4B37-9AB6-5BDEA44EFE4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3A09-89D5-4347-92D4-FAF35223475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5684-D087-45C3-AEA4-0A357106076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580A-CB48-4E39-8906-A9225C91ECC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513-CF18-4729-94FB-C1700D17BC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://www.ultra-visa.ru/upload/iblock/a7b/a7b91f6b4e1431cc93f4d04cd84b6251.jpg"/>
          <p:cNvPicPr/>
          <p:nvPr/>
        </p:nvPicPr>
        <p:blipFill>
          <a:blip r:embed="rId1"/>
          <a:stretch/>
        </p:blipFill>
        <p:spPr>
          <a:xfrm>
            <a:off x="0" y="1197000"/>
            <a:ext cx="9167760" cy="51562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-237960"/>
            <a:ext cx="91569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выполнения оригами «Корабли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Заголовок 4"/>
          <p:cNvSpPr/>
          <p:nvPr/>
        </p:nvSpPr>
        <p:spPr>
          <a:xfrm>
            <a:off x="179280" y="1844640"/>
            <a:ext cx="88567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чала сложите прямоугольный лист пополам и сделайте вертикальный переги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те верхние углы к средней ли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ните отвороты в разные  стороны навер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итесь за центральные точки перегиба и потяните, превращая треугольник в квадр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ните углы с двух стор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ните края в разные сторо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webdiana.ru/uploads/posts/2015-03/1425158224_kak-sdelat-korablik-iz-bumagi-3.jpg"/>
          <p:cNvPicPr/>
          <p:nvPr/>
        </p:nvPicPr>
        <p:blipFill>
          <a:blip r:embed="rId1"/>
          <a:srcRect l="13465" t="0" r="0" b="7251"/>
          <a:stretch/>
        </p:blipFill>
        <p:spPr>
          <a:xfrm>
            <a:off x="611280" y="476280"/>
            <a:ext cx="796608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http://webdiana.ru/uploads/posts/2015-03/1425158244_kak-sdelat-korablik-5.jpg"/>
          <p:cNvPicPr/>
          <p:nvPr/>
        </p:nvPicPr>
        <p:blipFill>
          <a:blip r:embed="rId1"/>
          <a:srcRect l="20353" t="0" r="10129" b="14534"/>
          <a:stretch/>
        </p:blipFill>
        <p:spPr>
          <a:xfrm>
            <a:off x="684360" y="476280"/>
            <a:ext cx="784836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webdiana.ru/uploads/posts/2015-03/1425158203_kak-sdelat-korablik-iz-bumagi-5.jpg"/>
          <p:cNvPicPr/>
          <p:nvPr/>
        </p:nvPicPr>
        <p:blipFill>
          <a:blip r:embed="rId1"/>
          <a:srcRect l="0" t="0" r="0" b="7000"/>
          <a:stretch/>
        </p:blipFill>
        <p:spPr>
          <a:xfrm>
            <a:off x="324000" y="620640"/>
            <a:ext cx="849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http://webdiana.ru/uploads/posts/2015-03/1425158311_kak-sdelat-korablik-iz-bumagi-7.jpg"/>
          <p:cNvPicPr/>
          <p:nvPr/>
        </p:nvPicPr>
        <p:blipFill>
          <a:blip r:embed="rId1"/>
          <a:srcRect l="0" t="0" r="0" b="6343"/>
          <a:stretch/>
        </p:blipFill>
        <p:spPr>
          <a:xfrm>
            <a:off x="250920" y="476280"/>
            <a:ext cx="863604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http://webdiana.ru/uploads/posts/2015-03/1425158279_kak-sdelat-korablik-iz-bumagi-9.jpg"/>
          <p:cNvPicPr/>
          <p:nvPr/>
        </p:nvPicPr>
        <p:blipFill>
          <a:blip r:embed="rId1"/>
          <a:srcRect l="0" t="0" r="0" b="9400"/>
          <a:stretch/>
        </p:blipFill>
        <p:spPr>
          <a:xfrm>
            <a:off x="324000" y="836640"/>
            <a:ext cx="84531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http://webdiana.ru/uploads/posts/2015-03/1425158356_kak-sdelat-korablik-iz-bumagi-10.jpg"/>
          <p:cNvPicPr/>
          <p:nvPr/>
        </p:nvPicPr>
        <p:blipFill>
          <a:blip r:embed="rId1"/>
          <a:srcRect l="13607" t="0" r="13815" b="20059"/>
          <a:stretch/>
        </p:blipFill>
        <p:spPr>
          <a:xfrm>
            <a:off x="250920" y="333360"/>
            <a:ext cx="4608360" cy="30956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http://webdiana.ru/uploads/posts/2015-03/1425158283_kak-sdelat-korablik-iz-bumagi-11.jpg"/>
          <p:cNvPicPr/>
          <p:nvPr/>
        </p:nvPicPr>
        <p:blipFill>
          <a:blip r:embed="rId2"/>
          <a:srcRect l="20788" t="0" r="18738" b="6569"/>
          <a:stretch/>
        </p:blipFill>
        <p:spPr>
          <a:xfrm>
            <a:off x="4932360" y="2411280"/>
            <a:ext cx="403236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4" descr="http://webdiana.ru/uploads/posts/2015-03/1425158412_kak-sdelat-korablik-iz-bumagi-18.jpg"/>
          <p:cNvPicPr/>
          <p:nvPr/>
        </p:nvPicPr>
        <p:blipFill>
          <a:blip r:embed="rId1"/>
          <a:srcRect l="33856" t="0" r="11169" b="39000"/>
          <a:stretch/>
        </p:blipFill>
        <p:spPr>
          <a:xfrm>
            <a:off x="4356000" y="3019320"/>
            <a:ext cx="4608720" cy="364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http://webdiana.ru/uploads/posts/2015-03/1425158394_kak-sdelat-korablik-iz-bumagi-13.jpg"/>
          <p:cNvPicPr/>
          <p:nvPr/>
        </p:nvPicPr>
        <p:blipFill>
          <a:blip r:embed="rId2"/>
          <a:srcRect l="26467" t="0" r="18738" b="20725"/>
          <a:stretch/>
        </p:blipFill>
        <p:spPr>
          <a:xfrm>
            <a:off x="250920" y="260280"/>
            <a:ext cx="41050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6" descr="http://www.piubarche.it/sites/default/files/uploads/annunci/admin/1316606002/PBR_jolly_2.jpg"/>
          <p:cNvPicPr/>
          <p:nvPr/>
        </p:nvPicPr>
        <p:blipFill>
          <a:blip r:embed="rId1"/>
          <a:srcRect l="16588" t="25355" r="14294" b="18313"/>
          <a:stretch/>
        </p:blipFill>
        <p:spPr>
          <a:xfrm>
            <a:off x="250920" y="1052640"/>
            <a:ext cx="87231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Прямоугольник 2" descr=""/>
          <p:cNvPicPr/>
          <p:nvPr/>
        </p:nvPicPr>
        <p:blipFill>
          <a:blip r:embed="rId1"/>
          <a:stretch/>
        </p:blipFill>
        <p:spPr>
          <a:xfrm>
            <a:off x="-103320" y="762120"/>
            <a:ext cx="9186840" cy="2693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Давайте попробуем За ПК - Картинка 17221/18"/>
          <p:cNvPicPr/>
          <p:nvPr/>
        </p:nvPicPr>
        <p:blipFill>
          <a:blip r:embed="rId2"/>
          <a:stretch/>
        </p:blipFill>
        <p:spPr>
          <a:xfrm>
            <a:off x="2268360" y="2565360"/>
            <a:ext cx="424836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http://www.budulgan.com/wp-content/uploads/2016/01/Origami-2.jpg"/>
          <p:cNvPicPr/>
          <p:nvPr/>
        </p:nvPicPr>
        <p:blipFill>
          <a:blip r:embed="rId1"/>
          <a:srcRect l="19067" t="8476" r="25636" b="8476"/>
          <a:stretch/>
        </p:blipFill>
        <p:spPr>
          <a:xfrm>
            <a:off x="250920" y="3141720"/>
            <a:ext cx="4176720" cy="3527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http://cs319322.vk.me/v319322231/2265/JMCZnNUMWhk.jpg"/>
          <p:cNvPicPr/>
          <p:nvPr/>
        </p:nvPicPr>
        <p:blipFill>
          <a:blip r:embed="rId2"/>
          <a:stretch/>
        </p:blipFill>
        <p:spPr>
          <a:xfrm>
            <a:off x="324000" y="115920"/>
            <a:ext cx="5238720" cy="2971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http://www.piubarche.it/sites/default/files/uploads/annunci/admin/1316606002/PBR_jolly_2.jpg"/>
          <p:cNvPicPr/>
          <p:nvPr/>
        </p:nvPicPr>
        <p:blipFill>
          <a:blip r:embed="rId3"/>
          <a:srcRect l="16588" t="25355" r="14294" b="18313"/>
          <a:stretch/>
        </p:blipFill>
        <p:spPr>
          <a:xfrm>
            <a:off x="4500720" y="4005360"/>
            <a:ext cx="4535280" cy="2419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http://aboutorigami.ru/1.jpg"/>
          <p:cNvPicPr/>
          <p:nvPr/>
        </p:nvPicPr>
        <p:blipFill>
          <a:blip r:embed="rId4"/>
          <a:srcRect l="5264" t="0" r="34217" b="0"/>
          <a:stretch/>
        </p:blipFill>
        <p:spPr>
          <a:xfrm>
            <a:off x="5724360" y="189000"/>
            <a:ext cx="239256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1968480" y="414360"/>
            <a:ext cx="4932360" cy="12556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0" y="134136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Прямоугольник 2" descr=""/>
          <p:cNvPicPr/>
          <p:nvPr/>
        </p:nvPicPr>
        <p:blipFill>
          <a:blip r:embed="rId1"/>
          <a:stretch/>
        </p:blipFill>
        <p:spPr>
          <a:xfrm>
            <a:off x="1682640" y="384120"/>
            <a:ext cx="5499360" cy="138420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"/>
          <p:cNvSpPr/>
          <p:nvPr/>
        </p:nvSpPr>
        <p:spPr>
          <a:xfrm>
            <a:off x="108000" y="1700280"/>
            <a:ext cx="885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ся складывать орига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Прямоугольник 1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ами -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искусство бумажной пластики, родившееся в Японии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media2.handmadecharlotte.com/wp-content/uploads/2015/06/6-diy-gem-crafts.jpg"/>
          <p:cNvPicPr/>
          <p:nvPr/>
        </p:nvPicPr>
        <p:blipFill>
          <a:blip r:embed="rId1"/>
          <a:srcRect l="9794" t="14691" r="10238" b="15129"/>
          <a:stretch/>
        </p:blipFill>
        <p:spPr>
          <a:xfrm>
            <a:off x="684360" y="1628640"/>
            <a:ext cx="3281040" cy="288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ttp://www.supermamma.ru/media/page_image/3385/w/prostoe-origami.jpeg"/>
          <p:cNvPicPr/>
          <p:nvPr/>
        </p:nvPicPr>
        <p:blipFill>
          <a:blip r:embed="rId2"/>
          <a:srcRect l="11812" t="9629" r="9044" b="3695"/>
          <a:stretch/>
        </p:blipFill>
        <p:spPr>
          <a:xfrm>
            <a:off x="4716360" y="1700280"/>
            <a:ext cx="3311640" cy="2670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http://www.origami-mobile.com/fun/03-frog/frog.jpg"/>
          <p:cNvPicPr/>
          <p:nvPr/>
        </p:nvPicPr>
        <p:blipFill>
          <a:blip r:embed="rId3"/>
          <a:srcRect l="16204" t="15333" r="13599" b="15662"/>
          <a:stretch/>
        </p:blipFill>
        <p:spPr>
          <a:xfrm>
            <a:off x="3348000" y="4653000"/>
            <a:ext cx="237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extBox 1" descr=""/>
          <p:cNvPicPr/>
          <p:nvPr/>
        </p:nvPicPr>
        <p:blipFill>
          <a:blip r:embed="rId1"/>
          <a:stretch/>
        </p:blipFill>
        <p:spPr>
          <a:xfrm>
            <a:off x="-6480" y="103320"/>
            <a:ext cx="9156960" cy="10126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1"/>
          <p:cNvSpPr/>
          <p:nvPr/>
        </p:nvSpPr>
        <p:spPr>
          <a:xfrm>
            <a:off x="179280" y="2135880"/>
            <a:ext cx="87854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такое оригам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179280" y="292428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усство бумажной пла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5"/>
          <p:cNvSpPr/>
          <p:nvPr/>
        </p:nvSpPr>
        <p:spPr>
          <a:xfrm>
            <a:off x="179280" y="3789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появилось ориг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6"/>
          <p:cNvSpPr/>
          <p:nvPr/>
        </p:nvSpPr>
        <p:spPr>
          <a:xfrm>
            <a:off x="179280" y="436572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по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324000" y="620640"/>
            <a:ext cx="4679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то за чудеса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ет ветер в паруса?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 паром, ни дирижабль —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лнам плывет..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http://www.stavebni-forum.cz/data/cms/19519/image-big.jpg"/>
          <p:cNvPicPr/>
          <p:nvPr/>
        </p:nvPicPr>
        <p:blipFill>
          <a:blip r:embed="rId1"/>
          <a:srcRect l="0" t="16384" r="0" b="14324"/>
          <a:stretch/>
        </p:blipFill>
        <p:spPr>
          <a:xfrm>
            <a:off x="755640" y="2637000"/>
            <a:ext cx="7620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2" descr="Группа компаний &quot;Аванта&quot; - Клей-карандаш ErichKrause 8гр"/>
          <p:cNvPicPr/>
          <p:nvPr/>
        </p:nvPicPr>
        <p:blipFill>
          <a:blip r:embed="rId1"/>
          <a:stretch/>
        </p:blipFill>
        <p:spPr>
          <a:xfrm>
            <a:off x="5292720" y="3213000"/>
            <a:ext cx="3024360" cy="3024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Эволюция.com - Канцелярия"/>
          <p:cNvPicPr/>
          <p:nvPr/>
        </p:nvPicPr>
        <p:blipFill>
          <a:blip r:embed="rId2"/>
          <a:stretch/>
        </p:blipFill>
        <p:spPr>
          <a:xfrm>
            <a:off x="3203640" y="333360"/>
            <a:ext cx="3097080" cy="30942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8" descr="&quot;Технологии тысячелетия-ДВ&quot; официальный сайт компании"/>
          <p:cNvPicPr/>
          <p:nvPr/>
        </p:nvPicPr>
        <p:blipFill>
          <a:blip r:embed="rId3"/>
          <a:srcRect l="15355" t="0" r="3145" b="0"/>
          <a:stretch/>
        </p:blipFill>
        <p:spPr>
          <a:xfrm>
            <a:off x="250920" y="2276640"/>
            <a:ext cx="391644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"/>
          <p:cNvSpPr/>
          <p:nvPr/>
        </p:nvSpPr>
        <p:spPr>
          <a:xfrm>
            <a:off x="468360" y="864000"/>
            <a:ext cx="8280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ержи концами вверх, не носи их в карм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жь ножницами на ходу, не подходи к товарищам во время резанья, не оставляй ножницы в открыт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авай ножницы только в закрытом виде, кольцами в сторону товарищ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аботе с ножницами следи за пальцами левой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ди ножницы на парту так, чтобы они не свешивались с края пар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резании деталей имеющих форму окружности, поворачивай бума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ю разметки оставляй на вырезаемых дета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 обращения с ножниц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2:06:37Z</dcterms:created>
  <dc:creator>Оксана</dc:creator>
  <dc:description/>
  <dc:language>en-US</dc:language>
  <cp:lastModifiedBy>Оксана</cp:lastModifiedBy>
  <dcterms:modified xsi:type="dcterms:W3CDTF">2016-02-18T02:35:34Z</dcterms:modified>
  <cp:revision>64</cp:revision>
  <dc:subject/>
  <dc:title>Слайд 1</dc:title>
</cp:coreProperties>
</file>