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917-5116-4B23-964D-8F8D91A5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A6C-5244-48AF-A892-1ECC4C81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892-05C4-4C71-8263-8EE41B45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F3A-8894-449C-BC5F-DE0BE23D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919F-7B25-4149-A87C-93B57778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DB6C-7A0F-4235-8700-7BE83DCB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DD97-B4FC-436F-9DAE-CBB8BE9F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AAA-9854-49B3-83B5-897828DE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5D91-3DCD-4AEC-88DB-E6841485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1D68-14EC-4F93-A7C2-65CB3AD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3E5-D520-4AB7-86FF-57DB914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36E-CA2D-4406-85B3-EF5B08BC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B1BA-519C-48DD-907D-ABA5BDC6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6EB7-2BFF-44E9-BD0A-7B7744F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D4DE-06B3-4F26-A06E-E32C5E07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4C98-10A1-4A3A-BF8A-B9AB61C5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7B2E-E601-414A-AC5E-BBF2BA71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5E76-1FAC-454F-9E53-453EA428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80BB-6540-4C4C-844C-F7154CF6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E3D5-AF31-40B7-A51D-6896F29E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E389-169E-42E3-AA84-1D7E0203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808C-D273-45F5-AAAF-AFDF169B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E38-B0F6-4786-9E5E-C32EDC6A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9695-2271-4A5C-B8BE-0886E8B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1F6A-F94F-403B-B335-5E1357D8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DF77-888B-4668-9AAE-BC655638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4B34-3AD5-438F-9633-BE11279F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EE87-DEED-41B7-9FA5-B96E764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8FD5-B722-477A-94F0-F7F86059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255C-683B-486A-B54E-BC540280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1370-3243-4B51-B740-EEC5E536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0585-3C94-4E83-AFFF-7E07A2A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A319-231B-4E9A-B5D7-133AB8A2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B04-3BF6-4A3E-BAD7-041FD3B6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F583-1F7A-488D-8EA9-C1831C7E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6EC0-625A-4A8A-BF12-349822D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62C4-E3DF-42BC-B6BE-4FC7BBE9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EECE-5052-4C8A-A5CE-85183FCA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3367-4BF4-4A65-92CD-20B7D8A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5FAB-252E-4B50-98A6-86ABE8BB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E810-C5C8-454F-9B2B-755EC8B5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A1C4-DCC5-4251-9766-C7AB0346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6EE9-45B8-4788-A653-14A5732B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9984-F1F5-48B8-86C3-23A621A4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2C8-191F-4D53-8412-3B615B66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D80C-387F-4FD5-9014-8808F669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6752-2238-4DF7-9313-5319823D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E1022-4316-461F-8B4F-D1FD4EF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6D41-1A79-495E-91FC-BF36AB8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D28BF-3605-44FA-BAFA-DF40D94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5BE5-DE11-46B9-8120-9D48200A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8B7A-E87C-4B27-8DD4-9B8F4B7E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6E1C2-5D3A-40C3-B442-6DEAC32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711C9-4181-4A54-8406-507330B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A0CE0-C976-4128-8A52-CE3D7176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6CB-1DD5-4123-8F49-22503804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1F9FC-929D-4C0D-A76D-99AA7798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74C-0701-4AA6-8F56-4C8D01C0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8CF-8CC9-4F38-B27E-F20F673E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297-C245-4832-9C33-93DAD514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43B-C91B-4A1C-A9A1-C1937FADF9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7A3-4B76-4B1E-868D-83983248C3C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A9E3-EAC1-4212-BDB0-38E402B6E8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C31-8314-4F00-B6F9-DBDF2072B0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9CFB-BA94-4C83-9135-0ACCC67C0C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www.ultra-visa.ru/upload/iblock/a7b/a7b91f6b4e1431cc93f4d04cd84b6251.jpg"/>
          <p:cNvPicPr/>
          <p:nvPr/>
        </p:nvPicPr>
        <p:blipFill>
          <a:blip r:embed="rId1"/>
          <a:stretch/>
        </p:blipFill>
        <p:spPr>
          <a:xfrm>
            <a:off x="0" y="1197000"/>
            <a:ext cx="9167760" cy="5156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237960"/>
            <a:ext cx="91569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выполнения оригами «Корабли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Заголовок 4"/>
          <p:cNvSpPr/>
          <p:nvPr/>
        </p:nvSpPr>
        <p:spPr>
          <a:xfrm>
            <a:off x="179280" y="1844640"/>
            <a:ext cx="885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сложите прямоугольный лист пополам и сделайте вертикальный переги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е верхние углы к средне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ните отвороты в разные  стороны навер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сь за центральные точки перегиба и потяните, превращая треугольник в квад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ните углы с дву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ните края в разные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webdiana.ru/uploads/posts/2015-03/1425158224_kak-sdelat-korablik-iz-bumagi-3.jpg"/>
          <p:cNvPicPr/>
          <p:nvPr/>
        </p:nvPicPr>
        <p:blipFill>
          <a:blip r:embed="rId1"/>
          <a:srcRect l="13465" t="0" r="0" b="7251"/>
          <a:stretch/>
        </p:blipFill>
        <p:spPr>
          <a:xfrm>
            <a:off x="611280" y="476280"/>
            <a:ext cx="796608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ebdiana.ru/uploads/posts/2015-03/1425158244_kak-sdelat-korablik-5.jpg"/>
          <p:cNvPicPr/>
          <p:nvPr/>
        </p:nvPicPr>
        <p:blipFill>
          <a:blip r:embed="rId1"/>
          <a:srcRect l="20353" t="0" r="10129" b="14534"/>
          <a:stretch/>
        </p:blipFill>
        <p:spPr>
          <a:xfrm>
            <a:off x="684360" y="476280"/>
            <a:ext cx="7848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webdiana.ru/uploads/posts/2015-03/1425158203_kak-sdelat-korablik-iz-bumagi-5.jpg"/>
          <p:cNvPicPr/>
          <p:nvPr/>
        </p:nvPicPr>
        <p:blipFill>
          <a:blip r:embed="rId1"/>
          <a:srcRect l="0" t="0" r="0" b="7000"/>
          <a:stretch/>
        </p:blipFill>
        <p:spPr>
          <a:xfrm>
            <a:off x="324000" y="620640"/>
            <a:ext cx="84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ttp://webdiana.ru/uploads/posts/2015-03/1425158311_kak-sdelat-korablik-iz-bumagi-7.jpg"/>
          <p:cNvPicPr/>
          <p:nvPr/>
        </p:nvPicPr>
        <p:blipFill>
          <a:blip r:embed="rId1"/>
          <a:srcRect l="0" t="0" r="0" b="6343"/>
          <a:stretch/>
        </p:blipFill>
        <p:spPr>
          <a:xfrm>
            <a:off x="250920" y="476280"/>
            <a:ext cx="863604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http://webdiana.ru/uploads/posts/2015-03/1425158279_kak-sdelat-korablik-iz-bumagi-9.jpg"/>
          <p:cNvPicPr/>
          <p:nvPr/>
        </p:nvPicPr>
        <p:blipFill>
          <a:blip r:embed="rId1"/>
          <a:srcRect l="0" t="0" r="0" b="9400"/>
          <a:stretch/>
        </p:blipFill>
        <p:spPr>
          <a:xfrm>
            <a:off x="324000" y="836640"/>
            <a:ext cx="8453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ebdiana.ru/uploads/posts/2015-03/1425158356_kak-sdelat-korablik-iz-bumagi-10.jpg"/>
          <p:cNvPicPr/>
          <p:nvPr/>
        </p:nvPicPr>
        <p:blipFill>
          <a:blip r:embed="rId1"/>
          <a:srcRect l="13607" t="0" r="13815" b="20059"/>
          <a:stretch/>
        </p:blipFill>
        <p:spPr>
          <a:xfrm>
            <a:off x="250920" y="333360"/>
            <a:ext cx="4608360" cy="3095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ebdiana.ru/uploads/posts/2015-03/1425158283_kak-sdelat-korablik-iz-bumagi-11.jpg"/>
          <p:cNvPicPr/>
          <p:nvPr/>
        </p:nvPicPr>
        <p:blipFill>
          <a:blip r:embed="rId2"/>
          <a:srcRect l="20788" t="0" r="18738" b="6569"/>
          <a:stretch/>
        </p:blipFill>
        <p:spPr>
          <a:xfrm>
            <a:off x="4932360" y="2411280"/>
            <a:ext cx="4032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http://webdiana.ru/uploads/posts/2015-03/1425158412_kak-sdelat-korablik-iz-bumagi-18.jpg"/>
          <p:cNvPicPr/>
          <p:nvPr/>
        </p:nvPicPr>
        <p:blipFill>
          <a:blip r:embed="rId1"/>
          <a:srcRect l="33856" t="0" r="11169" b="39000"/>
          <a:stretch/>
        </p:blipFill>
        <p:spPr>
          <a:xfrm>
            <a:off x="4356000" y="3019320"/>
            <a:ext cx="4608720" cy="364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ttp://webdiana.ru/uploads/posts/2015-03/1425158394_kak-sdelat-korablik-iz-bumagi-13.jpg"/>
          <p:cNvPicPr/>
          <p:nvPr/>
        </p:nvPicPr>
        <p:blipFill>
          <a:blip r:embed="rId2"/>
          <a:srcRect l="26467" t="0" r="18738" b="20725"/>
          <a:stretch/>
        </p:blipFill>
        <p:spPr>
          <a:xfrm>
            <a:off x="250920" y="260280"/>
            <a:ext cx="4105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www.piubarche.it/sites/default/files/uploads/annunci/admin/1316606002/PBR_jolly_2.jpg"/>
          <p:cNvPicPr/>
          <p:nvPr/>
        </p:nvPicPr>
        <p:blipFill>
          <a:blip r:embed="rId1"/>
          <a:srcRect l="16588" t="25355" r="14294" b="18313"/>
          <a:stretch/>
        </p:blipFill>
        <p:spPr>
          <a:xfrm>
            <a:off x="250920" y="1052640"/>
            <a:ext cx="87231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2" descr=""/>
          <p:cNvPicPr/>
          <p:nvPr/>
        </p:nvPicPr>
        <p:blipFill>
          <a:blip r:embed="rId1"/>
          <a:stretch/>
        </p:blipFill>
        <p:spPr>
          <a:xfrm>
            <a:off x="-103320" y="762120"/>
            <a:ext cx="9186840" cy="2693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Давайте попробуем За ПК - Картинка 17221/18"/>
          <p:cNvPicPr/>
          <p:nvPr/>
        </p:nvPicPr>
        <p:blipFill>
          <a:blip r:embed="rId2"/>
          <a:stretch/>
        </p:blipFill>
        <p:spPr>
          <a:xfrm>
            <a:off x="2268360" y="2565360"/>
            <a:ext cx="42483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http://www.budulgan.com/wp-content/uploads/2016/01/Origami-2.jpg"/>
          <p:cNvPicPr/>
          <p:nvPr/>
        </p:nvPicPr>
        <p:blipFill>
          <a:blip r:embed="rId1"/>
          <a:srcRect l="19067" t="8476" r="25636" b="8476"/>
          <a:stretch/>
        </p:blipFill>
        <p:spPr>
          <a:xfrm>
            <a:off x="250920" y="3141720"/>
            <a:ext cx="4176720" cy="352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cs319322.vk.me/v319322231/2265/JMCZnNUMWhk.jpg"/>
          <p:cNvPicPr/>
          <p:nvPr/>
        </p:nvPicPr>
        <p:blipFill>
          <a:blip r:embed="rId2"/>
          <a:stretch/>
        </p:blipFill>
        <p:spPr>
          <a:xfrm>
            <a:off x="324000" y="115920"/>
            <a:ext cx="5238720" cy="297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piubarche.it/sites/default/files/uploads/annunci/admin/1316606002/PBR_jolly_2.jpg"/>
          <p:cNvPicPr/>
          <p:nvPr/>
        </p:nvPicPr>
        <p:blipFill>
          <a:blip r:embed="rId3"/>
          <a:srcRect l="16588" t="25355" r="14294" b="18313"/>
          <a:stretch/>
        </p:blipFill>
        <p:spPr>
          <a:xfrm>
            <a:off x="4500720" y="4005360"/>
            <a:ext cx="4535280" cy="2419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http://aboutorigami.ru/1.jpg"/>
          <p:cNvPicPr/>
          <p:nvPr/>
        </p:nvPicPr>
        <p:blipFill>
          <a:blip r:embed="rId4"/>
          <a:srcRect l="5264" t="0" r="34217" b="0"/>
          <a:stretch/>
        </p:blipFill>
        <p:spPr>
          <a:xfrm>
            <a:off x="5724360" y="189000"/>
            <a:ext cx="239256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1968480" y="414360"/>
            <a:ext cx="4932360" cy="1255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0" y="134136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2" descr=""/>
          <p:cNvPicPr/>
          <p:nvPr/>
        </p:nvPicPr>
        <p:blipFill>
          <a:blip r:embed="rId1"/>
          <a:stretch/>
        </p:blipFill>
        <p:spPr>
          <a:xfrm>
            <a:off x="1682640" y="384120"/>
            <a:ext cx="5499360" cy="13842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108000" y="1700280"/>
            <a:ext cx="885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ся складывать ориг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искусство бумажной пластики, родившееся в Япон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media2.handmadecharlotte.com/wp-content/uploads/2015/06/6-diy-gem-crafts.jpg"/>
          <p:cNvPicPr/>
          <p:nvPr/>
        </p:nvPicPr>
        <p:blipFill>
          <a:blip r:embed="rId1"/>
          <a:srcRect l="9794" t="14691" r="10238" b="15129"/>
          <a:stretch/>
        </p:blipFill>
        <p:spPr>
          <a:xfrm>
            <a:off x="684360" y="1628640"/>
            <a:ext cx="3281040" cy="288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www.supermamma.ru/media/page_image/3385/w/prostoe-origami.jpeg"/>
          <p:cNvPicPr/>
          <p:nvPr/>
        </p:nvPicPr>
        <p:blipFill>
          <a:blip r:embed="rId2"/>
          <a:srcRect l="11812" t="9629" r="9044" b="3695"/>
          <a:stretch/>
        </p:blipFill>
        <p:spPr>
          <a:xfrm>
            <a:off x="4716360" y="1700280"/>
            <a:ext cx="3311640" cy="2670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http://www.origami-mobile.com/fun/03-frog/frog.jpg"/>
          <p:cNvPicPr/>
          <p:nvPr/>
        </p:nvPicPr>
        <p:blipFill>
          <a:blip r:embed="rId3"/>
          <a:srcRect l="16204" t="15333" r="13599" b="15662"/>
          <a:stretch/>
        </p:blipFill>
        <p:spPr>
          <a:xfrm>
            <a:off x="3348000" y="4653000"/>
            <a:ext cx="23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extBox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012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79280" y="2135880"/>
            <a:ext cx="8785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орига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79280" y="2924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бумажной пла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179280" y="3789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появилось ориг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179280" y="4365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п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24000" y="620640"/>
            <a:ext cx="46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то за чудеса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ет ветер в паруса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паром, ни дирижабль —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нам плывет..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ttp://www.stavebni-forum.cz/data/cms/19519/image-big.jpg"/>
          <p:cNvPicPr/>
          <p:nvPr/>
        </p:nvPicPr>
        <p:blipFill>
          <a:blip r:embed="rId1"/>
          <a:srcRect l="0" t="16384" r="0" b="14324"/>
          <a:stretch/>
        </p:blipFill>
        <p:spPr>
          <a:xfrm>
            <a:off x="755640" y="2637000"/>
            <a:ext cx="7620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2" descr="Группа компаний &quot;Аванта&quot; - Клей-карандаш ErichKrause 8гр"/>
          <p:cNvPicPr/>
          <p:nvPr/>
        </p:nvPicPr>
        <p:blipFill>
          <a:blip r:embed="rId1"/>
          <a:stretch/>
        </p:blipFill>
        <p:spPr>
          <a:xfrm>
            <a:off x="5292720" y="3213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Эволюция.com - Канцелярия"/>
          <p:cNvPicPr/>
          <p:nvPr/>
        </p:nvPicPr>
        <p:blipFill>
          <a:blip r:embed="rId2"/>
          <a:stretch/>
        </p:blipFill>
        <p:spPr>
          <a:xfrm>
            <a:off x="3203640" y="333360"/>
            <a:ext cx="3097080" cy="3094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&quot;Технологии тысячелетия-ДВ&quot; официальный сайт компании"/>
          <p:cNvPicPr/>
          <p:nvPr/>
        </p:nvPicPr>
        <p:blipFill>
          <a:blip r:embed="rId3"/>
          <a:srcRect l="15355" t="0" r="3145" b="0"/>
          <a:stretch/>
        </p:blipFill>
        <p:spPr>
          <a:xfrm>
            <a:off x="250920" y="2276640"/>
            <a:ext cx="39164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468360" y="864000"/>
            <a:ext cx="828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ржи концами вверх, не носи их в карм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жь ножницами на ходу, не подходи к товарищам во время резанья, не оставляй ножницы в открыт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й ножницы только в закрытом виде, кольцами в сторону товар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ножницами следи за пальцами левой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ди ножницы на парту так, чтобы они не свешивались с края па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резании деталей имеющих форму окружности, поворачивай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ю разметки оставляй на вырезаемых дета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бращения с ножн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2:06:37Z</dcterms:created>
  <dc:creator>Оксана</dc:creator>
  <dc:description/>
  <dc:language>en-US</dc:language>
  <cp:lastModifiedBy>Оксана</cp:lastModifiedBy>
  <dcterms:modified xsi:type="dcterms:W3CDTF">2016-02-18T02:35:34Z</dcterms:modified>
  <cp:revision>64</cp:revision>
  <dc:subject/>
  <dc:title>Слайд 1</dc:title>
</cp:coreProperties>
</file>