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0108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Использование технологии модульного обучения на уроках английского язык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Воспитание ученика-исследователя.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35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МОУ СОШ №12 с УИОП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Климова А.А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Проблем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Разный уровень подготовки учащихс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Низкий интерес детей к обучению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Поиск возможностей применения полученных на уроках знаний и умений при общении на иностранном язык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Задачи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Активизировать деятельность всего класса,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Включить в учебный процесс каждого ученик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Мотивировать учащихся  заниматься самообразованием, которое позволит достичь высоких результатов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836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Что же следует понимать под модульной технологией?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мнению таких исследователей данной проблемы, как Крачак О.Е., Шамовой Т.И., Чошанова М.А., Гареева В.М., модульные технологии индивидуализируют и создают условия для самостоятельной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о реализация процесса обуче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путем разделения его на системы "функциональных узло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", а именно, профессионально значимых действий и операций, которые выполняются обучаемым более или менее однозначно, что позволяет достигать запланированные результаты обучения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ущность модульного обучения состоит в том, что оно позволяет каждому учащемуся полностью самостоятельно добиваться конкретных целей учебно-познавательной деятельности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Преимуществ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1981080"/>
            <a:ext cx="772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почти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все ученики работают самостоятельно (некоторые — с определенной «порцией» помощи учителя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работая максимум времени самостоятельно, учащиеся учатся самоорганизации, самоконтролю и самооценк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использование учебных элементов модулей дает возможность развитию таких качеств личности ученика, как самостоятельность и коллективизм;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во время выполнения модуля учащиеся обычно не нарушают дисциплину и не отвлекаются на посторонние де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Недостатки: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Составление модулей процесс трудоёмкий и занимает много времени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Подходит не для любого учебного материал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Необходимость строго следить за тем, чтобы каждый ученик вовремя выполнял свою часть работы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Применение новых знаний: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учащиеся старших классов проводят уроки-викторины у младших на английском языке,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выступления с песнями на английском языке и постановка сказок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упражнение «переводчик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- чтение и обсуждение статей из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свежих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журналов по английском языку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Результаты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овышение интереса к изучению иностранного языка. Понимание преимущества владения им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Рост числа участников олимпиад и различных конкурсов по иностранному языку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тремление младших учеников равняться на старших, знать больш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Желание учеников создавать свои проекты (с помощью учителя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324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00"/>
                </a:solidFill>
                <a:latin typeface="Arial Narrow"/>
              </a:rPr>
              <a:t>Спасибо за внимание!</a:t>
            </a:r>
            <a:endParaRPr b="0" lang="en-US" sz="66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8:19:12Z</dcterms:created>
  <dc:creator>G41M</dc:creator>
  <dc:description/>
  <dc:language>en-US</dc:language>
  <cp:lastModifiedBy>G41M</cp:lastModifiedBy>
  <dcterms:modified xsi:type="dcterms:W3CDTF">2016-04-07T18:17:49Z</dcterms:modified>
  <cp:revision>4</cp:revision>
  <dc:subject/>
  <dc:title>Использование технологии модульного обучения на уроках английского языка</dc:title>
</cp:coreProperties>
</file>